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6B99-951D-4532-A6C1-EC804B93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5C9-0BDE-4457-BCD8-DAF9A514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7AB7-5E79-488C-8456-D46F848B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EA9-E404-40DE-881A-4E89F784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1ABC-E452-4443-A335-4D8763E2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61E0-32F0-41C7-AA0A-42A21856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AF89-8B11-48F9-B154-9B5EAF30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B496-8B82-432E-A51A-117E6F49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C841-8581-4F1F-ADD2-D3378ADA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4DAF-09CF-44BF-A959-F9921CF1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7A71-9935-4FB5-9813-9BAF6FDA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0010-A573-468B-AAC9-334777AA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5E66-A6B0-4DDF-A41F-B944F6D9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5EE8-D6CA-4702-A0E5-4FF58094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7F17-5F00-4A30-8940-E2CCE0DF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E5F4-0F66-4EF0-B148-0B54A891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2C73-827A-4D20-B598-4AADCF5F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0D92F-6F95-4357-A80D-521E4BBF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5D9AC-C6FC-4E01-989E-80D176C6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6B0BB-7C31-4EA5-A5C2-7AAEC666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9C8C2-9BB3-4D1A-B439-00720DF9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CE098-8F2F-4468-8292-975933A5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233-C742-47C4-BC4A-FABEA3BA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91DE3-BDB5-4481-A3EB-344D743D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25A1D-2197-46BF-963F-1BCE6E05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2812E-6E20-4CDA-9309-004E613B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FCB61-D743-4C04-9C22-7BCE7584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BFF6F-2298-4239-A306-71943362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FCF50-0FF5-4ECF-80AD-51AE4B6C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83088-9904-46B5-BCED-39A7556A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2054C-4A8D-452F-87E8-CEEBA967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F94F7-94B5-4467-9226-0195243F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BD8A8-483D-421E-A312-540B4C30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D068-B299-47F9-86D8-75977CD2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9597B-10F4-4D87-8078-19426A92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77B47-07C9-4126-A31D-0BB8E8A5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C4FCD-8871-425E-AE88-220D0DAD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CB94A-430D-4BF0-A15D-CDB9AB77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4B2D3-6DF3-484C-BDEB-97034141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68C91-3CF9-4D73-AC12-067FB4C6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FB012-24B7-4BEB-B4ED-741908E2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1F286-3BB8-4E3E-859E-E9303FCE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C8A06-5A5F-4BEB-996E-36CD5CBE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19436-65FA-421E-A82A-99D15513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33F-1460-4F21-ABC2-E1393166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538B8-E415-4F2E-8D89-8500127D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040FD-4837-4C80-A61F-205F1C71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A2FC1-1C56-4640-9B7F-B762931E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0CABB-EC6A-4E91-93B6-52A91991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3AD53-D5A8-440F-A39E-4EEB7287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D1293-A7EE-4CDA-BA4B-945965EF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50EA1-7AE6-4BAF-BA60-F74CC866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3EAA8-969A-49FD-9C3F-894C5C8D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EB6BE-DC3F-434A-A459-CFD88014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AD5CF-2700-44CC-8862-30FAB157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E45D-881C-46E7-9570-3D769304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F33BD-5DCB-41CB-B915-8F009E6E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BA212-1FCE-4085-B531-05909B40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7BBFB-A1FB-4FC6-A7D8-868E5EA4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5A090-3556-44DA-9291-E1CA66FA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E1A28-2B98-48A9-A62A-2CAE007C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C13B8-33E0-4B66-8F2E-AD6948CC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1BE0A-FB78-4C42-BE3A-0B2A1071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398DE-C280-4C59-A2EF-9665662B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2A3F1-3DB4-4422-BFB5-A96DD3BD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97E9F-921B-4546-8B22-3FF5BBB3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AD4E-9E4D-4878-A605-C404177A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7440F-ECA3-44F8-B423-6C9D7191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40E15-337C-4713-A257-E32F480D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AF4CB-5BCC-40C0-AB82-3B0EE59A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8C1D-3A33-4FDC-8360-5899E54F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39D0-4DF5-43B4-B314-81C70322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9183-2DE0-44AD-A4A7-54340BD16915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9ACD-65DB-46A8-BE10-806CAD01ECE2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43A8-7341-419D-8F97-B676EA5C959B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C236-D23B-47B9-9041-86E1A0D8CE53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18EB-3E37-461F-84B2-980BC0D1A39F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4c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6DA0-B857-4143-8275-431A0788128A}" type="slidenum">
              <a:rPr b="0" lang="ru-RU" sz="1000" spc="-1" strike="noStrike">
                <a:solidFill>
                  <a:srgbClr val="4a4c3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-247680" y="3240"/>
            <a:ext cx="7724880" cy="2639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C:\Users\Марианна\Desktop\Влияние на организм челоека\Алкоголь\картинки\1167374273_0960.200x300.jpg"/>
          <p:cNvPicPr/>
          <p:nvPr/>
        </p:nvPicPr>
        <p:blipFill>
          <a:blip r:embed="rId2"/>
          <a:stretch/>
        </p:blipFill>
        <p:spPr>
          <a:xfrm>
            <a:off x="4929120" y="3165480"/>
            <a:ext cx="2548080" cy="34354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56" name="Picture 7" descr="C:\Users\Марианна\Desktop\Влияние на организм челоека\Алкоголь\картинки\1167374272_0008.250x225.jpg"/>
          <p:cNvPicPr/>
          <p:nvPr/>
        </p:nvPicPr>
        <p:blipFill>
          <a:blip r:embed="rId3"/>
          <a:stretch/>
        </p:blipFill>
        <p:spPr>
          <a:xfrm>
            <a:off x="571680" y="2643120"/>
            <a:ext cx="3043080" cy="24987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3"/>
          <p:cNvSpPr/>
          <p:nvPr/>
        </p:nvSpPr>
        <p:spPr>
          <a:xfrm>
            <a:off x="2987640" y="907920"/>
            <a:ext cx="2736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потреблении алкоголя  исчезают запреты, беспокойство и волнение, они уступают место ощущению эйфории; ухудшается зрение, речь и координация дви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C:\Users\Марианна\Desktop\_1 (23).jpg"/>
          <p:cNvPicPr/>
          <p:nvPr/>
        </p:nvPicPr>
        <p:blipFill>
          <a:blip r:embed="rId1"/>
          <a:stretch/>
        </p:blipFill>
        <p:spPr>
          <a:xfrm>
            <a:off x="428760" y="4214880"/>
            <a:ext cx="2428920" cy="19288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94" name="Picture 3" descr="C:\Users\Марианна\Desktop\1 (13).jpg"/>
          <p:cNvPicPr/>
          <p:nvPr/>
        </p:nvPicPr>
        <p:blipFill>
          <a:blip r:embed="rId2"/>
          <a:stretch/>
        </p:blipFill>
        <p:spPr>
          <a:xfrm>
            <a:off x="7286760" y="3000240"/>
            <a:ext cx="1566720" cy="20815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95" name="Picture 4" descr="C:\Users\Марианна\Desktop\achtoa2.jpg"/>
          <p:cNvPicPr/>
          <p:nvPr/>
        </p:nvPicPr>
        <p:blipFill>
          <a:blip r:embed="rId3"/>
          <a:stretch/>
        </p:blipFill>
        <p:spPr>
          <a:xfrm>
            <a:off x="428760" y="857160"/>
            <a:ext cx="2571480" cy="25718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96" name="Picture 5" descr="C:\Users\Марианна\Desktop\109342.jpg"/>
          <p:cNvPicPr/>
          <p:nvPr/>
        </p:nvPicPr>
        <p:blipFill>
          <a:blip r:embed="rId4"/>
          <a:stretch/>
        </p:blipFill>
        <p:spPr>
          <a:xfrm>
            <a:off x="5786280" y="500040"/>
            <a:ext cx="2428920" cy="20001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оугольник 3"/>
          <p:cNvSpPr/>
          <p:nvPr/>
        </p:nvSpPr>
        <p:spPr>
          <a:xfrm>
            <a:off x="395280" y="260280"/>
            <a:ext cx="439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ильно пьющих людей развивается  алкогольный гепатит и цирроз печени, увеличивается селез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" descr=""/>
          <p:cNvPicPr/>
          <p:nvPr/>
        </p:nvPicPr>
        <p:blipFill>
          <a:blip r:embed="rId1"/>
          <a:stretch/>
        </p:blipFill>
        <p:spPr>
          <a:xfrm>
            <a:off x="6012000" y="404640"/>
            <a:ext cx="2500200" cy="33624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99" name="Picture 4" descr="C:\Users\Марианна\Desktop\giv1-18.gif"/>
          <p:cNvPicPr/>
          <p:nvPr/>
        </p:nvPicPr>
        <p:blipFill>
          <a:blip r:embed="rId2"/>
          <a:stretch/>
        </p:blipFill>
        <p:spPr>
          <a:xfrm>
            <a:off x="285840" y="2857680"/>
            <a:ext cx="3181320" cy="23716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00" name="Picture 5" descr="C:\Users\Марианна\Desktop\giv1-19.gif"/>
          <p:cNvPicPr/>
          <p:nvPr/>
        </p:nvPicPr>
        <p:blipFill>
          <a:blip r:embed="rId3"/>
          <a:stretch/>
        </p:blipFill>
        <p:spPr>
          <a:xfrm>
            <a:off x="5219640" y="3971880"/>
            <a:ext cx="2200320" cy="25146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C:\Users\Марианна\Desktop\Влияние на организм челоека\p0069.gif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sp>
        <p:nvSpPr>
          <p:cNvPr id="302" name="Прямоугольник 4"/>
          <p:cNvSpPr/>
          <p:nvPr/>
        </p:nvSpPr>
        <p:spPr>
          <a:xfrm>
            <a:off x="5364000" y="765000"/>
            <a:ext cx="378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 алкоголизм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ие мозга, пищеводное кровотечение из варикозных сосудов, функциональная почечная недостаточность, анемия, нарушение свертываемости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3"/>
          <p:cNvSpPr/>
          <p:nvPr/>
        </p:nvSpPr>
        <p:spPr>
          <a:xfrm>
            <a:off x="0" y="2852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и подросткам очень вредно употреблять алкогол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2916360" y="214200"/>
            <a:ext cx="2214360" cy="25005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05" name="Picture 3" descr=""/>
          <p:cNvPicPr/>
          <p:nvPr/>
        </p:nvPicPr>
        <p:blipFill>
          <a:blip r:embed="rId2"/>
          <a:stretch/>
        </p:blipFill>
        <p:spPr>
          <a:xfrm>
            <a:off x="1042920" y="3933720"/>
            <a:ext cx="2571840" cy="17146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06" name="Picture 4" descr=""/>
          <p:cNvPicPr/>
          <p:nvPr/>
        </p:nvPicPr>
        <p:blipFill>
          <a:blip r:embed="rId3"/>
          <a:stretch/>
        </p:blipFill>
        <p:spPr>
          <a:xfrm>
            <a:off x="6357960" y="4143240"/>
            <a:ext cx="2071800" cy="25005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07" name="Picture 5" descr="C:\Users\Марианна\Desktop\Влияние на организм челоека\Алкоголь\картинки\152.jpg"/>
          <p:cNvPicPr/>
          <p:nvPr/>
        </p:nvPicPr>
        <p:blipFill>
          <a:blip r:embed="rId4"/>
          <a:stretch/>
        </p:blipFill>
        <p:spPr>
          <a:xfrm>
            <a:off x="5278320" y="404640"/>
            <a:ext cx="3143520" cy="18050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08" name="Picture 7" descr="C:\Users\Марианна\Desktop\1172935085.jpg"/>
          <p:cNvPicPr/>
          <p:nvPr/>
        </p:nvPicPr>
        <p:blipFill>
          <a:blip r:embed="rId5"/>
          <a:stretch/>
        </p:blipFill>
        <p:spPr>
          <a:xfrm>
            <a:off x="214200" y="214200"/>
            <a:ext cx="2428920" cy="24289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3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действием спиртного у подростков нарушается работа ритма сердца, выработка ферментов в печени, нарушается фильтрующая функция почек, ухудшается память и мышл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1"/>
          <a:stretch/>
        </p:blipFill>
        <p:spPr>
          <a:xfrm>
            <a:off x="1143000" y="1928880"/>
            <a:ext cx="2714760" cy="31431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11" name="Picture 6" descr="C:\Users\Марианна\Desktop\2_3.jpg"/>
          <p:cNvPicPr/>
          <p:nvPr/>
        </p:nvPicPr>
        <p:blipFill>
          <a:blip r:embed="rId2"/>
          <a:stretch/>
        </p:blipFill>
        <p:spPr>
          <a:xfrm>
            <a:off x="5072040" y="1928880"/>
            <a:ext cx="2711520" cy="32148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12" name="Picture 2" descr=""/>
          <p:cNvPicPr/>
          <p:nvPr/>
        </p:nvPicPr>
        <p:blipFill>
          <a:blip r:embed="rId3"/>
          <a:stretch/>
        </p:blipFill>
        <p:spPr>
          <a:xfrm>
            <a:off x="6715080" y="4286160"/>
            <a:ext cx="2214720" cy="23576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13" name="Picture 4" descr=""/>
          <p:cNvPicPr/>
          <p:nvPr/>
        </p:nvPicPr>
        <p:blipFill>
          <a:blip r:embed="rId4"/>
          <a:stretch/>
        </p:blipFill>
        <p:spPr>
          <a:xfrm>
            <a:off x="428760" y="4357800"/>
            <a:ext cx="1928520" cy="22622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14" name="Picture 7" descr="C:\Users\Марианна\Desktop\mem9.png"/>
          <p:cNvPicPr/>
          <p:nvPr/>
        </p:nvPicPr>
        <p:blipFill>
          <a:blip r:embed="rId5"/>
          <a:stretch/>
        </p:blipFill>
        <p:spPr>
          <a:xfrm>
            <a:off x="3500280" y="4500720"/>
            <a:ext cx="1600200" cy="2071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3"/>
          <p:cNvSpPr/>
          <p:nvPr/>
        </p:nvSpPr>
        <p:spPr>
          <a:xfrm>
            <a:off x="2857680" y="1643040"/>
            <a:ext cx="3095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умственного развития детей -  одно из главных последствий алкоголизма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C:\Users\Марианна\Desktop\01_5_1.jpg"/>
          <p:cNvPicPr/>
          <p:nvPr/>
        </p:nvPicPr>
        <p:blipFill>
          <a:blip r:embed="rId1"/>
          <a:stretch/>
        </p:blipFill>
        <p:spPr>
          <a:xfrm>
            <a:off x="428760" y="500040"/>
            <a:ext cx="2205000" cy="30718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17" name="Picture 4" descr=""/>
          <p:cNvPicPr/>
          <p:nvPr/>
        </p:nvPicPr>
        <p:blipFill>
          <a:blip r:embed="rId2"/>
          <a:stretch/>
        </p:blipFill>
        <p:spPr>
          <a:xfrm>
            <a:off x="6000840" y="625320"/>
            <a:ext cx="2857320" cy="2517840"/>
          </a:xfrm>
          <a:prstGeom prst="rect">
            <a:avLst/>
          </a:prstGeom>
          <a:ln w="12600">
            <a:solidFill>
              <a:srgbClr val="72a376"/>
            </a:solidFill>
            <a:miter/>
          </a:ln>
        </p:spPr>
      </p:pic>
      <p:pic>
        <p:nvPicPr>
          <p:cNvPr id="318" name="Picture 5" descr=""/>
          <p:cNvPicPr/>
          <p:nvPr/>
        </p:nvPicPr>
        <p:blipFill>
          <a:blip r:embed="rId3"/>
          <a:stretch/>
        </p:blipFill>
        <p:spPr>
          <a:xfrm>
            <a:off x="214200" y="3929040"/>
            <a:ext cx="2643480" cy="2500200"/>
          </a:xfrm>
          <a:prstGeom prst="rect">
            <a:avLst/>
          </a:prstGeom>
          <a:ln w="12600">
            <a:solidFill>
              <a:srgbClr val="72a376"/>
            </a:solidFill>
            <a:miter/>
          </a:ln>
        </p:spPr>
      </p:pic>
      <p:pic>
        <p:nvPicPr>
          <p:cNvPr id="319" name="Picture 6" descr="C:\Users\Марианна\Desktop\edu6_b.jpg"/>
          <p:cNvPicPr/>
          <p:nvPr/>
        </p:nvPicPr>
        <p:blipFill>
          <a:blip r:embed="rId4"/>
          <a:stretch/>
        </p:blipFill>
        <p:spPr>
          <a:xfrm>
            <a:off x="6000840" y="3786120"/>
            <a:ext cx="2900160" cy="2583000"/>
          </a:xfrm>
          <a:prstGeom prst="rect">
            <a:avLst/>
          </a:prstGeom>
          <a:ln w="1260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4" descr=""/>
          <p:cNvPicPr/>
          <p:nvPr/>
        </p:nvPicPr>
        <p:blipFill>
          <a:blip r:embed="rId1"/>
          <a:stretch/>
        </p:blipFill>
        <p:spPr>
          <a:xfrm>
            <a:off x="4643280" y="3429000"/>
            <a:ext cx="3500640" cy="21924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571680" y="4076640"/>
            <a:ext cx="3541680" cy="23767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22" name="Picture 1" descr=""/>
          <p:cNvPicPr/>
          <p:nvPr/>
        </p:nvPicPr>
        <p:blipFill>
          <a:blip r:embed="rId3"/>
          <a:stretch/>
        </p:blipFill>
        <p:spPr>
          <a:xfrm>
            <a:off x="4500720" y="285840"/>
            <a:ext cx="1849320" cy="24289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23" name="Picture 3" descr=""/>
          <p:cNvPicPr/>
          <p:nvPr/>
        </p:nvPicPr>
        <p:blipFill>
          <a:blip r:embed="rId4"/>
          <a:stretch/>
        </p:blipFill>
        <p:spPr>
          <a:xfrm>
            <a:off x="6858000" y="285840"/>
            <a:ext cx="1803240" cy="24289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sp>
        <p:nvSpPr>
          <p:cNvPr id="324" name="Text Box 7"/>
          <p:cNvSpPr/>
          <p:nvPr/>
        </p:nvSpPr>
        <p:spPr>
          <a:xfrm>
            <a:off x="468360" y="1413000"/>
            <a:ext cx="359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льность жизни сильно пьющих на 10 – 12 лет меньше сре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Прямоугольник 1"/>
          <p:cNvSpPr/>
          <p:nvPr/>
        </p:nvSpPr>
        <p:spPr>
          <a:xfrm>
            <a:off x="250920" y="54936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растие к алкоголю - причина различных преступ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C:\Users\Марианна\Desktop\2_copy4.jpg"/>
          <p:cNvPicPr/>
          <p:nvPr/>
        </p:nvPicPr>
        <p:blipFill>
          <a:blip r:embed="rId1"/>
          <a:stretch/>
        </p:blipFill>
        <p:spPr>
          <a:xfrm>
            <a:off x="2793960" y="4583160"/>
            <a:ext cx="4457880" cy="18954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27" name="Picture 3" descr="C:\Users\Марианна\Desktop\_1 (2).JPG"/>
          <p:cNvPicPr/>
          <p:nvPr/>
        </p:nvPicPr>
        <p:blipFill>
          <a:blip r:embed="rId2"/>
          <a:stretch/>
        </p:blipFill>
        <p:spPr>
          <a:xfrm>
            <a:off x="5364000" y="1773360"/>
            <a:ext cx="2786400" cy="18223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328" name="Picture 4" descr="C:\Users\Марианна\Desktop\travma.jpg"/>
          <p:cNvPicPr/>
          <p:nvPr/>
        </p:nvPicPr>
        <p:blipFill>
          <a:blip r:embed="rId3"/>
          <a:stretch/>
        </p:blipFill>
        <p:spPr>
          <a:xfrm>
            <a:off x="1285920" y="2000160"/>
            <a:ext cx="2195640" cy="23576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3"/>
          <p:cNvSpPr/>
          <p:nvPr/>
        </p:nvSpPr>
        <p:spPr>
          <a:xfrm>
            <a:off x="428760" y="428760"/>
            <a:ext cx="75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пьяняющих свойствах спиртных напитков люди узнали не менее чем за 8000 лет до нашей э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C:\Users\Марианна\Desktop\Влияние на организм челоека\Алкоголь\картинки\vine.jpg"/>
          <p:cNvPicPr/>
          <p:nvPr/>
        </p:nvPicPr>
        <p:blipFill>
          <a:blip r:embed="rId1"/>
          <a:stretch/>
        </p:blipFill>
        <p:spPr>
          <a:xfrm>
            <a:off x="5072040" y="2357280"/>
            <a:ext cx="3429000" cy="23576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428760" y="2357280"/>
            <a:ext cx="2835000" cy="35719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"/>
          <p:cNvSpPr/>
          <p:nvPr/>
        </p:nvSpPr>
        <p:spPr>
          <a:xfrm>
            <a:off x="285840" y="1580760"/>
            <a:ext cx="2500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ней Руси пили очень ма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ь на избранные праздники варили медовуху, брагу или п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C:\Users\Марианна\Desktop\1a33f622b6c0765978e095140b7d4652.jpg"/>
          <p:cNvPicPr/>
          <p:nvPr/>
        </p:nvPicPr>
        <p:blipFill>
          <a:blip r:embed="rId1"/>
          <a:stretch/>
        </p:blipFill>
        <p:spPr>
          <a:xfrm>
            <a:off x="3143160" y="285840"/>
            <a:ext cx="5572080" cy="32018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62" name="Picture 4" descr="C:\Users\Марианна\Desktop\sbiten.jpg"/>
          <p:cNvPicPr/>
          <p:nvPr/>
        </p:nvPicPr>
        <p:blipFill>
          <a:blip r:embed="rId2"/>
          <a:stretch/>
        </p:blipFill>
        <p:spPr>
          <a:xfrm>
            <a:off x="5786280" y="2786040"/>
            <a:ext cx="2571840" cy="31971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sp>
        <p:nvSpPr>
          <p:cNvPr id="263" name="Прямоугольник 8"/>
          <p:cNvSpPr/>
          <p:nvPr/>
        </p:nvSpPr>
        <p:spPr>
          <a:xfrm>
            <a:off x="3000960" y="6357960"/>
            <a:ext cx="24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5439"/>
                </a:solidFill>
                <a:latin typeface="Times New Roman"/>
                <a:ea typeface="Times New Roman"/>
              </a:rPr>
              <a:t>Старинная кру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3"/>
          <a:stretch/>
        </p:blipFill>
        <p:spPr>
          <a:xfrm>
            <a:off x="3357720" y="3857760"/>
            <a:ext cx="1571400" cy="24858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3"/>
          <p:cNvSpPr/>
          <p:nvPr/>
        </p:nvSpPr>
        <p:spPr>
          <a:xfrm>
            <a:off x="5572440" y="6000840"/>
            <a:ext cx="22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5439"/>
                </a:solidFill>
                <a:latin typeface="Times New Roman"/>
                <a:ea typeface="Times New Roman"/>
              </a:rPr>
              <a:t>Русская пивовар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4000680" y="1928880"/>
            <a:ext cx="4905360" cy="36432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sp>
        <p:nvSpPr>
          <p:cNvPr id="267" name="Rectangle 3"/>
          <p:cNvSpPr/>
          <p:nvPr/>
        </p:nvSpPr>
        <p:spPr>
          <a:xfrm>
            <a:off x="0" y="51444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ни или села имели свой питейный дом или корчму, где подавали пиво, брагу, меды, квас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6"/>
          <p:cNvSpPr/>
          <p:nvPr/>
        </p:nvSpPr>
        <p:spPr>
          <a:xfrm>
            <a:off x="0" y="600084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5439"/>
                </a:solidFill>
                <a:latin typeface="Times New Roman"/>
                <a:ea typeface="Times New Roman"/>
              </a:rPr>
              <a:t>Квасир на средневековой гравю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785880" y="1785960"/>
            <a:ext cx="2071800" cy="42148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70" name="Picture 7" descr="C:\Users\Марианна\Desktop\20040105045246_big.jpg"/>
          <p:cNvPicPr/>
          <p:nvPr/>
        </p:nvPicPr>
        <p:blipFill>
          <a:blip r:embed="rId3"/>
          <a:stretch/>
        </p:blipFill>
        <p:spPr>
          <a:xfrm>
            <a:off x="3286080" y="5214960"/>
            <a:ext cx="1928880" cy="128268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0" y="36324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наши дни очень актуальна пробл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потребления алког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C:\Users\Марианна\Desktop\s886_1161631242_1.jpg"/>
          <p:cNvPicPr/>
          <p:nvPr/>
        </p:nvPicPr>
        <p:blipFill>
          <a:blip r:embed="rId1"/>
          <a:stretch/>
        </p:blipFill>
        <p:spPr>
          <a:xfrm>
            <a:off x="6215040" y="2071800"/>
            <a:ext cx="2535120" cy="365256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73" name="Рисунок 7" descr=""/>
          <p:cNvPicPr/>
          <p:nvPr/>
        </p:nvPicPr>
        <p:blipFill>
          <a:blip r:embed="rId2"/>
          <a:stretch/>
        </p:blipFill>
        <p:spPr>
          <a:xfrm>
            <a:off x="357120" y="3286080"/>
            <a:ext cx="3672000" cy="26240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74" name="Picture 2" descr="C:\Users\Марианна\Desktop\Влияние на организм челоека\Алкоголь\картинки\817_head.jpg"/>
          <p:cNvPicPr/>
          <p:nvPr/>
        </p:nvPicPr>
        <p:blipFill>
          <a:blip r:embed="rId3"/>
          <a:stretch/>
        </p:blipFill>
        <p:spPr>
          <a:xfrm>
            <a:off x="3000240" y="1857240"/>
            <a:ext cx="2279880" cy="18576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500040" y="1220400"/>
            <a:ext cx="349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д алкоголя очевид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4"/>
          <p:cNvSpPr/>
          <p:nvPr/>
        </p:nvSpPr>
        <p:spPr>
          <a:xfrm>
            <a:off x="4788000" y="2997360"/>
            <a:ext cx="410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когольн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родукц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которая выпускается негосударственными предприятиями, содержит большое количество ядови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Рисунок 5" descr=""/>
          <p:cNvPicPr/>
          <p:nvPr/>
        </p:nvPicPr>
        <p:blipFill>
          <a:blip r:embed="rId1"/>
          <a:stretch/>
        </p:blipFill>
        <p:spPr>
          <a:xfrm>
            <a:off x="357120" y="3571920"/>
            <a:ext cx="3929040" cy="25718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78" name="Picture 2" descr="C:\Users\Марианна\Desktop\e13ccf64e46fb12eee2bc502ad299326_full.jpg"/>
          <p:cNvPicPr/>
          <p:nvPr/>
        </p:nvPicPr>
        <p:blipFill>
          <a:blip r:embed="rId2"/>
          <a:stretch/>
        </p:blipFill>
        <p:spPr>
          <a:xfrm>
            <a:off x="4572000" y="428760"/>
            <a:ext cx="3929040" cy="24764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357120" y="29016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ы на растениях, жуках, птицах, животных показали, что алкоголь вреден для живых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4"/>
          <p:cNvSpPr/>
          <p:nvPr/>
        </p:nvSpPr>
        <p:spPr>
          <a:xfrm>
            <a:off x="285840" y="5643720"/>
            <a:ext cx="61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т ослабляет рост семян растений и убивает в них жизне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4143240" cy="30002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82" name="Picture 5" descr="C:\Users\Марианна\Desktop\f06.jpg"/>
          <p:cNvPicPr/>
          <p:nvPr/>
        </p:nvPicPr>
        <p:blipFill>
          <a:blip r:embed="rId2"/>
          <a:stretch/>
        </p:blipFill>
        <p:spPr>
          <a:xfrm>
            <a:off x="7072200" y="285840"/>
            <a:ext cx="1785960" cy="17143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83" name="Picture 8" descr="C:\Users\Марианна\Desktop\7271.jpeg"/>
          <p:cNvPicPr/>
          <p:nvPr/>
        </p:nvPicPr>
        <p:blipFill>
          <a:blip r:embed="rId3"/>
          <a:stretch/>
        </p:blipFill>
        <p:spPr>
          <a:xfrm>
            <a:off x="214200" y="2071800"/>
            <a:ext cx="2667240" cy="228600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"/>
          <p:cNvSpPr/>
          <p:nvPr/>
        </p:nvSpPr>
        <p:spPr>
          <a:xfrm>
            <a:off x="0" y="-36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рганизме алкоголь оказывает четыре основных эфф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179280" y="904680"/>
            <a:ext cx="568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ивает организм энерги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замедляет работу центральной нервной системы, снижает ее эффекти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стимулирует производство мочи (вследствие этого клетки обезвоживаютс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выводит из строя пе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C:\Users\Марианна\Desktop\9.gif"/>
          <p:cNvPicPr/>
          <p:nvPr/>
        </p:nvPicPr>
        <p:blipFill>
          <a:blip r:embed="rId1"/>
          <a:stretch/>
        </p:blipFill>
        <p:spPr>
          <a:xfrm>
            <a:off x="5219640" y="1257480"/>
            <a:ext cx="3357720" cy="26431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87" name="Picture 6" descr="C:\Users\Марианна\Desktop\050780ec-10ce-4aa0-9788-a50dc9dbb8df.gif"/>
          <p:cNvPicPr/>
          <p:nvPr/>
        </p:nvPicPr>
        <p:blipFill>
          <a:blip r:embed="rId2"/>
          <a:stretch/>
        </p:blipFill>
        <p:spPr>
          <a:xfrm>
            <a:off x="2556000" y="4143240"/>
            <a:ext cx="3143160" cy="24289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"/>
          <p:cNvSpPr/>
          <p:nvPr/>
        </p:nvSpPr>
        <p:spPr>
          <a:xfrm>
            <a:off x="357120" y="1512000"/>
            <a:ext cx="2500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дного приема небольшой дозы спиртного алкоголь сохраняется в мозгу, сердце, почках, желудке от 49 часов до 15 су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C:\Users\Марианна\Desktop\023.jpg"/>
          <p:cNvPicPr/>
          <p:nvPr/>
        </p:nvPicPr>
        <p:blipFill>
          <a:blip r:embed="rId1"/>
          <a:stretch/>
        </p:blipFill>
        <p:spPr>
          <a:xfrm>
            <a:off x="3429000" y="4643280"/>
            <a:ext cx="3000240" cy="19195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90" name="Picture 5" descr="C:\Users\Марианна\Desktop\n69n-s29.jpg"/>
          <p:cNvPicPr/>
          <p:nvPr/>
        </p:nvPicPr>
        <p:blipFill>
          <a:blip r:embed="rId2"/>
          <a:stretch/>
        </p:blipFill>
        <p:spPr>
          <a:xfrm>
            <a:off x="3714840" y="142920"/>
            <a:ext cx="4429080" cy="264312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  <p:pic>
        <p:nvPicPr>
          <p:cNvPr id="291" name="Picture 2" descr=""/>
          <p:cNvPicPr/>
          <p:nvPr/>
        </p:nvPicPr>
        <p:blipFill>
          <a:blip r:embed="rId3"/>
          <a:stretch/>
        </p:blipFill>
        <p:spPr>
          <a:xfrm>
            <a:off x="6000840" y="3071880"/>
            <a:ext cx="2428920" cy="2786040"/>
          </a:xfrm>
          <a:prstGeom prst="rect">
            <a:avLst/>
          </a:prstGeom>
          <a:ln w="19080">
            <a:solidFill>
              <a:srgbClr val="72a376"/>
            </a:solidFill>
            <a:miter/>
          </a:ln>
        </p:spPr>
      </p:pic>
    </p:spTree>
  </p:cSld>
  <p:transition>
    <p:strips dir="r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8:50:03Z</dcterms:created>
  <dc:creator>Марианна</dc:creator>
  <dc:description/>
  <dc:language>en-US</dc:language>
  <cp:lastModifiedBy>Comp</cp:lastModifiedBy>
  <dcterms:modified xsi:type="dcterms:W3CDTF">2023-06-01T00:15:38Z</dcterms:modified>
  <cp:revision>75</cp:revision>
  <dc:subject/>
  <dc:title>ВЛИЯНИЕ АЛКОГОЛЯ НА ОРГАНИЗМ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23000000000001023620</vt:lpwstr>
  </property>
</Properties>
</file>