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1642-A847-4E33-AFD2-6CFBC45D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C4B4-00F7-4339-B512-91AA3A73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CA45-5F45-4560-9FA6-59BA814B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CB12-35C3-440F-A785-B4A545BE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F050-B4BA-4921-914E-5BA3D1EB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C3FA-8F16-443F-9649-2BD21A80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7373-7F83-4453-B477-DB038A50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C4CE-042D-4023-9FD3-DAA07224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B024-6226-41FF-89C1-68538282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526A-35D8-46F9-8DF4-664303A2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EF38-9435-4511-9C92-D6B64A5A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398C-5938-4F55-9C6E-9AFB3013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734C-BBBF-4B77-BF8A-892DFCD3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9483-9F9C-413A-A3DE-4D8DD331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DA02-34C1-4F98-A051-754F2D10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97EC-E3EA-4251-8FFC-B3031B3C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B706-C93F-48DD-AE53-87806892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C6F41-9747-4A8F-A3E1-50A26E93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9FA6A-1662-4119-9FC1-8E659963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EFB6C-3F6C-411D-A076-EB78507D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D7BCA-94AF-4F8D-A00E-B73800A8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F8242-D393-4F10-80D9-9266133C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270A-7CA4-4C4F-A400-FFF96018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3ECC2-8DF9-4608-87AE-AA15F9F8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A85FC-C6C3-45DE-B7A2-8ABFB5CE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F0EBD-B03C-4A53-8C83-CECC5D10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341EA-D5B7-4DE7-9284-87478DD4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A9F81-6BEB-413B-BCCB-C4F17375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E1A1B-5B73-4482-BD6B-E219535E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F7BDA-14CA-48BB-8C69-1A102F3E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66D36-8FBA-4E27-B1C8-59740C4E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7E209-9FE0-42C9-B28D-A6827CAC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32989-DA79-4C27-9F09-9C8171CD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2E70-FA8E-40CF-ACC3-2A74B04A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52C7E-0C69-48FA-84CC-447C04E8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B9EA5-6A23-4602-B01D-86BD3CEA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E4538-2F64-4CA8-B3B6-C4D6D9ED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1ECF2-09C9-409F-8E94-E51A515C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684A7-9701-4390-8CD2-8376438B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04196-6BCD-4807-9A41-23CB545E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5CA79-E91C-4362-B2C5-CE61DC8F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515BC-50EC-4C31-8BAD-2B225F4A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D2E64-3304-4673-9037-431FC75D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F2E4E-1D7F-40F9-BD53-FC7472C5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3FE5-2D57-4699-AF29-CC2E8928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5DFE4-84B0-400C-A5AF-339084B7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B08E9-81A4-4556-BC46-B0E4E0E1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11498-29B5-4451-8989-4A568FE0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B0402-63E8-42DB-ACA7-D7ED1818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6AF3A-CFB0-44AF-B798-B5DA5755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497E4-A433-4172-9C63-C1251AC5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5CB09-8074-4B75-A111-9B9FD48B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60EC3-5307-48F8-831D-88882182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0D4B1-1814-4172-8945-EB2BE2A2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4E2EF-3FF1-49C4-B30A-4BBCDD5C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C45E-773A-4195-A007-4016C041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DBEFF-B5E1-4882-87A9-97838374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49F44-42DE-4970-9E10-1A41EEB1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66B05-92EA-4290-AA6B-D2EB48B4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30138-8FB3-403D-87DD-CD5EE2B2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2B64D-01EB-4340-8365-3A999506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1B16F-ADBC-4684-A793-5207BB6B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0D514-73F7-4DB2-99C9-CE38EC54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0412B-9820-4ED8-AEAB-C9A4AC36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DBC27-447C-4A22-B17C-C378216C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0C3AB-673B-4EAB-9343-D0C3CCBA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D72-7A1D-4643-A1E2-6E724698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E7284-9BB4-49AE-B260-B0876FB9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DB480-56CE-40D3-9BFC-9044EFA5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F70EA-BC1C-4524-8966-8D78E887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29C7-B7EC-4002-A3E9-EE0A25EA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3ECC-946B-4111-A8F6-B5EFEEE2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B30F-6FDC-47B4-A996-BB103299499B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B21D-13E3-4558-A0A1-4F9723E19811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634F-4B6D-4B9C-A9AA-D0EA254D4E4F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9824-D2B3-4328-B65D-E29AE711543C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8AAD-9EF3-4000-9DEF-5BA6447AD182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00DF-5FC3-47FE-A3D9-2F6A911F2EA2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-247680" y="3240"/>
            <a:ext cx="7724880" cy="2639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C:\Users\Марианна\Desktop\Влияние на организм челоека\Алкоголь\картинки\1167374273_0960.200x300.jpg"/>
          <p:cNvPicPr/>
          <p:nvPr/>
        </p:nvPicPr>
        <p:blipFill>
          <a:blip r:embed="rId2"/>
          <a:stretch/>
        </p:blipFill>
        <p:spPr>
          <a:xfrm>
            <a:off x="4929120" y="3165480"/>
            <a:ext cx="2548080" cy="34354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56" name="Picture 7" descr="C:\Users\Марианна\Desktop\Влияние на организм челоека\Алкоголь\картинки\1167374272_0008.250x225.jpg"/>
          <p:cNvPicPr/>
          <p:nvPr/>
        </p:nvPicPr>
        <p:blipFill>
          <a:blip r:embed="rId3"/>
          <a:stretch/>
        </p:blipFill>
        <p:spPr>
          <a:xfrm>
            <a:off x="571680" y="2643120"/>
            <a:ext cx="3043080" cy="24987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3"/>
          <p:cNvSpPr/>
          <p:nvPr/>
        </p:nvSpPr>
        <p:spPr>
          <a:xfrm>
            <a:off x="2987640" y="907920"/>
            <a:ext cx="2736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потреблении алкоголя  исчезают запреты, беспокойство и волнение, они уступают место ощущению эйфории; ухудшается зрение, речь и координация дви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C:\Users\Марианна\Desktop\_1 (23).jpg"/>
          <p:cNvPicPr/>
          <p:nvPr/>
        </p:nvPicPr>
        <p:blipFill>
          <a:blip r:embed="rId1"/>
          <a:stretch/>
        </p:blipFill>
        <p:spPr>
          <a:xfrm>
            <a:off x="428760" y="4214880"/>
            <a:ext cx="2428920" cy="19288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94" name="Picture 3" descr="C:\Users\Марианна\Desktop\1 (13).jpg"/>
          <p:cNvPicPr/>
          <p:nvPr/>
        </p:nvPicPr>
        <p:blipFill>
          <a:blip r:embed="rId2"/>
          <a:stretch/>
        </p:blipFill>
        <p:spPr>
          <a:xfrm>
            <a:off x="7286760" y="3000240"/>
            <a:ext cx="1566720" cy="20815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95" name="Picture 4" descr="C:\Users\Марианна\Desktop\achtoa2.jpg"/>
          <p:cNvPicPr/>
          <p:nvPr/>
        </p:nvPicPr>
        <p:blipFill>
          <a:blip r:embed="rId3"/>
          <a:stretch/>
        </p:blipFill>
        <p:spPr>
          <a:xfrm>
            <a:off x="428760" y="857160"/>
            <a:ext cx="2571480" cy="25718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96" name="Picture 5" descr="C:\Users\Марианна\Desktop\109342.jpg"/>
          <p:cNvPicPr/>
          <p:nvPr/>
        </p:nvPicPr>
        <p:blipFill>
          <a:blip r:embed="rId4"/>
          <a:stretch/>
        </p:blipFill>
        <p:spPr>
          <a:xfrm>
            <a:off x="5786280" y="500040"/>
            <a:ext cx="2428920" cy="20001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оугольник 3"/>
          <p:cNvSpPr/>
          <p:nvPr/>
        </p:nvSpPr>
        <p:spPr>
          <a:xfrm>
            <a:off x="395280" y="260280"/>
            <a:ext cx="439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ильно пьющих людей развивается  алкогольный гепатит и цирроз печени, увеличивается селез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" descr=""/>
          <p:cNvPicPr/>
          <p:nvPr/>
        </p:nvPicPr>
        <p:blipFill>
          <a:blip r:embed="rId1"/>
          <a:stretch/>
        </p:blipFill>
        <p:spPr>
          <a:xfrm>
            <a:off x="6012000" y="404640"/>
            <a:ext cx="2500200" cy="33624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99" name="Picture 4" descr="C:\Users\Марианна\Desktop\giv1-18.gif"/>
          <p:cNvPicPr/>
          <p:nvPr/>
        </p:nvPicPr>
        <p:blipFill>
          <a:blip r:embed="rId2"/>
          <a:stretch/>
        </p:blipFill>
        <p:spPr>
          <a:xfrm>
            <a:off x="285840" y="2857680"/>
            <a:ext cx="3181320" cy="23716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00" name="Picture 5" descr="C:\Users\Марианна\Desktop\giv1-19.gif"/>
          <p:cNvPicPr/>
          <p:nvPr/>
        </p:nvPicPr>
        <p:blipFill>
          <a:blip r:embed="rId3"/>
          <a:stretch/>
        </p:blipFill>
        <p:spPr>
          <a:xfrm>
            <a:off x="5219640" y="3971880"/>
            <a:ext cx="2200320" cy="25146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C:\Users\Марианна\Desktop\Влияние на организм челоека\p0069.gif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sp>
        <p:nvSpPr>
          <p:cNvPr id="302" name="Прямоугольник 4"/>
          <p:cNvSpPr/>
          <p:nvPr/>
        </p:nvSpPr>
        <p:spPr>
          <a:xfrm>
            <a:off x="5364000" y="765000"/>
            <a:ext cx="378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 алкоголизм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ие мозга, пищеводное кровотечение из варикозных сосудов, функциональная почечная недостаточность, анемия, нарушение свертываемости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3"/>
          <p:cNvSpPr/>
          <p:nvPr/>
        </p:nvSpPr>
        <p:spPr>
          <a:xfrm>
            <a:off x="0" y="2852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и подросткам очень вредно употреблять алкогол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2916360" y="214200"/>
            <a:ext cx="2214360" cy="25005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05" name="Picture 3" descr=""/>
          <p:cNvPicPr/>
          <p:nvPr/>
        </p:nvPicPr>
        <p:blipFill>
          <a:blip r:embed="rId2"/>
          <a:stretch/>
        </p:blipFill>
        <p:spPr>
          <a:xfrm>
            <a:off x="1042920" y="3933720"/>
            <a:ext cx="2571840" cy="17146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06" name="Picture 4" descr=""/>
          <p:cNvPicPr/>
          <p:nvPr/>
        </p:nvPicPr>
        <p:blipFill>
          <a:blip r:embed="rId3"/>
          <a:stretch/>
        </p:blipFill>
        <p:spPr>
          <a:xfrm>
            <a:off x="6357960" y="4143240"/>
            <a:ext cx="2071800" cy="25005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07" name="Picture 5" descr="C:\Users\Марианна\Desktop\Влияние на организм челоека\Алкоголь\картинки\152.jpg"/>
          <p:cNvPicPr/>
          <p:nvPr/>
        </p:nvPicPr>
        <p:blipFill>
          <a:blip r:embed="rId4"/>
          <a:stretch/>
        </p:blipFill>
        <p:spPr>
          <a:xfrm>
            <a:off x="5278320" y="404640"/>
            <a:ext cx="3143520" cy="18050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08" name="Picture 7" descr="C:\Users\Марианна\Desktop\1172935085.jpg"/>
          <p:cNvPicPr/>
          <p:nvPr/>
        </p:nvPicPr>
        <p:blipFill>
          <a:blip r:embed="rId5"/>
          <a:stretch/>
        </p:blipFill>
        <p:spPr>
          <a:xfrm>
            <a:off x="214200" y="214200"/>
            <a:ext cx="2428920" cy="24289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3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действием спиртного у подростков нарушается работа ритма сердца, выработка ферментов в печени, нарушается фильтрующая функция почек, ухудшается память и мышл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1"/>
          <a:stretch/>
        </p:blipFill>
        <p:spPr>
          <a:xfrm>
            <a:off x="1143000" y="1928880"/>
            <a:ext cx="2714760" cy="31431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11" name="Picture 6" descr="C:\Users\Марианна\Desktop\2_3.jpg"/>
          <p:cNvPicPr/>
          <p:nvPr/>
        </p:nvPicPr>
        <p:blipFill>
          <a:blip r:embed="rId2"/>
          <a:stretch/>
        </p:blipFill>
        <p:spPr>
          <a:xfrm>
            <a:off x="5072040" y="1928880"/>
            <a:ext cx="2711520" cy="32148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12" name="Picture 2" descr=""/>
          <p:cNvPicPr/>
          <p:nvPr/>
        </p:nvPicPr>
        <p:blipFill>
          <a:blip r:embed="rId3"/>
          <a:stretch/>
        </p:blipFill>
        <p:spPr>
          <a:xfrm>
            <a:off x="6715080" y="4286160"/>
            <a:ext cx="2214720" cy="23576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13" name="Picture 4" descr=""/>
          <p:cNvPicPr/>
          <p:nvPr/>
        </p:nvPicPr>
        <p:blipFill>
          <a:blip r:embed="rId4"/>
          <a:stretch/>
        </p:blipFill>
        <p:spPr>
          <a:xfrm>
            <a:off x="428760" y="4357800"/>
            <a:ext cx="1928520" cy="22622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14" name="Picture 7" descr="C:\Users\Марианна\Desktop\mem9.png"/>
          <p:cNvPicPr/>
          <p:nvPr/>
        </p:nvPicPr>
        <p:blipFill>
          <a:blip r:embed="rId5"/>
          <a:stretch/>
        </p:blipFill>
        <p:spPr>
          <a:xfrm>
            <a:off x="3500280" y="4500720"/>
            <a:ext cx="1600200" cy="2071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3"/>
          <p:cNvSpPr/>
          <p:nvPr/>
        </p:nvSpPr>
        <p:spPr>
          <a:xfrm>
            <a:off x="2857680" y="1643040"/>
            <a:ext cx="3095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умственного развития детей -  одно из главных последствий алкоголизма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C:\Users\Марианна\Desktop\01_5_1.jpg"/>
          <p:cNvPicPr/>
          <p:nvPr/>
        </p:nvPicPr>
        <p:blipFill>
          <a:blip r:embed="rId1"/>
          <a:stretch/>
        </p:blipFill>
        <p:spPr>
          <a:xfrm>
            <a:off x="428760" y="500040"/>
            <a:ext cx="2205000" cy="30718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17" name="Picture 4" descr=""/>
          <p:cNvPicPr/>
          <p:nvPr/>
        </p:nvPicPr>
        <p:blipFill>
          <a:blip r:embed="rId2"/>
          <a:stretch/>
        </p:blipFill>
        <p:spPr>
          <a:xfrm>
            <a:off x="6000840" y="625320"/>
            <a:ext cx="2857320" cy="2517840"/>
          </a:xfrm>
          <a:prstGeom prst="rect">
            <a:avLst/>
          </a:prstGeom>
          <a:ln w="12600">
            <a:solidFill>
              <a:srgbClr val="72a376"/>
            </a:solidFill>
            <a:miter/>
          </a:ln>
        </p:spPr>
      </p:pic>
      <p:pic>
        <p:nvPicPr>
          <p:cNvPr id="318" name="Picture 5" descr=""/>
          <p:cNvPicPr/>
          <p:nvPr/>
        </p:nvPicPr>
        <p:blipFill>
          <a:blip r:embed="rId3"/>
          <a:stretch/>
        </p:blipFill>
        <p:spPr>
          <a:xfrm>
            <a:off x="214200" y="3929040"/>
            <a:ext cx="2643480" cy="2500200"/>
          </a:xfrm>
          <a:prstGeom prst="rect">
            <a:avLst/>
          </a:prstGeom>
          <a:ln w="12600">
            <a:solidFill>
              <a:srgbClr val="72a376"/>
            </a:solidFill>
            <a:miter/>
          </a:ln>
        </p:spPr>
      </p:pic>
      <p:pic>
        <p:nvPicPr>
          <p:cNvPr id="319" name="Picture 6" descr="C:\Users\Марианна\Desktop\edu6_b.jpg"/>
          <p:cNvPicPr/>
          <p:nvPr/>
        </p:nvPicPr>
        <p:blipFill>
          <a:blip r:embed="rId4"/>
          <a:stretch/>
        </p:blipFill>
        <p:spPr>
          <a:xfrm>
            <a:off x="6000840" y="3786120"/>
            <a:ext cx="2900160" cy="2583000"/>
          </a:xfrm>
          <a:prstGeom prst="rect">
            <a:avLst/>
          </a:prstGeom>
          <a:ln w="1260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4" descr=""/>
          <p:cNvPicPr/>
          <p:nvPr/>
        </p:nvPicPr>
        <p:blipFill>
          <a:blip r:embed="rId1"/>
          <a:stretch/>
        </p:blipFill>
        <p:spPr>
          <a:xfrm>
            <a:off x="4643280" y="3429000"/>
            <a:ext cx="3500640" cy="21924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571680" y="4076640"/>
            <a:ext cx="3541680" cy="23767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22" name="Picture 1" descr=""/>
          <p:cNvPicPr/>
          <p:nvPr/>
        </p:nvPicPr>
        <p:blipFill>
          <a:blip r:embed="rId3"/>
          <a:stretch/>
        </p:blipFill>
        <p:spPr>
          <a:xfrm>
            <a:off x="4500720" y="285840"/>
            <a:ext cx="1849320" cy="24289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23" name="Picture 3" descr=""/>
          <p:cNvPicPr/>
          <p:nvPr/>
        </p:nvPicPr>
        <p:blipFill>
          <a:blip r:embed="rId4"/>
          <a:stretch/>
        </p:blipFill>
        <p:spPr>
          <a:xfrm>
            <a:off x="6858000" y="285840"/>
            <a:ext cx="1803240" cy="24289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sp>
        <p:nvSpPr>
          <p:cNvPr id="324" name="Text Box 7"/>
          <p:cNvSpPr/>
          <p:nvPr/>
        </p:nvSpPr>
        <p:spPr>
          <a:xfrm>
            <a:off x="468360" y="1413000"/>
            <a:ext cx="359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жизни сильно пьющих на 10 – 12 лет меньше сре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Прямоугольник 1"/>
          <p:cNvSpPr/>
          <p:nvPr/>
        </p:nvSpPr>
        <p:spPr>
          <a:xfrm>
            <a:off x="250920" y="54936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растие к алкоголю - причина различных преступ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C:\Users\Марианна\Desktop\2_copy4.jpg"/>
          <p:cNvPicPr/>
          <p:nvPr/>
        </p:nvPicPr>
        <p:blipFill>
          <a:blip r:embed="rId1"/>
          <a:stretch/>
        </p:blipFill>
        <p:spPr>
          <a:xfrm>
            <a:off x="2793960" y="4583160"/>
            <a:ext cx="4457880" cy="18954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27" name="Picture 3" descr="C:\Users\Марианна\Desktop\_1 (2).JPG"/>
          <p:cNvPicPr/>
          <p:nvPr/>
        </p:nvPicPr>
        <p:blipFill>
          <a:blip r:embed="rId2"/>
          <a:stretch/>
        </p:blipFill>
        <p:spPr>
          <a:xfrm>
            <a:off x="5364000" y="1773360"/>
            <a:ext cx="2786400" cy="18223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28" name="Picture 4" descr="C:\Users\Марианна\Desktop\travma.jpg"/>
          <p:cNvPicPr/>
          <p:nvPr/>
        </p:nvPicPr>
        <p:blipFill>
          <a:blip r:embed="rId3"/>
          <a:stretch/>
        </p:blipFill>
        <p:spPr>
          <a:xfrm>
            <a:off x="1285920" y="2000160"/>
            <a:ext cx="2195640" cy="23576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3"/>
          <p:cNvSpPr/>
          <p:nvPr/>
        </p:nvSpPr>
        <p:spPr>
          <a:xfrm>
            <a:off x="428760" y="428760"/>
            <a:ext cx="75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пьяняющих свойствах спиртных напитков люди узнали не менее чем за 8000 лет до нашей э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C:\Users\Марианна\Desktop\Влияние на организм челоека\Алкоголь\картинки\vine.jpg"/>
          <p:cNvPicPr/>
          <p:nvPr/>
        </p:nvPicPr>
        <p:blipFill>
          <a:blip r:embed="rId1"/>
          <a:stretch/>
        </p:blipFill>
        <p:spPr>
          <a:xfrm>
            <a:off x="5072040" y="2357280"/>
            <a:ext cx="3429000" cy="23576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428760" y="2357280"/>
            <a:ext cx="2835000" cy="35719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"/>
          <p:cNvSpPr/>
          <p:nvPr/>
        </p:nvSpPr>
        <p:spPr>
          <a:xfrm>
            <a:off x="285840" y="1580760"/>
            <a:ext cx="2500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ней Руси пили очень ма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ь на избранные праздники варили медовуху, брагу или п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C:\Users\Марианна\Desktop\1a33f622b6c0765978e095140b7d4652.jpg"/>
          <p:cNvPicPr/>
          <p:nvPr/>
        </p:nvPicPr>
        <p:blipFill>
          <a:blip r:embed="rId1"/>
          <a:stretch/>
        </p:blipFill>
        <p:spPr>
          <a:xfrm>
            <a:off x="3143160" y="285840"/>
            <a:ext cx="5572080" cy="32018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62" name="Picture 4" descr="C:\Users\Марианна\Desktop\sbiten.jpg"/>
          <p:cNvPicPr/>
          <p:nvPr/>
        </p:nvPicPr>
        <p:blipFill>
          <a:blip r:embed="rId2"/>
          <a:stretch/>
        </p:blipFill>
        <p:spPr>
          <a:xfrm>
            <a:off x="5786280" y="2786040"/>
            <a:ext cx="2571840" cy="31971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sp>
        <p:nvSpPr>
          <p:cNvPr id="263" name="Прямоугольник 8"/>
          <p:cNvSpPr/>
          <p:nvPr/>
        </p:nvSpPr>
        <p:spPr>
          <a:xfrm>
            <a:off x="3000960" y="6357960"/>
            <a:ext cx="24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5439"/>
                </a:solidFill>
                <a:latin typeface="Times New Roman"/>
                <a:ea typeface="Times New Roman"/>
              </a:rPr>
              <a:t>Старинная кру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3"/>
          <a:stretch/>
        </p:blipFill>
        <p:spPr>
          <a:xfrm>
            <a:off x="3357720" y="3857760"/>
            <a:ext cx="1571400" cy="24858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3"/>
          <p:cNvSpPr/>
          <p:nvPr/>
        </p:nvSpPr>
        <p:spPr>
          <a:xfrm>
            <a:off x="5572440" y="6000840"/>
            <a:ext cx="22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5439"/>
                </a:solidFill>
                <a:latin typeface="Times New Roman"/>
                <a:ea typeface="Times New Roman"/>
              </a:rPr>
              <a:t>Русская пивовар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4000680" y="1928880"/>
            <a:ext cx="4905360" cy="36432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sp>
        <p:nvSpPr>
          <p:cNvPr id="267" name="Rectangle 3"/>
          <p:cNvSpPr/>
          <p:nvPr/>
        </p:nvSpPr>
        <p:spPr>
          <a:xfrm>
            <a:off x="0" y="51444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ни или села имели свой питейный дом или корчму, где подавали пиво, брагу, меды, квас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6"/>
          <p:cNvSpPr/>
          <p:nvPr/>
        </p:nvSpPr>
        <p:spPr>
          <a:xfrm>
            <a:off x="0" y="600084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5439"/>
                </a:solidFill>
                <a:latin typeface="Times New Roman"/>
                <a:ea typeface="Times New Roman"/>
              </a:rPr>
              <a:t>Квасир на средневековой гравю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785880" y="1785960"/>
            <a:ext cx="2071800" cy="42148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70" name="Picture 7" descr="C:\Users\Марианна\Desktop\20040105045246_big.jpg"/>
          <p:cNvPicPr/>
          <p:nvPr/>
        </p:nvPicPr>
        <p:blipFill>
          <a:blip r:embed="rId3"/>
          <a:stretch/>
        </p:blipFill>
        <p:spPr>
          <a:xfrm>
            <a:off x="3286080" y="5214960"/>
            <a:ext cx="1928880" cy="12826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0" y="36324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наши дни очень актуальна пробл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потребления алког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C:\Users\Марианна\Desktop\s886_1161631242_1.jpg"/>
          <p:cNvPicPr/>
          <p:nvPr/>
        </p:nvPicPr>
        <p:blipFill>
          <a:blip r:embed="rId1"/>
          <a:stretch/>
        </p:blipFill>
        <p:spPr>
          <a:xfrm>
            <a:off x="6215040" y="2071800"/>
            <a:ext cx="2535120" cy="36525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73" name="Рисунок 7" descr=""/>
          <p:cNvPicPr/>
          <p:nvPr/>
        </p:nvPicPr>
        <p:blipFill>
          <a:blip r:embed="rId2"/>
          <a:stretch/>
        </p:blipFill>
        <p:spPr>
          <a:xfrm>
            <a:off x="357120" y="3286080"/>
            <a:ext cx="3672000" cy="26240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74" name="Picture 2" descr="C:\Users\Марианна\Desktop\Влияние на организм челоека\Алкоголь\картинки\817_head.jpg"/>
          <p:cNvPicPr/>
          <p:nvPr/>
        </p:nvPicPr>
        <p:blipFill>
          <a:blip r:embed="rId3"/>
          <a:stretch/>
        </p:blipFill>
        <p:spPr>
          <a:xfrm>
            <a:off x="3000240" y="1857240"/>
            <a:ext cx="2279880" cy="18576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500040" y="1220400"/>
            <a:ext cx="349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д алкоголя очевид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4"/>
          <p:cNvSpPr/>
          <p:nvPr/>
        </p:nvSpPr>
        <p:spPr>
          <a:xfrm>
            <a:off x="4788000" y="2997360"/>
            <a:ext cx="410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когольн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родукц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которая выпускается негосударственными предприятиями, содержит большое количество ядови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Рисунок 5" descr=""/>
          <p:cNvPicPr/>
          <p:nvPr/>
        </p:nvPicPr>
        <p:blipFill>
          <a:blip r:embed="rId1"/>
          <a:stretch/>
        </p:blipFill>
        <p:spPr>
          <a:xfrm>
            <a:off x="357120" y="3571920"/>
            <a:ext cx="3929040" cy="25718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78" name="Picture 2" descr="C:\Users\Марианна\Desktop\e13ccf64e46fb12eee2bc502ad299326_full.jpg"/>
          <p:cNvPicPr/>
          <p:nvPr/>
        </p:nvPicPr>
        <p:blipFill>
          <a:blip r:embed="rId2"/>
          <a:stretch/>
        </p:blipFill>
        <p:spPr>
          <a:xfrm>
            <a:off x="4572000" y="428760"/>
            <a:ext cx="3929040" cy="24764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357120" y="29016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ы на растениях, жуках, птицах, животных показали, что алкоголь вреден для живых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4"/>
          <p:cNvSpPr/>
          <p:nvPr/>
        </p:nvSpPr>
        <p:spPr>
          <a:xfrm>
            <a:off x="285840" y="5643720"/>
            <a:ext cx="61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т ослабляет рост семян растений и убивает в них жизне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4143240" cy="30002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82" name="Picture 5" descr="C:\Users\Марианна\Desktop\f06.jpg"/>
          <p:cNvPicPr/>
          <p:nvPr/>
        </p:nvPicPr>
        <p:blipFill>
          <a:blip r:embed="rId2"/>
          <a:stretch/>
        </p:blipFill>
        <p:spPr>
          <a:xfrm>
            <a:off x="7072200" y="285840"/>
            <a:ext cx="1785960" cy="17143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83" name="Picture 8" descr="C:\Users\Марианна\Desktop\7271.jpeg"/>
          <p:cNvPicPr/>
          <p:nvPr/>
        </p:nvPicPr>
        <p:blipFill>
          <a:blip r:embed="rId3"/>
          <a:stretch/>
        </p:blipFill>
        <p:spPr>
          <a:xfrm>
            <a:off x="214200" y="2071800"/>
            <a:ext cx="2667240" cy="22860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"/>
          <p:cNvSpPr/>
          <p:nvPr/>
        </p:nvSpPr>
        <p:spPr>
          <a:xfrm>
            <a:off x="0" y="-36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рганизме алкоголь оказывает четыре основных эфф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179280" y="904680"/>
            <a:ext cx="568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ивает организм энерги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замедляет работу центральной нервной системы, снижает ее эффекти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стимулирует производство мочи (вследствие этого клетки обезвоживаютс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выводит из строя пе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C:\Users\Марианна\Desktop\9.gif"/>
          <p:cNvPicPr/>
          <p:nvPr/>
        </p:nvPicPr>
        <p:blipFill>
          <a:blip r:embed="rId1"/>
          <a:stretch/>
        </p:blipFill>
        <p:spPr>
          <a:xfrm>
            <a:off x="5219640" y="1257480"/>
            <a:ext cx="3357720" cy="26431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87" name="Picture 6" descr="C:\Users\Марианна\Desktop\050780ec-10ce-4aa0-9788-a50dc9dbb8df.gif"/>
          <p:cNvPicPr/>
          <p:nvPr/>
        </p:nvPicPr>
        <p:blipFill>
          <a:blip r:embed="rId2"/>
          <a:stretch/>
        </p:blipFill>
        <p:spPr>
          <a:xfrm>
            <a:off x="2556000" y="4143240"/>
            <a:ext cx="3143160" cy="24289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"/>
          <p:cNvSpPr/>
          <p:nvPr/>
        </p:nvSpPr>
        <p:spPr>
          <a:xfrm>
            <a:off x="357120" y="1512000"/>
            <a:ext cx="250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дного приема небольшой дозы спиртного алкоголь сохраняется в мозгу, сердце, почках, желудке от 49 часов до 15 су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C:\Users\Марианна\Desktop\023.jpg"/>
          <p:cNvPicPr/>
          <p:nvPr/>
        </p:nvPicPr>
        <p:blipFill>
          <a:blip r:embed="rId1"/>
          <a:stretch/>
        </p:blipFill>
        <p:spPr>
          <a:xfrm>
            <a:off x="3429000" y="4643280"/>
            <a:ext cx="3000240" cy="19195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90" name="Picture 5" descr="C:\Users\Марианна\Desktop\n69n-s29.jpg"/>
          <p:cNvPicPr/>
          <p:nvPr/>
        </p:nvPicPr>
        <p:blipFill>
          <a:blip r:embed="rId2"/>
          <a:stretch/>
        </p:blipFill>
        <p:spPr>
          <a:xfrm>
            <a:off x="3714840" y="142920"/>
            <a:ext cx="4429080" cy="26431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91" name="Picture 2" descr=""/>
          <p:cNvPicPr/>
          <p:nvPr/>
        </p:nvPicPr>
        <p:blipFill>
          <a:blip r:embed="rId3"/>
          <a:stretch/>
        </p:blipFill>
        <p:spPr>
          <a:xfrm>
            <a:off x="6000840" y="3071880"/>
            <a:ext cx="2428920" cy="27860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8:50:03Z</dcterms:created>
  <dc:creator>Марианна</dc:creator>
  <dc:description/>
  <dc:language>en-US</dc:language>
  <cp:lastModifiedBy>Comp</cp:lastModifiedBy>
  <dcterms:modified xsi:type="dcterms:W3CDTF">2023-06-01T00:15:38Z</dcterms:modified>
  <cp:revision>75</cp:revision>
  <dc:subject/>
  <dc:title>ВЛИЯНИЕ АЛКОГОЛЯ НА ОРГАНИЗМ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23000000000001023620</vt:lpwstr>
  </property>
</Properties>
</file>