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E853-C6C1-45D3-A172-538DE4F6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CE05-290A-438E-96D0-2F1EDBDA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EF29-95DB-4BDA-9571-D88B1DA8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71F8-6B29-4719-8651-06FBAD96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0DDC-203A-4DB5-B143-11588B89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6619-73BF-481C-BA56-0D666143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46D9-141B-4DFF-AFBF-B3F8809E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F75D-9B65-49D4-93EB-1FFFBD2A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9A23-3F31-4179-82C5-45096B8B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3B21-B855-45A6-86EF-E403A258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7687-E122-4C11-AEB8-A5E1AC4E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93CC-D90D-4C0E-B3D7-C8375397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10AD-203D-4D5D-BEE4-B136C728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A3AF-7F49-45A5-9349-DF3619C0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052E-FEF9-472F-9ED7-7BBB6CA3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2E59-CE56-410D-9D0B-910E043C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AFC0-0991-4DC9-A037-9AC9D628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7A93-ACA5-486E-9F38-5D3CE659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1966-FBF3-4737-A8BA-2C4D7B38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07DF-81D1-4CE6-B0A6-7B09F0E4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EA58-0067-4537-85B2-73D51932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6D57-639B-433D-8F36-F12B182C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2059-9644-47BD-87F2-4C1B4DDC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2282-9583-4576-A9F9-830C7C86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4B1D-11D7-4E92-B95E-5318ABC6C35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7E6C-0767-42E6-B2C5-A2165DE613D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8709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лександр Сергеевич Пушки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5410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105520" y="1447920"/>
            <a:ext cx="320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рузья мои, прекрасен наш союз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н как душа неразделим и вечен —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колебим, свободен и беспечен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растался он под сенью дружных муз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уда бы нас ни бросила судьбин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счастие куда б ни повел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ё те же мы: нам целый мир чужбин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течество нам Царское Се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пальный – опала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–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емилость царя к кому-либо; наказание впавшему в немилост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38880" y="4343400"/>
            <a:ext cx="370512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творни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тшельник; человек,      давший обет (обещание не выходить из своей кельи или выходить редко)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715000" y="4267080"/>
            <a:ext cx="24573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Гим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торжественная песнь в честь богов, героев, победителей или в честь какого-нибудь важного события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800600" y="4172040"/>
            <a:ext cx="350532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уз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кровительница искусства и наук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сточник поэтического вдохновения; само вдохновение, творчество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858000" y="3886200"/>
            <a:ext cx="19954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слание –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этический жанр, письмо в стихах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800600" y="3886200"/>
            <a:ext cx="40766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0948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учить любые 4 строфы из стихотворения «19 октября» (для всех!!!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чинение: тема дружбы в творчестве А.С. Пушкин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иб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писать собственное стихотворение о своих друзьях, о дружбе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01028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егодня я узнал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ыло интересн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ыло трудн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я почувствовал, чт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 меня получилось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я попробую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еня удивил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рок дал мне для жизни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не захотелось…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181480" y="457200"/>
            <a:ext cx="2514600" cy="18334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715000" y="2362320"/>
            <a:ext cx="2705040" cy="1638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172200" y="41911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Лицей 19 октября 1811г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880" y="1079640"/>
            <a:ext cx="830592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.С. Пушкин в лицейские год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343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ван Иванович Пущи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97052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нтон Антонович Дельвиг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5530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6870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ильгельм Карлович Кюхельбекер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553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сылка в Михайловском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 1824 по1826 г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 rot="20616000">
            <a:off x="533520" y="1371600"/>
            <a:ext cx="4495680" cy="3097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733920" y="3048120"/>
            <a:ext cx="507672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19 октября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04920" y="1474920"/>
            <a:ext cx="835632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ловарная рабо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тще –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напрасно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715000" y="411480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49:56Z</dcterms:created>
  <dc:creator>1</dc:creator>
  <dc:description/>
  <dc:language>en-US</dc:language>
  <cp:lastModifiedBy>1</cp:lastModifiedBy>
  <dcterms:modified xsi:type="dcterms:W3CDTF">2018-03-17T16:06:2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