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A12B-3F64-4A8C-9CE8-BCA5C5B3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188C-8874-4CF5-AB74-C8B3162D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CA22-269A-420B-8DA4-53127DB8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11C8-4A3B-420C-BFE8-3077B248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3190-64B1-4900-9BC0-50348083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EB58-9F9F-4571-90DE-B32A1CCB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3C6F-439A-435C-85E3-2FCE818B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956D-7B10-423E-AACD-C4E49863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FF03-1ED2-452F-A4B2-ED94AED2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0D62-8A9F-4157-88FA-72E2F526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20CF-6B29-49E2-B171-74B14EBD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4952-59A0-4A6C-BA17-4750296A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E8A1-B09A-43F0-BF35-DC53C7A1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7D82-196A-45E0-9DD0-53F3658F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B247-2095-4BC3-B2CB-C8EE1396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59C6-FB0B-4EFA-9DA7-C393D024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DD34-8AEB-4104-9DDE-BDAA65C5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4963-CF74-4FF4-8F17-BEAD60DF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2F51-F30F-482A-AE0A-948E87C9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E469-E629-4D46-993B-AD87183C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709B-2A03-41E1-A64D-F75D955D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EFB5-5A9D-4609-9D36-53E220E5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7332-0B6F-41B0-B4C0-80B1260B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A6A0-E21A-4CF8-AC57-48C681D6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EE21-EC77-4E88-841C-FD0C501DD5E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97EE-273C-44DE-AE6F-1A66D17A2F2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8709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лександр Сергеевич Пушки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5410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105520" y="1447920"/>
            <a:ext cx="320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рузья мои, прекрасен наш союз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н как душа неразделим и вечен —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колебим, свободен и беспечен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растался он под сенью дружных муз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уда бы нас ни бросила судьбин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счастие куда б ни повел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ё те же мы: нам целый мир чужбин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течество нам Царское Се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пальный – опала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–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емилость царя к кому-либо; наказание впавшему в немилост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38880" y="4343400"/>
            <a:ext cx="370512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творни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тшельник; человек,      давший обет (обещание не выходить из своей кельи или выходить редко)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715000" y="4267080"/>
            <a:ext cx="24573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Гим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торжественная песнь в честь богов, героев, победителей или в честь какого-нибудь важного события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800600" y="4172040"/>
            <a:ext cx="350532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уз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кровительница искусства и наук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сточник поэтического вдохновения; само вдохновение, творчество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858000" y="3886200"/>
            <a:ext cx="19954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слание –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этический жанр, письмо в стихах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800600" y="3886200"/>
            <a:ext cx="40766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0948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учить любые 4 строфы из стихотворения «19 октября» (для всех!!!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чинение: тема дружбы в творчестве А.С. Пушкин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иб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писать собственное стихотворение о своих друзьях, о дружбе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01028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егодня я узнал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ыло интересн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ыло трудн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я почувствовал, чт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 меня получилось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я попробую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еня удивил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рок дал мне для жизни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не захотелось…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181480" y="457200"/>
            <a:ext cx="2514600" cy="18334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715000" y="2362320"/>
            <a:ext cx="2705040" cy="1638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172200" y="41911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Лицей 19 октября 1811г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880" y="1079640"/>
            <a:ext cx="830592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.С. Пушкин в лицейские год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343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ван Иванович Пущи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97052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нтон Антонович Дельвиг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5530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6870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ильгельм Карлович Кюхельбекер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553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сылка в Михайловском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 1824 по1826 г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 rot="20616000">
            <a:off x="533520" y="1371600"/>
            <a:ext cx="4495680" cy="3097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733920" y="3048120"/>
            <a:ext cx="507672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19 октября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04920" y="1474920"/>
            <a:ext cx="835632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ловарная рабо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тще –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напрасно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715000" y="411480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49:56Z</dcterms:created>
  <dc:creator>1</dc:creator>
  <dc:description/>
  <dc:language>en-US</dc:language>
  <cp:lastModifiedBy>1</cp:lastModifiedBy>
  <dcterms:modified xsi:type="dcterms:W3CDTF">2018-03-17T16:06:2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