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4027-4DA9-40FF-B39E-5CDA70BE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A07C-B353-410F-90F1-5A91A02C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FD1-206A-4286-9940-E8E58595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90B-01BC-4DF3-A715-EB1C7029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7695-FCE8-4067-A9C5-AD9196AC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9D9-6C75-4917-B45E-816B97E7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91C3-18AD-4D6F-A6E0-E7FDB58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9A4-E510-4949-BE33-EFAFD82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E76-A497-4227-AFDF-B2A8E50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1111-55D1-46E8-B566-8663D146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C85A-2743-496D-B8E7-259BD092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05C-34CB-4AFB-87AB-2ABCB93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EC21-D7DF-4CA3-A6F9-750F9545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1D35-D31C-4BAB-A80F-E0E9A5E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9801-CB58-4183-845C-EB72F60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B1AA-F98F-4DB1-AA73-60C835B9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0F92-D57D-464A-B3EF-AB6199B5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7F5A-4263-4668-B19A-262A1C9B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CDBD-51F2-4BF2-B6BE-696442C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7284-A3DF-4C71-8CFA-FA2E9DE0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06B4-297B-4CA1-AD26-9E9E0ACF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185B-70E6-4D10-A97D-42A1AB3B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D1D-5F64-4CA3-B334-99189092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22C9-BD97-43DD-AE38-F8A5B9C4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7C37-B310-4C9C-9EAF-1306F94A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202D-5298-4481-9E54-3DED23C2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B6CF-12E5-44B9-B257-0318397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CA61-8014-4687-B430-BCAB8D4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C7A4-B130-4443-A79E-C3453935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E8DC-FEE0-4977-80CC-06D096BD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0EDCC-6EE0-49E1-8100-27C27A79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BE347-EE50-4D14-AC50-3EB409A0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9CA70-E352-49B4-A7C4-8F6E89D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E53-B9C4-4359-AEE4-226554C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BA21B-0DD3-4D79-A250-0DADF36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515BC-6BDE-4473-9F11-54C9FE21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19699-786D-483E-94B3-921AC3AE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5722A-4A53-4EDC-A271-6E63B44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BB5BC-1F44-424E-BBB0-54BA60EE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68FC7-8C98-42D4-BE3C-090BC8A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C8CB0-EA99-45E8-B86B-DC49B66D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F595F-09AE-4C19-BAE0-9AA3D57D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506EE-D288-4F82-A93F-2D4B04A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EED3-EE4D-40A7-A703-BBDA42B9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7FA-2F3E-4175-B615-D48BD9C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BF564-B88F-48F7-949D-D7D8883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06C95-81E7-4A01-B77C-68EF8F6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4079-8F3A-4A68-BC22-C4E74793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E6185-C64B-4BCC-9554-EBBBDD3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8CFA-43F4-4741-AFC1-414F5115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9755F-DAB0-49FA-B3CC-BE25CFD5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0B69C-DCA7-405B-8293-38FBE1E6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B2AC-0F49-46CD-8C1B-4E28256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8130-8CCA-459D-AF9D-CE7750A3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2CAD-A392-4D3B-8B14-BD5BFE3E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480" y="704520"/>
            <a:ext cx="10971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E40-C916-484E-ACBF-1CD5612B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1928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028720" y="193464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4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31928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028720" y="4226760"/>
            <a:ext cx="35326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CFB0-1040-4DBF-AAD9-5A9B93A8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409-12A0-40B0-8D1E-8594164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31600" y="422676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EFF-FE09-4E4C-A118-39C14FE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600" y="1934640"/>
            <a:ext cx="535392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26760"/>
            <a:ext cx="109713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7CE-F580-47C5-8D58-C7AB8D7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-7920"/>
            <a:ext cx="12217320" cy="1041480"/>
          </a:xfrm>
          <a:custGeom>
            <a:avLst/>
            <a:gdLst/>
            <a:ahLst/>
            <a:rect l="l" t="t" r="r" b="b"/>
            <a:pathLst>
              <a:path w="12217400" h="1041400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842080" y="-7920"/>
            <a:ext cx="6350040" cy="638280"/>
          </a:xfrm>
          <a:custGeom>
            <a:avLst/>
            <a:gdLst/>
            <a:ahLst/>
            <a:rect l="l" t="t" r="r" b="b"/>
            <a:pathLst>
              <a:path w="6350000" h="63817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abf">
                  <a:alpha val="46274"/>
                </a:srgbClr>
              </a:gs>
              <a:gs pos="100000">
                <a:srgbClr val="00a0a8">
                  <a:alpha val="31372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57240" y="-408240"/>
            <a:ext cx="12294000" cy="1868400"/>
            <a:chOff x="-57240" y="-408240"/>
            <a:chExt cx="12294000" cy="1868400"/>
          </a:xfrm>
        </p:grpSpPr>
        <p:sp>
          <p:nvSpPr>
            <p:cNvPr id="3" name=""/>
            <p:cNvSpPr/>
            <p:nvPr/>
          </p:nvSpPr>
          <p:spPr>
            <a:xfrm rot="21420000">
              <a:off x="-33120" y="-88920"/>
              <a:ext cx="12231360" cy="1230120"/>
            </a:xfrm>
            <a:custGeom>
              <a:avLst/>
              <a:gdLst/>
              <a:ahLst/>
              <a:rect l="l" t="t" r="r" b="b"/>
              <a:pathLst>
                <a:path w="9163050" h="649224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1420000">
              <a:off x="-28080" y="49320"/>
              <a:ext cx="12247200" cy="1003680"/>
            </a:xfrm>
            <a:custGeom>
              <a:avLst/>
              <a:gdLst/>
              <a:ahLst/>
              <a:rect l="l" t="t" r="r" b="b"/>
              <a:pathLst>
                <a:path w="9175812" h="530352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09480" y="6356160"/>
            <a:ext cx="28432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555720" y="6356160"/>
            <a:ext cx="4468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10566360" y="6356160"/>
            <a:ext cx="10144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616-EDD4-4105-B7A5-39E7D1ECF953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2600" y="-7920"/>
            <a:ext cx="12217320" cy="1041480"/>
          </a:xfrm>
          <a:custGeom>
            <a:avLst/>
            <a:gdLst/>
            <a:ahLst/>
            <a:rect l="l" t="t" r="r" b="b"/>
            <a:pathLst>
              <a:path w="12217400" h="1041400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42080" y="-7920"/>
            <a:ext cx="6350040" cy="638280"/>
          </a:xfrm>
          <a:custGeom>
            <a:avLst/>
            <a:gdLst/>
            <a:ahLst/>
            <a:rect l="l" t="t" r="r" b="b"/>
            <a:pathLst>
              <a:path w="6350000" h="63817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abf">
                  <a:alpha val="46274"/>
                </a:srgbClr>
              </a:gs>
              <a:gs pos="100000">
                <a:srgbClr val="00a0a8">
                  <a:alpha val="31372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57240" y="-408240"/>
            <a:ext cx="12294000" cy="1868400"/>
            <a:chOff x="-57240" y="-408240"/>
            <a:chExt cx="12294000" cy="1868400"/>
          </a:xfrm>
        </p:grpSpPr>
        <p:sp>
          <p:nvSpPr>
            <p:cNvPr id="49" name=""/>
            <p:cNvSpPr/>
            <p:nvPr/>
          </p:nvSpPr>
          <p:spPr>
            <a:xfrm rot="21420000">
              <a:off x="-33120" y="-88920"/>
              <a:ext cx="12231360" cy="1230120"/>
            </a:xfrm>
            <a:custGeom>
              <a:avLst/>
              <a:gdLst/>
              <a:ahLst/>
              <a:rect l="l" t="t" r="r" b="b"/>
              <a:pathLst>
                <a:path w="9163050" h="649224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20000">
              <a:off x="-28080" y="49320"/>
              <a:ext cx="12247200" cy="1003680"/>
            </a:xfrm>
            <a:custGeom>
              <a:avLst/>
              <a:gdLst/>
              <a:ahLst/>
              <a:rect l="l" t="t" r="r" b="b"/>
              <a:pathLst>
                <a:path w="9175812" h="530352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107288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09480" y="6356160"/>
            <a:ext cx="28432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555720" y="6356160"/>
            <a:ext cx="4468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10566360" y="6356160"/>
            <a:ext cx="10144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1780-7EF4-442C-8F37-FACDAEE00E76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2600" y="-7920"/>
            <a:ext cx="12217320" cy="1041480"/>
          </a:xfrm>
          <a:custGeom>
            <a:avLst/>
            <a:gdLst/>
            <a:ahLst/>
            <a:rect l="l" t="t" r="r" b="b"/>
            <a:pathLst>
              <a:path w="12217400" h="1041400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6274"/>
                </a:srgbClr>
              </a:gs>
              <a:gs pos="100000">
                <a:srgbClr val="00c4cd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42080" y="-7920"/>
            <a:ext cx="6350040" cy="638280"/>
          </a:xfrm>
          <a:custGeom>
            <a:avLst/>
            <a:gdLst/>
            <a:ahLst/>
            <a:rect l="l" t="t" r="r" b="b"/>
            <a:pathLst>
              <a:path w="6350000" h="63817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8abf">
                  <a:alpha val="46274"/>
                </a:srgbClr>
              </a:gs>
              <a:gs pos="100000">
                <a:srgbClr val="00a0a8">
                  <a:alpha val="31372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7240" y="-408240"/>
            <a:ext cx="12294000" cy="1868400"/>
            <a:chOff x="-57240" y="-408240"/>
            <a:chExt cx="12294000" cy="1868400"/>
          </a:xfrm>
        </p:grpSpPr>
        <p:sp>
          <p:nvSpPr>
            <p:cNvPr id="95" name=""/>
            <p:cNvSpPr/>
            <p:nvPr/>
          </p:nvSpPr>
          <p:spPr>
            <a:xfrm rot="21420000">
              <a:off x="-33120" y="-88920"/>
              <a:ext cx="12231360" cy="1230120"/>
            </a:xfrm>
            <a:custGeom>
              <a:avLst/>
              <a:gdLst/>
              <a:ahLst/>
              <a:rect l="l" t="t" r="r" b="b"/>
              <a:pathLst>
                <a:path w="9163050" h="649224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800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8080" y="49320"/>
              <a:ext cx="12247200" cy="1003680"/>
            </a:xfrm>
            <a:custGeom>
              <a:avLst/>
              <a:gdLst/>
              <a:ahLst/>
              <a:rect l="l" t="t" r="r" b="b"/>
              <a:pathLst>
                <a:path w="9175812" h="530352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360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04520"/>
            <a:ext cx="10971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09480" y="1934640"/>
            <a:ext cx="109713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480" y="6356160"/>
            <a:ext cx="28432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555720" y="6356160"/>
            <a:ext cx="4468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566360" y="6356160"/>
            <a:ext cx="10144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FFAE-85F9-43DF-8407-910C33007D82}" type="slidenum">
              <a:rPr b="0" lang="ru-RU" sz="1200" spc="-1" strike="noStrike">
                <a:solidFill>
                  <a:srgbClr val="035c75"/>
                </a:solidFill>
                <a:latin typeface="Constantia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0"/>
            <a:ext cx="12212280" cy="6858000"/>
            <a:chOff x="0" y="0"/>
            <a:chExt cx="12212280" cy="6858000"/>
          </a:xfrm>
        </p:grpSpPr>
        <p:sp>
          <p:nvSpPr>
            <p:cNvPr id="139" name=""/>
            <p:cNvSpPr/>
            <p:nvPr/>
          </p:nvSpPr>
          <p:spPr>
            <a:xfrm>
              <a:off x="11073960" y="1440"/>
              <a:ext cx="1117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35240" y="0"/>
              <a:ext cx="4057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7240" y="0"/>
              <a:ext cx="9140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74680" y="0"/>
              <a:ext cx="50796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44720" y="0"/>
              <a:ext cx="812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15920" y="0"/>
              <a:ext cx="12189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0"/>
              <a:ext cx="406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164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92480" y="0"/>
              <a:ext cx="1117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40960" y="0"/>
              <a:ext cx="3045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4360" y="0"/>
              <a:ext cx="5331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5464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753120" y="0"/>
              <a:ext cx="14220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16360" y="0"/>
              <a:ext cx="132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7360" y="0"/>
              <a:ext cx="1117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4516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72160" y="0"/>
              <a:ext cx="321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7240" y="0"/>
              <a:ext cx="71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0" y="6151680"/>
              <a:ext cx="121914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138720"/>
              <a:ext cx="1221228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7920"/>
            <a:ext cx="1097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0485-3B9D-4F5C-B752-D836791F33D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dt" idx="1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0" y="0"/>
            <a:ext cx="12212280" cy="6858000"/>
            <a:chOff x="0" y="0"/>
            <a:chExt cx="12212280" cy="6858000"/>
          </a:xfrm>
        </p:grpSpPr>
        <p:sp>
          <p:nvSpPr>
            <p:cNvPr id="202" name=""/>
            <p:cNvSpPr/>
            <p:nvPr/>
          </p:nvSpPr>
          <p:spPr>
            <a:xfrm>
              <a:off x="11073960" y="1440"/>
              <a:ext cx="1117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5240" y="0"/>
              <a:ext cx="4057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240" y="0"/>
              <a:ext cx="9140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4680" y="0"/>
              <a:ext cx="50796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44720" y="0"/>
              <a:ext cx="812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15920" y="0"/>
              <a:ext cx="12189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480" y="0"/>
              <a:ext cx="406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164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2480" y="0"/>
              <a:ext cx="1117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40960" y="0"/>
              <a:ext cx="3045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84360" y="0"/>
              <a:ext cx="5331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85464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753120" y="0"/>
              <a:ext cx="14220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6360" y="0"/>
              <a:ext cx="13201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27360" y="0"/>
              <a:ext cx="1117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245160" y="0"/>
              <a:ext cx="507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2160" y="0"/>
              <a:ext cx="321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7240" y="0"/>
              <a:ext cx="7110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0" y="6151680"/>
              <a:ext cx="121914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138720"/>
              <a:ext cx="1221228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1600200"/>
            <a:ext cx="10363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5135-A420-4F18-BE3F-80C035F63F8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1000" y="1371600"/>
            <a:ext cx="104677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e0ea"/>
                </a:solidFill>
                <a:latin typeface="Calibri"/>
              </a:rPr>
              <a:t>Федеральная адаптированная образовательная программа дошко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50e0ea"/>
                </a:solidFill>
                <a:latin typeface="Calibri"/>
              </a:rPr>
              <a:t>для обучающихся с ограниченными</a:t>
            </a:r>
            <a:r>
              <a:rPr b="1" lang="ru-RU" sz="3600" spc="-1" strike="noStrike">
                <a:solidFill>
                  <a:srgbClr val="50e0ea"/>
                </a:solidFill>
                <a:latin typeface="Calibri"/>
              </a:rPr>
              <a:t> возможностями здоровь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711360" y="3228480"/>
            <a:ext cx="104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каз Минпросвещения России от 24.11.2022 N 1022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Об утверждении федеральной адаптированной образовательной программы дошкольного образования для обучающихся с ограниченными возможностями здоровья"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Зарегистрировано в Минюсте России 27.01.2023 N 72149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"/>
          <p:cNvSpPr/>
          <p:nvPr/>
        </p:nvSpPr>
        <p:spPr>
          <a:xfrm>
            <a:off x="820800" y="990720"/>
            <a:ext cx="110188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nstantia"/>
              </a:rPr>
              <a:t>Пояснительная записка. п. 1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 группах компенсирующей направленности осуществляется реализация АОП ДО для обучающихся, обеспечивающей коррекцию нарушений развития и социальную адаптацию обучающихся с учетом особенностей их психофизического развития, индивидуальных возмож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0800" y="240840"/>
            <a:ext cx="1051560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603360"/>
            <a:ext cx="927252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писание образовательной деятельности обучающихся с Т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97000" y="1623960"/>
            <a:ext cx="75452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циально-коммуникативного развития п. 32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66560" y="1393920"/>
            <a:ext cx="638280" cy="637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95400" y="5823000"/>
            <a:ext cx="108601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реализации задач и содержания ФАОП обеспечивается ИНТЕГРАЦИЯ областей в едином образователь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08880" y="2297160"/>
            <a:ext cx="5475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знавательное развитие п. 3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68360" y="21812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890360" y="3179880"/>
            <a:ext cx="4121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чевое развитие п.32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552600" y="3032280"/>
            <a:ext cx="628560" cy="7268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45840" y="3902040"/>
            <a:ext cx="7571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удожественно-эстетическое развитие п.32.4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14440" y="3894120"/>
            <a:ext cx="704880" cy="7048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825200" y="4753080"/>
            <a:ext cx="5022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изического развития п.32.5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577800" y="4808520"/>
            <a:ext cx="722520" cy="581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384120" y="585000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951760" y="1860480"/>
            <a:ext cx="30164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АОП определяет задачи и содержательные линии образовательной деятельности по основным направлениям развития детей с ТН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25400" y="569880"/>
            <a:ext cx="1387440" cy="10414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909800" y="930240"/>
            <a:ext cx="102823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 СОЦИАЛЬНО-КОММУНИКАТИВНОЕ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95320" y="4744080"/>
            <a:ext cx="10740960" cy="162792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п. 32.1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мире людей и рукотворных материа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е поведение в быту, социуме,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1717560"/>
            <a:ext cx="47991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1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млад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1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1.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760" y="1735200"/>
            <a:ext cx="6877080" cy="35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сновная задача направлена на развитие коммуникативных и социальных навыков ребенка с ТНР и усвоения норм и ценностей, принятых в обществе, включая моральные и нравственные ц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89080" y="5481720"/>
            <a:ext cx="51408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 ПОЗНАВАТЕЛЬН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71560" y="181080"/>
            <a:ext cx="1380960" cy="998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84280" y="1130400"/>
            <a:ext cx="7539120" cy="449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bd0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задачами образовательной деятельности с детьми являются создание условий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нтересов обучающихся, любознательности и познавательной мотив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познавательных действий, становления со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воображения и творческ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формирования первичных представлений о себе, других людях, объектах окружающего мира, о малой родине и Отечестве, представлений о социокультурных ценностях наше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77120" y="1425600"/>
            <a:ext cx="391320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2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млад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2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2.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30440" y="5354280"/>
            <a:ext cx="10366200" cy="132012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ласти представлено раздела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едставлений о себе и об окружающем ми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лементарных математических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938160" y="5759280"/>
            <a:ext cx="5144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РЕЧЕВ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95440" y="344520"/>
            <a:ext cx="1690560" cy="10954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39760" y="1544760"/>
            <a:ext cx="1155060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владения речью как средством общения и культуры через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огащения активного словар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связной, грамматически правильной диалогической и монологическ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речевого 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звуковой и интонационной культуры речи, фонематического сл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комства с книжной культурой, детской литера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понимания на слух текстов различных жанров детской литера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звуковой аналитико-синтетической активности как предпосылки обучения грам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илактики речевых нарушений и их системных послед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РЕЧЕВ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23960" y="328680"/>
            <a:ext cx="1776240" cy="1181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80960" y="1423080"/>
            <a:ext cx="7929720" cy="411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м направлением работы в рамках образовательной области "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чевое развит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являе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ние связной реч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ТНР. Формирование вербализованных представлений об окружающем мире, создание условия для развития коммуникативной активности обучающихся с ТНР в быту, играх и на занятиях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Для формирования у обучающихся мотивации к школьному обучению, в работу по развитию речи обучающихся с ТНР включаются занятия по 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  <a:ea typeface="Times New Roman"/>
              </a:rPr>
              <a:t>подготовке их к обучению грамот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566200" y="1620720"/>
            <a:ext cx="3389400" cy="33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3.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младшего дошкольного возра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3.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3.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таршего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04760" y="5624640"/>
            <a:ext cx="9657000" cy="82188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а оставляет МБДОУ право выбора способа речевого развития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395280" y="5707080"/>
            <a:ext cx="5144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"/>
          <p:cNvSpPr/>
          <p:nvPr/>
        </p:nvSpPr>
        <p:spPr>
          <a:xfrm>
            <a:off x="1298520" y="930240"/>
            <a:ext cx="102823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 ХУДОЖЕСТВЕННО-ЭСТЕТИЧЕСКОЕ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28680" y="457200"/>
            <a:ext cx="1484280" cy="106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239760" y="1668600"/>
            <a:ext cx="6824520" cy="412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у обучающихся интереса к эстетической стороне действи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знакомления с разными видами и жанрами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ития способности к восприятию музыки, художественной литературы, фолькл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общения к разным видам художественно-эсте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67680" y="1693800"/>
            <a:ext cx="492444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.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млад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.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средн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4.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00280" y="5411160"/>
            <a:ext cx="10074240" cy="1189080"/>
          </a:xfrm>
          <a:prstGeom prst="rect">
            <a:avLst/>
          </a:prstGeom>
          <a:gradFill rotWithShape="0">
            <a:gsLst>
              <a:gs pos="0">
                <a:srgbClr val="8be9f1"/>
              </a:gs>
              <a:gs pos="100000">
                <a:srgbClr val="f7f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области "Художественно-эстетическое развитие" представлено разделами "Изобразительное творчество" и "Музык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930240" y="5578560"/>
            <a:ext cx="51444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"/>
          <p:cNvSpPr/>
          <p:nvPr/>
        </p:nvSpPr>
        <p:spPr>
          <a:xfrm>
            <a:off x="1298520" y="930240"/>
            <a:ext cx="102823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onstantia"/>
              </a:rPr>
              <a:t>СТРУКТУРА ОБРАЗОВАТЕЛЬНОЙ ОБЛАСТИ ФИЗИЧЕСКОЕ 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22280" y="301680"/>
            <a:ext cx="1646280" cy="1317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19240" y="1402200"/>
            <a:ext cx="750708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у обучающихся ценностей здорового образа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элементарными нормами и правилами здорового образа жизни (в питании, двигательном режиме, закаливании, при формировании полезных привыче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редставлений о своем теле и своих физических возможнос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я двигательного опыта и совершенствования двигательной а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начальных представлений о некоторых видах спорта, овладения подвижными играми с прави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935840" y="1392120"/>
            <a:ext cx="40561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5.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сновное содержание образовательной деятельности с детьми млад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5.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реднего дошкольн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2.5.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е содержание образовательной деятельности с детьми старшего дошкольного возра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24000" y="5255640"/>
            <a:ext cx="9999720" cy="119484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тельной области представлено раздел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я о здоровом образе жизни и гиги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41440" y="5500800"/>
            <a:ext cx="514080" cy="51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"/>
          <p:cNvSpPr/>
          <p:nvPr/>
        </p:nvSpPr>
        <p:spPr>
          <a:xfrm>
            <a:off x="1716120" y="899640"/>
            <a:ext cx="10476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действие педагогических работников с детьми п. 3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27040" y="1940400"/>
            <a:ext cx="10042560" cy="39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, способы, методы и средства реализации программы, которые отражают следующие аспекты образовательной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взаимодействия с педагогическим работн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взаимодействия с другими деть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тношений ребенка к миру, к другим людям, к себе сам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06520" y="627120"/>
            <a:ext cx="143352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379440" y="638280"/>
            <a:ext cx="1724040" cy="1431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149560" y="1080360"/>
            <a:ext cx="960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заимодействие педагогического коллектива с родителями (законными представителями) обучающихся п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06320" y="2612520"/>
            <a:ext cx="10684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заимодействия педагогического коллектива с семьями дошкольников с ТНР п. 39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целью работы с родителями (законными представителями) является обеспечение взаимодействия с семьей, вовлечение родителей (законных представителей) в образовательный процесс для формирования у них компетентной педагогической позиции по отношению к собственному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72880" y="493560"/>
            <a:ext cx="956808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является документом, в соответствии с которым организ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ющие образовательную деятельность на уровне дошко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я (далее - Организации) самостоятельно разрабатывают и утвержд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аптированные образовательные программы до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алее - АОП ДО) для обучающихся раннего и дошкольного возраста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rcRect l="0" t="0" r="0" b="19409"/>
          <a:stretch/>
        </p:blipFill>
        <p:spPr>
          <a:xfrm>
            <a:off x="206280" y="181080"/>
            <a:ext cx="112392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39640" y="792000"/>
            <a:ext cx="1370160" cy="1068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3440" y="2334960"/>
            <a:ext cx="1113300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коррекционной работы обеспечи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особых образовательных потребностей обучающихся с Т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индивидуально-ориентированной психолого-педагогической помощи обучающимся с Т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освоения детьми с ТНР ФАОП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51000" y="5193720"/>
            <a:ext cx="9993240" cy="137160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оррекционной направленности при реализации содержания образовательных областей и воспитательн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525600" y="5332320"/>
            <a:ext cx="51408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55720" y="137880"/>
            <a:ext cx="10515600" cy="60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117440" y="336600"/>
            <a:ext cx="1479600" cy="1257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4120" y="1757520"/>
            <a:ext cx="982044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a5c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ринципы Коррекционно-развивающей работы с детьми с ТН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5440" y="2599560"/>
            <a:ext cx="961848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коррекционно-развивающей работы всех педагогических работников дошкольной образовательной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4800" y="3567960"/>
            <a:ext cx="1020456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 для получения образования детьми с тяжелыми нарушениями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640" y="4471200"/>
            <a:ext cx="1050624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bd0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ифференциальной диагностики речевых и неречевых функций обучающихся с тяжелыми нарушениями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5400" y="5341320"/>
            <a:ext cx="1062684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квалифицированной коррекции нарушений речеязыкового развития обучающихся с ТН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етырем уровням речевого развит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39640" y="630360"/>
            <a:ext cx="1695600" cy="12301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1800" y="2112120"/>
            <a:ext cx="11557080" cy="39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словия для получения образования детьми с тяжелыми нарушениями речи предполаг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пространственной развивающей образовательно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дидактических пособий, технологий, метод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комплексного взаимодействия специалис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коррекционных занятий с учителем-логопе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эффективного план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 образовательной и самостоя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9640" y="792000"/>
            <a:ext cx="2005200" cy="1175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2117880" y="838080"/>
            <a:ext cx="9577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оррекционно-развивающей работы с детьми с ТНР п. 4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3920" y="2083320"/>
            <a:ext cx="1176948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дифференциальной диагностики речевых и неречевых функций обучающихся с тяжелыми нарушениями речи.п. 43.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словарного запаса. п. 43.10.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грамматического строя языка. п. 43.10.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связной речи. п. 43.10.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фонетических и фонематических процессов.п. 43.10.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Содержательный раздел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"/>
          <p:cNvSpPr/>
          <p:nvPr/>
        </p:nvSpPr>
        <p:spPr>
          <a:xfrm>
            <a:off x="733320" y="913680"/>
            <a:ext cx="10817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я содержание образовательной деятельности следует принимать во внимание неравномерность психофизического развития, особенности речевого развития обучающихся с ОВЗ, значительные индивидуальные различия между детьми, а также особенности социокультурной среды, в которой проживают семьи обучаю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225960" y="4276800"/>
            <a:ext cx="8350200" cy="19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070000" y="307440"/>
            <a:ext cx="9468000" cy="34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Федеральная рабочая программа воспитания п. 4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"/>
          <p:cNvSpPr/>
          <p:nvPr/>
        </p:nvSpPr>
        <p:spPr>
          <a:xfrm>
            <a:off x="322200" y="766080"/>
            <a:ext cx="2984400" cy="70164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раздел п. 49.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05040" y="800280"/>
            <a:ext cx="3695760" cy="6390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.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держательный раздел  п.  49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74120" y="804600"/>
            <a:ext cx="3962160" cy="64044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раздел программы п. 49.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5520" y="1525680"/>
            <a:ext cx="3416400" cy="52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цель воспитания п. 49.1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ности (сообщества) МБДОУ п. 49.1.3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окультурные ценности п. 49.1.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и культурные практики в МБДОУ п. 49.1.3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планируемым результатам п. 49.1.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ые ориентиры воспитательной работы для обучающихся с ОВЗ дошкольного возраста (до 8 лет). п.49.1.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83160" y="1412280"/>
            <a:ext cx="35528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и оздоровительн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7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ко-эстетическое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собенности взаимодействия педагогического коллектива с семьями обучающихся с ОВЗ в процессе реализации Программы воспитания.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. 49.2.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427880" y="1427400"/>
            <a:ext cx="476424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требования к условиям реализации Программы воспитания. п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.3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Уклада образовательной организации, выстраивание  воспитыв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я педагогического работника с детьми с ОВЗ. События МБДОУ.п.49.3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едметно-пространственной среды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.49.3.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 воспитательного процесс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49.3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е требования к условиям, обеспечивающим достижение планируемых личностных результатов в работе с детьми с ОВЗ. п.49.3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словиями реализации Программы воспитания и ее задачи п. 49.4. 49.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319040" y="0"/>
            <a:ext cx="776520" cy="78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. Структур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"/>
          <p:cNvSpPr/>
          <p:nvPr/>
        </p:nvSpPr>
        <p:spPr>
          <a:xfrm>
            <a:off x="2122560" y="1287000"/>
            <a:ext cx="9462960" cy="82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ребенка. п. 51.  с ТНР п. 5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20920" y="2395440"/>
            <a:ext cx="9523440" cy="137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рганизация развивающей предметно-пространственной среды. п. 52. И ее характеристика п.52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24240" y="3852720"/>
            <a:ext cx="8523000" cy="94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, финансовые, материально-технические условия реализации программы.п.5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48000" y="5081400"/>
            <a:ext cx="8420040" cy="94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календарный план воспитательной работы. п. 5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38320" y="1225440"/>
            <a:ext cx="904680" cy="10098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974880" y="2484360"/>
            <a:ext cx="1328760" cy="11732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>
            <a:off x="1123920" y="3795840"/>
            <a:ext cx="1008000" cy="947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1138320" y="5113440"/>
            <a:ext cx="8762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"/>
          <p:cNvSpPr/>
          <p:nvPr/>
        </p:nvSpPr>
        <p:spPr>
          <a:xfrm>
            <a:off x="2502000" y="1053720"/>
            <a:ext cx="89103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ребенка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П.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51.  с ТНР п. 5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49320" y="2276640"/>
            <a:ext cx="9420120" cy="137016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9035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аждому ребенку с ТНР предоставляется возможность выбора деятельности, партнера, средств и жизненных навы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70040" y="4066920"/>
            <a:ext cx="10253520" cy="179820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гры как важнейшего фактора развития ребенка с ТНР, с учетом необходимости развития вербальных и невербальных компонентов развития ребенка с ТНР в разных видах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879480" y="612720"/>
            <a:ext cx="153684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33360" y="364680"/>
            <a:ext cx="10120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"/>
          <p:cNvSpPr/>
          <p:nvPr/>
        </p:nvSpPr>
        <p:spPr>
          <a:xfrm>
            <a:off x="2570040" y="1068480"/>
            <a:ext cx="9155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рганизация развивающей предметно-пространственной среды. И ее характеристика п.52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0960" y="2013120"/>
            <a:ext cx="11133360" cy="1187640"/>
          </a:xfrm>
          <a:prstGeom prst="rect">
            <a:avLst/>
          </a:prstGeom>
          <a:gradFill rotWithShape="0">
            <a:gsLst>
              <a:gs pos="0">
                <a:srgbClr val="c8de97"/>
              </a:gs>
              <a:gs pos="100000">
                <a:srgbClr val="fcfef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7b9035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ПРОС МБДОУ создается педагогическими работниками для развития индивидуальности каждого ребенка с учетом его возможностей, уровня активности и интересов, поддерживая формирование его индивидуальной траектории развития. Она должна строиться на основе принципа соответствия анатомо-физиологическим особенностям обучаю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7720" y="3438360"/>
            <a:ext cx="9604440" cy="118764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ПРОС в МБДОУ должна обеспечивать условия для эмоционального благополучия обучающихся и комфортной работы педагогических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1720" y="4915800"/>
            <a:ext cx="9505800" cy="137160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меет право самостоятельно проектировать ППРОС с учетом психофизических особенностей обучающихся с ОВ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01720" y="609480"/>
            <a:ext cx="1535040" cy="13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190160"/>
            <a:ext cx="901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дровые, финансовые, материально-технические условия реализации программы.п.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33560" y="2174040"/>
            <a:ext cx="8293320" cy="1189080"/>
          </a:xfrm>
          <a:prstGeom prst="rect">
            <a:avLst/>
          </a:prstGeom>
          <a:gradFill rotWithShape="0">
            <a:gsLst>
              <a:gs pos="0">
                <a:srgbClr val="8be9f1"/>
              </a:gs>
              <a:gs pos="100000">
                <a:srgbClr val="f7fd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69ba2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ФАОП обеспечивается квалифицированными педагогами и ДОО должна создать условия для профессионального развития педагогических ка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560" y="4000680"/>
            <a:ext cx="10482480" cy="2649960"/>
          </a:xfrm>
          <a:prstGeom prst="rect">
            <a:avLst/>
          </a:prstGeom>
          <a:gradFill rotWithShape="0">
            <a:gsLst>
              <a:gs pos="0">
                <a:srgbClr val="8bc2f1"/>
              </a:gs>
              <a:gs pos="100000">
                <a:srgbClr val="f7fb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74a0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териально-технические условия реализации ФАОП для обучающихся с ОВЗ должны обеспечивать возможность достижения обучающимися в установленных  стандартом результатов освоения основной образовательной программы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062000" y="100980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ФАОП разработана в соответствии с нормативными документа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3330" t="2363" r="2693" b="2401"/>
          <a:stretch/>
        </p:blipFill>
        <p:spPr>
          <a:xfrm>
            <a:off x="258840" y="1139760"/>
            <a:ext cx="3465360" cy="4967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029120" y="964080"/>
            <a:ext cx="7900920" cy="55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деральным законом «Об образовании в Российской Федерации» от 29 декабря 2012 г. № 273ФЗ (зарегистрировано Минюстом Российской Федерации 2 ноября 2022 г., регистрационный № 70809) (в ред. от 29.12.2022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м разработки и утверждения федеральных основных общеобразовательных программ. утверждённым приказом Министерства просвещения Российской Федерации отзо сентября 2022 г, № 874 (зарегистрировано Минюстом Российской Федерации 2 ноября 2022 г., регистрационный № 708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государственным образовательным стандартом дошкольного образования, утвержденный приказом Министерства образования и науки Российской Федерации от 14 ноября 2013 г. N 1155 (зарегистрирован Министерством юстиции Российской Федерации 14 ноября 2013 г., регистрационный N 30384), с изменениями, внесенными приказом Министерства просвещения Российской Федерации от 21 января 2019 г. N 31 (зарегистрирован Министерством юстиции Российской Федерации 13 февраля 2019 г. регистрационный N 5377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рганизационный раздел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"/>
          <p:cNvSpPr/>
          <p:nvPr/>
        </p:nvSpPr>
        <p:spPr>
          <a:xfrm>
            <a:off x="1854360" y="1206360"/>
            <a:ext cx="9842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едеральный календарный план воспитательной работы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4.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8080" y="5067000"/>
            <a:ext cx="11501280" cy="155772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0" rotWithShape="0">
              <a:srgbClr val="ffffff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праве включать в него мероприятия по ключевым направлениям развития воспитания. План определяет перечень событий, которые могут стать основой для проведения воспитательных мероприятий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01960" y="2119320"/>
            <a:ext cx="7149960" cy="11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10cf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ит перечень основных государственных и народных праздников, памятных д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5680" y="3432960"/>
            <a:ext cx="9851760" cy="11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ероприятия должны проводиться с учетом особенностей Федеральной программы, а также возрастных, физиологических и психоэмоциональных особенностей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741240" y="1066680"/>
            <a:ext cx="876600" cy="8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 rot="420000">
            <a:off x="3346560" y="3414600"/>
            <a:ext cx="4674960" cy="29847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830240" y="731880"/>
            <a:ext cx="85442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c00000"/>
                </a:solidFill>
                <a:latin typeface="Times New Roman"/>
              </a:rPr>
              <a:t>СПАСИБО ЗА ВНИМАНИЕ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5760" y="6597720"/>
            <a:ext cx="8159760" cy="142920"/>
          </a:xfrm>
          <a:prstGeom prst="rect">
            <a:avLst/>
          </a:prstGeom>
          <a:solidFill>
            <a:srgbClr val="ffff00">
              <a:alpha val="16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4800" y="12492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собенности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/>
          <p:nvPr/>
        </p:nvSpPr>
        <p:spPr>
          <a:xfrm>
            <a:off x="257040" y="847800"/>
            <a:ext cx="609624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еет статус нормативного докум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зработана в соответствии с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!  обязательна к исполн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пределяет единые для РФ базовые объем и содержание ДО 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планируемые результаты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целевые ориенти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64320" y="860400"/>
            <a:ext cx="525312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БДОУ сами разрабатывают и утверждают АОП на основе ФГОС ДО и ФА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5400000">
            <a:off x="7263360" y="1777320"/>
            <a:ext cx="631800" cy="484200"/>
          </a:xfrm>
          <a:custGeom>
            <a:avLst/>
            <a:gdLst/>
            <a:ahLst/>
            <a:rect l="l" t="t" r="r" b="b"/>
            <a:pathLst>
              <a:path w="2054" h="1416">
                <a:moveTo>
                  <a:pt x="0" y="1381"/>
                </a:moveTo>
                <a:lnTo>
                  <a:pt x="2054" y="1381"/>
                </a:lnTo>
                <a:lnTo>
                  <a:pt x="2054" y="0"/>
                </a:lnTo>
                <a:lnTo>
                  <a:pt x="1754" y="673"/>
                </a:lnTo>
                <a:lnTo>
                  <a:pt x="2054" y="1346"/>
                </a:lnTo>
                <a:lnTo>
                  <a:pt x="2054" y="-35"/>
                </a:lnTo>
                <a:lnTo>
                  <a:pt x="0" y="-35"/>
                </a:lnTo>
                <a:lnTo>
                  <a:pt x="315" y="67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b52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10200240" y="1777320"/>
            <a:ext cx="631800" cy="484200"/>
          </a:xfrm>
          <a:custGeom>
            <a:avLst/>
            <a:gdLst/>
            <a:ahLst/>
            <a:rect l="l" t="t" r="r" b="b"/>
            <a:pathLst>
              <a:path w="2054" h="1416">
                <a:moveTo>
                  <a:pt x="0" y="1381"/>
                </a:moveTo>
                <a:lnTo>
                  <a:pt x="2054" y="1381"/>
                </a:lnTo>
                <a:lnTo>
                  <a:pt x="2054" y="0"/>
                </a:lnTo>
                <a:lnTo>
                  <a:pt x="1754" y="673"/>
                </a:lnTo>
                <a:lnTo>
                  <a:pt x="2054" y="1346"/>
                </a:lnTo>
                <a:lnTo>
                  <a:pt x="2054" y="-35"/>
                </a:lnTo>
                <a:lnTo>
                  <a:pt x="0" y="-35"/>
                </a:lnTo>
                <a:lnTo>
                  <a:pt x="315" y="673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b52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45240" y="2428920"/>
            <a:ext cx="25178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язательная  (</a:t>
            </a: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инвариантная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 часть -60 %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лжна соответствовать ФА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70920" y="2336760"/>
            <a:ext cx="2992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асть, формируемая участниками образовательных отношений (</a:t>
            </a: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вариативная часть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) – не более 40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жет быть ориентирована на региональную специфику, выбор парциальных программ и форм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448080" y="4341960"/>
            <a:ext cx="4680000" cy="24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80920" y="123480"/>
            <a:ext cx="1051560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уктура ФАОП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/>
          <p:nvPr/>
        </p:nvSpPr>
        <p:spPr>
          <a:xfrm>
            <a:off x="328680" y="906120"/>
            <a:ext cx="1141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n-US" sz="2000" spc="-1" strike="noStrike">
                <a:solidFill>
                  <a:srgbClr val="0b5394"/>
                </a:solidFill>
                <a:latin typeface="Times New Roman"/>
                <a:ea typeface="Times New Roman"/>
              </a:rPr>
              <a:t>I. </a:t>
            </a:r>
            <a:r>
              <a:rPr b="1" lang="ru-RU" sz="2000" spc="-1" strike="noStrike">
                <a:solidFill>
                  <a:srgbClr val="0b5394"/>
                </a:solidFill>
                <a:latin typeface="Times New Roman"/>
                <a:ea typeface="Times New Roman"/>
              </a:rPr>
              <a:t>Общие положения п.1-9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вают назначение ФАОП ее статус и особенности, содержание разд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8840" y="1501560"/>
            <a:ext cx="2984400" cy="7038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ой раздел п.10 -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057560" y="1476360"/>
            <a:ext cx="3463920" cy="6390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III.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держательный раздел  п.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86760" y="1536840"/>
            <a:ext cx="3597120" cy="642600"/>
          </a:xfrm>
          <a:prstGeom prst="rect">
            <a:avLst/>
          </a:prstGeom>
          <a:solidFill>
            <a:srgbClr val="20c9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раздел программы 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58120" y="4814640"/>
            <a:ext cx="35528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организации развивающей предметно-пространственной среды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адровых, финансовых, материально-технически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календарный план воспитательной работы с перечнем основных государственных и народных празд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4600" y="2095560"/>
            <a:ext cx="35305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Содерж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Цель, задачи  и принципы программы (базовые и специфические 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ланируемы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 разных возрастных этапах дошкольного де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Целевые ориентиры реализации АОП ДО для обучающихся с ТН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звивающее оценивание качества образовательной деятельности по Программ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0040" y="2139840"/>
            <a:ext cx="441036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nstantia"/>
              </a:rPr>
              <a:t>Включ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писание образовательной деятельности по пяти образовательным обла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ормы, способы, методы и средства реализации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отражает</a:t>
            </a: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характер взаимодействия ребенка с ОВЗ с педагогическим работником и другими деть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грамму коррекционно-развивающе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федеральную рабочую программу вос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евой раздел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/>
          <p:nvPr/>
        </p:nvSpPr>
        <p:spPr>
          <a:xfrm>
            <a:off x="692280" y="981000"/>
            <a:ext cx="111949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реализации Программы: обеспечение условий для дошкольного образования, определяемых общими и особыми потребностями обучающегося дошкольного возраста с ОВЗ, индивидуальными особенностями его развития и состояния здоровья.   п. 10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2280" y="3485520"/>
            <a:ext cx="10713960" cy="26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: п. 10.2.-10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а на принципах дошкольного образования Установленных ФГОС 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  <a:ea typeface="Times New Roman"/>
              </a:rPr>
              <a:t>Специфические принципы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и подходы к формированию АОП ДО для обучающихся с ТНР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. 10.3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6200" y="693360"/>
            <a:ext cx="10515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900" spc="-1" strike="noStrike">
                <a:solidFill>
                  <a:srgbClr val="04617b"/>
                </a:solidFill>
                <a:latin typeface="Calibri"/>
              </a:rPr>
              <a:t>Целевой раздел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727560"/>
            <a:ext cx="11277720" cy="68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b5394"/>
                </a:solidFill>
                <a:latin typeface="Constantia"/>
                <a:ea typeface="Times New Roman"/>
              </a:rPr>
              <a:t>Планируемые результаты. п. 10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ы в виде изложения возможных достижений обучающихся на разных возрастных этапах дошкольного дет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Целевые ориентиры реализации АОП ДО для обучающихся с ТНР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п. 10.4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одержание и планируемые результаты (целевые ориентиры), разработанные Организациями </a:t>
            </a:r>
            <a:r>
              <a:rPr b="0" lang="ru-RU" sz="2400" spc="-1" strike="noStrike">
                <a:solidFill>
                  <a:srgbClr val="c00000"/>
                </a:solidFill>
                <a:latin typeface="Constantia"/>
                <a:ea typeface="Times New Roman"/>
              </a:rPr>
              <a:t>должны быть не ниже соответствующих содержания и планируемых результатов ФА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ладшего дошкольного возраста с ТНР п. 10.4.3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реднего дошкольного возраста с   ТНР. п. 10.4.3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на этапе завершения освоения Программы.  п. 10.4.3.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7030a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nstantia"/>
                <a:ea typeface="Times New Roman"/>
              </a:rPr>
              <a:t>Программа обеспечивает планируемые результаты дошкольного образования обучающихся раннего и дошкольного возраста с ОВЗ в условиях дошкольных образовательных групп комбинированной и компенсирующей направ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евой раздел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/>
          <p:nvPr/>
        </p:nvSpPr>
        <p:spPr>
          <a:xfrm>
            <a:off x="203040" y="1243080"/>
            <a:ext cx="11655720" cy="62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ru-RU" sz="2800" spc="-1" strike="noStrike">
                <a:solidFill>
                  <a:srgbClr val="0b5394"/>
                </a:solidFill>
                <a:latin typeface="Constantia"/>
              </a:rPr>
              <a:t>Развивающее оценивание качества образовательной деятельности по Программе. </a:t>
            </a:r>
            <a:r>
              <a:rPr b="0" lang="ru-RU" sz="2800" spc="-1" strike="noStrike">
                <a:solidFill>
                  <a:srgbClr val="0b5394"/>
                </a:solidFill>
                <a:latin typeface="Constantia"/>
              </a:rPr>
              <a:t>п. 10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ходы к педагогической диагностике достижения планируем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авленны  в первую очередь на оценивание созданных Организацией условий в процессе образовательной деятельности с целью  ее у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новные принципы оценки качества образовательной деятельности, уровни системы оценки качества и ее задачи  по ФАОП изложены в п. 10.5.6. – 10.5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а предоставляет МБДОУ право самостоятельного выбора инструментов педагогической и психологической диагностики развития обучающихся, в том числе, его дина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0800" y="241200"/>
            <a:ext cx="105156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труктура содержательного раздела ФАОП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"/>
          <p:cNvSpPr/>
          <p:nvPr/>
        </p:nvSpPr>
        <p:spPr>
          <a:xfrm>
            <a:off x="434880" y="1249200"/>
            <a:ext cx="4977000" cy="824760"/>
          </a:xfrm>
          <a:prstGeom prst="rect">
            <a:avLst/>
          </a:prstGeom>
          <a:solidFill>
            <a:srgbClr val="b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яснительная записка. п. 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8200" y="2293920"/>
            <a:ext cx="5438880" cy="265068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сание образовательной деятельности обучающихся с ТНР в соответствии с направлениями развития ребенка, представленными в пяти образовательных областях по возрастам. п.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8200" y="5289480"/>
            <a:ext cx="5373720" cy="8218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ие педагогических работников с детьми п.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37160" y="933480"/>
            <a:ext cx="5556240" cy="155340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заимодействие педагогического коллектива с родителями (законными представителями) обучающихся.п.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97480" y="2573280"/>
            <a:ext cx="5697720" cy="1553400"/>
          </a:xfrm>
          <a:prstGeom prst="rect">
            <a:avLst/>
          </a:prstGeom>
          <a:solidFill>
            <a:srgbClr val="10cf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взаимодействия педагогического коллектива с семьями дошкольников с ТНР п. 39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7400" y="4002120"/>
            <a:ext cx="5257800" cy="1187640"/>
          </a:xfrm>
          <a:prstGeom prst="rect">
            <a:avLst/>
          </a:prstGeom>
          <a:solidFill>
            <a:srgbClr val="c9da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грамма коррекционно-развивающей работы. п. 40 (с ТНР п. 4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03840" y="5289480"/>
            <a:ext cx="5237280" cy="821880"/>
          </a:xfrm>
          <a:prstGeom prst="rect">
            <a:avLst/>
          </a:prstGeom>
          <a:solidFill>
            <a:srgbClr val="7e96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едеральная рабочая программа воспитания. п. 49.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06:17:03Z</dcterms:created>
  <dc:creator>КАПИН АРТЕМ ВИТАЛЬЕВИЧ</dc:creator>
  <dc:description/>
  <dc:language>en-US</dc:language>
  <cp:lastModifiedBy>Admin</cp:lastModifiedBy>
  <dcterms:modified xsi:type="dcterms:W3CDTF">2023-07-13T00:58:16Z</dcterms:modified>
  <cp:revision>144</cp:revision>
  <dc:subject/>
  <dc:title>Федеральная адаптированная образовательная программа дошкольного образования  для обучающихся с ограниченными возможностями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31</vt:r8>
  </property>
</Properties>
</file>