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8.jpeg" ContentType="image/jpe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type.wav" ContentType="audio/x-wav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667-6CBF-4EE7-A07A-4DCBE753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D058-49C9-4EC7-BDA2-FFAE2205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9054-BC15-48B7-BE19-D82F0B30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288E-829A-4ED9-AD5E-18D3C398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EEF1-8F08-4739-9F4C-B1A34F6B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3F40-4DF3-44EA-B19F-D5DFAEBC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E94A-3C53-4204-97F8-47A5B945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B201-4FFC-4274-B62F-28098DDC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5B02-3E24-421A-B619-16A18DAF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8BB5-A714-4EB7-9178-8020CDE4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9895-E99A-4C20-8D1B-74A0CD82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52E-A066-4DC5-BD72-772A5E93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B51C-5F86-4219-9673-344E3DE7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5449-CCBD-456B-A71E-E6066ECE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3B9F-5C64-4272-8617-BCF80190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4679-FC67-4E1F-8CDC-A143C9CF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1D18-591C-48E0-BB3E-44AAFE97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16763-7C43-4B20-BFDA-8D5E7D53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24EB5-36FC-4B75-B7D0-121EB9E7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8E32B-A84F-4B16-8641-433A7918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497F6-5027-4BC6-9F5B-F876F298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AEC48-0EFC-4A77-8DB5-A1973608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8195-BDD3-4FF8-9635-2F860818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B81E1-E94F-4627-9C1B-9642A885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290E4-C230-44F9-88F2-74351A75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B63FB-8140-45C9-B0B1-C7518EC6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3DFB5-8E26-43C0-8C7C-C62172E5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9FD84-4D8E-4C3E-95C8-7638106D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925C3-92A8-4BB0-95A3-B6E2A2F1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2C569-B823-4D09-845C-D99DEF91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2B89E-B7A2-4E5D-8F6C-FF1706CD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AEF10-3CA6-4048-8FB8-03807C7E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CFA32-B05F-4FDC-A7FA-AEF21C02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3111-75DA-4EA1-9B27-60C3409E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FFB67-D0D2-40E5-A954-54C4863D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506C1-0D65-48D8-9C56-B2C2B822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94708-968D-407A-AB93-9B2D1694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1FCC8-AE0B-4FA0-90AF-36EDAEC2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D2556-F00B-4ABA-A7E1-C2040FBB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3B88E-2E3C-43A3-9BEF-3BBB8777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95EB7-211C-4399-8445-70FF12AC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A8D77-E709-4965-BC05-24A9A2B0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401BF-B3D8-47E5-9335-3DBDDA23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2FA44-3401-4253-B8C7-15CC6D0D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ED4B-3ADC-494B-ACE9-25B8B011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062D6-4023-4841-99D0-35DCAC29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8AA96-0C80-4CA1-B66D-DB3D74BD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77AF5-BD78-4026-98F7-F0BB5E3E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AC578-13C6-419C-AFA2-88EFDC35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B25C0-B2A9-43D6-9657-EBF2A2ED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1722F-E547-4BB9-89CD-CC34228E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DDEF7-F7A6-460A-A7E1-DDD8DAEF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D615C-EC54-4A04-8C18-3EFEB264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69143-FC6E-495F-B674-928366EA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3283A-6C9C-415E-A3F7-C6085AF5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5D1-2271-43B2-997C-8CEE4336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A957B-0ADA-4B65-AF8A-D74F0B2E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807EF-4D07-4BB7-8348-7F84E774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303D2-EF7C-45E1-8F22-1725F940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7E34F-3359-421F-A2AE-827822CB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EB6BF-8B31-4506-B903-3A540168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EFC34-4D6D-4C48-A5B8-253C3E88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B0D3B-9321-41A4-8928-8A7F69CB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93714-AA4F-459C-BD4B-DF995633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6CED1-6B2C-431B-B153-D1B344AB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E6C29-ACD0-40DD-89BC-4C16B0A9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7E7-A78E-4E41-85DE-E3B67438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75E3D-FA4B-4445-8F08-F1EE4E60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7DC7A-1E9A-46DA-B3D0-A1572380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D478A-553F-4E02-A96D-23669E2E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76ACB-C5A7-4D2F-8A2C-53FC11AE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50963-399C-42B0-9550-22C1EDA1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5C499-C754-429D-BB90-0F9BC0B7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E6A9D-B567-487B-B89D-9B93412A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183F4-8B59-475E-8502-AC63F14E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126BC-BA99-4A58-A6A8-6BA3E784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59033-CD0E-45A7-AA2B-C7D1CB35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109-D30F-4764-B851-21B511DA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009F0-3B75-461D-88A7-C811F566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3B961-C84D-4DE7-BE35-594B7E0E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8E37A-F70D-4A1B-9350-7CA6B717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FE7ED-77BF-4018-B273-326E9E14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DDC0D-7385-4FD7-B212-7869CC31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8822-A599-4870-8380-9CA4B83E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9902-43E8-4FBC-ACEB-1DFE6B1C91D2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2F7B-611A-4B4B-BF94-8DE403ACAEE9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3455-6485-4EC0-A4D3-55D86D272771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A012-805A-4508-9EDE-61247289939D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6815-78B0-41CF-9C94-8DB02057A493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C958-4765-4E54-8EF7-4EB1997BF309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2502-9C06-496B-A595-A871EB1DE057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Заголовок 1"/>
          <p:cNvSpPr/>
          <p:nvPr/>
        </p:nvSpPr>
        <p:spPr>
          <a:xfrm>
            <a:off x="1143000" y="1052640"/>
            <a:ext cx="80010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ласс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38"/>
          <p:cNvGrpSpPr/>
          <p:nvPr/>
        </p:nvGrpSpPr>
        <p:grpSpPr>
          <a:xfrm>
            <a:off x="645840" y="50400"/>
            <a:ext cx="1369800" cy="1356120"/>
            <a:chOff x="645840" y="50400"/>
            <a:chExt cx="1369800" cy="1356120"/>
          </a:xfrm>
        </p:grpSpPr>
        <p:sp>
          <p:nvSpPr>
            <p:cNvPr id="409" name="AutoShape 28"/>
            <p:cNvSpPr/>
            <p:nvPr/>
          </p:nvSpPr>
          <p:spPr>
            <a:xfrm>
              <a:off x="82692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32"/>
            <p:cNvSpPr/>
            <p:nvPr/>
          </p:nvSpPr>
          <p:spPr>
            <a:xfrm rot="2241600">
              <a:off x="82656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2"/>
          <p:cNvGrpSpPr/>
          <p:nvPr/>
        </p:nvGrpSpPr>
        <p:grpSpPr>
          <a:xfrm>
            <a:off x="6983280" y="3363480"/>
            <a:ext cx="1369800" cy="1356120"/>
            <a:chOff x="6983280" y="3363480"/>
            <a:chExt cx="1369800" cy="1356120"/>
          </a:xfrm>
        </p:grpSpPr>
        <p:sp>
          <p:nvSpPr>
            <p:cNvPr id="412" name="AutoShape 43"/>
            <p:cNvSpPr/>
            <p:nvPr/>
          </p:nvSpPr>
          <p:spPr>
            <a:xfrm>
              <a:off x="7164360" y="357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44"/>
            <p:cNvSpPr/>
            <p:nvPr/>
          </p:nvSpPr>
          <p:spPr>
            <a:xfrm rot="2241600">
              <a:off x="7164000" y="357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48"/>
          <p:cNvGrpSpPr/>
          <p:nvPr/>
        </p:nvGrpSpPr>
        <p:grpSpPr>
          <a:xfrm>
            <a:off x="4678200" y="2858760"/>
            <a:ext cx="1369800" cy="1356120"/>
            <a:chOff x="4678200" y="2858760"/>
            <a:chExt cx="1369800" cy="1356120"/>
          </a:xfrm>
        </p:grpSpPr>
        <p:sp>
          <p:nvSpPr>
            <p:cNvPr id="415" name="AutoShape 49"/>
            <p:cNvSpPr/>
            <p:nvPr/>
          </p:nvSpPr>
          <p:spPr>
            <a:xfrm>
              <a:off x="4859280" y="3068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50"/>
            <p:cNvSpPr/>
            <p:nvPr/>
          </p:nvSpPr>
          <p:spPr>
            <a:xfrm rot="2241600">
              <a:off x="4858920" y="306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51"/>
          <p:cNvGrpSpPr/>
          <p:nvPr/>
        </p:nvGrpSpPr>
        <p:grpSpPr>
          <a:xfrm>
            <a:off x="1869840" y="2282400"/>
            <a:ext cx="1369800" cy="1356120"/>
            <a:chOff x="1869840" y="2282400"/>
            <a:chExt cx="1369800" cy="1356120"/>
          </a:xfrm>
        </p:grpSpPr>
        <p:sp>
          <p:nvSpPr>
            <p:cNvPr id="418" name="AutoShape 52"/>
            <p:cNvSpPr/>
            <p:nvPr/>
          </p:nvSpPr>
          <p:spPr>
            <a:xfrm>
              <a:off x="2050920" y="2492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53"/>
            <p:cNvSpPr/>
            <p:nvPr/>
          </p:nvSpPr>
          <p:spPr>
            <a:xfrm rot="2241600">
              <a:off x="2050560" y="2491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718920" y="5235120"/>
            <a:ext cx="1369800" cy="1356120"/>
            <a:chOff x="718920" y="5235120"/>
            <a:chExt cx="1369800" cy="1356120"/>
          </a:xfrm>
        </p:grpSpPr>
        <p:sp>
          <p:nvSpPr>
            <p:cNvPr id="421" name="AutoShape 58"/>
            <p:cNvSpPr/>
            <p:nvPr/>
          </p:nvSpPr>
          <p:spPr>
            <a:xfrm>
              <a:off x="900000" y="544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59"/>
            <p:cNvSpPr/>
            <p:nvPr/>
          </p:nvSpPr>
          <p:spPr>
            <a:xfrm rot="2241600">
              <a:off x="899640" y="544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60"/>
          <p:cNvGrpSpPr/>
          <p:nvPr/>
        </p:nvGrpSpPr>
        <p:grpSpPr>
          <a:xfrm>
            <a:off x="4174920" y="4731840"/>
            <a:ext cx="1369800" cy="1356120"/>
            <a:chOff x="4174920" y="4731840"/>
            <a:chExt cx="1369800" cy="1356120"/>
          </a:xfrm>
        </p:grpSpPr>
        <p:sp>
          <p:nvSpPr>
            <p:cNvPr id="424" name="AutoShape 61"/>
            <p:cNvSpPr/>
            <p:nvPr/>
          </p:nvSpPr>
          <p:spPr>
            <a:xfrm>
              <a:off x="4356000" y="4941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62"/>
            <p:cNvSpPr/>
            <p:nvPr/>
          </p:nvSpPr>
          <p:spPr>
            <a:xfrm rot="2241600">
              <a:off x="4355640" y="49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63"/>
          <p:cNvGrpSpPr/>
          <p:nvPr/>
        </p:nvGrpSpPr>
        <p:grpSpPr>
          <a:xfrm>
            <a:off x="5111640" y="1131480"/>
            <a:ext cx="1369800" cy="1356120"/>
            <a:chOff x="5111640" y="1131480"/>
            <a:chExt cx="1369800" cy="1356120"/>
          </a:xfrm>
        </p:grpSpPr>
        <p:sp>
          <p:nvSpPr>
            <p:cNvPr id="427" name="AutoShape 64"/>
            <p:cNvSpPr/>
            <p:nvPr/>
          </p:nvSpPr>
          <p:spPr>
            <a:xfrm>
              <a:off x="529272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65"/>
            <p:cNvSpPr/>
            <p:nvPr/>
          </p:nvSpPr>
          <p:spPr>
            <a:xfrm rot="2241600">
              <a:off x="529236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66"/>
          <p:cNvGrpSpPr/>
          <p:nvPr/>
        </p:nvGrpSpPr>
        <p:grpSpPr>
          <a:xfrm>
            <a:off x="3743280" y="50400"/>
            <a:ext cx="1369800" cy="1356120"/>
            <a:chOff x="3743280" y="50400"/>
            <a:chExt cx="1369800" cy="1356120"/>
          </a:xfrm>
        </p:grpSpPr>
        <p:sp>
          <p:nvSpPr>
            <p:cNvPr id="430" name="AutoShape 67"/>
            <p:cNvSpPr/>
            <p:nvPr/>
          </p:nvSpPr>
          <p:spPr>
            <a:xfrm>
              <a:off x="392436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68"/>
            <p:cNvSpPr/>
            <p:nvPr/>
          </p:nvSpPr>
          <p:spPr>
            <a:xfrm rot="2241600">
              <a:off x="392400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72"/>
          <p:cNvGrpSpPr/>
          <p:nvPr/>
        </p:nvGrpSpPr>
        <p:grpSpPr>
          <a:xfrm>
            <a:off x="7270560" y="50400"/>
            <a:ext cx="1369800" cy="1356120"/>
            <a:chOff x="7270560" y="50400"/>
            <a:chExt cx="1369800" cy="1356120"/>
          </a:xfrm>
        </p:grpSpPr>
        <p:sp>
          <p:nvSpPr>
            <p:cNvPr id="433" name="AutoShape 73"/>
            <p:cNvSpPr/>
            <p:nvPr/>
          </p:nvSpPr>
          <p:spPr>
            <a:xfrm>
              <a:off x="745164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74"/>
            <p:cNvSpPr/>
            <p:nvPr/>
          </p:nvSpPr>
          <p:spPr>
            <a:xfrm rot="2241600">
              <a:off x="745128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75"/>
          <p:cNvGrpSpPr/>
          <p:nvPr/>
        </p:nvGrpSpPr>
        <p:grpSpPr>
          <a:xfrm>
            <a:off x="3743280" y="2211120"/>
            <a:ext cx="1369800" cy="1356120"/>
            <a:chOff x="3743280" y="2211120"/>
            <a:chExt cx="1369800" cy="1356120"/>
          </a:xfrm>
        </p:grpSpPr>
        <p:sp>
          <p:nvSpPr>
            <p:cNvPr id="436" name="AutoShape 76"/>
            <p:cNvSpPr/>
            <p:nvPr/>
          </p:nvSpPr>
          <p:spPr>
            <a:xfrm>
              <a:off x="3924360" y="242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77"/>
            <p:cNvSpPr/>
            <p:nvPr/>
          </p:nvSpPr>
          <p:spPr>
            <a:xfrm rot="2241600">
              <a:off x="3924000" y="242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5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521 -0.28856 0.2757 -0.14936 0.2757 0.02196 C 0.2757 0.19306 0.15521 0.33295 0.00764 0.33295 C -0.1401 0.33295 -0.25989 0.19306 -0.25989 0.02196 C -0.25989 -0.14936 -0.1401 -0.28856 0.00764 -0.28856 Z">
                                      <p:cBhvr>
                                        <p:cTn id="352" dur="3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54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434 -0.28856 0.27413 -0.14752 0.27413 0.0259 C 0.27413 0.19954 0.15434 0.34058 0.00764 0.34058 C -0.13889 0.34058 -0.25764 0.19954 -0.25764 0.0259 C -0.25764 -0.14752 -0.13889 -0.28856 0.00764 -0.28856 Z">
                                      <p:cBhvr>
                                        <p:cTn id="355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Oval 2"/>
          <p:cNvSpPr/>
          <p:nvPr/>
        </p:nvSpPr>
        <p:spPr>
          <a:xfrm>
            <a:off x="2050920" y="692280"/>
            <a:ext cx="4824720" cy="475272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"/>
          <p:cNvSpPr/>
          <p:nvPr/>
        </p:nvSpPr>
        <p:spPr>
          <a:xfrm>
            <a:off x="7020000" y="2205000"/>
            <a:ext cx="431640" cy="432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7 -0.25179 C -0.1625 -0.25179 -0.04722 -0.09896 -0.04722 0.08902 C -0.04722 0.277 -0.1625 0.43006 -0.30347 0.43006 C -0.44462 0.43006 -0.55903 0.277 -0.55903 0.08902 C -0.55903 -0.09896 -0.44462 -0.25179 -0.30347 -0.25179 Z">
                                      <p:cBhvr>
                                        <p:cTn id="364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3 -0.13657 C -0.16233 -0.13657 -0.04722 0.0162 -0.04722 0.2044 C -0.04722 0.39236 -0.16233 0.54537 -0.30313 0.54537 C -0.44444 0.54537 -0.55903 0.39236 -0.55903 0.2044 C -0.55903 0.0162 -0.44444 -0.13657 -0.30313 -0.13657 Z">
                                      <p:cBhvr>
                                        <p:cTn id="367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Скругленный прямоугольник 10"/>
          <p:cNvSpPr/>
          <p:nvPr/>
        </p:nvSpPr>
        <p:spPr>
          <a:xfrm>
            <a:off x="611280" y="476280"/>
            <a:ext cx="8208720" cy="981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3d95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одержимое 2"/>
          <p:cNvSpPr/>
          <p:nvPr/>
        </p:nvSpPr>
        <p:spPr>
          <a:xfrm>
            <a:off x="755640" y="576360"/>
            <a:ext cx="80643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кая и глухая согласная в корн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2"/>
          <p:cNvSpPr/>
          <p:nvPr/>
        </p:nvSpPr>
        <p:spPr>
          <a:xfrm>
            <a:off x="1042920" y="2492280"/>
            <a:ext cx="7705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ист делает заря . ку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вприпры . ку,   то вприся . 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ьмино .    надел   перча . к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тюлень  удрал  с  площа . 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ликан  играет  ло . 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 что  значит  трениро . 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Скругленный прямоугольник 10"/>
          <p:cNvSpPr/>
          <p:nvPr/>
        </p:nvSpPr>
        <p:spPr>
          <a:xfrm>
            <a:off x="611280" y="476280"/>
            <a:ext cx="8208720" cy="981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3d95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одержимое 2"/>
          <p:cNvSpPr/>
          <p:nvPr/>
        </p:nvSpPr>
        <p:spPr>
          <a:xfrm>
            <a:off x="755640" y="576360"/>
            <a:ext cx="80643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кая и глухая согласная в корн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5" descr=""/>
          <p:cNvPicPr/>
          <p:nvPr/>
        </p:nvPicPr>
        <p:blipFill>
          <a:blip r:embed="rId1"/>
          <a:stretch/>
        </p:blipFill>
        <p:spPr>
          <a:xfrm>
            <a:off x="787320" y="2565360"/>
            <a:ext cx="8055000" cy="158436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6" descr=""/>
          <p:cNvPicPr/>
          <p:nvPr/>
        </p:nvPicPr>
        <p:blipFill>
          <a:blip r:embed="rId2"/>
          <a:stretch/>
        </p:blipFill>
        <p:spPr>
          <a:xfrm>
            <a:off x="903240" y="4757760"/>
            <a:ext cx="7624800" cy="93024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7" descr=""/>
          <p:cNvPicPr/>
          <p:nvPr/>
        </p:nvPicPr>
        <p:blipFill>
          <a:blip r:embed="rId3"/>
          <a:stretch/>
        </p:blipFill>
        <p:spPr>
          <a:xfrm>
            <a:off x="787320" y="5688000"/>
            <a:ext cx="7228080" cy="909720"/>
          </a:xfrm>
          <a:prstGeom prst="rect">
            <a:avLst/>
          </a:prstGeom>
          <a:ln w="0">
            <a:noFill/>
          </a:ln>
        </p:spPr>
      </p:pic>
      <p:sp>
        <p:nvSpPr>
          <p:cNvPr id="448" name="TextBox 8"/>
          <p:cNvSpPr/>
          <p:nvPr/>
        </p:nvSpPr>
        <p:spPr>
          <a:xfrm>
            <a:off x="611280" y="1871640"/>
            <a:ext cx="30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«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2"/>
          <p:cNvSpPr/>
          <p:nvPr/>
        </p:nvSpPr>
        <p:spPr>
          <a:xfrm>
            <a:off x="539640" y="4297320"/>
            <a:ext cx="30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«5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Скругленный прямоугольник 10"/>
          <p:cNvSpPr/>
          <p:nvPr/>
        </p:nvSpPr>
        <p:spPr>
          <a:xfrm>
            <a:off x="611280" y="476280"/>
            <a:ext cx="8208720" cy="981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3d95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Содержимое 2"/>
          <p:cNvSpPr/>
          <p:nvPr/>
        </p:nvSpPr>
        <p:spPr>
          <a:xfrm>
            <a:off x="755640" y="576360"/>
            <a:ext cx="80643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кая и глухая согласная в корн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Рисунок 9" descr=""/>
          <p:cNvPicPr/>
          <p:nvPr/>
        </p:nvPicPr>
        <p:blipFill>
          <a:blip r:embed="rId1"/>
          <a:stretch/>
        </p:blipFill>
        <p:spPr>
          <a:xfrm>
            <a:off x="550800" y="2565360"/>
            <a:ext cx="82692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826920" y="2622240"/>
            <a:ext cx="3571920" cy="2857320"/>
          </a:xfrm>
          <a:prstGeom prst="rect">
            <a:avLst/>
          </a:prstGeom>
          <a:solidFill>
            <a:srgbClr val="c6e7fc"/>
          </a:solidFill>
          <a:ln w="9360">
            <a:solidFill>
              <a:srgbClr val="5bd078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знал…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учился..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Овал 4"/>
          <p:cNvSpPr/>
          <p:nvPr/>
        </p:nvSpPr>
        <p:spPr>
          <a:xfrm>
            <a:off x="5857920" y="3429000"/>
            <a:ext cx="2214360" cy="20718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Овал 5"/>
          <p:cNvSpPr/>
          <p:nvPr/>
        </p:nvSpPr>
        <p:spPr>
          <a:xfrm>
            <a:off x="6500880" y="4071960"/>
            <a:ext cx="21420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Овал 6"/>
          <p:cNvSpPr/>
          <p:nvPr/>
        </p:nvSpPr>
        <p:spPr>
          <a:xfrm>
            <a:off x="7286760" y="4071960"/>
            <a:ext cx="21420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42600" y="1999800"/>
            <a:ext cx="66438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Candara"/>
              </a:rPr>
              <a:t>Спасибо за урок!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9" name="Рисунок 3" descr="bell.gif"/>
          <p:cNvPicPr/>
          <p:nvPr/>
        </p:nvPicPr>
        <p:blipFill>
          <a:blip r:embed="rId1"/>
          <a:stretch/>
        </p:blipFill>
        <p:spPr>
          <a:xfrm>
            <a:off x="7500960" y="571680"/>
            <a:ext cx="115740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425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611280" y="2565360"/>
            <a:ext cx="6076800" cy="1928880"/>
          </a:xfrm>
          <a:prstGeom prst="rect">
            <a:avLst/>
          </a:prstGeom>
          <a:solidFill>
            <a:srgbClr val="ade2fe"/>
          </a:solidFill>
          <a:ln w="936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7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Times New Roman"/>
              </a:rPr>
              <a:t>Я на уроке русского языка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7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Times New Roman"/>
              </a:rPr>
              <a:t>Я все знаю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7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Times New Roman"/>
              </a:rPr>
              <a:t>Я все умею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Содержимое 2"/>
          <p:cNvSpPr/>
          <p:nvPr/>
        </p:nvSpPr>
        <p:spPr>
          <a:xfrm>
            <a:off x="2124000" y="5157720"/>
            <a:ext cx="6429600" cy="1214640"/>
          </a:xfrm>
          <a:prstGeom prst="rect">
            <a:avLst/>
          </a:prstGeom>
          <a:solidFill>
            <a:srgbClr val="ade2fe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Я желаю тебе добр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Если тебе будет трудно, я помог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Рисунок 6" descr="17.gif"/>
          <p:cNvPicPr/>
          <p:nvPr/>
        </p:nvPicPr>
        <p:blipFill>
          <a:blip r:embed="rId1"/>
          <a:stretch/>
        </p:blipFill>
        <p:spPr>
          <a:xfrm rot="20014800">
            <a:off x="-285480" y="642600"/>
            <a:ext cx="45831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5"/>
          <p:cNvSpPr/>
          <p:nvPr/>
        </p:nvSpPr>
        <p:spPr>
          <a:xfrm>
            <a:off x="179280" y="5300640"/>
            <a:ext cx="37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 учиться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кругленный прямоугольник 10"/>
          <p:cNvSpPr/>
          <p:nvPr/>
        </p:nvSpPr>
        <p:spPr>
          <a:xfrm>
            <a:off x="1440000" y="476280"/>
            <a:ext cx="6970680" cy="981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3d95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одержимое 2"/>
          <p:cNvSpPr/>
          <p:nvPr/>
        </p:nvSpPr>
        <p:spPr>
          <a:xfrm>
            <a:off x="1576440" y="563400"/>
            <a:ext cx="66974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кие и глухие соглас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20"/>
          <p:cNvSpPr/>
          <p:nvPr/>
        </p:nvSpPr>
        <p:spPr>
          <a:xfrm>
            <a:off x="4910040" y="4869000"/>
            <a:ext cx="398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Helvetica Neue"/>
              </a:rPr>
              <a:t>Парные согласные – </a:t>
            </a:r>
            <a:br>
              <a:rPr sz="2000"/>
            </a:br>
            <a:r>
              <a:rPr b="0" i="1" lang="ru-RU" sz="2000" spc="-1" strike="noStrike">
                <a:solidFill>
                  <a:srgbClr val="333333"/>
                </a:solidFill>
                <a:latin typeface="Helvetica Neue"/>
              </a:rPr>
              <a:t>Самые опасные.</a:t>
            </a:r>
            <a:br>
              <a:rPr sz="2000"/>
            </a:br>
            <a:r>
              <a:rPr b="0" i="1" lang="ru-RU" sz="2000" spc="-1" strike="noStrike">
                <a:solidFill>
                  <a:srgbClr val="333333"/>
                </a:solidFill>
                <a:latin typeface="Helvetica Neue"/>
              </a:rPr>
              <a:t>Парный в слове проверяй,</a:t>
            </a:r>
            <a:br>
              <a:rPr sz="2000"/>
            </a:br>
            <a:r>
              <a:rPr b="0" i="1" lang="ru-RU" sz="2000" spc="-1" strike="noStrike">
                <a:solidFill>
                  <a:srgbClr val="333333"/>
                </a:solidFill>
                <a:latin typeface="Helvetica Neue"/>
              </a:rPr>
              <a:t>Рядом гласный подставля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1"/>
          <p:cNvSpPr/>
          <p:nvPr/>
        </p:nvSpPr>
        <p:spPr>
          <a:xfrm>
            <a:off x="1332000" y="263700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33"/>
                </a:solidFill>
                <a:latin typeface="Helvetica Neue"/>
              </a:rPr>
              <a:t>б п в ф г к у д т ж ш з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11"/>
          <p:cNvSpPr/>
          <p:nvPr/>
        </p:nvSpPr>
        <p:spPr>
          <a:xfrm flipV="1">
            <a:off x="0" y="1928880"/>
            <a:ext cx="914400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2"/>
          <p:cNvSpPr/>
          <p:nvPr/>
        </p:nvSpPr>
        <p:spPr>
          <a:xfrm flipV="1">
            <a:off x="0" y="3071880"/>
            <a:ext cx="914400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karanda16"/>
          <p:cNvPicPr/>
          <p:nvPr/>
        </p:nvPicPr>
        <p:blipFill>
          <a:blip r:embed="rId1"/>
          <a:stretch/>
        </p:blipFill>
        <p:spPr>
          <a:xfrm flipH="1" rot="20344800">
            <a:off x="6884640" y="29016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47" name="Line 9"/>
          <p:cNvSpPr/>
          <p:nvPr/>
        </p:nvSpPr>
        <p:spPr>
          <a:xfrm flipV="1">
            <a:off x="0" y="2643120"/>
            <a:ext cx="914400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2"/>
          <p:cNvSpPr/>
          <p:nvPr/>
        </p:nvSpPr>
        <p:spPr>
          <a:xfrm>
            <a:off x="1967040" y="2328840"/>
            <a:ext cx="576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Propisi"/>
              </a:rPr>
              <a:t>Классная работ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9"/>
          <p:cNvSpPr/>
          <p:nvPr/>
        </p:nvSpPr>
        <p:spPr>
          <a:xfrm flipV="1">
            <a:off x="0" y="1500120"/>
            <a:ext cx="914400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4"/>
          <p:cNvSpPr/>
          <p:nvPr/>
        </p:nvSpPr>
        <p:spPr>
          <a:xfrm>
            <a:off x="1403280" y="116532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Propisi"/>
              </a:rPr>
              <a:t>Двадцать первое январ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Прямая соединительная линия 17" descr=""/>
          <p:cNvPicPr/>
          <p:nvPr/>
        </p:nvPicPr>
        <p:blipFill>
          <a:blip r:embed="rId2"/>
          <a:stretch/>
        </p:blipFill>
        <p:spPr>
          <a:xfrm>
            <a:off x="2968560" y="3157560"/>
            <a:ext cx="719280" cy="15876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ая соединительная линия 18" descr=""/>
          <p:cNvPicPr/>
          <p:nvPr/>
        </p:nvPicPr>
        <p:blipFill>
          <a:blip r:embed="rId3"/>
          <a:stretch/>
        </p:blipFill>
        <p:spPr>
          <a:xfrm>
            <a:off x="4316400" y="3157560"/>
            <a:ext cx="719280" cy="158760"/>
          </a:xfrm>
          <a:prstGeom prst="rect">
            <a:avLst/>
          </a:prstGeom>
          <a:ln w="0">
            <a:noFill/>
          </a:ln>
        </p:spPr>
      </p:pic>
      <p:pic>
        <p:nvPicPr>
          <p:cNvPr id="353" name="Прямая соединительная линия 15" descr=""/>
          <p:cNvPicPr/>
          <p:nvPr/>
        </p:nvPicPr>
        <p:blipFill>
          <a:blip r:embed="rId4"/>
          <a:stretch/>
        </p:blipFill>
        <p:spPr>
          <a:xfrm>
            <a:off x="5924520" y="2017800"/>
            <a:ext cx="720720" cy="15876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ая соединительная линия 16" descr=""/>
          <p:cNvPicPr/>
          <p:nvPr/>
        </p:nvPicPr>
        <p:blipFill>
          <a:blip r:embed="rId5"/>
          <a:stretch/>
        </p:blipFill>
        <p:spPr>
          <a:xfrm>
            <a:off x="4857840" y="2023920"/>
            <a:ext cx="720720" cy="158760"/>
          </a:xfrm>
          <a:prstGeom prst="rect">
            <a:avLst/>
          </a:prstGeom>
          <a:ln w="0">
            <a:noFill/>
          </a:ln>
        </p:spPr>
      </p:pic>
      <p:pic>
        <p:nvPicPr>
          <p:cNvPr id="355" name="Прямая соединительная линия 19" descr=""/>
          <p:cNvPicPr/>
          <p:nvPr/>
        </p:nvPicPr>
        <p:blipFill>
          <a:blip r:embed="rId6"/>
          <a:stretch/>
        </p:blipFill>
        <p:spPr>
          <a:xfrm>
            <a:off x="1841400" y="2030400"/>
            <a:ext cx="719280" cy="15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4" descr="leopold08.gif"/>
          <p:cNvPicPr/>
          <p:nvPr/>
        </p:nvPicPr>
        <p:blipFill>
          <a:blip r:embed="rId1"/>
          <a:stretch/>
        </p:blipFill>
        <p:spPr>
          <a:xfrm>
            <a:off x="36360" y="2835360"/>
            <a:ext cx="2586240" cy="4032000"/>
          </a:xfrm>
          <a:prstGeom prst="rect">
            <a:avLst/>
          </a:prstGeom>
          <a:ln w="0">
            <a:noFill/>
          </a:ln>
        </p:spPr>
      </p:pic>
      <p:grpSp>
        <p:nvGrpSpPr>
          <p:cNvPr id="357" name="Группа 16"/>
          <p:cNvGrpSpPr/>
          <p:nvPr/>
        </p:nvGrpSpPr>
        <p:grpSpPr>
          <a:xfrm>
            <a:off x="2665440" y="-1414440"/>
            <a:ext cx="6264360" cy="7489800"/>
            <a:chOff x="2665440" y="-1414440"/>
            <a:chExt cx="6264360" cy="7489800"/>
          </a:xfrm>
        </p:grpSpPr>
        <p:grpSp>
          <p:nvGrpSpPr>
            <p:cNvPr id="358" name="Группа 11"/>
            <p:cNvGrpSpPr/>
            <p:nvPr/>
          </p:nvGrpSpPr>
          <p:grpSpPr>
            <a:xfrm>
              <a:off x="2665440" y="961920"/>
              <a:ext cx="6264360" cy="5113440"/>
              <a:chOff x="2665440" y="961920"/>
              <a:chExt cx="6264360" cy="5113440"/>
            </a:xfrm>
          </p:grpSpPr>
          <p:sp>
            <p:nvSpPr>
              <p:cNvPr id="359" name="Прямоугольник 5"/>
              <p:cNvSpPr/>
              <p:nvPr/>
            </p:nvSpPr>
            <p:spPr>
              <a:xfrm>
                <a:off x="2691000" y="961920"/>
                <a:ext cx="6238800" cy="5113440"/>
              </a:xfrm>
              <a:prstGeom prst="rect">
                <a:avLst/>
              </a:prstGeom>
              <a:solidFill>
                <a:srgbClr val="e8f75b"/>
              </a:solidFill>
              <a:ln w="15840">
                <a:solidFill>
                  <a:srgbClr val="165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andara"/>
                  </a:rPr>
                  <a:t>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0" name="Прямоугольник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1640" y="1261440"/>
                <a:ext cx="5749560" cy="84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Прямоугольник 7" descr=""/>
              <p:cNvPicPr/>
              <p:nvPr/>
            </p:nvPicPr>
            <p:blipFill>
              <a:blip r:embed="rId3"/>
              <a:stretch/>
            </p:blipFill>
            <p:spPr>
              <a:xfrm>
                <a:off x="3387600" y="2054160"/>
                <a:ext cx="5105880" cy="84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2" name="Прямоугольник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865600" y="2907720"/>
                <a:ext cx="5779800" cy="90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Прямоугольник 9" descr=""/>
              <p:cNvPicPr/>
              <p:nvPr/>
            </p:nvPicPr>
            <p:blipFill>
              <a:blip r:embed="rId5"/>
              <a:stretch/>
            </p:blipFill>
            <p:spPr>
              <a:xfrm>
                <a:off x="2665440" y="3895200"/>
                <a:ext cx="6083280" cy="84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Прямоугольник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2792880" y="4681800"/>
                <a:ext cx="5943600" cy="84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65" name="Рисунок 15" descr="39629809_1234554563_vozd27.png"/>
            <p:cNvPicPr/>
            <p:nvPr/>
          </p:nvPicPr>
          <p:blipFill>
            <a:blip r:embed="rId7"/>
            <a:stretch/>
          </p:blipFill>
          <p:spPr>
            <a:xfrm>
              <a:off x="4681440" y="-1414440"/>
              <a:ext cx="2376000" cy="316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6" name="Группа 14"/>
          <p:cNvGrpSpPr/>
          <p:nvPr/>
        </p:nvGrpSpPr>
        <p:grpSpPr>
          <a:xfrm>
            <a:off x="3025800" y="1395360"/>
            <a:ext cx="5904000" cy="2376720"/>
            <a:chOff x="3025800" y="1395360"/>
            <a:chExt cx="5904000" cy="2376720"/>
          </a:xfrm>
        </p:grpSpPr>
        <p:sp>
          <p:nvSpPr>
            <p:cNvPr id="367" name="Прямоугольник 12"/>
            <p:cNvSpPr/>
            <p:nvPr/>
          </p:nvSpPr>
          <p:spPr>
            <a:xfrm>
              <a:off x="3025800" y="1395360"/>
              <a:ext cx="5904000" cy="2376720"/>
            </a:xfrm>
            <a:prstGeom prst="rect">
              <a:avLst/>
            </a:prstGeom>
            <a:solidFill>
              <a:srgbClr val="e8f75b"/>
            </a:solidFill>
            <a:ln w="15840">
              <a:solidFill>
                <a:srgbClr val="165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Прямоугольник 13" descr=""/>
            <p:cNvPicPr/>
            <p:nvPr/>
          </p:nvPicPr>
          <p:blipFill>
            <a:blip r:embed="rId8"/>
            <a:stretch/>
          </p:blipFill>
          <p:spPr>
            <a:xfrm>
              <a:off x="3529440" y="1968840"/>
              <a:ext cx="4681800" cy="120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9" name="" descr=""/>
          <p:cNvPicPr/>
          <p:nvPr/>
        </p:nvPicPr>
        <p:blipFill>
          <a:blip r:embed="rId9"/>
          <a:stretch/>
        </p:blipFill>
        <p:spPr>
          <a:xfrm>
            <a:off x="502920" y="4349880"/>
            <a:ext cx="254628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4" descr="leopold08.gif"/>
          <p:cNvPicPr/>
          <p:nvPr/>
        </p:nvPicPr>
        <p:blipFill>
          <a:blip r:embed="rId1"/>
          <a:stretch/>
        </p:blipFill>
        <p:spPr>
          <a:xfrm>
            <a:off x="249120" y="2133720"/>
            <a:ext cx="2206800" cy="4178160"/>
          </a:xfrm>
          <a:prstGeom prst="rect">
            <a:avLst/>
          </a:prstGeom>
          <a:ln w="0">
            <a:noFill/>
          </a:ln>
        </p:spPr>
      </p:pic>
      <p:grpSp>
        <p:nvGrpSpPr>
          <p:cNvPr id="371" name="Группа 10"/>
          <p:cNvGrpSpPr/>
          <p:nvPr/>
        </p:nvGrpSpPr>
        <p:grpSpPr>
          <a:xfrm>
            <a:off x="2890800" y="-63360"/>
            <a:ext cx="5904000" cy="5688000"/>
            <a:chOff x="2890800" y="-63360"/>
            <a:chExt cx="5904000" cy="5688000"/>
          </a:xfrm>
        </p:grpSpPr>
        <p:grpSp>
          <p:nvGrpSpPr>
            <p:cNvPr id="372" name="Группа 8"/>
            <p:cNvGrpSpPr/>
            <p:nvPr/>
          </p:nvGrpSpPr>
          <p:grpSpPr>
            <a:xfrm>
              <a:off x="2890800" y="2312640"/>
              <a:ext cx="5904000" cy="3312000"/>
              <a:chOff x="2890800" y="2312640"/>
              <a:chExt cx="5904000" cy="3312000"/>
            </a:xfrm>
          </p:grpSpPr>
          <p:sp>
            <p:nvSpPr>
              <p:cNvPr id="373" name="Прямоугольник 5"/>
              <p:cNvSpPr/>
              <p:nvPr/>
            </p:nvSpPr>
            <p:spPr>
              <a:xfrm>
                <a:off x="2890800" y="2312640"/>
                <a:ext cx="5904000" cy="3312000"/>
              </a:xfrm>
              <a:prstGeom prst="rect">
                <a:avLst/>
              </a:prstGeom>
              <a:solidFill>
                <a:srgbClr val="e8f75b"/>
              </a:solidFill>
              <a:ln w="15840">
                <a:solidFill>
                  <a:srgbClr val="165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4" name="Прямоугольник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541680" y="2962440"/>
                <a:ext cx="1633680" cy="156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5" name="Рисунок 7" descr="ab838f4fe37c.jpg"/>
              <p:cNvPicPr/>
              <p:nvPr/>
            </p:nvPicPr>
            <p:blipFill>
              <a:blip r:embed="rId3"/>
              <a:stretch/>
            </p:blipFill>
            <p:spPr>
              <a:xfrm>
                <a:off x="5482800" y="2960280"/>
                <a:ext cx="2767320" cy="1656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76" name="Рисунок 9" descr="39629809_1234554563_vozd27.png"/>
            <p:cNvPicPr/>
            <p:nvPr/>
          </p:nvPicPr>
          <p:blipFill>
            <a:blip r:embed="rId4"/>
            <a:stretch/>
          </p:blipFill>
          <p:spPr>
            <a:xfrm>
              <a:off x="3826800" y="-63360"/>
              <a:ext cx="2376000" cy="41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Группа 13"/>
          <p:cNvGrpSpPr/>
          <p:nvPr/>
        </p:nvGrpSpPr>
        <p:grpSpPr>
          <a:xfrm>
            <a:off x="3662280" y="2944800"/>
            <a:ext cx="4826160" cy="1368360"/>
            <a:chOff x="3662280" y="2944800"/>
            <a:chExt cx="4826160" cy="1368360"/>
          </a:xfrm>
        </p:grpSpPr>
        <p:sp>
          <p:nvSpPr>
            <p:cNvPr id="378" name="Прямоугольник 11"/>
            <p:cNvSpPr/>
            <p:nvPr/>
          </p:nvSpPr>
          <p:spPr>
            <a:xfrm>
              <a:off x="3662280" y="2944800"/>
              <a:ext cx="4826160" cy="1368360"/>
            </a:xfrm>
            <a:prstGeom prst="rect">
              <a:avLst/>
            </a:prstGeom>
            <a:solidFill>
              <a:srgbClr val="e8f75b"/>
            </a:solidFill>
            <a:ln w="15840">
              <a:solidFill>
                <a:srgbClr val="165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Прямоугольник 12" descr=""/>
            <p:cNvPicPr/>
            <p:nvPr/>
          </p:nvPicPr>
          <p:blipFill>
            <a:blip r:embed="rId5"/>
            <a:stretch/>
          </p:blipFill>
          <p:spPr>
            <a:xfrm>
              <a:off x="4437720" y="3090600"/>
              <a:ext cx="2987280" cy="92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1" name="Рисунок 12" descr="leopold13.gif"/>
          <p:cNvPicPr/>
          <p:nvPr/>
        </p:nvPicPr>
        <p:blipFill>
          <a:blip r:embed="rId1"/>
          <a:stretch/>
        </p:blipFill>
        <p:spPr>
          <a:xfrm>
            <a:off x="46080" y="4280040"/>
            <a:ext cx="2658960" cy="1514160"/>
          </a:xfrm>
          <a:prstGeom prst="rect">
            <a:avLst/>
          </a:prstGeom>
          <a:ln w="0">
            <a:noFill/>
          </a:ln>
        </p:spPr>
      </p:pic>
      <p:grpSp>
        <p:nvGrpSpPr>
          <p:cNvPr id="382" name="Группа 14"/>
          <p:cNvGrpSpPr/>
          <p:nvPr/>
        </p:nvGrpSpPr>
        <p:grpSpPr>
          <a:xfrm>
            <a:off x="2846520" y="-316080"/>
            <a:ext cx="6048360" cy="6913800"/>
            <a:chOff x="2846520" y="-316080"/>
            <a:chExt cx="6048360" cy="6913800"/>
          </a:xfrm>
        </p:grpSpPr>
        <p:grpSp>
          <p:nvGrpSpPr>
            <p:cNvPr id="383" name="Группа 11"/>
            <p:cNvGrpSpPr/>
            <p:nvPr/>
          </p:nvGrpSpPr>
          <p:grpSpPr>
            <a:xfrm>
              <a:off x="2846520" y="2780640"/>
              <a:ext cx="6048360" cy="3817080"/>
              <a:chOff x="2846520" y="2780640"/>
              <a:chExt cx="6048360" cy="3817080"/>
            </a:xfrm>
          </p:grpSpPr>
          <p:sp>
            <p:nvSpPr>
              <p:cNvPr id="384" name="Прямоугольник 5"/>
              <p:cNvSpPr/>
              <p:nvPr/>
            </p:nvSpPr>
            <p:spPr>
              <a:xfrm>
                <a:off x="2846520" y="2780640"/>
                <a:ext cx="6048360" cy="3817080"/>
              </a:xfrm>
              <a:prstGeom prst="rect">
                <a:avLst/>
              </a:prstGeom>
              <a:solidFill>
                <a:srgbClr val="e8f75b"/>
              </a:solidFill>
              <a:ln w="15840">
                <a:solidFill>
                  <a:srgbClr val="165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Группа 10"/>
              <p:cNvGrpSpPr/>
              <p:nvPr/>
            </p:nvGrpSpPr>
            <p:grpSpPr>
              <a:xfrm>
                <a:off x="3062520" y="3356280"/>
                <a:ext cx="5690880" cy="1944720"/>
                <a:chOff x="3062520" y="3356280"/>
                <a:chExt cx="5690880" cy="1944720"/>
              </a:xfrm>
            </p:grpSpPr>
            <p:pic>
              <p:nvPicPr>
                <p:cNvPr id="386" name="Содержимое 3" descr="Рисунок3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062520" y="3789000"/>
                  <a:ext cx="2741760" cy="151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Рисунок 5" descr="5230455.gif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303960" y="3789000"/>
                  <a:ext cx="2424960" cy="1505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Прямоугольник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438880" y="3356280"/>
                  <a:ext cx="542160" cy="92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Прямоугольник 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388000" y="3356280"/>
                  <a:ext cx="365400" cy="92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390" name="Рисунок 13" descr="39629809_1234554563_vozd27.png"/>
            <p:cNvPicPr/>
            <p:nvPr/>
          </p:nvPicPr>
          <p:blipFill>
            <a:blip r:embed="rId6"/>
            <a:stretch/>
          </p:blipFill>
          <p:spPr>
            <a:xfrm>
              <a:off x="4502520" y="-316080"/>
              <a:ext cx="2448000" cy="39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Группа 17"/>
          <p:cNvGrpSpPr/>
          <p:nvPr/>
        </p:nvGrpSpPr>
        <p:grpSpPr>
          <a:xfrm>
            <a:off x="3141720" y="3571920"/>
            <a:ext cx="5545080" cy="1584360"/>
            <a:chOff x="3141720" y="3571920"/>
            <a:chExt cx="5545080" cy="1584360"/>
          </a:xfrm>
        </p:grpSpPr>
        <p:sp>
          <p:nvSpPr>
            <p:cNvPr id="392" name="Прямоугольник 15"/>
            <p:cNvSpPr/>
            <p:nvPr/>
          </p:nvSpPr>
          <p:spPr>
            <a:xfrm>
              <a:off x="3141720" y="3571920"/>
              <a:ext cx="5545080" cy="1584360"/>
            </a:xfrm>
            <a:prstGeom prst="rect">
              <a:avLst/>
            </a:prstGeom>
            <a:solidFill>
              <a:srgbClr val="e8f75b"/>
            </a:solidFill>
            <a:ln w="15840">
              <a:solidFill>
                <a:srgbClr val="165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3" name="Прямоугольник 16" descr=""/>
            <p:cNvPicPr/>
            <p:nvPr/>
          </p:nvPicPr>
          <p:blipFill>
            <a:blip r:embed="rId7"/>
            <a:stretch/>
          </p:blipFill>
          <p:spPr>
            <a:xfrm>
              <a:off x="4364640" y="3785400"/>
              <a:ext cx="3096720" cy="101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4" name="" descr=""/>
          <p:cNvPicPr/>
          <p:nvPr/>
        </p:nvPicPr>
        <p:blipFill>
          <a:blip r:embed="rId8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Скругленный прямоугольник 10"/>
          <p:cNvSpPr/>
          <p:nvPr/>
        </p:nvSpPr>
        <p:spPr>
          <a:xfrm>
            <a:off x="611280" y="476280"/>
            <a:ext cx="8208720" cy="981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3d95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одержимое 2"/>
          <p:cNvSpPr/>
          <p:nvPr/>
        </p:nvSpPr>
        <p:spPr>
          <a:xfrm>
            <a:off x="755640" y="576360"/>
            <a:ext cx="80643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кая и глухая согласная в корн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"/>
          <p:cNvSpPr/>
          <p:nvPr/>
        </p:nvSpPr>
        <p:spPr>
          <a:xfrm>
            <a:off x="449280" y="2214720"/>
            <a:ext cx="85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Ги...кая   ве…ка, у…кий  шар…, лё...кий  моро…,  кре…кая  верё…ка, сколь…кий  лё…, м…рской  вет…р, ре…кий  зап…х, хр…мой   зв…рё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468360" y="260280"/>
            <a:ext cx="8281800" cy="619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826920" y="33336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и гимнастику для глаз по схем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7"/>
          <p:cNvSpPr/>
          <p:nvPr/>
        </p:nvSpPr>
        <p:spPr>
          <a:xfrm>
            <a:off x="1332000" y="1484280"/>
            <a:ext cx="6912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8"/>
          <p:cNvSpPr/>
          <p:nvPr/>
        </p:nvSpPr>
        <p:spPr>
          <a:xfrm flipH="1">
            <a:off x="1547280" y="1484280"/>
            <a:ext cx="6696360" cy="1800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1547640" y="3284640"/>
            <a:ext cx="6696360" cy="7920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0"/>
          <p:cNvSpPr/>
          <p:nvPr/>
        </p:nvSpPr>
        <p:spPr>
          <a:xfrm flipH="1">
            <a:off x="1187280" y="4076640"/>
            <a:ext cx="7058160" cy="12956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4"/>
          <p:cNvSpPr/>
          <p:nvPr/>
        </p:nvSpPr>
        <p:spPr>
          <a:xfrm>
            <a:off x="1258920" y="1268280"/>
            <a:ext cx="43344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5"/>
          <p:cNvSpPr/>
          <p:nvPr/>
        </p:nvSpPr>
        <p:spPr>
          <a:xfrm flipH="1">
            <a:off x="7885080" y="1557360"/>
            <a:ext cx="433440" cy="14436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1"/>
          <p:cNvSpPr/>
          <p:nvPr/>
        </p:nvSpPr>
        <p:spPr>
          <a:xfrm>
            <a:off x="1476360" y="3500280"/>
            <a:ext cx="431640" cy="7164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2"/>
          <p:cNvSpPr/>
          <p:nvPr/>
        </p:nvSpPr>
        <p:spPr>
          <a:xfrm flipH="1">
            <a:off x="7811640" y="4365720"/>
            <a:ext cx="505080" cy="1429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52" nodeType="afterEffect" fill="hold" presetClass="exit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blinds(vertical)" transition="out">
                                      <p:cBhvr additive="repl">
                                        <p:cTn id="1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5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50867E-006 L 0.7559 0.00024 E">
                                      <p:cBhvr>
                                        <p:cTn id="157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6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56647E-006 L -0.64584 0.24115 E">
                                      <p:cBhvr>
                                        <p:cTn id="163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6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0.01596 L 0.65347 0.11029 E">
                                      <p:cBhvr>
                                        <p:cTn id="169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1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1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77457E-006 L -0.75208 0.17827 E">
                                      <p:cBhvr>
                                        <p:cTn id="175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1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08:35:20Z</dcterms:created>
  <dc:creator>Admin</dc:creator>
  <dc:description/>
  <dc:language>en-US</dc:language>
  <cp:lastModifiedBy>Teacher</cp:lastModifiedBy>
  <dcterms:modified xsi:type="dcterms:W3CDTF">2018-01-27T04:03:34Z</dcterms:modified>
  <cp:revision>102</cp:revision>
  <dc:subject/>
  <dc:title>Слайд 1</dc:title>
</cp:coreProperties>
</file>