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A1B-2546-4E2D-B64A-F140EBA8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A6A-FD65-4E75-9BFC-7FFC849A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267-06A3-4D60-B722-5DFBD785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0AC-8B3D-48AF-8533-9FC06DE9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709-387D-4759-99F9-69D58912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DD9-D634-4E8D-B434-73FE4B5A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0EF-76F3-41DE-89EF-DD5422B5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FA5-63C3-4BCF-B2FB-26250850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252-CCE1-4457-974D-8B3D03F1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2CC-B4A7-4619-9290-7122051E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C85-6875-4475-9787-EA0BDAFB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A50-1D22-4676-911E-9BDB26DF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9F13-BFE5-4F5F-AA85-634DAFA5D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13012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Georgia"/>
              </a:rPr>
              <a:t>Психологический</a:t>
            </a:r>
            <a:br>
              <a:rPr sz="6000"/>
            </a:br>
            <a:r>
              <a:rPr b="0" lang="ru-RU" sz="6000" spc="-1" strike="noStrike">
                <a:solidFill>
                  <a:srgbClr val="0070c0"/>
                </a:solidFill>
                <a:latin typeface="Georgia"/>
              </a:rPr>
              <a:t>настрой на ур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640" y="4149720"/>
            <a:ext cx="460872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 уроке не болтай,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ассуждай и убеждай.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десь не нужен шум и гам,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Ты решай задачи сам.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Если же не сможешь вдруг,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Пусть придёт на помощь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руг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умать – коллектив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ешать – оператив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Отвечать – доказатель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Учиться – старатель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И открытия нас ждут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обязательно!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99640" y="98064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Чтобы спорилось нужное дел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Чтобы в жизни не знать неудач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 математики мир мы      отправимся смел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 мир примеров и разных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адач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87280" y="765000"/>
            <a:ext cx="7499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Чтоб природе другом ста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Тайны все её узна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се загадки разгада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учитесь наблю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Будем вместе развивать у себя внимательност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А поможет всё узнать наша любознательно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Прозвенел звонок  веселы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Мы начать урок готов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Будем слушать, рассужда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 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И друг другу помог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Начинаем ровно в сро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Наш любимейший ур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Дружно за руки возьмёмс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И друг другу улыбнём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ели ровно, руки вместе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оги рядышком у все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 сегодняшнем уро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Ожидает нас успе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ш урок начнем, ребятки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 фонетической заряд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Отдохнуть вы все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успели?                 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 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Математика нас ждё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  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Что ж, теперь п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а дело                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чинаем устный счё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Побед, открытий замечательных,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Событий ярких, увлекательных.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Просторы знаний покорять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            И на "отлично"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   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  <a:ea typeface="Calibri"/>
              </a:rPr>
              <a:t>курс держать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Сколько нового ,друзья , мы узнаем скор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м, ребята, повезло! Учимся мы в школ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Хоть нам трудно, и не прос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 школе всё даётся,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Мы стараемся и знаем- 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сего добьёмс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43000" y="1000080"/>
            <a:ext cx="758664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сь читать! Учись чит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ее нет наук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т, кто умеет сам чит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сем не знает ск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 жизнь свою учись чит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тельно, серьез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так прошу тебя – учись чита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 не позд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907560"/>
            <a:ext cx="8002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Класс наш светлый и  уютный,               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Хорошо мы в нём     живём. 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 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Улыбнёмся же  дру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другу                 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4400" spc="-1" strike="noStrike">
                <a:solidFill>
                  <a:srgbClr val="0070c0"/>
                </a:solidFill>
                <a:latin typeface="Georgia"/>
              </a:rPr>
              <a:t>И урок скорей начнём!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ы готовы к полёту? Нам пор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 страну удивительную Русского язык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 пути нас ждут преград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испытани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А на финише – побед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радость  и новые знания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Добрый день, добрый ча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Как я рада видеть ва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Прозвенел уже звонок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чинается ур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Друзьям своим мы улыбнули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Пожали руки, подтянули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Друг на друга погляд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И тихонько дружно се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от звонок нам дал сигнал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Поработать час наста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Так что время не теряе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И работать начинаем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Впереди у нас стра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Не любить её нельз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Очень точная наука - математи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Путешеству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Не грозят нам лень и ск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     </a:t>
            </a: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Мы узнаем глубь мор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        </a:t>
            </a: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Ширь озёр, размах кры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            </a:t>
            </a: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Величавого ор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Я тетрадь свою открою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И наклонно полож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Я, друзья, от вас не скрою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учку правильно держу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яду прямо, не согнусь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а работу я возьмус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32000" y="836280"/>
            <a:ext cx="7354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 добрым утро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чат ден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Первым дел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Гоним лен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 уроке не зева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умать, стараться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писать и счит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71280" y="836280"/>
            <a:ext cx="7715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Встало солнышко давно, 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Заглянуло к нам в окно.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Нас оно торопит в класс,</a:t>
            </a:r>
            <a:br>
              <a:rPr sz="4800"/>
            </a:b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Математика у нас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76500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Игра «Доброе утро»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Я скажу слова «Доброе утро…» и назову кого-то из нашего класса. Те, кого я назову, помашут мне рукой – значит, вы услышали меня и отвечаете на привет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Georgia"/>
              </a:rPr>
              <a:t>Попробу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оброе утро всем девочка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оброе утро всем мальчика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оброе утро всем тем, у кого хорошее  настрое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оброе утро всем , кто сегодня буд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стараться хорошо работать на урок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26920" y="981000"/>
            <a:ext cx="7274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строение  бодрое рабочее  у все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а уроке ждет нас радость и успех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 каждом деле  нам нужны терпение, удач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И тогда получим мы знания в придач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Мы сюда пришли учиться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е лениться, а трудитьс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аботаем старательно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Слушаем внимательн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олгожданный да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вонок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чинается урок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Быть должны у на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 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 поряд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учки , книжки и                                             те                              тетрад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Долгожданный дан звонок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Начинается уро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Тут затеи и задач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Игры, шутки, всё для вас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Пожелайте всем удачи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За работу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 добрый час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Будем думать 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рассуждать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Без ошибок вычисля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А для этого нуж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внимание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     </a:t>
            </a: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Трудолюбие и стара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Мы пришли сюда ... (учитьс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Не лениться, а… (трудиться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Только тот, кто много …     (знает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В жизни  что-то …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                      </a:t>
            </a:r>
            <a:r>
              <a:rPr b="1" i="1" lang="ru-RU" sz="3600" spc="-1" strike="noStrike">
                <a:solidFill>
                  <a:srgbClr val="0070c0"/>
                </a:solidFill>
                <a:latin typeface="Georgia"/>
              </a:rPr>
              <a:t>(достигает 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Вот опять звенит звон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Начинается ур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Прибавляю, вычитаю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     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Умножаю и дел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     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Математику я зна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       </a:t>
            </a:r>
            <a:r>
              <a:rPr b="1" lang="ru-RU" sz="4000" spc="-1" strike="noStrike">
                <a:solidFill>
                  <a:srgbClr val="0070c0"/>
                </a:solidFill>
                <a:latin typeface="Georgia"/>
              </a:rPr>
              <a:t>И поэтому любл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имир</cp:lastModifiedBy>
  <dcterms:modified xsi:type="dcterms:W3CDTF">2021-04-27T23:36:55Z</dcterms:modified>
  <cp:revision>39</cp:revision>
  <dc:subject/>
  <dc:title>Слайд 1</dc:title>
</cp:coreProperties>
</file>