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B61-8650-4615-80CC-D82FE53D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C5E-D100-4254-BCFE-FB24416E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14F-F632-4FC2-BD5B-01335271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B23-B94A-41D0-B51E-8EAAEE42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42A-C5E3-4394-A9FF-E65A4AC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5AF-1665-45F1-9F76-03662749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A81-CB12-4B6C-8931-AFA98336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992-79F1-4A83-BEB6-4902A241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8DB-62CF-4D40-B8F5-C994BE0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1A8-2153-4F34-A1FF-D8E238E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17C-0F6F-44F5-9114-B286104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A9B-9EBC-49F4-A512-3C5A586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9DC-A8DF-48DD-A7F6-4765D6ECC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3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RIHODI_SKAZKA-SPOR_MAWI_I_VITI_O_SKAZKAH-spaces.ru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-10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-3606" t="-3847" r="-181" b="1813"/>
          <a:stretch/>
        </p:blipFill>
        <p:spPr>
          <a:xfrm>
            <a:off x="-152280" y="-152280"/>
            <a:ext cx="92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231840"/>
            <a:ext cx="8839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8600" y="1522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Лексиче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С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мольбой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погнался – с прос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Позолоченный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рожок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– в виде полукруг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Светлоокий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– тот, у кого светлые глаз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Обычай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– трад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Дева красная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– устойчи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(эпитет), часто используется в сказ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На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стороже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я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Только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в очередь мою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.        Как поним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-3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Танцуйте сидя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6335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2-3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detskie_pesni_-_prikhodi_skazka_(zaycev.net).mp3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618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2-16.pn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2-17.png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-1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358164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Родионов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ня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.С.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6"/>
          <p:cNvPicPr/>
          <p:nvPr/>
        </p:nvPicPr>
        <p:blipFill>
          <a:blip r:embed="rId1"/>
          <a:srcRect l="45050" t="4811" r="6309" b="8648"/>
          <a:stretch/>
        </p:blipFill>
        <p:spPr>
          <a:xfrm>
            <a:off x="4267080" y="53352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50731"/>
          <p:cNvPicPr/>
          <p:nvPr/>
        </p:nvPicPr>
        <p:blipFill>
          <a:blip r:embed="rId1"/>
          <a:stretch/>
        </p:blipFill>
        <p:spPr>
          <a:xfrm>
            <a:off x="228600" y="152280"/>
            <a:ext cx="426708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-4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=12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7-04-12T21:41:2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