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9F-6916-408F-9E33-56AEACAB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49C-C93A-4EC4-B218-6EA8BBAE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C31-E48C-4BAE-A3FF-E35B379E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B2C-63FC-4E32-9771-74E05F60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02C-0692-400B-8A35-F3E4AD39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13E-303A-468E-9652-5D25FF0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4E2-2CC5-4B4C-8F00-42125049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0A3-088C-4804-99A7-87FF9CF0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5BF-D9B6-4F27-9D27-AF22366F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DC5-5F26-41C8-A5A6-044A2E4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DE7-81D5-45B4-A330-A9D6C77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478-377D-4494-A223-F9F72183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930A-2454-4FBF-8A06-4822C061D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3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RIHODI_SKAZKA-SPOR_MAWI_I_VITI_O_SKAZKAH-spaces.ru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-10"/>
          <p:cNvPicPr/>
          <p:nvPr/>
        </p:nvPicPr>
        <p:blipFill>
          <a:blip r:embed="rId1"/>
          <a:stretch/>
        </p:blipFill>
        <p:spPr>
          <a:xfrm>
            <a:off x="0" y="0"/>
            <a:ext cx="909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-3606" t="-3847" r="-181" b="1813"/>
          <a:stretch/>
        </p:blipFill>
        <p:spPr>
          <a:xfrm>
            <a:off x="-152280" y="-152280"/>
            <a:ext cx="92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231840"/>
            <a:ext cx="8839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8600" y="1522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62673"/>
                </a:solidFill>
                <a:latin typeface="Arial"/>
              </a:rPr>
              <a:t>Лексиче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С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мольбой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погнался – с прось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Позолоченный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рожок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– в виде полукруг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Светлоокий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– тот, у кого светлые глаза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Обычай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– тради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Дева красная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 – устойчи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(эпитет), часто используется в сказ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На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стороже 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я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Только </a:t>
            </a: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в очередь мою</a:t>
            </a:r>
            <a:r>
              <a:rPr b="0" i="1" lang="ru-RU" sz="3200" spc="-1" strike="noStrike">
                <a:solidFill>
                  <a:srgbClr val="c00000"/>
                </a:solidFill>
                <a:latin typeface="Georgia"/>
              </a:rPr>
              <a:t>.        Как понима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2-3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Танцуйте сидя.mp3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6335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2-3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detskie_pesni_-_prikhodi_skazka_(zaycev.net).mp3" descr=""/>
          <p:cNvPicPr/>
          <p:nvPr/>
        </p:nvPicPr>
        <p:blipFill>
          <a:blip r:embed="rId2"/>
          <a:stretch/>
        </p:blipFill>
        <p:spPr>
          <a:xfrm>
            <a:off x="88390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618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2-16.png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2-17.png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-1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358164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Родионов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ня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.С.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6"/>
          <p:cNvPicPr/>
          <p:nvPr/>
        </p:nvPicPr>
        <p:blipFill>
          <a:blip r:embed="rId1"/>
          <a:srcRect l="45050" t="4811" r="6309" b="8648"/>
          <a:stretch/>
        </p:blipFill>
        <p:spPr>
          <a:xfrm>
            <a:off x="4267080" y="53352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5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50731"/>
          <p:cNvPicPr/>
          <p:nvPr/>
        </p:nvPicPr>
        <p:blipFill>
          <a:blip r:embed="rId1"/>
          <a:stretch/>
        </p:blipFill>
        <p:spPr>
          <a:xfrm>
            <a:off x="228600" y="152280"/>
            <a:ext cx="426708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-4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=12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7-04-12T21:41:2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