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1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7.wmf" ContentType="image/x-wmf"/>
  <Override PartName="/ppt/media/image14.gif" ContentType="image/gi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gif" ContentType="image/gif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8AA-7B8E-4C34-80A3-D2BF8396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516-1238-4459-9C24-8C540E1A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88DF-EF77-4632-B868-6AA5AD7C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284-7D4C-4AEB-B1F3-98AD9A50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7662-ADB8-4995-B218-A2C86E48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0B8E-5F9D-4AF6-8839-9BB511EB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CF37-2431-4D23-936C-521E5675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24AB-248C-40BD-B662-59DB54A2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D320-2B1B-4CF9-A91D-EB31F35D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AC3B-8AF3-4A7F-8581-0B79CA84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0A5E-0E56-40F3-88C3-B360702F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DFC-AF2B-4F77-89F7-563F5F2C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9F60-2F4B-4FE0-A5D8-1C70F4DD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5373-4237-4DFA-8B89-A28E5942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2EB9-99FE-4E5B-BE82-74C3E25D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8F49-CA5F-4FDA-B7F8-1157FCDA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B1B8-2AF3-4D89-8E41-EC6ED475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C1B-C0C6-4119-8863-9A414992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283-67C8-4F17-9489-C6D22377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721-C3CE-4B7A-815C-00D481F4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AFC-FC1B-451C-8774-41161BB8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A7D-C67E-4275-9093-8C93AF29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122-797C-474D-A1B6-05252042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42B-0EE7-4F01-BB30-0F7F99D1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AB74-FE1D-40D8-8289-EA7AA76652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1497-69C0-418A-89B5-9F9D83DFE6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omic Sans MS"/>
              </a:rPr>
              <a:t>ГОТОВИМСЯ К ОЛИМПИАДЕ ПО РУССКОМУ ЯЗЫКУ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-3 КЛАСС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Что не принято называть «глубоким»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уважение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мыс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осен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весн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ноч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Микки"/>
          <p:cNvPicPr/>
          <p:nvPr/>
        </p:nvPicPr>
        <p:blipFill>
          <a:blip r:embed="rId1"/>
          <a:stretch/>
        </p:blipFill>
        <p:spPr>
          <a:xfrm>
            <a:off x="4800600" y="2590920"/>
            <a:ext cx="2971800" cy="312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Какое из слов можно переносить с одной строки на другую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пер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ар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поя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вздо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осё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STUDENT"/>
          <p:cNvPicPr/>
          <p:nvPr/>
        </p:nvPicPr>
        <p:blipFill>
          <a:blip r:embed="rId1"/>
          <a:stretch/>
        </p:blipFill>
        <p:spPr>
          <a:xfrm>
            <a:off x="4038480" y="1600200"/>
            <a:ext cx="4267440" cy="449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Comic Sans MS"/>
              </a:rPr>
              <a:t>Какой вопрос может помочь в изучении русского алфавит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Что еш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Где ёж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Как уж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Куда идеш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Когда встаёш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книга"/>
          <p:cNvPicPr/>
          <p:nvPr/>
        </p:nvPicPr>
        <p:blipFill>
          <a:blip r:embed="rId1"/>
          <a:stretch/>
        </p:blipFill>
        <p:spPr>
          <a:xfrm>
            <a:off x="5715000" y="2514600"/>
            <a:ext cx="2514600" cy="211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Посидев на уроке у брата Миши, его младшая сестра Маша потом рассказывала маме: «Вышев к доске, Петя тут же ошибился. А сел улыбающий такой. И чему радуется, ведь не умеет писать как следовает!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 в скольких словах сделала ошибки в своём рассказе сама Маш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в одном Б) в двух  В) в трёх  Г)в четырё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) в пя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PLAYCHL2"/>
          <p:cNvPicPr/>
          <p:nvPr/>
        </p:nvPicPr>
        <p:blipFill>
          <a:blip r:embed="rId1"/>
          <a:stretch/>
        </p:blipFill>
        <p:spPr>
          <a:xfrm>
            <a:off x="5943600" y="2743200"/>
            <a:ext cx="2641680" cy="1523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из этих слов по смыслу «выпадает» из общего списк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автобаза       Б) автодоро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автомобиль   Г) автопортр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автослесар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4" descr="26"/>
          <p:cNvPicPr/>
          <p:nvPr/>
        </p:nvPicPr>
        <p:blipFill>
          <a:blip r:embed="rId1"/>
          <a:stretch/>
        </p:blipFill>
        <p:spPr>
          <a:xfrm>
            <a:off x="5334120" y="4495680"/>
            <a:ext cx="1904760" cy="1524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33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Незнайка пишет слова так, как слышит. Какие из слов: 1)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частье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 2)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ощада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3)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омощник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4)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рассчитывать</a:t>
            </a: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 – он напишет с буквой « Щ»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39621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1, 2, 3     Б) 1, 2, 4    В) 2,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1, 4   Д) вс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31"/>
          <p:cNvPicPr/>
          <p:nvPr/>
        </p:nvPicPr>
        <p:blipFill>
          <a:blip r:embed="rId1"/>
          <a:stretch/>
        </p:blipFill>
        <p:spPr>
          <a:xfrm>
            <a:off x="5943600" y="487692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Какое из этих выражений означает не то, что остальны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на всех порах     Б) во весь опо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во всю прыть      Г) во всю глот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на всех паруса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FIREMAN2"/>
          <p:cNvPicPr/>
          <p:nvPr/>
        </p:nvPicPr>
        <p:blipFill>
          <a:blip r:embed="rId1"/>
          <a:stretch/>
        </p:blipFill>
        <p:spPr>
          <a:xfrm>
            <a:off x="5105520" y="3809880"/>
            <a:ext cx="2590560" cy="2819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Мария – машет, Прасковья – пашет, Елена – ленится, Евгений – женится. А Павел?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520" y="3047760"/>
            <a:ext cx="67053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машет       Б) паш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ленится     Г) жени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боре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GIRL"/>
          <p:cNvPicPr/>
          <p:nvPr/>
        </p:nvPicPr>
        <p:blipFill>
          <a:blip r:embed="rId1"/>
          <a:stretch/>
        </p:blipFill>
        <p:spPr>
          <a:xfrm>
            <a:off x="6019920" y="32004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omic Sans MS"/>
              </a:rPr>
              <a:t>В огороде бузина, а в Киеве …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) малина    Б) терем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) батька      Г) бабка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) дядь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4" descr="BSNSMAN"/>
          <p:cNvPicPr/>
          <p:nvPr/>
        </p:nvPicPr>
        <p:blipFill>
          <a:blip r:embed="rId1"/>
          <a:stretch/>
        </p:blipFill>
        <p:spPr>
          <a:xfrm>
            <a:off x="6095880" y="3429000"/>
            <a:ext cx="2766960" cy="312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 какой из этих пар слова связаны между собой не так, как в остальных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волк – волч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петух – кур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ворон – вор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жеребец – кобы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кот - кош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4" descr="Кот"/>
          <p:cNvPicPr/>
          <p:nvPr/>
        </p:nvPicPr>
        <p:blipFill>
          <a:blip r:embed="rId1"/>
          <a:stretch/>
        </p:blipFill>
        <p:spPr>
          <a:xfrm>
            <a:off x="4471920" y="1981080"/>
            <a:ext cx="4672080" cy="45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0000"/>
                </a:solidFill>
                <a:uFillTx/>
                <a:latin typeface="Comic Sans MS"/>
              </a:rPr>
              <a:t>Чей нос называется так же, как мелкая монетка?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28440" y="2209680"/>
            <a:ext cx="6553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коров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медвед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мыш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свинь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дельфи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4" descr="Слон2"/>
          <p:cNvPicPr/>
          <p:nvPr/>
        </p:nvPicPr>
        <p:blipFill>
          <a:blip r:embed="rId1"/>
          <a:stretch/>
        </p:blipFill>
        <p:spPr>
          <a:xfrm>
            <a:off x="4876920" y="1828800"/>
            <a:ext cx="3902040" cy="378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Что не может быть мягким, белым и тёплым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пластил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одеял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молок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пу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хле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4" descr="Бидон"/>
          <p:cNvPicPr/>
          <p:nvPr/>
        </p:nvPicPr>
        <p:blipFill>
          <a:blip r:embed="rId1"/>
          <a:stretch/>
        </p:blipFill>
        <p:spPr>
          <a:xfrm>
            <a:off x="4471920" y="1117440"/>
            <a:ext cx="4672080" cy="5740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12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В скольких из слов: </a:t>
            </a: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клен, плен, мед, лед – </a:t>
            </a: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буква </a:t>
            </a: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е</a:t>
            </a: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 на самом деле должна быть буквой </a:t>
            </a: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ё</a:t>
            </a: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?</a:t>
            </a: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ни в одном         Д) в четырёх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в одно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в дву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в трё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SCHOOLG"/>
          <p:cNvPicPr/>
          <p:nvPr/>
        </p:nvPicPr>
        <p:blipFill>
          <a:blip r:embed="rId1"/>
          <a:stretch/>
        </p:blipFill>
        <p:spPr>
          <a:xfrm>
            <a:off x="5029200" y="3733920"/>
            <a:ext cx="233532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аша и Коля подружились с Юрой, у которого папа – фокусник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какому слову в предложении относится слово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торый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Саша         Б) Коля      В) Ю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папа          Д) фокусни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CLOWN2"/>
          <p:cNvPicPr/>
          <p:nvPr/>
        </p:nvPicPr>
        <p:blipFill>
          <a:blip r:embed="rId1"/>
          <a:stretch/>
        </p:blipFill>
        <p:spPr>
          <a:xfrm rot="655200">
            <a:off x="6167160" y="3846240"/>
            <a:ext cx="2405160" cy="274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Юля сказала трём своим подругам: «Приходите ко мне после двух часов дня». Маша пришла в половине второго, Даша – точно в два, а Саша – в десять минут третьего. Кто из них выполнил просьбу Юл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только Маша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только Даш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только Саша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Даша и Маш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Даша и Саш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Настенные часы"/>
          <p:cNvPicPr/>
          <p:nvPr/>
        </p:nvPicPr>
        <p:blipFill>
          <a:blip r:embed="rId1"/>
          <a:stretch/>
        </p:blipFill>
        <p:spPr>
          <a:xfrm>
            <a:off x="6019920" y="3581280"/>
            <a:ext cx="2108160" cy="288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Какое из литературных произведений – не сказк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«Кот в сапогах» Шарля Перр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«Стрекоза и муравей» И. Крыл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«Гадкий утёнок» Г.Х. Андерсе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) «Малыш и Карлсон» А. Линдгр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«Лягушка-путешественница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. Гарши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Книги"/>
          <p:cNvPicPr/>
          <p:nvPr/>
        </p:nvPicPr>
        <p:blipFill>
          <a:blip r:embed="rId1"/>
          <a:stretch/>
        </p:blipFill>
        <p:spPr>
          <a:xfrm>
            <a:off x="3809880" y="4648320"/>
            <a:ext cx="4496040" cy="20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870600" cy="48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Вот три предложения из сочинения «Как я провёл день»: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1) Я думал, мы пойдём играть в футбол.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2) После уроков ко мне зашёл Петя.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3) А он предложил сыграть в шахматы.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В каком порядке они стоят в сочинении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48765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1,2,3   Б) 1, 3, 2    В) 2, 1, 3    Г) 2, 3,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) 3, 2,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14"/>
          <p:cNvPicPr/>
          <p:nvPr/>
        </p:nvPicPr>
        <p:blipFill>
          <a:blip r:embed="rId1"/>
          <a:stretch/>
        </p:blipFill>
        <p:spPr>
          <a:xfrm>
            <a:off x="6858000" y="1676520"/>
            <a:ext cx="1600200" cy="25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mic Sans MS"/>
              </a:rPr>
              <a:t>Какое из этих слов по смыслу «выпадает» из общего ряда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) перевезти         Б) перей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переплыть        Г) переброси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) перемоло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96"/>
          <p:cNvPicPr/>
          <p:nvPr/>
        </p:nvPicPr>
        <p:blipFill>
          <a:blip r:embed="rId1"/>
          <a:stretch/>
        </p:blipFill>
        <p:spPr>
          <a:xfrm>
            <a:off x="5181480" y="4191120"/>
            <a:ext cx="2362320" cy="198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оя</cp:lastModifiedBy>
  <dcterms:modified xsi:type="dcterms:W3CDTF">2021-01-17T13:30:2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