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himes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A96C-590D-4FA1-AAD3-F1243CE9B1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FD27-4BD9-4FD6-93C3-A619AE8698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F913-D633-4E8B-9CE8-0A97A970B9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6D84-2933-4B76-83CE-D9A690CA35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6861-BB86-4E15-A2E6-C89C4922F9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ABA-EFF2-404B-A5E0-DE9358D6B7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2B4D-0D01-4BFF-858D-95B3F19579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0E6D-B4AF-4B01-BAEB-DB440AECDD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13C9-093E-4172-AA68-6CD0EBBF09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A185-A026-48CF-BB28-6EE902C611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1228-5728-4C84-88B5-E161584F62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C01A-F77F-436E-88E4-F7CDD8618C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28EE-BD92-4AA4-A00A-8B1DAE5886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97E-3C0E-4A26-819F-81DCCB6EBC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F67B-56D4-41C5-BE1C-7C04082E6A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EFFF-39DF-4CA5-8899-E34E57BC47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A494-6B8F-4F42-98B0-E8A0125843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89DA-8CF8-4C52-B3B3-38F1FB2765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46A4-DCE9-432A-949B-503C13BF97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CF34-1756-4CA7-9AE5-65B2881B5E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D7C4-75CD-40DB-B49D-82102D0C49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ECA-782E-4B42-9CEF-EE43F05E9A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B3BC-5C48-4B47-A7C5-035FD37147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392F-F3C7-4A40-840D-B6B5C943D9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7EBF-F346-42B8-ABC1-C766A450E1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7934-221F-4D3D-BDC8-2F974E3E58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C3A-492F-4567-96EB-BFD39623C1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52F3-8453-423D-966C-6CDBC3784A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D9D-9E04-42E9-AAC2-9764E8CDED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EB3A-770C-472B-ABE6-EC1CF7BE28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6C8B-DE9B-429A-94BC-F845798A91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B649-2F06-4E8B-8C61-AC2D2D49BA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DBA3-FB97-41A3-80F7-B8B027269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C2E5-C058-44D0-B935-FD66602D6B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141F-D9EB-4509-BE5A-4B9F24AE53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BA3E-3736-40C4-B9D1-176EA7F5E0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BC83-3F4F-490E-B4FE-2EF7674B47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6740-A3FD-431B-80F1-24ABC921AD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DA40-1813-4B03-8AD8-A9534A7154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4F6A-7C34-46FB-8ABC-59B6764F7D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73F-41EF-45CA-972D-CF66DA3308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D90A-1F84-4D94-8F93-42CBF5C045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9C1C-50D1-4C7F-932C-BAE4CDB3A7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EEED-D8DF-4728-8F70-13DBA3F265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D3F9-0221-407B-8D5C-7C7F194C3B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34E-7BC3-4322-B688-978FC8C478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CF4-0D10-4EBF-8001-8767206C93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925-9EF7-43A1-9377-5176BEF208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A34F-5AC8-48D6-955D-6466ED90AF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E7DF-D79F-4FD4-A9F7-1BB7DC1583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F49A-C427-4462-9FAE-B904DE4F0F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149A-8BFA-4BEB-8805-4CADB73B9D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328-D701-487E-8E86-CBDB211070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8D44-0E40-45A2-962F-AA649348E7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Unregisterd version of Xtreme Compr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4DF-5260-4745-89F7-CA741761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1E7-1A67-4731-8312-C8C6DB4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454-00CA-4992-B56C-8152DCB2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AB8-B95A-4E2D-9972-2324CA55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6B3-2DCA-4B0D-836C-09578F0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C30-96E0-49F4-A5D1-370DEE50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B3A-CF01-4E22-942B-3FB06DEE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113F-D132-41CA-ACC4-6E60002C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DBE0-7E16-4FD5-BE23-E45C5325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B1F-B2BA-49B0-AD6B-CBE1C75D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6B5-174B-4A30-9AF0-8BC740A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225-6D87-4662-909A-11AEB5EF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EB10-3EEE-4A5D-892B-91D000ABC1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55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5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5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019240" y="1940040"/>
            <a:ext cx="55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Внеклассное мероприятие по математике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«Своя игра»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03040" y="2286000"/>
            <a:ext cx="872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Семь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раз отмерь, </a:t>
            </a: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ин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раз отрежь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95320" y="230364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дерево срубишь – 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посади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5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9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97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98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99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59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286000" y="1554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95320" y="2303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но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дерево срубишь –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десять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посад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81200" y="2247840"/>
            <a:ext cx="76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У … нянек дитя без глаз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380520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0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10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11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12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9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81200" y="2247840"/>
            <a:ext cx="760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У </a:t>
            </a:r>
            <a:r>
              <a:rPr b="1" lang="ru-RU" sz="4800" spc="-1" strike="noStrike" u="sng">
                <a:solidFill>
                  <a:srgbClr val="66ffff"/>
                </a:solidFill>
                <a:uFillTx/>
                <a:latin typeface="Times New Roman"/>
              </a:rPr>
              <a:t>семи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нянек дитя без глаза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781200" y="22860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Заяц вытащил 7 морковок и съел все, кроме 4. Сколько морковок осталось.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0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2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22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23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24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59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668760" y="1171440"/>
            <a:ext cx="213048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66ffff"/>
                </a:solidFill>
                <a:latin typeface="Times New Roman"/>
              </a:rPr>
              <a:t>4</a:t>
            </a:r>
            <a:endParaRPr b="0" lang="en-US" sz="239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880" y="2077920"/>
            <a:ext cx="836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амолет летит от Москвы  до Санкт-Петербурга за 1 час, а обратно 60 минут. Почему такая разниц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7954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5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3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37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38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39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9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3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914400" y="2266920"/>
            <a:ext cx="750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ff"/>
                </a:solidFill>
                <a:latin typeface="Times New Roman"/>
              </a:rPr>
              <a:t>Разницы нет</a:t>
            </a:r>
            <a:endParaRPr b="0" lang="en-US" sz="6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04880" y="2533680"/>
            <a:ext cx="7620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ойка лошадей бежит 30 км/ч. С какой скоростью бежит каждая лошадь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4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150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51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52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" dur="59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9" descr="oPicture 78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  <p:pic>
        <p:nvPicPr>
          <p:cNvPr id="50" name="Волшебники Двора - Дорога к солнцу  (audiopoisk.com).mp3" descr=""/>
          <p:cNvPicPr/>
          <p:nvPr/>
        </p:nvPicPr>
        <p:blipFill>
          <a:blip r:embed="rId2"/>
          <a:stretch/>
        </p:blipFill>
        <p:spPr>
          <a:xfrm>
            <a:off x="8373960" y="475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5825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01600" y="1650960"/>
            <a:ext cx="8767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66ffff"/>
                </a:solidFill>
                <a:latin typeface="Times New Roman"/>
              </a:rPr>
              <a:t>30 км/ч</a:t>
            </a:r>
            <a:endParaRPr b="0" lang="en-US" sz="115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6" name="Rectangle 6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19040" y="1895400"/>
            <a:ext cx="813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 складе было 5 ёмкостей с горючим по 6 тонн в каждой. Из 2 ёмкостей горючее взяли. Сколько ёмкостей осталось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0" name="Овал 4"/>
          <p:cNvSpPr/>
          <p:nvPr/>
        </p:nvSpPr>
        <p:spPr>
          <a:xfrm>
            <a:off x="227160" y="4635360"/>
            <a:ext cx="1465200" cy="142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61" name="Группа 111"/>
          <p:cNvGrpSpPr/>
          <p:nvPr/>
        </p:nvGrpSpPr>
        <p:grpSpPr>
          <a:xfrm>
            <a:off x="754200" y="4722840"/>
            <a:ext cx="357120" cy="1227240"/>
            <a:chOff x="754200" y="4722840"/>
            <a:chExt cx="357120" cy="1227240"/>
          </a:xfrm>
        </p:grpSpPr>
        <p:sp>
          <p:nvSpPr>
            <p:cNvPr id="162" name="Прямоугольник 6"/>
            <p:cNvSpPr/>
            <p:nvPr/>
          </p:nvSpPr>
          <p:spPr>
            <a:xfrm>
              <a:off x="754200" y="4722840"/>
              <a:ext cx="3571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63" name="Равнобедренный треугольник 7"/>
            <p:cNvSpPr/>
            <p:nvPr/>
          </p:nvSpPr>
          <p:spPr>
            <a:xfrm>
              <a:off x="825480" y="477828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64" name="Равнобедренный треугольник 8"/>
            <p:cNvSpPr/>
            <p:nvPr/>
          </p:nvSpPr>
          <p:spPr>
            <a:xfrm flipV="1">
              <a:off x="825480" y="54478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5" dur="59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819000" y="1181160"/>
            <a:ext cx="78678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900" spc="-1" strike="noStrike">
                <a:solidFill>
                  <a:srgbClr val="66ffff"/>
                </a:solidFill>
                <a:latin typeface="Times New Roman"/>
              </a:rPr>
              <a:t>5</a:t>
            </a:r>
            <a:endParaRPr b="0" lang="en-US" sz="239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ЕЗ СМЕКАЛКИ НИКУДА!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47640" y="1943280"/>
            <a:ext cx="803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У мамы была путевка в дом отдыха со 2 января по 17 января включительно. Сколько дней отдыхала мам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3" name="Овал 5"/>
          <p:cNvSpPr/>
          <p:nvPr/>
        </p:nvSpPr>
        <p:spPr>
          <a:xfrm>
            <a:off x="227160" y="469260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74" name="Группа 111"/>
          <p:cNvGrpSpPr/>
          <p:nvPr/>
        </p:nvGrpSpPr>
        <p:grpSpPr>
          <a:xfrm>
            <a:off x="754200" y="4780080"/>
            <a:ext cx="357120" cy="1226880"/>
            <a:chOff x="754200" y="4780080"/>
            <a:chExt cx="357120" cy="1226880"/>
          </a:xfrm>
        </p:grpSpPr>
        <p:sp>
          <p:nvSpPr>
            <p:cNvPr id="175" name="Прямоугольник 7"/>
            <p:cNvSpPr/>
            <p:nvPr/>
          </p:nvSpPr>
          <p:spPr>
            <a:xfrm>
              <a:off x="754200" y="478008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76" name="Равнобедренный треугольник 8"/>
            <p:cNvSpPr/>
            <p:nvPr/>
          </p:nvSpPr>
          <p:spPr>
            <a:xfrm>
              <a:off x="825480" y="483552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77" name="Равнобедренный треугольник 9"/>
            <p:cNvSpPr/>
            <p:nvPr/>
          </p:nvSpPr>
          <p:spPr>
            <a:xfrm flipV="1">
              <a:off x="825480" y="550476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9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0" name="Text Box 1028"/>
          <p:cNvSpPr/>
          <p:nvPr/>
        </p:nvSpPr>
        <p:spPr>
          <a:xfrm>
            <a:off x="687240" y="1722600"/>
            <a:ext cx="800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16 дней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1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84" name="Группа 6"/>
          <p:cNvGrpSpPr/>
          <p:nvPr/>
        </p:nvGrpSpPr>
        <p:grpSpPr>
          <a:xfrm>
            <a:off x="347760" y="2598840"/>
            <a:ext cx="8651880" cy="1146240"/>
            <a:chOff x="347760" y="2598840"/>
            <a:chExt cx="8651880" cy="1146240"/>
          </a:xfrm>
        </p:grpSpPr>
        <p:sp>
          <p:nvSpPr>
            <p:cNvPr id="185" name="Овал 1"/>
            <p:cNvSpPr/>
            <p:nvPr/>
          </p:nvSpPr>
          <p:spPr>
            <a:xfrm>
              <a:off x="347760" y="25988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6" name="Прямоугольник 2"/>
            <p:cNvSpPr/>
            <p:nvPr/>
          </p:nvSpPr>
          <p:spPr>
            <a:xfrm>
              <a:off x="1668600" y="2598840"/>
              <a:ext cx="120492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7" name="Блок-схема: извлечение 3"/>
            <p:cNvSpPr/>
            <p:nvPr/>
          </p:nvSpPr>
          <p:spPr>
            <a:xfrm>
              <a:off x="3185640" y="2627640"/>
              <a:ext cx="1175760" cy="105948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8" name="Овал 8"/>
            <p:cNvSpPr/>
            <p:nvPr/>
          </p:nvSpPr>
          <p:spPr>
            <a:xfrm>
              <a:off x="5856840" y="26276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89" name="Прямоугольник 9"/>
            <p:cNvSpPr/>
            <p:nvPr/>
          </p:nvSpPr>
          <p:spPr>
            <a:xfrm>
              <a:off x="7192440" y="2613240"/>
              <a:ext cx="180720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0" name="Шестиугольник 5"/>
            <p:cNvSpPr/>
            <p:nvPr/>
          </p:nvSpPr>
          <p:spPr>
            <a:xfrm>
              <a:off x="4447440" y="2627640"/>
              <a:ext cx="1213200" cy="105948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194" name="Группа 6"/>
          <p:cNvGrpSpPr/>
          <p:nvPr/>
        </p:nvGrpSpPr>
        <p:grpSpPr>
          <a:xfrm>
            <a:off x="347760" y="2598840"/>
            <a:ext cx="8651880" cy="1146240"/>
            <a:chOff x="347760" y="2598840"/>
            <a:chExt cx="8651880" cy="1146240"/>
          </a:xfrm>
        </p:grpSpPr>
        <p:sp>
          <p:nvSpPr>
            <p:cNvPr id="195" name="Овал 7"/>
            <p:cNvSpPr/>
            <p:nvPr/>
          </p:nvSpPr>
          <p:spPr>
            <a:xfrm>
              <a:off x="347760" y="25988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6" name="Прямоугольник 8"/>
            <p:cNvSpPr/>
            <p:nvPr/>
          </p:nvSpPr>
          <p:spPr>
            <a:xfrm>
              <a:off x="1668600" y="2598840"/>
              <a:ext cx="120492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7" name="Блок-схема: извлечение 9"/>
            <p:cNvSpPr/>
            <p:nvPr/>
          </p:nvSpPr>
          <p:spPr>
            <a:xfrm>
              <a:off x="3185640" y="2627640"/>
              <a:ext cx="1175760" cy="1059480"/>
            </a:xfrm>
            <a:prstGeom prst="flowChartExtra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8" name="Овал 10"/>
            <p:cNvSpPr/>
            <p:nvPr/>
          </p:nvSpPr>
          <p:spPr>
            <a:xfrm>
              <a:off x="5856840" y="2627640"/>
              <a:ext cx="1175760" cy="111744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199" name="Прямоугольник 11"/>
            <p:cNvSpPr/>
            <p:nvPr/>
          </p:nvSpPr>
          <p:spPr>
            <a:xfrm>
              <a:off x="7192440" y="2613240"/>
              <a:ext cx="1807200" cy="1117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0" name="Шестиугольник 12"/>
            <p:cNvSpPr/>
            <p:nvPr/>
          </p:nvSpPr>
          <p:spPr>
            <a:xfrm>
              <a:off x="4447440" y="2627640"/>
              <a:ext cx="1213200" cy="1059480"/>
            </a:xfrm>
            <a:prstGeom prst="hexagon">
              <a:avLst>
                <a:gd name="adj" fmla="val 25001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55640" y="19940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роизведение каких двух однозначных чисел дает число 5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4" name="Овал 6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05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06" name="Прямоугольник 8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7" name="Равнобедренный треугольник 9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08" name="Равнобедренный треугольник 10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59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0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1" name="Text Box 1028"/>
          <p:cNvSpPr/>
          <p:nvPr/>
        </p:nvSpPr>
        <p:spPr>
          <a:xfrm>
            <a:off x="1389240" y="2203560"/>
            <a:ext cx="7010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66ffff"/>
                </a:solidFill>
                <a:latin typeface="Times New Roman"/>
              </a:rPr>
              <a:t>5 × 1= 5</a:t>
            </a:r>
            <a:endParaRPr b="0" lang="en-US" sz="115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03040" y="2428920"/>
            <a:ext cx="872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4яйца сварили за 4 минуты. За сколько минут сварилось 1 яйцо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7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18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19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20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21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59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9" descr="oPicture 78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828800" y="1928880"/>
            <a:ext cx="535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4 минуты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38120" y="2381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 морю плыли 9 акул. Они увидели рыб и нырнули в глубину. Сколько акул осталось в море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0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3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32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33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34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59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41060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12840" y="1523880"/>
            <a:ext cx="83818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9 акул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428760" y="2259000"/>
            <a:ext cx="85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узнец подковал тройку лошадей. Сколько подков ему пришлось сделать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79548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42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43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44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45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59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03160" y="252576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12 подков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7160" y="1976400"/>
            <a:ext cx="868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Сговорились две ног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Делать дуги  и круги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45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30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5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57" name="Прямоугольник 14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58" name="Равнобедренный треугольник 15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59" name="Равнобедренный треугольник 16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59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2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3705120" y="1719360"/>
            <a:ext cx="20541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66ffff"/>
                </a:solidFill>
                <a:latin typeface="Times New Roman"/>
              </a:rPr>
              <a:t>12</a:t>
            </a:r>
            <a:endParaRPr b="0" lang="en-US" sz="13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89080" y="1935000"/>
            <a:ext cx="874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семь ног, как восемь рук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шивают шёлком круг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Мастер в шёлке знает толк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купайте, мухи, шёлк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7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68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69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70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71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59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33520" y="238140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ПАУК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7160" y="1774800"/>
            <a:ext cx="867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 десятку на шесточке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ели умные кружочки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И считают громко вслух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лько слышно: стук, да стук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8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7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80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81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82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59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38040" y="852480"/>
          <a:ext cx="8401320" cy="5232240"/>
        </p:xfrm>
        <a:graphic>
          <a:graphicData uri="http://schemas.openxmlformats.org/drawingml/2006/table">
            <a:tbl>
              <a:tblPr/>
              <a:tblGrid>
                <a:gridCol w="1505160"/>
                <a:gridCol w="1295280"/>
                <a:gridCol w="1400040"/>
                <a:gridCol w="1400400"/>
                <a:gridCol w="1400040"/>
                <a:gridCol w="1400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а в пословицах и поговорках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 смекалки никуда!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ская разминк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4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мат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ские загадк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селые задач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125">
            <a:hlinkClick r:id="rId26" action="ppaction://hlinksldjump"/>
          </p:cNvPr>
          <p:cNvSpPr/>
          <p:nvPr/>
        </p:nvSpPr>
        <p:spPr>
          <a:xfrm>
            <a:off x="3701520" y="6280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298440" y="21556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Счеты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693720" y="312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2099880" y="2116080"/>
            <a:ext cx="527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еугольная доска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 на ней – три волоска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лосок тонкий,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олосок звонки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0" name="Овал 6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291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292" name="Прямоугольник 8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93" name="Равнобедренный треугольник 9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294" name="Равнобедренный треугольник 10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59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7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755640" y="2085840"/>
            <a:ext cx="802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Балалайка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ЧЕСКИЕ ЗАГ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8527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27200" y="1962000"/>
            <a:ext cx="8115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ходишь в одну дверь,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 выходишь из трех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Думаешь, что вышел,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 на самом деле – вошёл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2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03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04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05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06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1" dur="59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0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609480" y="2254320"/>
            <a:ext cx="77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6ffff"/>
                </a:solidFill>
                <a:latin typeface="Times New Roman"/>
              </a:rPr>
              <a:t>Рубашка</a:t>
            </a:r>
            <a:endParaRPr b="0" lang="en-US" sz="8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14400" y="20955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огда гусь стоит на двух ногах, то весит 4 кг. Сколько будет весить гусь, когда встанет на одну ног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15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16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17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18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19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59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1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2" name="Text Box 1062"/>
          <p:cNvSpPr/>
          <p:nvPr/>
        </p:nvSpPr>
        <p:spPr>
          <a:xfrm>
            <a:off x="1884240" y="1725480"/>
            <a:ext cx="5372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66ffff"/>
                </a:solidFill>
                <a:latin typeface="Times New Roman"/>
              </a:rPr>
              <a:t>4 кг</a:t>
            </a:r>
            <a:endParaRPr b="0" lang="en-US" sz="16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"/>
          <p:cNvSpPr/>
          <p:nvPr/>
        </p:nvSpPr>
        <p:spPr>
          <a:xfrm>
            <a:off x="314280" y="213372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Шла бабушка в Москву, а навстречу ей 3 старика. Сколько человек шло в Москв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27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28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29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30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0" dur="59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2579760" y="2432160"/>
            <a:ext cx="40496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1165320" y="1576440"/>
            <a:ext cx="68007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1 человек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(бабушка)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219240" y="2228760"/>
            <a:ext cx="869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двух руках 10 пальцев. Сколько пальцев на 10 руках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39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40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41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42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59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8280" y="3160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27160" y="246384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голова хорошо, … - лучше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369252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57" name="Овал 8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58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59" name="Прямоугольник 1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60" name="Равнобедренный треугольник 1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61" name="Равнобедренный треугольник 1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9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4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5" name="Text Box 1033"/>
          <p:cNvSpPr/>
          <p:nvPr/>
        </p:nvSpPr>
        <p:spPr>
          <a:xfrm>
            <a:off x="1603440" y="2874960"/>
            <a:ext cx="59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50 пальцев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6" name="Rectangle 1035"/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264960" y="1771560"/>
            <a:ext cx="841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Ученики 4 «А» класса побывали в кабинете зубного врача, и им вырвали 12 молочных зубов. После этого в кабинете зубного врача побывали ученики 4 «Г» класса, и им вырвали на 4 молочных зуба больше. Сколько молочных зубов оставили дети из двух классов у врача. если известно, что один ученик унес свой вырванный зуб домой?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40813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Овал 4"/>
          <p:cNvSpPr/>
          <p:nvPr/>
        </p:nvSpPr>
        <p:spPr>
          <a:xfrm>
            <a:off x="227160" y="489600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51" name="Группа 111"/>
          <p:cNvGrpSpPr/>
          <p:nvPr/>
        </p:nvGrpSpPr>
        <p:grpSpPr>
          <a:xfrm>
            <a:off x="754200" y="4983120"/>
            <a:ext cx="357120" cy="1227240"/>
            <a:chOff x="754200" y="4983120"/>
            <a:chExt cx="357120" cy="1227240"/>
          </a:xfrm>
        </p:grpSpPr>
        <p:sp>
          <p:nvSpPr>
            <p:cNvPr id="352" name="Прямоугольник 6"/>
            <p:cNvSpPr/>
            <p:nvPr/>
          </p:nvSpPr>
          <p:spPr>
            <a:xfrm>
              <a:off x="754200" y="4983120"/>
              <a:ext cx="3571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53" name="Равнобедренный треугольник 7"/>
            <p:cNvSpPr/>
            <p:nvPr/>
          </p:nvSpPr>
          <p:spPr>
            <a:xfrm>
              <a:off x="825480" y="503856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54" name="Равнобедренный треугольник 8"/>
            <p:cNvSpPr/>
            <p:nvPr/>
          </p:nvSpPr>
          <p:spPr>
            <a:xfrm flipV="1">
              <a:off x="825480" y="570816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6" dur="59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196920" y="2681280"/>
            <a:ext cx="87296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ff"/>
                </a:solidFill>
                <a:latin typeface="Times New Roman"/>
              </a:rPr>
              <a:t>27 зубов</a:t>
            </a:r>
            <a:endParaRPr b="0" lang="en-US" sz="8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СЕЛЫЕ ЗАДАЧ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227160" y="1943280"/>
            <a:ext cx="868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обираясь на работу, папа положил в свой портфель бумаги, массой 2 кг 700 г Масса портфеля 300 г. Сколько килограммов принесет папа на работу, если его двухлетняя дочка Маша положила в портфель еще и утюг, масса которого 3 кг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3" name="Овал 4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364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365" name="Прямоугольник 6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66" name="Равнобедренный треугольник 7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367" name="Равнобедренный треугольник 8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4" dur="59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7614000" y="585144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1776240" y="1504800"/>
            <a:ext cx="6229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66ffff"/>
                </a:solidFill>
                <a:latin typeface="Times New Roman"/>
              </a:rPr>
              <a:t>6 кг</a:t>
            </a:r>
            <a:endParaRPr b="0" lang="en-US" sz="199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375" name="Picture 10" descr="oPicture 5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83320" y="2286000"/>
            <a:ext cx="649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Одна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голова хорошо,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а </a:t>
            </a:r>
            <a:r>
              <a:rPr b="1" lang="ru-RU" sz="5400" spc="-1" strike="noStrike" u="sng">
                <a:solidFill>
                  <a:srgbClr val="66ffff"/>
                </a:solidFill>
                <a:uFillTx/>
                <a:latin typeface="Times New Roman"/>
              </a:rPr>
              <a:t>две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 - лучше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5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2514600"/>
            <a:ext cx="761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за всех, и все за 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369252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69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70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71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72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73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9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89000" y="1933560"/>
            <a:ext cx="87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66ffff"/>
                </a:solidFill>
                <a:uFillTx/>
                <a:latin typeface="Times New Roman"/>
              </a:rPr>
              <a:t>Один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за всех и все за </a:t>
            </a:r>
            <a:r>
              <a:rPr b="1" lang="ru-RU" sz="6000" spc="-1" strike="noStrike" u="sng">
                <a:solidFill>
                  <a:srgbClr val="66ffff"/>
                </a:solidFill>
                <a:uFillTx/>
                <a:latin typeface="Times New Roman"/>
              </a:rPr>
              <a:t>одного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ИСЛА В ПОСЛОВИЦАХ И ПОГОВОРКАХ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03040" y="2286000"/>
            <a:ext cx="87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… </a:t>
            </a: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раз отмерь, … раз отрежь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2" name="Овал 5"/>
          <p:cNvSpPr/>
          <p:nvPr/>
        </p:nvSpPr>
        <p:spPr>
          <a:xfrm>
            <a:off x="227160" y="4243320"/>
            <a:ext cx="1465200" cy="1422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grpSp>
        <p:nvGrpSpPr>
          <p:cNvPr id="83" name="Группа 111"/>
          <p:cNvGrpSpPr/>
          <p:nvPr/>
        </p:nvGrpSpPr>
        <p:grpSpPr>
          <a:xfrm>
            <a:off x="754200" y="4330800"/>
            <a:ext cx="357120" cy="1226880"/>
            <a:chOff x="754200" y="4330800"/>
            <a:chExt cx="357120" cy="1226880"/>
          </a:xfrm>
        </p:grpSpPr>
        <p:sp>
          <p:nvSpPr>
            <p:cNvPr id="84" name="Прямоугольник 7"/>
            <p:cNvSpPr/>
            <p:nvPr/>
          </p:nvSpPr>
          <p:spPr>
            <a:xfrm>
              <a:off x="754200" y="4330800"/>
              <a:ext cx="35712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85" name="Равнобедренный треугольник 8"/>
            <p:cNvSpPr/>
            <p:nvPr/>
          </p:nvSpPr>
          <p:spPr>
            <a:xfrm>
              <a:off x="825480" y="4386240"/>
              <a:ext cx="285840" cy="6699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  <p:sp>
          <p:nvSpPr>
            <p:cNvPr id="86" name="Равнобедренный треугольник 9"/>
            <p:cNvSpPr/>
            <p:nvPr/>
          </p:nvSpPr>
          <p:spPr>
            <a:xfrm flipV="1">
              <a:off x="825480" y="5055480"/>
              <a:ext cx="285840" cy="27756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66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9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Microsoft</cp:lastModifiedBy>
  <dcterms:modified xsi:type="dcterms:W3CDTF">2018-03-25T15:51:42Z</dcterms:modified>
  <cp:revision>138</cp:revision>
  <dc:subject/>
  <dc:title>Презентация PowerPoint</dc:title>
</cp:coreProperties>
</file>