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himes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8B1-DFBB-487C-A6CD-ADA9A9E56D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EF33-7807-4300-9D52-D74DCC4C4E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7464-6DB5-483D-9084-3357D8E4B7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AA50-A09E-450F-9659-A97DE58C68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5EFF-4AEE-4045-B46C-946DD76BBB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E75-2DA2-4AE3-9B29-3D88745ACF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23F-045C-40DD-8EE5-1E0EBDEAED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4A36-EC16-45D1-9C3A-F2EB00F2CA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54CF-6A7F-494A-AB63-19161E26B0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B48B-7B6B-4DB1-9828-4E791A561B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27CC-905E-44F0-8530-4B3D6E4731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42E-8B98-47E7-B081-592A43A878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3CEC-65E5-4BA3-BA60-816589B841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3941-F157-4279-85E6-E7D0C33E74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A063-A73B-4A9E-8E76-845803A234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82C7-3DF0-4D3D-B381-7B27F73F64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736-8A8D-4B9E-BFDB-03D9077BD4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398-4F98-4457-B04B-DE343767EF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58DB-F3EA-49D1-8054-984F82631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FF91-5467-4259-9010-131BCCC2D2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3CB-FAB7-45A5-B8E2-B682030791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CF50-DBCF-4ADE-BE3B-4D33620ABE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47B1-AEE2-481A-8ADA-03E31B71D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2C1-7C04-438F-B1A6-C6FAECE74C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083E-2F02-4368-8A0D-E13DBE31CD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EFAB-BB84-40CD-B043-1B47378ABA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7331-CDBD-4C5D-B15D-ED51176E0D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2B5-91EF-49B5-BD26-A73811DD61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FCF-8886-4DC4-9E93-6DD7F34BB3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A8BD-2B21-45E7-81B6-9C21E0F17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595-D1AD-4407-9471-6DD218C1C2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0E93-5F9C-4535-AB19-FA0C5ED9FE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4291-9BBC-48D3-98BD-D0C238193F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2622-E06F-414D-8BED-04BE54A749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4BC1-2B57-440A-BFA7-2ADABA403B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12F-0847-46AC-84C6-75C4B19807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40AE-C132-4DBD-B6B4-FA4698D7E8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B88E-5729-4B8D-B987-4228DB2C63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7FFD-7E12-42B1-8915-680F30F8C6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D2D-818D-47F7-B429-92CE3F4562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62E8-A936-4013-A2B6-C7CD6DC513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2948-D94D-404D-BC9A-D530FE6002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7E39-179F-42E0-9EAC-A7896F2EA4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DA14-4A9D-4AF8-851A-9FB1309855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84B-5A27-4042-8188-7018CD43B3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053-EF70-4F73-A729-6936CABB93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5AD-59B0-49F8-9F4A-3D33C709B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342-CDB9-4E47-80D9-C1C0B70F3D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AF3B-F0AC-4545-B59F-91AFAFEC2C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33C3-CA11-4346-99E0-74D4272E2B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459D-0A1B-47F5-AE22-9F1A71C5B9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89F1-E518-4D1C-8197-ADE7A9C44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9F3F-A320-4A74-86F0-0F47005BD9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8952-3FE2-49C6-ADB7-AA7380A3CB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2E7-6510-468D-B716-4991B225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187-B8D6-4983-89A9-0387BF90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297-B881-480F-A184-AA23EE11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5E3-5C56-434B-AFBB-292AA36B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E5D-DE71-4165-A95D-7ACD1108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809-E8F9-46D3-A39F-A7927A0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05C-0FFA-4922-9033-7AF97130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569-0DD9-4398-98E6-3C82D7BE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CA8-CAD5-47A4-87FB-31060122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607-5608-44B1-9A31-EC5DD17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BDC-296C-4889-8C24-D06A1CE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3A5-7C21-4D0B-97FC-D92166E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4F53-45DB-47E8-B221-D211D8CAB4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55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5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019240" y="1940040"/>
            <a:ext cx="55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Внеклассное мероприятие по математике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«Своя игра»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03040" y="2286000"/>
            <a:ext cx="872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Семь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раз отмерь, </a:t>
            </a: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ин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раз отрежь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95320" y="2303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дерево срубишь – 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посади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5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9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97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98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99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59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86000" y="1554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95320" y="2303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но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дерево срубишь –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десять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посад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81200" y="2247840"/>
            <a:ext cx="76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У … нянек дитя без глаз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80520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0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10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11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12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9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81200" y="2247840"/>
            <a:ext cx="76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У </a:t>
            </a:r>
            <a:r>
              <a:rPr b="1" lang="ru-RU" sz="4800" spc="-1" strike="noStrike" u="sng">
                <a:solidFill>
                  <a:srgbClr val="66ffff"/>
                </a:solidFill>
                <a:uFillTx/>
                <a:latin typeface="Times New Roman"/>
              </a:rPr>
              <a:t>семи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нянек дитя без глаз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81200" y="22860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Заяц вытащил 7 морковок и съел все, кроме 4. Сколько морковок осталось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0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2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22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23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24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59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68760" y="1171440"/>
            <a:ext cx="213048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66ffff"/>
                </a:solidFill>
                <a:latin typeface="Times New Roman"/>
              </a:rPr>
              <a:t>4</a:t>
            </a:r>
            <a:endParaRPr b="0" lang="en-US" sz="239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880" y="2077920"/>
            <a:ext cx="836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амолет летит от Москвы  до Санкт-Петербурга за 1 час, а обратно 60 минут. Почему такая разниц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7954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5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3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37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38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39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9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3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914400" y="2266920"/>
            <a:ext cx="750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ff"/>
                </a:solidFill>
                <a:latin typeface="Times New Roman"/>
              </a:rPr>
              <a:t>Разницы нет</a:t>
            </a:r>
            <a:endParaRPr b="0" lang="en-US" sz="6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04880" y="253368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ойка лошадей бежит 30 км/ч. С какой скоростью бежит каждая лошадь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4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50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51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52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59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9" descr="oPicture 78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  <p:pic>
        <p:nvPicPr>
          <p:cNvPr id="50" name="Волшебники Двора - Дорога к солнцу  (audiopoisk.com).mp3" descr=""/>
          <p:cNvPicPr/>
          <p:nvPr/>
        </p:nvPicPr>
        <p:blipFill>
          <a:blip r:embed="rId2"/>
          <a:stretch/>
        </p:blipFill>
        <p:spPr>
          <a:xfrm>
            <a:off x="8373960" y="475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5825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01600" y="1650960"/>
            <a:ext cx="8767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66ffff"/>
                </a:solidFill>
                <a:latin typeface="Times New Roman"/>
              </a:rPr>
              <a:t>30 км/ч</a:t>
            </a:r>
            <a:endParaRPr b="0" lang="en-US" sz="115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6" name="Rectangle 6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19040" y="1895400"/>
            <a:ext cx="813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 складе было 5 ёмкостей с горючим по 6 тонн в каждой. Из 2 ёмкостей горючее взяли. Сколько ёмкостей осталось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0" name="Овал 4"/>
          <p:cNvSpPr/>
          <p:nvPr/>
        </p:nvSpPr>
        <p:spPr>
          <a:xfrm>
            <a:off x="227160" y="4635360"/>
            <a:ext cx="1465200" cy="142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61" name="Группа 111"/>
          <p:cNvGrpSpPr/>
          <p:nvPr/>
        </p:nvGrpSpPr>
        <p:grpSpPr>
          <a:xfrm>
            <a:off x="754200" y="4722840"/>
            <a:ext cx="357120" cy="1227240"/>
            <a:chOff x="754200" y="4722840"/>
            <a:chExt cx="357120" cy="1227240"/>
          </a:xfrm>
        </p:grpSpPr>
        <p:sp>
          <p:nvSpPr>
            <p:cNvPr id="162" name="Прямоугольник 6"/>
            <p:cNvSpPr/>
            <p:nvPr/>
          </p:nvSpPr>
          <p:spPr>
            <a:xfrm>
              <a:off x="754200" y="4722840"/>
              <a:ext cx="3571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63" name="Равнобедренный треугольник 7"/>
            <p:cNvSpPr/>
            <p:nvPr/>
          </p:nvSpPr>
          <p:spPr>
            <a:xfrm>
              <a:off x="825480" y="477828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64" name="Равнобедренный треугольник 8"/>
            <p:cNvSpPr/>
            <p:nvPr/>
          </p:nvSpPr>
          <p:spPr>
            <a:xfrm flipV="1">
              <a:off x="825480" y="54478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9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819000" y="1181160"/>
            <a:ext cx="7867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66ffff"/>
                </a:solidFill>
                <a:latin typeface="Times New Roman"/>
              </a:rPr>
              <a:t>5</a:t>
            </a:r>
            <a:endParaRPr b="0" lang="en-US" sz="239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47640" y="1943280"/>
            <a:ext cx="803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У мамы была путевка в дом отдыха со 2 января по 17 января включительно. Сколько дней отдыхала мам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3" name="Овал 5"/>
          <p:cNvSpPr/>
          <p:nvPr/>
        </p:nvSpPr>
        <p:spPr>
          <a:xfrm>
            <a:off x="227160" y="469260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74" name="Группа 111"/>
          <p:cNvGrpSpPr/>
          <p:nvPr/>
        </p:nvGrpSpPr>
        <p:grpSpPr>
          <a:xfrm>
            <a:off x="754200" y="4780080"/>
            <a:ext cx="357120" cy="1226880"/>
            <a:chOff x="754200" y="4780080"/>
            <a:chExt cx="357120" cy="1226880"/>
          </a:xfrm>
        </p:grpSpPr>
        <p:sp>
          <p:nvSpPr>
            <p:cNvPr id="175" name="Прямоугольник 7"/>
            <p:cNvSpPr/>
            <p:nvPr/>
          </p:nvSpPr>
          <p:spPr>
            <a:xfrm>
              <a:off x="754200" y="478008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76" name="Равнобедренный треугольник 8"/>
            <p:cNvSpPr/>
            <p:nvPr/>
          </p:nvSpPr>
          <p:spPr>
            <a:xfrm>
              <a:off x="825480" y="483552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77" name="Равнобедренный треугольник 9"/>
            <p:cNvSpPr/>
            <p:nvPr/>
          </p:nvSpPr>
          <p:spPr>
            <a:xfrm flipV="1">
              <a:off x="825480" y="550476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9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0" name="Text Box 1028"/>
          <p:cNvSpPr/>
          <p:nvPr/>
        </p:nvSpPr>
        <p:spPr>
          <a:xfrm>
            <a:off x="687240" y="1722600"/>
            <a:ext cx="800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16 дней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1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84" name="Группа 6"/>
          <p:cNvGrpSpPr/>
          <p:nvPr/>
        </p:nvGrpSpPr>
        <p:grpSpPr>
          <a:xfrm>
            <a:off x="347760" y="2598840"/>
            <a:ext cx="8651880" cy="1146240"/>
            <a:chOff x="347760" y="2598840"/>
            <a:chExt cx="8651880" cy="1146240"/>
          </a:xfrm>
        </p:grpSpPr>
        <p:sp>
          <p:nvSpPr>
            <p:cNvPr id="185" name="Овал 1"/>
            <p:cNvSpPr/>
            <p:nvPr/>
          </p:nvSpPr>
          <p:spPr>
            <a:xfrm>
              <a:off x="347760" y="25988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6" name="Прямоугольник 2"/>
            <p:cNvSpPr/>
            <p:nvPr/>
          </p:nvSpPr>
          <p:spPr>
            <a:xfrm>
              <a:off x="1668600" y="2598840"/>
              <a:ext cx="120492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7" name="Блок-схема: извлечение 3"/>
            <p:cNvSpPr/>
            <p:nvPr/>
          </p:nvSpPr>
          <p:spPr>
            <a:xfrm>
              <a:off x="3185640" y="2627640"/>
              <a:ext cx="1175760" cy="105948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8" name="Овал 8"/>
            <p:cNvSpPr/>
            <p:nvPr/>
          </p:nvSpPr>
          <p:spPr>
            <a:xfrm>
              <a:off x="5856840" y="26276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9" name="Прямоугольник 9"/>
            <p:cNvSpPr/>
            <p:nvPr/>
          </p:nvSpPr>
          <p:spPr>
            <a:xfrm>
              <a:off x="7192440" y="2613240"/>
              <a:ext cx="180720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0" name="Шестиугольник 5"/>
            <p:cNvSpPr/>
            <p:nvPr/>
          </p:nvSpPr>
          <p:spPr>
            <a:xfrm>
              <a:off x="4447440" y="2627640"/>
              <a:ext cx="1213200" cy="105948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94" name="Группа 6"/>
          <p:cNvGrpSpPr/>
          <p:nvPr/>
        </p:nvGrpSpPr>
        <p:grpSpPr>
          <a:xfrm>
            <a:off x="347760" y="2598840"/>
            <a:ext cx="8651880" cy="1146240"/>
            <a:chOff x="347760" y="2598840"/>
            <a:chExt cx="8651880" cy="1146240"/>
          </a:xfrm>
        </p:grpSpPr>
        <p:sp>
          <p:nvSpPr>
            <p:cNvPr id="195" name="Овал 7"/>
            <p:cNvSpPr/>
            <p:nvPr/>
          </p:nvSpPr>
          <p:spPr>
            <a:xfrm>
              <a:off x="347760" y="25988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6" name="Прямоугольник 8"/>
            <p:cNvSpPr/>
            <p:nvPr/>
          </p:nvSpPr>
          <p:spPr>
            <a:xfrm>
              <a:off x="1668600" y="2598840"/>
              <a:ext cx="120492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7" name="Блок-схема: извлечение 9"/>
            <p:cNvSpPr/>
            <p:nvPr/>
          </p:nvSpPr>
          <p:spPr>
            <a:xfrm>
              <a:off x="3185640" y="2627640"/>
              <a:ext cx="1175760" cy="105948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8" name="Овал 10"/>
            <p:cNvSpPr/>
            <p:nvPr/>
          </p:nvSpPr>
          <p:spPr>
            <a:xfrm>
              <a:off x="5856840" y="26276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9" name="Прямоугольник 11"/>
            <p:cNvSpPr/>
            <p:nvPr/>
          </p:nvSpPr>
          <p:spPr>
            <a:xfrm>
              <a:off x="7192440" y="2613240"/>
              <a:ext cx="180720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0" name="Шестиугольник 12"/>
            <p:cNvSpPr/>
            <p:nvPr/>
          </p:nvSpPr>
          <p:spPr>
            <a:xfrm>
              <a:off x="4447440" y="2627640"/>
              <a:ext cx="1213200" cy="105948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55640" y="19940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роизведение каких двух однозначных чисел дает число 5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4" name="Овал 6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05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06" name="Прямоугольник 8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7" name="Равнобедренный треугольник 9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8" name="Равнобедренный треугольник 10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59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0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1" name="Text Box 1028"/>
          <p:cNvSpPr/>
          <p:nvPr/>
        </p:nvSpPr>
        <p:spPr>
          <a:xfrm>
            <a:off x="1389240" y="2203560"/>
            <a:ext cx="7010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66ffff"/>
                </a:solidFill>
                <a:latin typeface="Times New Roman"/>
              </a:rPr>
              <a:t>5 × 1= 5</a:t>
            </a:r>
            <a:endParaRPr b="0" lang="en-US" sz="115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03040" y="2428920"/>
            <a:ext cx="872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4яйца сварили за 4 минуты. За сколько минут сварилось 1 яйцо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7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18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19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20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21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59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9" descr="oPicture 78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828800" y="1928880"/>
            <a:ext cx="535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4 минуты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38120" y="2381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 морю плыли 9 акул. Они увидели рыб и нырнули в глубину. Сколько акул осталось в море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0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3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32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33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34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59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41060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12840" y="1523880"/>
            <a:ext cx="83818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9 акул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428760" y="225900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узнец подковал тройку лошадей. Сколько подков ему пришлось сделать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79548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42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43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44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45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9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03160" y="252576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12 подков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7160" y="1976400"/>
            <a:ext cx="868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Сговорились две ног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Делать дуги  и круг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30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5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57" name="Прямоугольник 14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58" name="Равнобедренный треугольник 15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59" name="Равнобедренный треугольник 16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59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2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3705120" y="1719360"/>
            <a:ext cx="2054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66ffff"/>
                </a:solidFill>
                <a:latin typeface="Times New Roman"/>
              </a:rPr>
              <a:t>12</a:t>
            </a:r>
            <a:endParaRPr b="0" lang="en-US" sz="13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89080" y="1935000"/>
            <a:ext cx="874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семь ног, как восемь рук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шивают шёлком круг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Мастер в шёлке знает толк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купайте, мухи, шёлк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7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68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69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70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71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9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33520" y="238140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ПАУК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7160" y="1774800"/>
            <a:ext cx="867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 десятку на шесточке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ели умные кружочки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И считают громко вслух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лько слышно: стук, да стук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8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7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80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81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82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59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38040" y="852480"/>
          <a:ext cx="8401320" cy="5232240"/>
        </p:xfrm>
        <a:graphic>
          <a:graphicData uri="http://schemas.openxmlformats.org/drawingml/2006/table">
            <a:tbl>
              <a:tblPr/>
              <a:tblGrid>
                <a:gridCol w="1505160"/>
                <a:gridCol w="1295280"/>
                <a:gridCol w="1400040"/>
                <a:gridCol w="1400400"/>
                <a:gridCol w="1400040"/>
                <a:gridCol w="1400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а в пословицах и поговорках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 смекалки никуда!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ская разминк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ские загадк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селые задач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125">
            <a:hlinkClick r:id="rId26" action="ppaction://hlinksldjump"/>
          </p:cNvPr>
          <p:cNvSpPr/>
          <p:nvPr/>
        </p:nvSpPr>
        <p:spPr>
          <a:xfrm>
            <a:off x="3701520" y="6280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98440" y="2155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Счеты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693720" y="312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2099880" y="2116080"/>
            <a:ext cx="52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еугольная доска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 на ней – три волоска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лосок тонкий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олосок звонки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0" name="Овал 6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9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92" name="Прямоугольник 8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93" name="Равнобедренный треугольник 9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94" name="Равнобедренный треугольник 10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59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7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755640" y="2085840"/>
            <a:ext cx="802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Балалайка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8527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27200" y="1962000"/>
            <a:ext cx="8115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ходишь в одну дверь,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 выходишь из трех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Думаешь, что вышел,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 на самом деле – вошёл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2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03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04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05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06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59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0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609480" y="2254320"/>
            <a:ext cx="77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ffff"/>
                </a:solidFill>
                <a:latin typeface="Times New Roman"/>
              </a:rPr>
              <a:t>Рубашка</a:t>
            </a:r>
            <a:endParaRPr b="0" lang="en-US" sz="8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14400" y="20955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огда гусь стоит на двух ногах, то весит 4 кг. Сколько будет весить гусь, когда встанет на одну ног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5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1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17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18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19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59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1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2" name="Text Box 1062"/>
          <p:cNvSpPr/>
          <p:nvPr/>
        </p:nvSpPr>
        <p:spPr>
          <a:xfrm>
            <a:off x="1884240" y="1725480"/>
            <a:ext cx="5372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4 кг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314280" y="213372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Шла бабушка в Москву, а навстречу ей 3 старика. Сколько человек шло в Москв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27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28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29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30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0" dur="59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2579760" y="2432160"/>
            <a:ext cx="404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1165320" y="1576440"/>
            <a:ext cx="68007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1 человек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(бабушка)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219240" y="2228760"/>
            <a:ext cx="869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двух руках 10 пальцев. Сколько пальцев на 10 руках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3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40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41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42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59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8280" y="3160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7160" y="246384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голова хорошо, … - лучше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369252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" name="Овал 8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58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59" name="Прямоугольник 1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60" name="Равнобедренный треугольник 1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61" name="Равнобедренный треугольник 1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4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5" name="Text Box 1033"/>
          <p:cNvSpPr/>
          <p:nvPr/>
        </p:nvSpPr>
        <p:spPr>
          <a:xfrm>
            <a:off x="1603440" y="287496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50 пальцев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6" name="Rectangle 1035"/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264960" y="1771560"/>
            <a:ext cx="841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Ученики 4 «А» класса побывали в кабинете зубного врача, и им вырвали 12 молочных зубов. После этого в кабинете зубного врача побывали ученики 4 «Г» класса, и им вырвали на 4 молочных зуба больше. Сколько молочных зубов оставили дети из двух классов у врача. если известно, что один ученик унес свой вырванный зуб домой?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40813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Овал 4"/>
          <p:cNvSpPr/>
          <p:nvPr/>
        </p:nvSpPr>
        <p:spPr>
          <a:xfrm>
            <a:off x="227160" y="489600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51" name="Группа 111"/>
          <p:cNvGrpSpPr/>
          <p:nvPr/>
        </p:nvGrpSpPr>
        <p:grpSpPr>
          <a:xfrm>
            <a:off x="754200" y="4983120"/>
            <a:ext cx="357120" cy="1227240"/>
            <a:chOff x="754200" y="4983120"/>
            <a:chExt cx="357120" cy="1227240"/>
          </a:xfrm>
        </p:grpSpPr>
        <p:sp>
          <p:nvSpPr>
            <p:cNvPr id="352" name="Прямоугольник 6"/>
            <p:cNvSpPr/>
            <p:nvPr/>
          </p:nvSpPr>
          <p:spPr>
            <a:xfrm>
              <a:off x="754200" y="4983120"/>
              <a:ext cx="3571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53" name="Равнобедренный треугольник 7"/>
            <p:cNvSpPr/>
            <p:nvPr/>
          </p:nvSpPr>
          <p:spPr>
            <a:xfrm>
              <a:off x="825480" y="503856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54" name="Равнобедренный треугольник 8"/>
            <p:cNvSpPr/>
            <p:nvPr/>
          </p:nvSpPr>
          <p:spPr>
            <a:xfrm flipV="1">
              <a:off x="825480" y="570816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59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196920" y="2681280"/>
            <a:ext cx="87296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27 зубов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27160" y="1943280"/>
            <a:ext cx="868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обираясь на работу, папа положил в свой портфель бумаги, массой 2 кг 700 г Масса портфеля 300 г. Сколько килограммов принесет папа на работу, если его двухлетняя дочка Маша положила в портфель еще и утюг, масса которого 3 кг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3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64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65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66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67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4" dur="59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14000" y="585144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1776240" y="1504800"/>
            <a:ext cx="6229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66ffff"/>
                </a:solidFill>
                <a:latin typeface="Times New Roman"/>
              </a:rPr>
              <a:t>6 кг</a:t>
            </a:r>
            <a:endParaRPr b="0" lang="en-US" sz="199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375" name="Picture 10" descr="oPicture 5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83320" y="2286000"/>
            <a:ext cx="649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на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голова хорошо,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а </a:t>
            </a: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две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- лучше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5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251460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за всех, и все за 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369252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70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71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72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73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9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89000" y="1933560"/>
            <a:ext cx="87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66ffff"/>
                </a:solidFill>
                <a:uFillTx/>
                <a:latin typeface="Times New Roman"/>
              </a:rPr>
              <a:t>Один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за всех и все за </a:t>
            </a:r>
            <a:r>
              <a:rPr b="1" lang="ru-RU" sz="6000" spc="-1" strike="noStrike" u="sng">
                <a:solidFill>
                  <a:srgbClr val="66ffff"/>
                </a:solidFill>
                <a:uFillTx/>
                <a:latin typeface="Times New Roman"/>
              </a:rPr>
              <a:t>одного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03040" y="2286000"/>
            <a:ext cx="87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раз отмерь, … раз отрежь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83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84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85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86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9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Microsoft</cp:lastModifiedBy>
  <dcterms:modified xsi:type="dcterms:W3CDTF">2018-03-25T15:51:42Z</dcterms:modified>
  <cp:revision>138</cp:revision>
  <dc:subject/>
  <dc:title>Презентация PowerPoint</dc:title>
</cp:coreProperties>
</file>