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8.png" ContentType="image/png"/>
  <Override PartName="/ppt/media/image5.gif" ContentType="image/gif"/>
  <Override PartName="/ppt/media/image14.jpeg" ContentType="image/jpeg"/>
  <Override PartName="/ppt/media/image6.jpeg" ContentType="image/jpeg"/>
  <Override PartName="/ppt/media/image27.jpeg" ContentType="image/jpeg"/>
  <Override PartName="/ppt/media/image9.png" ContentType="image/png"/>
  <Override PartName="/ppt/media/image13.jpeg" ContentType="image/jpeg"/>
  <Override PartName="/ppt/media/image4.png" ContentType="image/png"/>
  <Override PartName="/ppt/media/image26.jpeg" ContentType="image/jpeg"/>
  <Override PartName="/ppt/media/image19.png" ContentType="image/png"/>
  <Override PartName="/ppt/media/image2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A963-8DE1-4CEA-9577-4CFF45AC7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AA97-45DD-46DD-A0DA-FC3971B3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FC3E-670D-48E9-8586-D6E8BDDF5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CA28-D751-4567-9590-6D3F798FD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9C88-5710-4DE9-83F6-2893F7B0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0E03-B709-4571-9C52-09243C77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2101-A5ED-47D4-ADC4-B4B0781E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CDFB-15DB-42DE-B9D4-F28399FE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8079-724D-467B-A30E-1E8E7DC9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1667-58D2-43F9-9D29-9CF6FEF7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CAD7-64E8-447D-A815-C88D0AC8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9A22-E8CF-43E9-8911-1CED3239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F354-6415-48D2-93F2-6353FBEE13E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9118-832C-4286-BE47-498689FC19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ый треугольник 4"/>
          <p:cNvSpPr/>
          <p:nvPr/>
        </p:nvSpPr>
        <p:spPr>
          <a:xfrm flipV="1">
            <a:off x="0" y="0"/>
            <a:ext cx="8001000" cy="6858000"/>
          </a:xfrm>
          <a:prstGeom prst="rtTriangle">
            <a:avLst/>
          </a:prstGeom>
          <a:blipFill rotWithShape="0">
            <a:blip r:embed="rId2">
              <a:alphaModFix amt="94000"/>
            </a:blip>
            <a:srcRect/>
            <a:tile tx="0" ty="0" sx="100000" sy="100000" algn="ctr"/>
          </a:blipFill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14400" y="4214880"/>
            <a:ext cx="642924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84807"/>
              </a:solidFill>
              <a:latin typeface="Arial"/>
              <a:ea typeface="Arial"/>
            </a:endParaRPr>
          </a:p>
        </p:txBody>
      </p:sp>
      <p:grpSp>
        <p:nvGrpSpPr>
          <p:cNvPr id="43" name="Прямоугольник 6"/>
          <p:cNvGrpSpPr/>
          <p:nvPr/>
        </p:nvGrpSpPr>
        <p:grpSpPr>
          <a:xfrm>
            <a:off x="507240" y="-347760"/>
            <a:ext cx="6915960" cy="7626600"/>
            <a:chOff x="507240" y="-347760"/>
            <a:chExt cx="6915960" cy="7626600"/>
          </a:xfrm>
        </p:grpSpPr>
        <p:pic>
          <p:nvPicPr>
            <p:cNvPr id="44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507240" y="-347760"/>
              <a:ext cx="6915960" cy="762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909400">
              <a:off x="3905640" y="-829080"/>
              <a:ext cx="119160" cy="85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TextBox 10"/>
          <p:cNvSpPr/>
          <p:nvPr/>
        </p:nvSpPr>
        <p:spPr>
          <a:xfrm rot="20815800">
            <a:off x="2741040" y="2422800"/>
            <a:ext cx="1447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ffc000"/>
                </a:solidFill>
                <a:latin typeface="Arial"/>
                <a:ea typeface="Arial"/>
              </a:rPr>
              <a:t>Д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0"/>
          <p:cNvSpPr/>
          <p:nvPr/>
        </p:nvSpPr>
        <p:spPr>
          <a:xfrm rot="20983800">
            <a:off x="766440" y="4186080"/>
            <a:ext cx="14655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f57913"/>
                </a:solidFill>
                <a:latin typeface="Arial"/>
                <a:ea typeface="Arial"/>
              </a:rPr>
              <a:t>А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0"/>
          <p:cNvSpPr/>
          <p:nvPr/>
        </p:nvSpPr>
        <p:spPr>
          <a:xfrm rot="20314200">
            <a:off x="5446440" y="633600"/>
            <a:ext cx="1459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 rot="21443400">
            <a:off x="1557720" y="3531960"/>
            <a:ext cx="1459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ff0000"/>
                </a:solidFill>
                <a:latin typeface="Arial"/>
                <a:ea typeface="Arial"/>
              </a:rPr>
              <a:t>Б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 rot="20736000">
            <a:off x="2404800" y="2935440"/>
            <a:ext cx="14655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0070c0"/>
                </a:solidFill>
                <a:latin typeface="Arial"/>
                <a:ea typeface="Arial"/>
              </a:rPr>
              <a:t>В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 rot="20803200">
            <a:off x="4025880" y="1535040"/>
            <a:ext cx="17884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77933c"/>
                </a:solidFill>
                <a:latin typeface="Arial"/>
                <a:ea typeface="Arial"/>
              </a:rPr>
              <a:t>Ж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0"/>
          <p:cNvSpPr/>
          <p:nvPr/>
        </p:nvSpPr>
        <p:spPr>
          <a:xfrm rot="21292200">
            <a:off x="3675960" y="2128320"/>
            <a:ext cx="13665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e46c0a"/>
                </a:solidFill>
                <a:latin typeface="Arial"/>
                <a:ea typeface="Arial"/>
              </a:rPr>
              <a:t>Е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 rot="21083400">
            <a:off x="4810320" y="1157400"/>
            <a:ext cx="12949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ffff00"/>
                </a:solidFill>
                <a:latin typeface="Arial"/>
                <a:ea typeface="Arial"/>
              </a:rPr>
              <a:t>З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H:\Documents and Settings\Aida\Рабочий стол\НОвая ГРАФИКА сборник\КАРТИНКИ СБОРНИК_ школьные\s46.gif"/>
          <p:cNvPicPr/>
          <p:nvPr/>
        </p:nvPicPr>
        <p:blipFill>
          <a:blip r:embed="rId4"/>
          <a:stretch/>
        </p:blipFill>
        <p:spPr>
          <a:xfrm>
            <a:off x="1143000" y="1428840"/>
            <a:ext cx="2028960" cy="13968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0"/>
          <p:cNvSpPr/>
          <p:nvPr/>
        </p:nvSpPr>
        <p:spPr>
          <a:xfrm>
            <a:off x="6143760" y="0"/>
            <a:ext cx="14364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00b0f0"/>
                </a:solidFill>
                <a:latin typeface="Arial"/>
                <a:ea typeface="Arial"/>
              </a:rPr>
              <a:t>К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 rot="20983800">
            <a:off x="318240" y="601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7913"/>
                </a:solidFill>
                <a:latin typeface="Arial"/>
                <a:ea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0"/>
          <p:cNvSpPr/>
          <p:nvPr/>
        </p:nvSpPr>
        <p:spPr>
          <a:xfrm rot="21443400">
            <a:off x="938880" y="436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2"/>
          <p:cNvSpPr/>
          <p:nvPr/>
        </p:nvSpPr>
        <p:spPr>
          <a:xfrm rot="20736000">
            <a:off x="1400760" y="466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 rot="20803200">
            <a:off x="2039400" y="6822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933c"/>
                </a:solidFill>
                <a:latin typeface="Arial"/>
                <a:ea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0"/>
          <p:cNvSpPr/>
          <p:nvPr/>
        </p:nvSpPr>
        <p:spPr>
          <a:xfrm rot="21083400">
            <a:off x="3170520" y="522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 rot="21292200">
            <a:off x="2587320" y="507960"/>
            <a:ext cx="1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Arial"/>
                <a:ea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3578400" y="20808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  <a:ea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7"/>
          <p:cNvSpPr/>
          <p:nvPr/>
        </p:nvSpPr>
        <p:spPr>
          <a:xfrm>
            <a:off x="6363000" y="0"/>
            <a:ext cx="118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84807"/>
                </a:solidFill>
                <a:latin typeface="Arial"/>
                <a:ea typeface="Arial"/>
              </a:rPr>
              <a:t>http://aida.ucoz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A1EA-1DE1-4888-AFC0-1C6D0F07C95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F3E2-B102-4E55-B3C7-B74A36B9B7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https://ds04.infourok.ru/uploads/ex/067c/000f6fcb-b8a26c8c/img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4"/>
          <p:cNvSpPr/>
          <p:nvPr/>
        </p:nvSpPr>
        <p:spPr>
          <a:xfrm>
            <a:off x="2143080" y="2857680"/>
            <a:ext cx="571680" cy="571320"/>
          </a:xfrm>
          <a:prstGeom prst="rect">
            <a:avLst/>
          </a:prstGeom>
          <a:solidFill>
            <a:srgbClr val="ffffff"/>
          </a:solidFill>
          <a:ln w="5724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5"/>
          <p:cNvSpPr/>
          <p:nvPr/>
        </p:nvSpPr>
        <p:spPr>
          <a:xfrm>
            <a:off x="4572000" y="2857680"/>
            <a:ext cx="571680" cy="571320"/>
          </a:xfrm>
          <a:prstGeom prst="rect">
            <a:avLst/>
          </a:prstGeom>
          <a:solidFill>
            <a:srgbClr val="ffffff"/>
          </a:solidFill>
          <a:ln w="5724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7"/>
          <p:cNvSpPr/>
          <p:nvPr/>
        </p:nvSpPr>
        <p:spPr>
          <a:xfrm>
            <a:off x="6572160" y="2928960"/>
            <a:ext cx="571680" cy="571320"/>
          </a:xfrm>
          <a:prstGeom prst="rect">
            <a:avLst/>
          </a:prstGeom>
          <a:solidFill>
            <a:srgbClr val="ffffff"/>
          </a:solidFill>
          <a:ln w="5724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Прямоугольник 8" descr=""/>
          <p:cNvPicPr/>
          <p:nvPr/>
        </p:nvPicPr>
        <p:blipFill>
          <a:blip r:embed="rId2"/>
          <a:stretch/>
        </p:blipFill>
        <p:spPr>
          <a:xfrm>
            <a:off x="4572000" y="2646360"/>
            <a:ext cx="530280" cy="919080"/>
          </a:xfrm>
          <a:prstGeom prst="rect">
            <a:avLst/>
          </a:prstGeom>
          <a:ln w="0">
            <a:noFill/>
          </a:ln>
        </p:spPr>
      </p:pic>
      <p:pic>
        <p:nvPicPr>
          <p:cNvPr id="124" name="Прямоугольник 9" descr=""/>
          <p:cNvPicPr/>
          <p:nvPr/>
        </p:nvPicPr>
        <p:blipFill>
          <a:blip r:embed="rId3"/>
          <a:stretch/>
        </p:blipFill>
        <p:spPr>
          <a:xfrm>
            <a:off x="2146320" y="2712960"/>
            <a:ext cx="566640" cy="925560"/>
          </a:xfrm>
          <a:prstGeom prst="rect">
            <a:avLst/>
          </a:prstGeom>
          <a:ln w="0">
            <a:noFill/>
          </a:ln>
        </p:spPr>
      </p:pic>
      <p:pic>
        <p:nvPicPr>
          <p:cNvPr id="125" name="Прямоугольник 10" descr=""/>
          <p:cNvPicPr/>
          <p:nvPr/>
        </p:nvPicPr>
        <p:blipFill>
          <a:blip r:embed="rId4"/>
          <a:stretch/>
        </p:blipFill>
        <p:spPr>
          <a:xfrm>
            <a:off x="6572160" y="2786040"/>
            <a:ext cx="57168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ОСИННИ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ЛУННЫЙ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ПОДДЕРЖ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0740-2F38-4148-B5DD-36DE042AE79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3870-3DD6-4E1B-9AC3-8827401469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олилиния 5"/>
          <p:cNvSpPr/>
          <p:nvPr/>
        </p:nvSpPr>
        <p:spPr>
          <a:xfrm>
            <a:off x="1000080" y="1571760"/>
            <a:ext cx="1643040" cy="428400"/>
          </a:xfrm>
          <a:custGeom>
            <a:avLst/>
            <a:gdLst/>
            <a:ahLst/>
            <a:rect l="l" t="t" r="r" b="b"/>
            <a:pathLst>
              <a:path w="1643063" h="428625">
                <a:moveTo>
                  <a:pt x="0" y="428625"/>
                </a:moveTo>
                <a:cubicBezTo>
                  <a:pt x="4763" y="414338"/>
                  <a:pt x="2033" y="394517"/>
                  <a:pt x="14288" y="385763"/>
                </a:cubicBezTo>
                <a:cubicBezTo>
                  <a:pt x="38798" y="368256"/>
                  <a:pt x="100013" y="357188"/>
                  <a:pt x="100013" y="357188"/>
                </a:cubicBezTo>
                <a:cubicBezTo>
                  <a:pt x="114300" y="347663"/>
                  <a:pt x="127517" y="336292"/>
                  <a:pt x="142875" y="328613"/>
                </a:cubicBezTo>
                <a:cubicBezTo>
                  <a:pt x="156346" y="321878"/>
                  <a:pt x="172573" y="321639"/>
                  <a:pt x="185738" y="314325"/>
                </a:cubicBezTo>
                <a:cubicBezTo>
                  <a:pt x="215759" y="297647"/>
                  <a:pt x="242888" y="276225"/>
                  <a:pt x="271463" y="257175"/>
                </a:cubicBezTo>
                <a:lnTo>
                  <a:pt x="357188" y="200025"/>
                </a:lnTo>
                <a:lnTo>
                  <a:pt x="442913" y="142875"/>
                </a:lnTo>
                <a:cubicBezTo>
                  <a:pt x="471488" y="133350"/>
                  <a:pt x="503576" y="131008"/>
                  <a:pt x="528638" y="114300"/>
                </a:cubicBezTo>
                <a:cubicBezTo>
                  <a:pt x="542925" y="104775"/>
                  <a:pt x="555809" y="92699"/>
                  <a:pt x="571500" y="85725"/>
                </a:cubicBezTo>
                <a:cubicBezTo>
                  <a:pt x="599025" y="73492"/>
                  <a:pt x="628650" y="66675"/>
                  <a:pt x="657225" y="57150"/>
                </a:cubicBezTo>
                <a:lnTo>
                  <a:pt x="700088" y="42863"/>
                </a:lnTo>
                <a:cubicBezTo>
                  <a:pt x="714375" y="38101"/>
                  <a:pt x="728095" y="31051"/>
                  <a:pt x="742950" y="28575"/>
                </a:cubicBezTo>
                <a:lnTo>
                  <a:pt x="828675" y="14288"/>
                </a:lnTo>
                <a:cubicBezTo>
                  <a:pt x="842963" y="9525"/>
                  <a:pt x="856477" y="0"/>
                  <a:pt x="871538" y="0"/>
                </a:cubicBezTo>
                <a:cubicBezTo>
                  <a:pt x="1003534" y="0"/>
                  <a:pt x="948332" y="8483"/>
                  <a:pt x="1028700" y="28575"/>
                </a:cubicBezTo>
                <a:cubicBezTo>
                  <a:pt x="1052259" y="34465"/>
                  <a:pt x="1076709" y="36473"/>
                  <a:pt x="1100138" y="42863"/>
                </a:cubicBezTo>
                <a:cubicBezTo>
                  <a:pt x="1129197" y="50788"/>
                  <a:pt x="1160801" y="54730"/>
                  <a:pt x="1185863" y="71438"/>
                </a:cubicBezTo>
                <a:cubicBezTo>
                  <a:pt x="1241256" y="108367"/>
                  <a:pt x="1212435" y="94583"/>
                  <a:pt x="1271588" y="114300"/>
                </a:cubicBezTo>
                <a:cubicBezTo>
                  <a:pt x="1285875" y="123825"/>
                  <a:pt x="1299092" y="135196"/>
                  <a:pt x="1314450" y="142875"/>
                </a:cubicBezTo>
                <a:cubicBezTo>
                  <a:pt x="1327921" y="149610"/>
                  <a:pt x="1345553" y="147755"/>
                  <a:pt x="1357313" y="157163"/>
                </a:cubicBezTo>
                <a:cubicBezTo>
                  <a:pt x="1449637" y="231022"/>
                  <a:pt x="1321013" y="178399"/>
                  <a:pt x="1428750" y="214313"/>
                </a:cubicBezTo>
                <a:cubicBezTo>
                  <a:pt x="1443038" y="228600"/>
                  <a:pt x="1454801" y="245967"/>
                  <a:pt x="1471613" y="257175"/>
                </a:cubicBezTo>
                <a:cubicBezTo>
                  <a:pt x="1484144" y="265529"/>
                  <a:pt x="1502715" y="262055"/>
                  <a:pt x="1514475" y="271463"/>
                </a:cubicBezTo>
                <a:cubicBezTo>
                  <a:pt x="1606796" y="345321"/>
                  <a:pt x="1478177" y="292700"/>
                  <a:pt x="1585913" y="328613"/>
                </a:cubicBezTo>
                <a:cubicBezTo>
                  <a:pt x="1590675" y="342900"/>
                  <a:pt x="1590792" y="359715"/>
                  <a:pt x="1600200" y="371475"/>
                </a:cubicBezTo>
                <a:cubicBezTo>
                  <a:pt x="1610927" y="384884"/>
                  <a:pt x="1643063" y="400050"/>
                  <a:pt x="1643063" y="40005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олилиния 6"/>
          <p:cNvSpPr/>
          <p:nvPr/>
        </p:nvSpPr>
        <p:spPr>
          <a:xfrm>
            <a:off x="714240" y="2643120"/>
            <a:ext cx="1428840" cy="428760"/>
          </a:xfrm>
          <a:custGeom>
            <a:avLst/>
            <a:gdLst/>
            <a:ahLst/>
            <a:rect l="l" t="t" r="r" b="b"/>
            <a:pathLst>
              <a:path w="1643063" h="428625">
                <a:moveTo>
                  <a:pt x="0" y="428625"/>
                </a:moveTo>
                <a:cubicBezTo>
                  <a:pt x="4763" y="414338"/>
                  <a:pt x="2033" y="394517"/>
                  <a:pt x="14288" y="385763"/>
                </a:cubicBezTo>
                <a:cubicBezTo>
                  <a:pt x="38798" y="368256"/>
                  <a:pt x="100013" y="357188"/>
                  <a:pt x="100013" y="357188"/>
                </a:cubicBezTo>
                <a:cubicBezTo>
                  <a:pt x="114300" y="347663"/>
                  <a:pt x="127517" y="336292"/>
                  <a:pt x="142875" y="328613"/>
                </a:cubicBezTo>
                <a:cubicBezTo>
                  <a:pt x="156346" y="321878"/>
                  <a:pt x="172573" y="321639"/>
                  <a:pt x="185738" y="314325"/>
                </a:cubicBezTo>
                <a:cubicBezTo>
                  <a:pt x="215759" y="297647"/>
                  <a:pt x="242888" y="276225"/>
                  <a:pt x="271463" y="257175"/>
                </a:cubicBezTo>
                <a:lnTo>
                  <a:pt x="357188" y="200025"/>
                </a:lnTo>
                <a:lnTo>
                  <a:pt x="442913" y="142875"/>
                </a:lnTo>
                <a:cubicBezTo>
                  <a:pt x="471488" y="133350"/>
                  <a:pt x="503576" y="131008"/>
                  <a:pt x="528638" y="114300"/>
                </a:cubicBezTo>
                <a:cubicBezTo>
                  <a:pt x="542925" y="104775"/>
                  <a:pt x="555809" y="92699"/>
                  <a:pt x="571500" y="85725"/>
                </a:cubicBezTo>
                <a:cubicBezTo>
                  <a:pt x="599025" y="73492"/>
                  <a:pt x="628650" y="66675"/>
                  <a:pt x="657225" y="57150"/>
                </a:cubicBezTo>
                <a:lnTo>
                  <a:pt x="700088" y="42863"/>
                </a:lnTo>
                <a:cubicBezTo>
                  <a:pt x="714375" y="38101"/>
                  <a:pt x="728095" y="31051"/>
                  <a:pt x="742950" y="28575"/>
                </a:cubicBezTo>
                <a:lnTo>
                  <a:pt x="828675" y="14288"/>
                </a:lnTo>
                <a:cubicBezTo>
                  <a:pt x="842963" y="9525"/>
                  <a:pt x="856477" y="0"/>
                  <a:pt x="871538" y="0"/>
                </a:cubicBezTo>
                <a:cubicBezTo>
                  <a:pt x="1003534" y="0"/>
                  <a:pt x="948332" y="8483"/>
                  <a:pt x="1028700" y="28575"/>
                </a:cubicBezTo>
                <a:cubicBezTo>
                  <a:pt x="1052259" y="34465"/>
                  <a:pt x="1076709" y="36473"/>
                  <a:pt x="1100138" y="42863"/>
                </a:cubicBezTo>
                <a:cubicBezTo>
                  <a:pt x="1129197" y="50788"/>
                  <a:pt x="1160801" y="54730"/>
                  <a:pt x="1185863" y="71438"/>
                </a:cubicBezTo>
                <a:cubicBezTo>
                  <a:pt x="1241256" y="108367"/>
                  <a:pt x="1212435" y="94583"/>
                  <a:pt x="1271588" y="114300"/>
                </a:cubicBezTo>
                <a:cubicBezTo>
                  <a:pt x="1285875" y="123825"/>
                  <a:pt x="1299092" y="135196"/>
                  <a:pt x="1314450" y="142875"/>
                </a:cubicBezTo>
                <a:cubicBezTo>
                  <a:pt x="1327921" y="149610"/>
                  <a:pt x="1345553" y="147755"/>
                  <a:pt x="1357313" y="157163"/>
                </a:cubicBezTo>
                <a:cubicBezTo>
                  <a:pt x="1449637" y="231022"/>
                  <a:pt x="1321013" y="178399"/>
                  <a:pt x="1428750" y="214313"/>
                </a:cubicBezTo>
                <a:cubicBezTo>
                  <a:pt x="1443038" y="228600"/>
                  <a:pt x="1454801" y="245967"/>
                  <a:pt x="1471613" y="257175"/>
                </a:cubicBezTo>
                <a:cubicBezTo>
                  <a:pt x="1484144" y="265529"/>
                  <a:pt x="1502715" y="262055"/>
                  <a:pt x="1514475" y="271463"/>
                </a:cubicBezTo>
                <a:cubicBezTo>
                  <a:pt x="1606796" y="345321"/>
                  <a:pt x="1478177" y="292700"/>
                  <a:pt x="1585913" y="328613"/>
                </a:cubicBezTo>
                <a:cubicBezTo>
                  <a:pt x="1590675" y="342900"/>
                  <a:pt x="1590792" y="359715"/>
                  <a:pt x="1600200" y="371475"/>
                </a:cubicBezTo>
                <a:cubicBezTo>
                  <a:pt x="1610927" y="384884"/>
                  <a:pt x="1643063" y="400050"/>
                  <a:pt x="1643063" y="40005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олилиния 7"/>
          <p:cNvSpPr/>
          <p:nvPr/>
        </p:nvSpPr>
        <p:spPr>
          <a:xfrm>
            <a:off x="2286000" y="3500280"/>
            <a:ext cx="1643040" cy="428760"/>
          </a:xfrm>
          <a:custGeom>
            <a:avLst/>
            <a:gdLst/>
            <a:ahLst/>
            <a:rect l="l" t="t" r="r" b="b"/>
            <a:pathLst>
              <a:path w="1643063" h="428625">
                <a:moveTo>
                  <a:pt x="0" y="428625"/>
                </a:moveTo>
                <a:cubicBezTo>
                  <a:pt x="4763" y="414338"/>
                  <a:pt x="2033" y="394517"/>
                  <a:pt x="14288" y="385763"/>
                </a:cubicBezTo>
                <a:cubicBezTo>
                  <a:pt x="38798" y="368256"/>
                  <a:pt x="100013" y="357188"/>
                  <a:pt x="100013" y="357188"/>
                </a:cubicBezTo>
                <a:cubicBezTo>
                  <a:pt x="114300" y="347663"/>
                  <a:pt x="127517" y="336292"/>
                  <a:pt x="142875" y="328613"/>
                </a:cubicBezTo>
                <a:cubicBezTo>
                  <a:pt x="156346" y="321878"/>
                  <a:pt x="172573" y="321639"/>
                  <a:pt x="185738" y="314325"/>
                </a:cubicBezTo>
                <a:cubicBezTo>
                  <a:pt x="215759" y="297647"/>
                  <a:pt x="242888" y="276225"/>
                  <a:pt x="271463" y="257175"/>
                </a:cubicBezTo>
                <a:lnTo>
                  <a:pt x="357188" y="200025"/>
                </a:lnTo>
                <a:lnTo>
                  <a:pt x="442913" y="142875"/>
                </a:lnTo>
                <a:cubicBezTo>
                  <a:pt x="471488" y="133350"/>
                  <a:pt x="503576" y="131008"/>
                  <a:pt x="528638" y="114300"/>
                </a:cubicBezTo>
                <a:cubicBezTo>
                  <a:pt x="542925" y="104775"/>
                  <a:pt x="555809" y="92699"/>
                  <a:pt x="571500" y="85725"/>
                </a:cubicBezTo>
                <a:cubicBezTo>
                  <a:pt x="599025" y="73492"/>
                  <a:pt x="628650" y="66675"/>
                  <a:pt x="657225" y="57150"/>
                </a:cubicBezTo>
                <a:lnTo>
                  <a:pt x="700088" y="42863"/>
                </a:lnTo>
                <a:cubicBezTo>
                  <a:pt x="714375" y="38101"/>
                  <a:pt x="728095" y="31051"/>
                  <a:pt x="742950" y="28575"/>
                </a:cubicBezTo>
                <a:lnTo>
                  <a:pt x="828675" y="14288"/>
                </a:lnTo>
                <a:cubicBezTo>
                  <a:pt x="842963" y="9525"/>
                  <a:pt x="856477" y="0"/>
                  <a:pt x="871538" y="0"/>
                </a:cubicBezTo>
                <a:cubicBezTo>
                  <a:pt x="1003534" y="0"/>
                  <a:pt x="948332" y="8483"/>
                  <a:pt x="1028700" y="28575"/>
                </a:cubicBezTo>
                <a:cubicBezTo>
                  <a:pt x="1052259" y="34465"/>
                  <a:pt x="1076709" y="36473"/>
                  <a:pt x="1100138" y="42863"/>
                </a:cubicBezTo>
                <a:cubicBezTo>
                  <a:pt x="1129197" y="50788"/>
                  <a:pt x="1160801" y="54730"/>
                  <a:pt x="1185863" y="71438"/>
                </a:cubicBezTo>
                <a:cubicBezTo>
                  <a:pt x="1241256" y="108367"/>
                  <a:pt x="1212435" y="94583"/>
                  <a:pt x="1271588" y="114300"/>
                </a:cubicBezTo>
                <a:cubicBezTo>
                  <a:pt x="1285875" y="123825"/>
                  <a:pt x="1299092" y="135196"/>
                  <a:pt x="1314450" y="142875"/>
                </a:cubicBezTo>
                <a:cubicBezTo>
                  <a:pt x="1327921" y="149610"/>
                  <a:pt x="1345553" y="147755"/>
                  <a:pt x="1357313" y="157163"/>
                </a:cubicBezTo>
                <a:cubicBezTo>
                  <a:pt x="1449637" y="231022"/>
                  <a:pt x="1321013" y="178399"/>
                  <a:pt x="1428750" y="214313"/>
                </a:cubicBezTo>
                <a:cubicBezTo>
                  <a:pt x="1443038" y="228600"/>
                  <a:pt x="1454801" y="245967"/>
                  <a:pt x="1471613" y="257175"/>
                </a:cubicBezTo>
                <a:cubicBezTo>
                  <a:pt x="1484144" y="265529"/>
                  <a:pt x="1502715" y="262055"/>
                  <a:pt x="1514475" y="271463"/>
                </a:cubicBezTo>
                <a:cubicBezTo>
                  <a:pt x="1606796" y="345321"/>
                  <a:pt x="1478177" y="292700"/>
                  <a:pt x="1585913" y="328613"/>
                </a:cubicBezTo>
                <a:cubicBezTo>
                  <a:pt x="1590675" y="342900"/>
                  <a:pt x="1590792" y="359715"/>
                  <a:pt x="1600200" y="371475"/>
                </a:cubicBezTo>
                <a:cubicBezTo>
                  <a:pt x="1610927" y="384884"/>
                  <a:pt x="1643063" y="400050"/>
                  <a:pt x="1643063" y="40005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олилиния 9"/>
          <p:cNvSpPr/>
          <p:nvPr/>
        </p:nvSpPr>
        <p:spPr>
          <a:xfrm>
            <a:off x="2643120" y="1500120"/>
            <a:ext cx="1071720" cy="474840"/>
          </a:xfrm>
          <a:custGeom>
            <a:avLst/>
            <a:gdLst/>
            <a:ahLst/>
            <a:rect l="l" t="t" r="r" b="b"/>
            <a:pathLst>
              <a:path w="1071562" h="474804">
                <a:moveTo>
                  <a:pt x="0" y="417654"/>
                </a:moveTo>
                <a:cubicBezTo>
                  <a:pt x="36281" y="381372"/>
                  <a:pt x="41962" y="370087"/>
                  <a:pt x="85725" y="346216"/>
                </a:cubicBezTo>
                <a:cubicBezTo>
                  <a:pt x="123121" y="325818"/>
                  <a:pt x="200025" y="289066"/>
                  <a:pt x="200025" y="289066"/>
                </a:cubicBezTo>
                <a:cubicBezTo>
                  <a:pt x="209550" y="274779"/>
                  <a:pt x="216458" y="258346"/>
                  <a:pt x="228600" y="246204"/>
                </a:cubicBezTo>
                <a:cubicBezTo>
                  <a:pt x="240742" y="234062"/>
                  <a:pt x="257489" y="227610"/>
                  <a:pt x="271462" y="217629"/>
                </a:cubicBezTo>
                <a:cubicBezTo>
                  <a:pt x="347147" y="163567"/>
                  <a:pt x="301919" y="183663"/>
                  <a:pt x="371475" y="160479"/>
                </a:cubicBezTo>
                <a:cubicBezTo>
                  <a:pt x="385762" y="146191"/>
                  <a:pt x="397895" y="129360"/>
                  <a:pt x="414337" y="117616"/>
                </a:cubicBezTo>
                <a:cubicBezTo>
                  <a:pt x="445234" y="95546"/>
                  <a:pt x="479370" y="86413"/>
                  <a:pt x="514350" y="74754"/>
                </a:cubicBezTo>
                <a:cubicBezTo>
                  <a:pt x="518642" y="70462"/>
                  <a:pt x="583497" y="0"/>
                  <a:pt x="600075" y="3316"/>
                </a:cubicBezTo>
                <a:cubicBezTo>
                  <a:pt x="616913" y="6684"/>
                  <a:pt x="615241" y="35452"/>
                  <a:pt x="628650" y="46179"/>
                </a:cubicBezTo>
                <a:cubicBezTo>
                  <a:pt x="640410" y="55587"/>
                  <a:pt x="657225" y="55704"/>
                  <a:pt x="671512" y="60466"/>
                </a:cubicBezTo>
                <a:cubicBezTo>
                  <a:pt x="676275" y="74754"/>
                  <a:pt x="675151" y="92680"/>
                  <a:pt x="685800" y="103329"/>
                </a:cubicBezTo>
                <a:cubicBezTo>
                  <a:pt x="710084" y="127613"/>
                  <a:pt x="771525" y="160479"/>
                  <a:pt x="771525" y="160479"/>
                </a:cubicBezTo>
                <a:cubicBezTo>
                  <a:pt x="838200" y="260491"/>
                  <a:pt x="800100" y="227154"/>
                  <a:pt x="871537" y="274779"/>
                </a:cubicBezTo>
                <a:cubicBezTo>
                  <a:pt x="923926" y="353362"/>
                  <a:pt x="871535" y="286682"/>
                  <a:pt x="942975" y="346216"/>
                </a:cubicBezTo>
                <a:cubicBezTo>
                  <a:pt x="1052984" y="437891"/>
                  <a:pt x="922279" y="346707"/>
                  <a:pt x="1028700" y="417654"/>
                </a:cubicBezTo>
                <a:cubicBezTo>
                  <a:pt x="1061011" y="466120"/>
                  <a:pt x="1045133" y="448374"/>
                  <a:pt x="1071562" y="47480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олилиния 10"/>
          <p:cNvSpPr/>
          <p:nvPr/>
        </p:nvSpPr>
        <p:spPr>
          <a:xfrm>
            <a:off x="2071800" y="2500200"/>
            <a:ext cx="428400" cy="428760"/>
          </a:xfrm>
          <a:custGeom>
            <a:avLst/>
            <a:gdLst/>
            <a:ahLst/>
            <a:rect l="l" t="t" r="r" b="b"/>
            <a:pathLst>
              <a:path w="1071562" h="474804">
                <a:moveTo>
                  <a:pt x="0" y="417654"/>
                </a:moveTo>
                <a:cubicBezTo>
                  <a:pt x="36281" y="381372"/>
                  <a:pt x="41962" y="370087"/>
                  <a:pt x="85725" y="346216"/>
                </a:cubicBezTo>
                <a:cubicBezTo>
                  <a:pt x="123121" y="325818"/>
                  <a:pt x="200025" y="289066"/>
                  <a:pt x="200025" y="289066"/>
                </a:cubicBezTo>
                <a:cubicBezTo>
                  <a:pt x="209550" y="274779"/>
                  <a:pt x="216458" y="258346"/>
                  <a:pt x="228600" y="246204"/>
                </a:cubicBezTo>
                <a:cubicBezTo>
                  <a:pt x="240742" y="234062"/>
                  <a:pt x="257489" y="227610"/>
                  <a:pt x="271462" y="217629"/>
                </a:cubicBezTo>
                <a:cubicBezTo>
                  <a:pt x="347147" y="163567"/>
                  <a:pt x="301919" y="183663"/>
                  <a:pt x="371475" y="160479"/>
                </a:cubicBezTo>
                <a:cubicBezTo>
                  <a:pt x="385762" y="146191"/>
                  <a:pt x="397895" y="129360"/>
                  <a:pt x="414337" y="117616"/>
                </a:cubicBezTo>
                <a:cubicBezTo>
                  <a:pt x="445234" y="95546"/>
                  <a:pt x="479370" y="86413"/>
                  <a:pt x="514350" y="74754"/>
                </a:cubicBezTo>
                <a:cubicBezTo>
                  <a:pt x="518642" y="70462"/>
                  <a:pt x="583497" y="0"/>
                  <a:pt x="600075" y="3316"/>
                </a:cubicBezTo>
                <a:cubicBezTo>
                  <a:pt x="616913" y="6684"/>
                  <a:pt x="615241" y="35452"/>
                  <a:pt x="628650" y="46179"/>
                </a:cubicBezTo>
                <a:cubicBezTo>
                  <a:pt x="640410" y="55587"/>
                  <a:pt x="657225" y="55704"/>
                  <a:pt x="671512" y="60466"/>
                </a:cubicBezTo>
                <a:cubicBezTo>
                  <a:pt x="676275" y="74754"/>
                  <a:pt x="675151" y="92680"/>
                  <a:pt x="685800" y="103329"/>
                </a:cubicBezTo>
                <a:cubicBezTo>
                  <a:pt x="710084" y="127613"/>
                  <a:pt x="771525" y="160479"/>
                  <a:pt x="771525" y="160479"/>
                </a:cubicBezTo>
                <a:cubicBezTo>
                  <a:pt x="838200" y="260491"/>
                  <a:pt x="800100" y="227154"/>
                  <a:pt x="871537" y="274779"/>
                </a:cubicBezTo>
                <a:cubicBezTo>
                  <a:pt x="923926" y="353362"/>
                  <a:pt x="871535" y="286682"/>
                  <a:pt x="942975" y="346216"/>
                </a:cubicBezTo>
                <a:cubicBezTo>
                  <a:pt x="1052984" y="437891"/>
                  <a:pt x="922279" y="346707"/>
                  <a:pt x="1028700" y="417654"/>
                </a:cubicBezTo>
                <a:cubicBezTo>
                  <a:pt x="1061011" y="466120"/>
                  <a:pt x="1045133" y="448374"/>
                  <a:pt x="1071562" y="47480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олилиния 11"/>
          <p:cNvSpPr/>
          <p:nvPr/>
        </p:nvSpPr>
        <p:spPr>
          <a:xfrm>
            <a:off x="3857760" y="3571920"/>
            <a:ext cx="428400" cy="428760"/>
          </a:xfrm>
          <a:custGeom>
            <a:avLst/>
            <a:gdLst/>
            <a:ahLst/>
            <a:rect l="l" t="t" r="r" b="b"/>
            <a:pathLst>
              <a:path w="1071562" h="474804">
                <a:moveTo>
                  <a:pt x="0" y="417654"/>
                </a:moveTo>
                <a:cubicBezTo>
                  <a:pt x="36281" y="381372"/>
                  <a:pt x="41962" y="370087"/>
                  <a:pt x="85725" y="346216"/>
                </a:cubicBezTo>
                <a:cubicBezTo>
                  <a:pt x="123121" y="325818"/>
                  <a:pt x="200025" y="289066"/>
                  <a:pt x="200025" y="289066"/>
                </a:cubicBezTo>
                <a:cubicBezTo>
                  <a:pt x="209550" y="274779"/>
                  <a:pt x="216458" y="258346"/>
                  <a:pt x="228600" y="246204"/>
                </a:cubicBezTo>
                <a:cubicBezTo>
                  <a:pt x="240742" y="234062"/>
                  <a:pt x="257489" y="227610"/>
                  <a:pt x="271462" y="217629"/>
                </a:cubicBezTo>
                <a:cubicBezTo>
                  <a:pt x="347147" y="163567"/>
                  <a:pt x="301919" y="183663"/>
                  <a:pt x="371475" y="160479"/>
                </a:cubicBezTo>
                <a:cubicBezTo>
                  <a:pt x="385762" y="146191"/>
                  <a:pt x="397895" y="129360"/>
                  <a:pt x="414337" y="117616"/>
                </a:cubicBezTo>
                <a:cubicBezTo>
                  <a:pt x="445234" y="95546"/>
                  <a:pt x="479370" y="86413"/>
                  <a:pt x="514350" y="74754"/>
                </a:cubicBezTo>
                <a:cubicBezTo>
                  <a:pt x="518642" y="70462"/>
                  <a:pt x="583497" y="0"/>
                  <a:pt x="600075" y="3316"/>
                </a:cubicBezTo>
                <a:cubicBezTo>
                  <a:pt x="616913" y="6684"/>
                  <a:pt x="615241" y="35452"/>
                  <a:pt x="628650" y="46179"/>
                </a:cubicBezTo>
                <a:cubicBezTo>
                  <a:pt x="640410" y="55587"/>
                  <a:pt x="657225" y="55704"/>
                  <a:pt x="671512" y="60466"/>
                </a:cubicBezTo>
                <a:cubicBezTo>
                  <a:pt x="676275" y="74754"/>
                  <a:pt x="675151" y="92680"/>
                  <a:pt x="685800" y="103329"/>
                </a:cubicBezTo>
                <a:cubicBezTo>
                  <a:pt x="710084" y="127613"/>
                  <a:pt x="771525" y="160479"/>
                  <a:pt x="771525" y="160479"/>
                </a:cubicBezTo>
                <a:cubicBezTo>
                  <a:pt x="838200" y="260491"/>
                  <a:pt x="800100" y="227154"/>
                  <a:pt x="871537" y="274779"/>
                </a:cubicBezTo>
                <a:cubicBezTo>
                  <a:pt x="923926" y="353362"/>
                  <a:pt x="871535" y="286682"/>
                  <a:pt x="942975" y="346216"/>
                </a:cubicBezTo>
                <a:cubicBezTo>
                  <a:pt x="1052984" y="437891"/>
                  <a:pt x="922279" y="346707"/>
                  <a:pt x="1028700" y="417654"/>
                </a:cubicBezTo>
                <a:cubicBezTo>
                  <a:pt x="1061011" y="466120"/>
                  <a:pt x="1045133" y="448374"/>
                  <a:pt x="1071562" y="47480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Рамка 13"/>
          <p:cNvSpPr/>
          <p:nvPr/>
        </p:nvSpPr>
        <p:spPr>
          <a:xfrm>
            <a:off x="4286160" y="3857760"/>
            <a:ext cx="428760" cy="571320"/>
          </a:xfrm>
          <a:custGeom>
            <a:avLst/>
            <a:gdLst/>
            <a:ahLst/>
            <a:rect l="l" t="t" r="r" b="b"/>
            <a:pathLst>
              <a:path w="428625" h="571500">
                <a:moveTo>
                  <a:pt x="0" y="0"/>
                </a:moveTo>
                <a:lnTo>
                  <a:pt x="428625" y="0"/>
                </a:lnTo>
                <a:lnTo>
                  <a:pt x="428625" y="571500"/>
                </a:lnTo>
                <a:lnTo>
                  <a:pt x="0" y="571500"/>
                </a:lnTo>
                <a:lnTo>
                  <a:pt x="0" y="0"/>
                </a:lnTo>
                <a:close/>
                <a:moveTo>
                  <a:pt x="10716" y="10716"/>
                </a:moveTo>
                <a:lnTo>
                  <a:pt x="10716" y="560784"/>
                </a:lnTo>
                <a:lnTo>
                  <a:pt x="417909" y="560784"/>
                </a:lnTo>
                <a:lnTo>
                  <a:pt x="417909" y="10716"/>
                </a:lnTo>
                <a:lnTo>
                  <a:pt x="10716" y="10716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Рамка 14"/>
          <p:cNvSpPr/>
          <p:nvPr/>
        </p:nvSpPr>
        <p:spPr>
          <a:xfrm>
            <a:off x="3857760" y="1928880"/>
            <a:ext cx="571320" cy="571320"/>
          </a:xfrm>
          <a:custGeom>
            <a:avLst/>
            <a:gdLst/>
            <a:ahLst/>
            <a:rect l="l" t="t" r="r" b="b"/>
            <a:pathLst>
              <a:path w="571500" h="571500">
                <a:moveTo>
                  <a:pt x="0" y="0"/>
                </a:moveTo>
                <a:lnTo>
                  <a:pt x="571500" y="0"/>
                </a:lnTo>
                <a:lnTo>
                  <a:pt x="571500" y="571500"/>
                </a:lnTo>
                <a:lnTo>
                  <a:pt x="0" y="571500"/>
                </a:lnTo>
                <a:lnTo>
                  <a:pt x="0" y="0"/>
                </a:lnTo>
                <a:close/>
                <a:moveTo>
                  <a:pt x="14288" y="14288"/>
                </a:moveTo>
                <a:lnTo>
                  <a:pt x="14288" y="557213"/>
                </a:lnTo>
                <a:lnTo>
                  <a:pt x="557213" y="557213"/>
                </a:lnTo>
                <a:lnTo>
                  <a:pt x="557213" y="14288"/>
                </a:lnTo>
                <a:lnTo>
                  <a:pt x="14288" y="14288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Рамка 15"/>
          <p:cNvSpPr/>
          <p:nvPr/>
        </p:nvSpPr>
        <p:spPr>
          <a:xfrm>
            <a:off x="2571840" y="2857680"/>
            <a:ext cx="1000080" cy="571320"/>
          </a:xfrm>
          <a:custGeom>
            <a:avLst/>
            <a:gdLst/>
            <a:ahLst/>
            <a:rect l="l" t="t" r="r" b="b"/>
            <a:pathLst>
              <a:path w="1000125" h="571500">
                <a:moveTo>
                  <a:pt x="0" y="0"/>
                </a:moveTo>
                <a:lnTo>
                  <a:pt x="1000125" y="0"/>
                </a:lnTo>
                <a:lnTo>
                  <a:pt x="1000125" y="571500"/>
                </a:lnTo>
                <a:lnTo>
                  <a:pt x="0" y="571500"/>
                </a:lnTo>
                <a:lnTo>
                  <a:pt x="0" y="0"/>
                </a:lnTo>
                <a:close/>
                <a:moveTo>
                  <a:pt x="14288" y="14288"/>
                </a:moveTo>
                <a:lnTo>
                  <a:pt x="14288" y="557213"/>
                </a:lnTo>
                <a:lnTo>
                  <a:pt x="985838" y="557213"/>
                </a:lnTo>
                <a:lnTo>
                  <a:pt x="985838" y="14288"/>
                </a:lnTo>
                <a:lnTo>
                  <a:pt x="14288" y="14288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19"/>
          <p:cNvSpPr/>
          <p:nvPr/>
        </p:nvSpPr>
        <p:spPr>
          <a:xfrm>
            <a:off x="928800" y="3786120"/>
            <a:ext cx="1214280" cy="1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олилиния 20"/>
          <p:cNvSpPr/>
          <p:nvPr/>
        </p:nvSpPr>
        <p:spPr>
          <a:xfrm>
            <a:off x="2143080" y="3786120"/>
            <a:ext cx="65160" cy="243000"/>
          </a:xfrm>
          <a:custGeom>
            <a:avLst/>
            <a:gdLst/>
            <a:ahLst/>
            <a:rect l="l" t="t" r="r" b="b"/>
            <a:pathLst>
              <a:path w="65559" h="242888">
                <a:moveTo>
                  <a:pt x="0" y="0"/>
                </a:moveTo>
                <a:cubicBezTo>
                  <a:pt x="65559" y="98340"/>
                  <a:pt x="28575" y="25691"/>
                  <a:pt x="28575" y="242888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22"/>
          <p:cNvSpPr/>
          <p:nvPr/>
        </p:nvSpPr>
        <p:spPr>
          <a:xfrm>
            <a:off x="928800" y="2428920"/>
            <a:ext cx="2857320" cy="1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26"/>
          <p:cNvSpPr/>
          <p:nvPr/>
        </p:nvSpPr>
        <p:spPr>
          <a:xfrm>
            <a:off x="928800" y="2214720"/>
            <a:ext cx="0" cy="214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ая соединительная линия 31"/>
          <p:cNvSpPr/>
          <p:nvPr/>
        </p:nvSpPr>
        <p:spPr>
          <a:xfrm flipH="1">
            <a:off x="3785760" y="2214720"/>
            <a:ext cx="1800" cy="214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ая соединительная линия 32"/>
          <p:cNvSpPr/>
          <p:nvPr/>
        </p:nvSpPr>
        <p:spPr>
          <a:xfrm flipH="1">
            <a:off x="928800" y="3214800"/>
            <a:ext cx="1440" cy="2854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33"/>
          <p:cNvSpPr/>
          <p:nvPr/>
        </p:nvSpPr>
        <p:spPr>
          <a:xfrm flipH="1">
            <a:off x="2499840" y="3214800"/>
            <a:ext cx="1800" cy="2854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34"/>
          <p:cNvSpPr/>
          <p:nvPr/>
        </p:nvSpPr>
        <p:spPr>
          <a:xfrm flipH="1">
            <a:off x="856800" y="4214880"/>
            <a:ext cx="1800" cy="2858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35"/>
          <p:cNvSpPr/>
          <p:nvPr/>
        </p:nvSpPr>
        <p:spPr>
          <a:xfrm flipH="1">
            <a:off x="4214880" y="4214880"/>
            <a:ext cx="1440" cy="2858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36"/>
          <p:cNvSpPr/>
          <p:nvPr/>
        </p:nvSpPr>
        <p:spPr>
          <a:xfrm>
            <a:off x="928800" y="3500280"/>
            <a:ext cx="1571400" cy="1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38"/>
          <p:cNvSpPr/>
          <p:nvPr/>
        </p:nvSpPr>
        <p:spPr>
          <a:xfrm>
            <a:off x="857160" y="4500720"/>
            <a:ext cx="3357720" cy="1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9" descr="https://st2.depositphotos.com/7413918/10331/i/950/depositphotos_103319678-stock-photo-cute-crow-cartoon-character-with.jpg"/>
          <p:cNvPicPr/>
          <p:nvPr/>
        </p:nvPicPr>
        <p:blipFill>
          <a:blip r:embed="rId1"/>
          <a:stretch/>
        </p:blipFill>
        <p:spPr>
          <a:xfrm>
            <a:off x="6000840" y="3500280"/>
            <a:ext cx="28321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1" descr="https://thumbs.dreamstime.com/z/%D1%81%D0%BC%D0%B5%D1%88%D0%BD%D0%BE%D0%B9-%D0%BF%D0%B5%D1%80%D1%81%D0%BE%D0%BD%D0%B0%D0%B6-%D0%B8%D0%B7-%D0%BC%D1%83-%D1%8C%D1%82%D1%84%D0%B8-%D1%8C%D0%BC%D0%B0-%D0%B2%D0%BE%D1%80%D0%BE%D0%BD%D1%8B-69242008.jpg"/>
          <p:cNvPicPr/>
          <p:nvPr/>
        </p:nvPicPr>
        <p:blipFill>
          <a:blip r:embed="rId1"/>
          <a:srcRect l="0" t="0" r="12417" b="0"/>
          <a:stretch/>
        </p:blipFill>
        <p:spPr>
          <a:xfrm>
            <a:off x="7143840" y="4071960"/>
            <a:ext cx="1814400" cy="22622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71680" y="164268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e1c11"/>
                </a:solidFill>
                <a:latin typeface="Calibri"/>
              </a:rPr>
              <a:t>Правописание слов с удвоенными согласными </a:t>
            </a:r>
            <a:r>
              <a:rPr b="1" lang="ru-RU" sz="5400" spc="-1" strike="noStrike">
                <a:solidFill>
                  <a:srgbClr val="1e1c11"/>
                </a:solidFill>
                <a:latin typeface="Calibri"/>
              </a:rPr>
              <a:t>на стыке частей слова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7227-C039-47A5-BA47-6CEC0DF3B72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7B72-36DD-48A9-B38A-02C57BF879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6" descr="https://ds04.infourok.ru/uploads/ex/067c/000f6fcb-b8a26c8c/img8.jpg"/>
          <p:cNvPicPr/>
          <p:nvPr/>
        </p:nvPicPr>
        <p:blipFill>
          <a:blip r:embed="rId2"/>
          <a:srcRect l="15937" t="75475" r="16882" b="0"/>
          <a:stretch/>
        </p:blipFill>
        <p:spPr>
          <a:xfrm>
            <a:off x="1143000" y="4714920"/>
            <a:ext cx="613872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82EC-8138-45EB-9792-245818BAC9C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C5FE-3E80-4552-8682-049CDDBF71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https://pandia.ru/text/82/003/images/img20_1.jpg"/>
          <p:cNvPicPr/>
          <p:nvPr/>
        </p:nvPicPr>
        <p:blipFill>
          <a:blip r:embed="rId1"/>
          <a:stretch/>
        </p:blipFill>
        <p:spPr>
          <a:xfrm>
            <a:off x="0" y="0"/>
            <a:ext cx="9115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Шаги алгорит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00040" y="1142640"/>
            <a:ext cx="821520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Прочитай слов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Выполни разбор слова: выдели корень, приставку(если есть), суффикс (если есть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Сравни согласные буквы на стыке частей слова: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Сделай вывод, где встретилась буква удвоенного согласног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) в корне слова;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) на стыке приставки и корня;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) на стыке корня и суффикса.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C414-EE31-4E3B-B858-0057B9457F9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B8DE-DC75-419B-A258-6B3037DD39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олилиния 6"/>
          <p:cNvSpPr/>
          <p:nvPr/>
        </p:nvSpPr>
        <p:spPr>
          <a:xfrm>
            <a:off x="3571920" y="5000760"/>
            <a:ext cx="1157400" cy="214200"/>
          </a:xfrm>
          <a:custGeom>
            <a:avLst/>
            <a:gdLst/>
            <a:ahLst/>
            <a:rect l="l" t="t" r="r" b="b"/>
            <a:pathLst>
              <a:path w="1228725" h="315173">
                <a:moveTo>
                  <a:pt x="0" y="315173"/>
                </a:moveTo>
                <a:cubicBezTo>
                  <a:pt x="14288" y="300885"/>
                  <a:pt x="27341" y="285245"/>
                  <a:pt x="42863" y="272310"/>
                </a:cubicBezTo>
                <a:cubicBezTo>
                  <a:pt x="56054" y="261317"/>
                  <a:pt x="73583" y="255877"/>
                  <a:pt x="85725" y="243735"/>
                </a:cubicBezTo>
                <a:cubicBezTo>
                  <a:pt x="97867" y="231593"/>
                  <a:pt x="102158" y="213015"/>
                  <a:pt x="114300" y="200873"/>
                </a:cubicBezTo>
                <a:cubicBezTo>
                  <a:pt x="137650" y="177523"/>
                  <a:pt x="185916" y="149718"/>
                  <a:pt x="214313" y="129435"/>
                </a:cubicBezTo>
                <a:cubicBezTo>
                  <a:pt x="233690" y="115594"/>
                  <a:pt x="250165" y="97222"/>
                  <a:pt x="271463" y="86573"/>
                </a:cubicBezTo>
                <a:cubicBezTo>
                  <a:pt x="289026" y="77791"/>
                  <a:pt x="309805" y="77928"/>
                  <a:pt x="328613" y="72285"/>
                </a:cubicBezTo>
                <a:cubicBezTo>
                  <a:pt x="357463" y="63630"/>
                  <a:pt x="387397" y="57180"/>
                  <a:pt x="414338" y="43710"/>
                </a:cubicBezTo>
                <a:cubicBezTo>
                  <a:pt x="433388" y="34185"/>
                  <a:pt x="450603" y="19312"/>
                  <a:pt x="471488" y="15135"/>
                </a:cubicBezTo>
                <a:cubicBezTo>
                  <a:pt x="523070" y="4819"/>
                  <a:pt x="576263" y="5610"/>
                  <a:pt x="628650" y="848"/>
                </a:cubicBezTo>
                <a:cubicBezTo>
                  <a:pt x="801494" y="18132"/>
                  <a:pt x="726120" y="0"/>
                  <a:pt x="857250" y="43710"/>
                </a:cubicBezTo>
                <a:lnTo>
                  <a:pt x="900113" y="57998"/>
                </a:lnTo>
                <a:lnTo>
                  <a:pt x="942975" y="72285"/>
                </a:lnTo>
                <a:cubicBezTo>
                  <a:pt x="957263" y="81810"/>
                  <a:pt x="970479" y="93181"/>
                  <a:pt x="985838" y="100860"/>
                </a:cubicBezTo>
                <a:cubicBezTo>
                  <a:pt x="999308" y="107595"/>
                  <a:pt x="1015535" y="107834"/>
                  <a:pt x="1028700" y="115148"/>
                </a:cubicBezTo>
                <a:cubicBezTo>
                  <a:pt x="1058721" y="131827"/>
                  <a:pt x="1114425" y="172298"/>
                  <a:pt x="1114425" y="172298"/>
                </a:cubicBezTo>
                <a:cubicBezTo>
                  <a:pt x="1133475" y="200873"/>
                  <a:pt x="1143000" y="238973"/>
                  <a:pt x="1171575" y="258023"/>
                </a:cubicBezTo>
                <a:cubicBezTo>
                  <a:pt x="1223299" y="292505"/>
                  <a:pt x="1206759" y="271239"/>
                  <a:pt x="1228725" y="315173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8"/>
          <p:cNvSpPr/>
          <p:nvPr/>
        </p:nvSpPr>
        <p:spPr>
          <a:xfrm>
            <a:off x="5857920" y="5500800"/>
            <a:ext cx="7858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10"/>
          <p:cNvSpPr/>
          <p:nvPr/>
        </p:nvSpPr>
        <p:spPr>
          <a:xfrm flipH="1">
            <a:off x="6643800" y="5500800"/>
            <a:ext cx="1440" cy="214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олилиния 11"/>
          <p:cNvSpPr/>
          <p:nvPr/>
        </p:nvSpPr>
        <p:spPr>
          <a:xfrm>
            <a:off x="6715080" y="5429160"/>
            <a:ext cx="1000080" cy="214560"/>
          </a:xfrm>
          <a:custGeom>
            <a:avLst/>
            <a:gdLst/>
            <a:ahLst/>
            <a:rect l="l" t="t" r="r" b="b"/>
            <a:pathLst>
              <a:path w="1228725" h="315173">
                <a:moveTo>
                  <a:pt x="0" y="315173"/>
                </a:moveTo>
                <a:cubicBezTo>
                  <a:pt x="14288" y="300885"/>
                  <a:pt x="27341" y="285245"/>
                  <a:pt x="42863" y="272310"/>
                </a:cubicBezTo>
                <a:cubicBezTo>
                  <a:pt x="56054" y="261317"/>
                  <a:pt x="73583" y="255877"/>
                  <a:pt x="85725" y="243735"/>
                </a:cubicBezTo>
                <a:cubicBezTo>
                  <a:pt x="97867" y="231593"/>
                  <a:pt x="102158" y="213015"/>
                  <a:pt x="114300" y="200873"/>
                </a:cubicBezTo>
                <a:cubicBezTo>
                  <a:pt x="137650" y="177523"/>
                  <a:pt x="185916" y="149718"/>
                  <a:pt x="214313" y="129435"/>
                </a:cubicBezTo>
                <a:cubicBezTo>
                  <a:pt x="233690" y="115594"/>
                  <a:pt x="250165" y="97222"/>
                  <a:pt x="271463" y="86573"/>
                </a:cubicBezTo>
                <a:cubicBezTo>
                  <a:pt x="289026" y="77791"/>
                  <a:pt x="309805" y="77928"/>
                  <a:pt x="328613" y="72285"/>
                </a:cubicBezTo>
                <a:cubicBezTo>
                  <a:pt x="357463" y="63630"/>
                  <a:pt x="387397" y="57180"/>
                  <a:pt x="414338" y="43710"/>
                </a:cubicBezTo>
                <a:cubicBezTo>
                  <a:pt x="433388" y="34185"/>
                  <a:pt x="450603" y="19312"/>
                  <a:pt x="471488" y="15135"/>
                </a:cubicBezTo>
                <a:cubicBezTo>
                  <a:pt x="523070" y="4819"/>
                  <a:pt x="576263" y="5610"/>
                  <a:pt x="628650" y="848"/>
                </a:cubicBezTo>
                <a:cubicBezTo>
                  <a:pt x="801494" y="18132"/>
                  <a:pt x="726120" y="0"/>
                  <a:pt x="857250" y="43710"/>
                </a:cubicBezTo>
                <a:lnTo>
                  <a:pt x="900113" y="57998"/>
                </a:lnTo>
                <a:lnTo>
                  <a:pt x="942975" y="72285"/>
                </a:lnTo>
                <a:cubicBezTo>
                  <a:pt x="957263" y="81810"/>
                  <a:pt x="970479" y="93181"/>
                  <a:pt x="985838" y="100860"/>
                </a:cubicBezTo>
                <a:cubicBezTo>
                  <a:pt x="999308" y="107595"/>
                  <a:pt x="1015535" y="107834"/>
                  <a:pt x="1028700" y="115148"/>
                </a:cubicBezTo>
                <a:cubicBezTo>
                  <a:pt x="1058721" y="131827"/>
                  <a:pt x="1114425" y="172298"/>
                  <a:pt x="1114425" y="172298"/>
                </a:cubicBezTo>
                <a:cubicBezTo>
                  <a:pt x="1133475" y="200873"/>
                  <a:pt x="1143000" y="238973"/>
                  <a:pt x="1171575" y="258023"/>
                </a:cubicBezTo>
                <a:cubicBezTo>
                  <a:pt x="1223299" y="292505"/>
                  <a:pt x="1206759" y="271239"/>
                  <a:pt x="1228725" y="315173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олилиния 12"/>
          <p:cNvSpPr/>
          <p:nvPr/>
        </p:nvSpPr>
        <p:spPr>
          <a:xfrm>
            <a:off x="5715000" y="5929200"/>
            <a:ext cx="1157400" cy="214560"/>
          </a:xfrm>
          <a:custGeom>
            <a:avLst/>
            <a:gdLst/>
            <a:ahLst/>
            <a:rect l="l" t="t" r="r" b="b"/>
            <a:pathLst>
              <a:path w="1228725" h="315173">
                <a:moveTo>
                  <a:pt x="0" y="315173"/>
                </a:moveTo>
                <a:cubicBezTo>
                  <a:pt x="14288" y="300885"/>
                  <a:pt x="27341" y="285245"/>
                  <a:pt x="42863" y="272310"/>
                </a:cubicBezTo>
                <a:cubicBezTo>
                  <a:pt x="56054" y="261317"/>
                  <a:pt x="73583" y="255877"/>
                  <a:pt x="85725" y="243735"/>
                </a:cubicBezTo>
                <a:cubicBezTo>
                  <a:pt x="97867" y="231593"/>
                  <a:pt x="102158" y="213015"/>
                  <a:pt x="114300" y="200873"/>
                </a:cubicBezTo>
                <a:cubicBezTo>
                  <a:pt x="137650" y="177523"/>
                  <a:pt x="185916" y="149718"/>
                  <a:pt x="214313" y="129435"/>
                </a:cubicBezTo>
                <a:cubicBezTo>
                  <a:pt x="233690" y="115594"/>
                  <a:pt x="250165" y="97222"/>
                  <a:pt x="271463" y="86573"/>
                </a:cubicBezTo>
                <a:cubicBezTo>
                  <a:pt x="289026" y="77791"/>
                  <a:pt x="309805" y="77928"/>
                  <a:pt x="328613" y="72285"/>
                </a:cubicBezTo>
                <a:cubicBezTo>
                  <a:pt x="357463" y="63630"/>
                  <a:pt x="387397" y="57180"/>
                  <a:pt x="414338" y="43710"/>
                </a:cubicBezTo>
                <a:cubicBezTo>
                  <a:pt x="433388" y="34185"/>
                  <a:pt x="450603" y="19312"/>
                  <a:pt x="471488" y="15135"/>
                </a:cubicBezTo>
                <a:cubicBezTo>
                  <a:pt x="523070" y="4819"/>
                  <a:pt x="576263" y="5610"/>
                  <a:pt x="628650" y="848"/>
                </a:cubicBezTo>
                <a:cubicBezTo>
                  <a:pt x="801494" y="18132"/>
                  <a:pt x="726120" y="0"/>
                  <a:pt x="857250" y="43710"/>
                </a:cubicBezTo>
                <a:lnTo>
                  <a:pt x="900113" y="57998"/>
                </a:lnTo>
                <a:lnTo>
                  <a:pt x="942975" y="72285"/>
                </a:lnTo>
                <a:cubicBezTo>
                  <a:pt x="957263" y="81810"/>
                  <a:pt x="970479" y="93181"/>
                  <a:pt x="985838" y="100860"/>
                </a:cubicBezTo>
                <a:cubicBezTo>
                  <a:pt x="999308" y="107595"/>
                  <a:pt x="1015535" y="107834"/>
                  <a:pt x="1028700" y="115148"/>
                </a:cubicBezTo>
                <a:cubicBezTo>
                  <a:pt x="1058721" y="131827"/>
                  <a:pt x="1114425" y="172298"/>
                  <a:pt x="1114425" y="172298"/>
                </a:cubicBezTo>
                <a:cubicBezTo>
                  <a:pt x="1133475" y="200873"/>
                  <a:pt x="1143000" y="238973"/>
                  <a:pt x="1171575" y="258023"/>
                </a:cubicBezTo>
                <a:cubicBezTo>
                  <a:pt x="1223299" y="292505"/>
                  <a:pt x="1206759" y="271239"/>
                  <a:pt x="1228725" y="315173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14"/>
          <p:cNvSpPr/>
          <p:nvPr/>
        </p:nvSpPr>
        <p:spPr>
          <a:xfrm flipV="1">
            <a:off x="6858000" y="5857920"/>
            <a:ext cx="357120" cy="285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15"/>
          <p:cNvSpPr/>
          <p:nvPr/>
        </p:nvSpPr>
        <p:spPr>
          <a:xfrm flipH="1" flipV="1">
            <a:off x="7215120" y="5857920"/>
            <a:ext cx="285840" cy="285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C:\Users\Ольга\Desktop\7f2p.gif"/>
          <p:cNvPicPr/>
          <p:nvPr/>
        </p:nvPicPr>
        <p:blipFill>
          <a:blip r:embed="rId1"/>
          <a:stretch/>
        </p:blipFill>
        <p:spPr>
          <a:xfrm>
            <a:off x="428760" y="0"/>
            <a:ext cx="153828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РАССКАЗ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МАЛИННИК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МАШИННЫ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5BFE-B85E-4D17-8505-DC8BD71C04F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8BF9-D6F1-4607-B80B-64C382FFDE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3" descr="https://st2.depositphotos.com/7413918/10331/i/950/depositphotos_103312812-stock-photo-stopping-crow-cartoon-character.jpg"/>
          <p:cNvPicPr/>
          <p:nvPr/>
        </p:nvPicPr>
        <p:blipFill>
          <a:blip r:embed="rId1"/>
          <a:stretch/>
        </p:blipFill>
        <p:spPr>
          <a:xfrm>
            <a:off x="5715000" y="3659040"/>
            <a:ext cx="244152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1 в.  СОННЫЙ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2 в.  ЛИМОННИК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76D1-F14F-4469-A2D4-3011CDE44FA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4291-DB99-46D1-8827-E12BC030F9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1 в.  СО</a:t>
            </a:r>
            <a:r>
              <a:rPr b="1" lang="ru-RU" sz="6600" spc="-1" strike="noStrike" u="sng">
                <a:solidFill>
                  <a:srgbClr val="ff0000"/>
                </a:solidFill>
                <a:uFillTx/>
                <a:latin typeface="Calibri"/>
              </a:rPr>
              <a:t>НН</a:t>
            </a: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Ы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2 в.  ЛИМО</a:t>
            </a:r>
            <a:r>
              <a:rPr b="1" lang="ru-RU" sz="6600" spc="-1" strike="noStrike" u="sng">
                <a:solidFill>
                  <a:srgbClr val="ff0000"/>
                </a:solidFill>
                <a:uFillTx/>
                <a:latin typeface="Calibri"/>
              </a:rPr>
              <a:t>НН</a:t>
            </a: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ИК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A845-9552-4D03-BAC7-BC979FA6514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DE64-9FD0-4B75-8BA4-BAA5322E21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олилиния 14"/>
          <p:cNvSpPr/>
          <p:nvPr/>
        </p:nvSpPr>
        <p:spPr>
          <a:xfrm>
            <a:off x="2143080" y="1500120"/>
            <a:ext cx="1471680" cy="428760"/>
          </a:xfrm>
          <a:custGeom>
            <a:avLst/>
            <a:gdLst/>
            <a:ahLst/>
            <a:rect l="l" t="t" r="r" b="b"/>
            <a:pathLst>
              <a:path w="1186184" h="453771">
                <a:moveTo>
                  <a:pt x="14609" y="425196"/>
                </a:moveTo>
                <a:cubicBezTo>
                  <a:pt x="47423" y="293945"/>
                  <a:pt x="0" y="429170"/>
                  <a:pt x="71759" y="339471"/>
                </a:cubicBezTo>
                <a:cubicBezTo>
                  <a:pt x="81167" y="327711"/>
                  <a:pt x="79312" y="310079"/>
                  <a:pt x="86047" y="296608"/>
                </a:cubicBezTo>
                <a:cubicBezTo>
                  <a:pt x="116679" y="235346"/>
                  <a:pt x="113249" y="267757"/>
                  <a:pt x="157484" y="210883"/>
                </a:cubicBezTo>
                <a:cubicBezTo>
                  <a:pt x="178568" y="183774"/>
                  <a:pt x="182053" y="136018"/>
                  <a:pt x="214634" y="125158"/>
                </a:cubicBezTo>
                <a:cubicBezTo>
                  <a:pt x="243209" y="115633"/>
                  <a:pt x="275297" y="113291"/>
                  <a:pt x="300359" y="96583"/>
                </a:cubicBezTo>
                <a:cubicBezTo>
                  <a:pt x="314647" y="87058"/>
                  <a:pt x="327530" y="74982"/>
                  <a:pt x="343222" y="68008"/>
                </a:cubicBezTo>
                <a:cubicBezTo>
                  <a:pt x="496242" y="0"/>
                  <a:pt x="374808" y="75526"/>
                  <a:pt x="471809" y="10858"/>
                </a:cubicBezTo>
                <a:cubicBezTo>
                  <a:pt x="538484" y="15621"/>
                  <a:pt x="605356" y="18148"/>
                  <a:pt x="671834" y="25146"/>
                </a:cubicBezTo>
                <a:cubicBezTo>
                  <a:pt x="762811" y="34723"/>
                  <a:pt x="717275" y="36506"/>
                  <a:pt x="786134" y="53721"/>
                </a:cubicBezTo>
                <a:cubicBezTo>
                  <a:pt x="809693" y="59611"/>
                  <a:pt x="833866" y="62740"/>
                  <a:pt x="857572" y="68008"/>
                </a:cubicBezTo>
                <a:cubicBezTo>
                  <a:pt x="876741" y="72268"/>
                  <a:pt x="895672" y="77533"/>
                  <a:pt x="914722" y="82296"/>
                </a:cubicBezTo>
                <a:cubicBezTo>
                  <a:pt x="993303" y="134684"/>
                  <a:pt x="926628" y="82296"/>
                  <a:pt x="986159" y="153733"/>
                </a:cubicBezTo>
                <a:cubicBezTo>
                  <a:pt x="1098069" y="288024"/>
                  <a:pt x="941732" y="65662"/>
                  <a:pt x="1086172" y="282321"/>
                </a:cubicBezTo>
                <a:lnTo>
                  <a:pt x="1114747" y="325183"/>
                </a:lnTo>
                <a:lnTo>
                  <a:pt x="1143322" y="368046"/>
                </a:lnTo>
                <a:cubicBezTo>
                  <a:pt x="1148084" y="382333"/>
                  <a:pt x="1150874" y="397438"/>
                  <a:pt x="1157609" y="410908"/>
                </a:cubicBezTo>
                <a:cubicBezTo>
                  <a:pt x="1165288" y="426267"/>
                  <a:pt x="1186184" y="453771"/>
                  <a:pt x="1186184" y="45377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олилиния 18"/>
          <p:cNvSpPr/>
          <p:nvPr/>
        </p:nvSpPr>
        <p:spPr>
          <a:xfrm>
            <a:off x="3643200" y="1500120"/>
            <a:ext cx="642960" cy="428760"/>
          </a:xfrm>
          <a:custGeom>
            <a:avLst/>
            <a:gdLst/>
            <a:ahLst/>
            <a:rect l="l" t="t" r="r" b="b"/>
            <a:pathLst>
              <a:path w="885825" h="471488">
                <a:moveTo>
                  <a:pt x="0" y="471488"/>
                </a:moveTo>
                <a:cubicBezTo>
                  <a:pt x="4763" y="457200"/>
                  <a:pt x="4880" y="440385"/>
                  <a:pt x="14288" y="428625"/>
                </a:cubicBezTo>
                <a:cubicBezTo>
                  <a:pt x="25015" y="415216"/>
                  <a:pt x="43959" y="411043"/>
                  <a:pt x="57150" y="400050"/>
                </a:cubicBezTo>
                <a:cubicBezTo>
                  <a:pt x="72672" y="387115"/>
                  <a:pt x="84491" y="370123"/>
                  <a:pt x="100013" y="357188"/>
                </a:cubicBezTo>
                <a:cubicBezTo>
                  <a:pt x="113204" y="346195"/>
                  <a:pt x="130041" y="340021"/>
                  <a:pt x="142875" y="328613"/>
                </a:cubicBezTo>
                <a:cubicBezTo>
                  <a:pt x="173079" y="301765"/>
                  <a:pt x="200025" y="271463"/>
                  <a:pt x="228600" y="242888"/>
                </a:cubicBezTo>
                <a:cubicBezTo>
                  <a:pt x="242888" y="228600"/>
                  <a:pt x="260255" y="216837"/>
                  <a:pt x="271463" y="200025"/>
                </a:cubicBezTo>
                <a:cubicBezTo>
                  <a:pt x="280988" y="185738"/>
                  <a:pt x="287896" y="169305"/>
                  <a:pt x="300038" y="157163"/>
                </a:cubicBezTo>
                <a:cubicBezTo>
                  <a:pt x="312180" y="145021"/>
                  <a:pt x="330066" y="139996"/>
                  <a:pt x="342900" y="128588"/>
                </a:cubicBezTo>
                <a:cubicBezTo>
                  <a:pt x="373104" y="101740"/>
                  <a:pt x="400050" y="71438"/>
                  <a:pt x="428625" y="42863"/>
                </a:cubicBezTo>
                <a:lnTo>
                  <a:pt x="471488" y="0"/>
                </a:lnTo>
                <a:cubicBezTo>
                  <a:pt x="514445" y="14320"/>
                  <a:pt x="520285" y="12090"/>
                  <a:pt x="557213" y="42863"/>
                </a:cubicBezTo>
                <a:cubicBezTo>
                  <a:pt x="572735" y="55798"/>
                  <a:pt x="584553" y="72790"/>
                  <a:pt x="600075" y="85725"/>
                </a:cubicBezTo>
                <a:cubicBezTo>
                  <a:pt x="664495" y="139408"/>
                  <a:pt x="659195" y="95822"/>
                  <a:pt x="728663" y="200025"/>
                </a:cubicBezTo>
                <a:cubicBezTo>
                  <a:pt x="797021" y="302562"/>
                  <a:pt x="761529" y="261466"/>
                  <a:pt x="828675" y="328613"/>
                </a:cubicBezTo>
                <a:cubicBezTo>
                  <a:pt x="861510" y="427117"/>
                  <a:pt x="835951" y="393039"/>
                  <a:pt x="885825" y="44291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олилиния 19"/>
          <p:cNvSpPr/>
          <p:nvPr/>
        </p:nvSpPr>
        <p:spPr>
          <a:xfrm>
            <a:off x="2286000" y="3857760"/>
            <a:ext cx="2643120" cy="500040"/>
          </a:xfrm>
          <a:custGeom>
            <a:avLst/>
            <a:gdLst/>
            <a:ahLst/>
            <a:rect l="l" t="t" r="r" b="b"/>
            <a:pathLst>
              <a:path w="1186184" h="453771">
                <a:moveTo>
                  <a:pt x="14609" y="425196"/>
                </a:moveTo>
                <a:cubicBezTo>
                  <a:pt x="47423" y="293945"/>
                  <a:pt x="0" y="429170"/>
                  <a:pt x="71759" y="339471"/>
                </a:cubicBezTo>
                <a:cubicBezTo>
                  <a:pt x="81167" y="327711"/>
                  <a:pt x="79312" y="310079"/>
                  <a:pt x="86047" y="296608"/>
                </a:cubicBezTo>
                <a:cubicBezTo>
                  <a:pt x="116679" y="235346"/>
                  <a:pt x="113249" y="267757"/>
                  <a:pt x="157484" y="210883"/>
                </a:cubicBezTo>
                <a:cubicBezTo>
                  <a:pt x="178568" y="183774"/>
                  <a:pt x="182053" y="136018"/>
                  <a:pt x="214634" y="125158"/>
                </a:cubicBezTo>
                <a:cubicBezTo>
                  <a:pt x="243209" y="115633"/>
                  <a:pt x="275297" y="113291"/>
                  <a:pt x="300359" y="96583"/>
                </a:cubicBezTo>
                <a:cubicBezTo>
                  <a:pt x="314647" y="87058"/>
                  <a:pt x="327530" y="74982"/>
                  <a:pt x="343222" y="68008"/>
                </a:cubicBezTo>
                <a:cubicBezTo>
                  <a:pt x="496242" y="0"/>
                  <a:pt x="374808" y="75526"/>
                  <a:pt x="471809" y="10858"/>
                </a:cubicBezTo>
                <a:cubicBezTo>
                  <a:pt x="538484" y="15621"/>
                  <a:pt x="605356" y="18148"/>
                  <a:pt x="671834" y="25146"/>
                </a:cubicBezTo>
                <a:cubicBezTo>
                  <a:pt x="762811" y="34723"/>
                  <a:pt x="717275" y="36506"/>
                  <a:pt x="786134" y="53721"/>
                </a:cubicBezTo>
                <a:cubicBezTo>
                  <a:pt x="809693" y="59611"/>
                  <a:pt x="833866" y="62740"/>
                  <a:pt x="857572" y="68008"/>
                </a:cubicBezTo>
                <a:cubicBezTo>
                  <a:pt x="876741" y="72268"/>
                  <a:pt x="895672" y="77533"/>
                  <a:pt x="914722" y="82296"/>
                </a:cubicBezTo>
                <a:cubicBezTo>
                  <a:pt x="993303" y="134684"/>
                  <a:pt x="926628" y="82296"/>
                  <a:pt x="986159" y="153733"/>
                </a:cubicBezTo>
                <a:cubicBezTo>
                  <a:pt x="1098069" y="288024"/>
                  <a:pt x="941732" y="65662"/>
                  <a:pt x="1086172" y="282321"/>
                </a:cubicBezTo>
                <a:lnTo>
                  <a:pt x="1114747" y="325183"/>
                </a:lnTo>
                <a:lnTo>
                  <a:pt x="1143322" y="368046"/>
                </a:lnTo>
                <a:cubicBezTo>
                  <a:pt x="1148084" y="382333"/>
                  <a:pt x="1150874" y="397438"/>
                  <a:pt x="1157609" y="410908"/>
                </a:cubicBezTo>
                <a:cubicBezTo>
                  <a:pt x="1165288" y="426267"/>
                  <a:pt x="1186184" y="453771"/>
                  <a:pt x="1186184" y="45377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олилиния 20"/>
          <p:cNvSpPr/>
          <p:nvPr/>
        </p:nvSpPr>
        <p:spPr>
          <a:xfrm>
            <a:off x="5000760" y="3929040"/>
            <a:ext cx="1442880" cy="436680"/>
          </a:xfrm>
          <a:custGeom>
            <a:avLst/>
            <a:gdLst/>
            <a:ahLst/>
            <a:rect l="l" t="t" r="r" b="b"/>
            <a:pathLst>
              <a:path w="885825" h="471488">
                <a:moveTo>
                  <a:pt x="0" y="471488"/>
                </a:moveTo>
                <a:cubicBezTo>
                  <a:pt x="4763" y="457200"/>
                  <a:pt x="4880" y="440385"/>
                  <a:pt x="14288" y="428625"/>
                </a:cubicBezTo>
                <a:cubicBezTo>
                  <a:pt x="25015" y="415216"/>
                  <a:pt x="43959" y="411043"/>
                  <a:pt x="57150" y="400050"/>
                </a:cubicBezTo>
                <a:cubicBezTo>
                  <a:pt x="72672" y="387115"/>
                  <a:pt x="84491" y="370123"/>
                  <a:pt x="100013" y="357188"/>
                </a:cubicBezTo>
                <a:cubicBezTo>
                  <a:pt x="113204" y="346195"/>
                  <a:pt x="130041" y="340021"/>
                  <a:pt x="142875" y="328613"/>
                </a:cubicBezTo>
                <a:cubicBezTo>
                  <a:pt x="173079" y="301765"/>
                  <a:pt x="200025" y="271463"/>
                  <a:pt x="228600" y="242888"/>
                </a:cubicBezTo>
                <a:cubicBezTo>
                  <a:pt x="242888" y="228600"/>
                  <a:pt x="260255" y="216837"/>
                  <a:pt x="271463" y="200025"/>
                </a:cubicBezTo>
                <a:cubicBezTo>
                  <a:pt x="280988" y="185738"/>
                  <a:pt x="287896" y="169305"/>
                  <a:pt x="300038" y="157163"/>
                </a:cubicBezTo>
                <a:cubicBezTo>
                  <a:pt x="312180" y="145021"/>
                  <a:pt x="330066" y="139996"/>
                  <a:pt x="342900" y="128588"/>
                </a:cubicBezTo>
                <a:cubicBezTo>
                  <a:pt x="373104" y="101740"/>
                  <a:pt x="400050" y="71438"/>
                  <a:pt x="428625" y="42863"/>
                </a:cubicBezTo>
                <a:lnTo>
                  <a:pt x="471488" y="0"/>
                </a:lnTo>
                <a:cubicBezTo>
                  <a:pt x="514445" y="14320"/>
                  <a:pt x="520285" y="12090"/>
                  <a:pt x="557213" y="42863"/>
                </a:cubicBezTo>
                <a:cubicBezTo>
                  <a:pt x="572735" y="55798"/>
                  <a:pt x="584553" y="72790"/>
                  <a:pt x="600075" y="85725"/>
                </a:cubicBezTo>
                <a:cubicBezTo>
                  <a:pt x="664495" y="139408"/>
                  <a:pt x="659195" y="95822"/>
                  <a:pt x="728663" y="200025"/>
                </a:cubicBezTo>
                <a:cubicBezTo>
                  <a:pt x="797021" y="302562"/>
                  <a:pt x="761529" y="261466"/>
                  <a:pt x="828675" y="328613"/>
                </a:cubicBezTo>
                <a:cubicBezTo>
                  <a:pt x="861510" y="427117"/>
                  <a:pt x="835951" y="393039"/>
                  <a:pt x="885825" y="44291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D84D-4D55-4ED7-B6D2-0C887F80775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E567-B525-42D8-B540-256EA9993D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https://thumbs.dreamstime.com/z/%D0%BF%D0%B5%D1%80%D1%81%D0%BE%D0%BD%D0%B0%D0%B6-%D0%B8%D0%B7-%D0%BC%D1%83-%D1%8C%D1%82%D1%84%D0%B8-%D1%8C%D0%BC%D0%B0-%D0%B2%D0%BE%D1%80%D0%BE%D0%BD%D1%8B-%D0%BF%D0%BE%D1%82%D0%B5%D1%85%D0%B8-%D1%81-%D0%B3%D1%80%D0%BE%D0%BC%D0%BA%D0%B8%D0%BC-%D0%B8%D0%BA%D1%82%D0%BE%D1%80%D0%BE%D0%BC-69241826.jpg"/>
          <p:cNvPicPr/>
          <p:nvPr/>
        </p:nvPicPr>
        <p:blipFill>
          <a:blip r:embed="rId1"/>
          <a:srcRect l="4998" t="3226" r="5048" b="11291"/>
          <a:stretch/>
        </p:blipFill>
        <p:spPr>
          <a:xfrm>
            <a:off x="5429160" y="1285920"/>
            <a:ext cx="3360960" cy="278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https://pbs.twimg.com/media/DgJ1_srX4AAeGJq.jpg:large"/>
          <p:cNvPicPr/>
          <p:nvPr/>
        </p:nvPicPr>
        <p:blipFill>
          <a:blip r:embed="rId2"/>
          <a:stretch/>
        </p:blipFill>
        <p:spPr>
          <a:xfrm>
            <a:off x="1357200" y="3857760"/>
            <a:ext cx="580068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09B7-8128-4DF7-B50B-3FC6E27B4D9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9630-BD76-413B-B7F8-D6515831C8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C:\Users\Ольга\Pictures\01\woman-pointing-up-vector-21352472.jpg"/>
          <p:cNvPicPr/>
          <p:nvPr/>
        </p:nvPicPr>
        <p:blipFill>
          <a:blip r:embed="rId1"/>
          <a:srcRect l="15673" t="0" r="3730" b="8787"/>
          <a:stretch/>
        </p:blipFill>
        <p:spPr>
          <a:xfrm>
            <a:off x="5440320" y="1928880"/>
            <a:ext cx="370368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5" descr=""/>
          <p:cNvPicPr/>
          <p:nvPr/>
        </p:nvPicPr>
        <p:blipFill>
          <a:blip r:embed="rId2"/>
          <a:stretch/>
        </p:blipFill>
        <p:spPr>
          <a:xfrm>
            <a:off x="622440" y="1407960"/>
            <a:ext cx="604656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24E5-8C74-4A40-A256-763F40E915D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0180-8AAD-4988-A11E-2C76D9DE87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7" descr="сканирование0015.jpg"/>
          <p:cNvPicPr/>
          <p:nvPr/>
        </p:nvPicPr>
        <p:blipFill>
          <a:blip r:embed="rId1"/>
          <a:stretch/>
        </p:blipFill>
        <p:spPr>
          <a:xfrm>
            <a:off x="154080" y="428760"/>
            <a:ext cx="4346640" cy="33890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8" descr="сканирование0016.jpg"/>
          <p:cNvPicPr/>
          <p:nvPr/>
        </p:nvPicPr>
        <p:blipFill>
          <a:blip r:embed="rId2"/>
          <a:stretch/>
        </p:blipFill>
        <p:spPr>
          <a:xfrm>
            <a:off x="4572000" y="3214800"/>
            <a:ext cx="4411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Правописание слов с удвоенными согласным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5" name="Picture 7" descr="https://ds05.infourok.ru/uploads/ex/05aa/000c7541-c53fe908/img12.jpg"/>
          <p:cNvPicPr/>
          <p:nvPr/>
        </p:nvPicPr>
        <p:blipFill>
          <a:blip r:embed="rId1"/>
          <a:stretch/>
        </p:blipFill>
        <p:spPr>
          <a:xfrm>
            <a:off x="5572080" y="4071960"/>
            <a:ext cx="281628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Суббота, кассир, классная, касса, субботний, второклассник, кассовый(чек), класс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63DB-F64C-4C40-BFC1-67CDE7DC6FE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483D-8080-43DD-8C9F-12248C3AE1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338040" y="2967120"/>
            <a:ext cx="18432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ббота               касса                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бботний          кассовый         класс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бботник          кассир               второкласс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E33A-B9A6-4984-843E-820E21E12F4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3019-6ED1-4E97-B917-8802B3172E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олилиния 5"/>
          <p:cNvSpPr/>
          <p:nvPr/>
        </p:nvSpPr>
        <p:spPr>
          <a:xfrm>
            <a:off x="585720" y="1679400"/>
            <a:ext cx="1157400" cy="206640"/>
          </a:xfrm>
          <a:custGeom>
            <a:avLst/>
            <a:gdLst/>
            <a:ahLst/>
            <a:rect l="l" t="t" r="r" b="b"/>
            <a:pathLst>
              <a:path w="1157287" h="206054">
                <a:moveTo>
                  <a:pt x="0" y="206054"/>
                </a:moveTo>
                <a:cubicBezTo>
                  <a:pt x="14287" y="196529"/>
                  <a:pt x="29671" y="188472"/>
                  <a:pt x="42862" y="177479"/>
                </a:cubicBezTo>
                <a:cubicBezTo>
                  <a:pt x="86102" y="141446"/>
                  <a:pt x="109548" y="92943"/>
                  <a:pt x="171450" y="77467"/>
                </a:cubicBezTo>
                <a:cubicBezTo>
                  <a:pt x="280795" y="50130"/>
                  <a:pt x="219081" y="62297"/>
                  <a:pt x="400050" y="48892"/>
                </a:cubicBezTo>
                <a:lnTo>
                  <a:pt x="614362" y="34604"/>
                </a:lnTo>
                <a:cubicBezTo>
                  <a:pt x="752782" y="0"/>
                  <a:pt x="706546" y="5676"/>
                  <a:pt x="957262" y="34604"/>
                </a:cubicBezTo>
                <a:cubicBezTo>
                  <a:pt x="987184" y="38057"/>
                  <a:pt x="1042987" y="63179"/>
                  <a:pt x="1042987" y="63179"/>
                </a:cubicBezTo>
                <a:cubicBezTo>
                  <a:pt x="1057275" y="72704"/>
                  <a:pt x="1072658" y="80761"/>
                  <a:pt x="1085850" y="91754"/>
                </a:cubicBezTo>
                <a:cubicBezTo>
                  <a:pt x="1101372" y="104689"/>
                  <a:pt x="1114425" y="120329"/>
                  <a:pt x="1128712" y="134617"/>
                </a:cubicBezTo>
                <a:lnTo>
                  <a:pt x="1157287" y="163192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571680" y="2286000"/>
            <a:ext cx="1271520" cy="206280"/>
          </a:xfrm>
          <a:custGeom>
            <a:avLst/>
            <a:gdLst/>
            <a:ahLst/>
            <a:rect l="l" t="t" r="r" b="b"/>
            <a:pathLst>
              <a:path w="1272228" h="207102">
                <a:moveTo>
                  <a:pt x="0" y="186585"/>
                </a:moveTo>
                <a:cubicBezTo>
                  <a:pt x="19050" y="177060"/>
                  <a:pt x="38658" y="168577"/>
                  <a:pt x="57150" y="158010"/>
                </a:cubicBezTo>
                <a:cubicBezTo>
                  <a:pt x="72059" y="149491"/>
                  <a:pt x="84321" y="136409"/>
                  <a:pt x="100012" y="129435"/>
                </a:cubicBezTo>
                <a:cubicBezTo>
                  <a:pt x="127537" y="117202"/>
                  <a:pt x="157162" y="110385"/>
                  <a:pt x="185737" y="100860"/>
                </a:cubicBezTo>
                <a:lnTo>
                  <a:pt x="228600" y="86573"/>
                </a:lnTo>
                <a:cubicBezTo>
                  <a:pt x="242887" y="81811"/>
                  <a:pt x="256694" y="75239"/>
                  <a:pt x="271462" y="72285"/>
                </a:cubicBezTo>
                <a:cubicBezTo>
                  <a:pt x="319087" y="62760"/>
                  <a:pt x="366066" y="49073"/>
                  <a:pt x="414337" y="43710"/>
                </a:cubicBezTo>
                <a:cubicBezTo>
                  <a:pt x="700304" y="11936"/>
                  <a:pt x="586433" y="29314"/>
                  <a:pt x="757237" y="848"/>
                </a:cubicBezTo>
                <a:cubicBezTo>
                  <a:pt x="930081" y="18132"/>
                  <a:pt x="854707" y="0"/>
                  <a:pt x="985837" y="43710"/>
                </a:cubicBezTo>
                <a:lnTo>
                  <a:pt x="1028700" y="57998"/>
                </a:lnTo>
                <a:lnTo>
                  <a:pt x="1071562" y="72285"/>
                </a:lnTo>
                <a:cubicBezTo>
                  <a:pt x="1085850" y="81810"/>
                  <a:pt x="1099066" y="93181"/>
                  <a:pt x="1114425" y="100860"/>
                </a:cubicBezTo>
                <a:cubicBezTo>
                  <a:pt x="1127895" y="107595"/>
                  <a:pt x="1145527" y="105740"/>
                  <a:pt x="1157287" y="115148"/>
                </a:cubicBezTo>
                <a:cubicBezTo>
                  <a:pt x="1272228" y="207102"/>
                  <a:pt x="1120604" y="125380"/>
                  <a:pt x="1214437" y="172298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олилиния 11"/>
          <p:cNvSpPr/>
          <p:nvPr/>
        </p:nvSpPr>
        <p:spPr>
          <a:xfrm>
            <a:off x="571680" y="2857680"/>
            <a:ext cx="1271520" cy="206280"/>
          </a:xfrm>
          <a:custGeom>
            <a:avLst/>
            <a:gdLst/>
            <a:ahLst/>
            <a:rect l="l" t="t" r="r" b="b"/>
            <a:pathLst>
              <a:path w="1272228" h="207102">
                <a:moveTo>
                  <a:pt x="0" y="186585"/>
                </a:moveTo>
                <a:cubicBezTo>
                  <a:pt x="19050" y="177060"/>
                  <a:pt x="38658" y="168577"/>
                  <a:pt x="57150" y="158010"/>
                </a:cubicBezTo>
                <a:cubicBezTo>
                  <a:pt x="72059" y="149491"/>
                  <a:pt x="84321" y="136409"/>
                  <a:pt x="100012" y="129435"/>
                </a:cubicBezTo>
                <a:cubicBezTo>
                  <a:pt x="127537" y="117202"/>
                  <a:pt x="157162" y="110385"/>
                  <a:pt x="185737" y="100860"/>
                </a:cubicBezTo>
                <a:lnTo>
                  <a:pt x="228600" y="86573"/>
                </a:lnTo>
                <a:cubicBezTo>
                  <a:pt x="242887" y="81811"/>
                  <a:pt x="256694" y="75239"/>
                  <a:pt x="271462" y="72285"/>
                </a:cubicBezTo>
                <a:cubicBezTo>
                  <a:pt x="319087" y="62760"/>
                  <a:pt x="366066" y="49073"/>
                  <a:pt x="414337" y="43710"/>
                </a:cubicBezTo>
                <a:cubicBezTo>
                  <a:pt x="700304" y="11936"/>
                  <a:pt x="586433" y="29314"/>
                  <a:pt x="757237" y="848"/>
                </a:cubicBezTo>
                <a:cubicBezTo>
                  <a:pt x="930081" y="18132"/>
                  <a:pt x="854707" y="0"/>
                  <a:pt x="985837" y="43710"/>
                </a:cubicBezTo>
                <a:lnTo>
                  <a:pt x="1028700" y="57998"/>
                </a:lnTo>
                <a:lnTo>
                  <a:pt x="1071562" y="72285"/>
                </a:lnTo>
                <a:cubicBezTo>
                  <a:pt x="1085850" y="81810"/>
                  <a:pt x="1099066" y="93181"/>
                  <a:pt x="1114425" y="100860"/>
                </a:cubicBezTo>
                <a:cubicBezTo>
                  <a:pt x="1127895" y="107595"/>
                  <a:pt x="1145527" y="105740"/>
                  <a:pt x="1157287" y="115148"/>
                </a:cubicBezTo>
                <a:cubicBezTo>
                  <a:pt x="1272228" y="207102"/>
                  <a:pt x="1120604" y="125380"/>
                  <a:pt x="1214437" y="172298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олилиния 12"/>
          <p:cNvSpPr/>
          <p:nvPr/>
        </p:nvSpPr>
        <p:spPr>
          <a:xfrm>
            <a:off x="3357720" y="1714680"/>
            <a:ext cx="799920" cy="214200"/>
          </a:xfrm>
          <a:custGeom>
            <a:avLst/>
            <a:gdLst/>
            <a:ahLst/>
            <a:rect l="l" t="t" r="r" b="b"/>
            <a:pathLst>
              <a:path w="800100" h="214917">
                <a:moveTo>
                  <a:pt x="0" y="200629"/>
                </a:moveTo>
                <a:cubicBezTo>
                  <a:pt x="26081" y="181068"/>
                  <a:pt x="121769" y="107652"/>
                  <a:pt x="142875" y="100617"/>
                </a:cubicBezTo>
                <a:cubicBezTo>
                  <a:pt x="171450" y="91092"/>
                  <a:pt x="202772" y="87539"/>
                  <a:pt x="228600" y="72042"/>
                </a:cubicBezTo>
                <a:cubicBezTo>
                  <a:pt x="252412" y="57754"/>
                  <a:pt x="274756" y="40670"/>
                  <a:pt x="300037" y="29179"/>
                </a:cubicBezTo>
                <a:cubicBezTo>
                  <a:pt x="327458" y="16715"/>
                  <a:pt x="385762" y="604"/>
                  <a:pt x="385762" y="604"/>
                </a:cubicBezTo>
                <a:cubicBezTo>
                  <a:pt x="424055" y="3795"/>
                  <a:pt x="541717" y="0"/>
                  <a:pt x="600075" y="29179"/>
                </a:cubicBezTo>
                <a:cubicBezTo>
                  <a:pt x="615434" y="36858"/>
                  <a:pt x="629746" y="46761"/>
                  <a:pt x="642937" y="57754"/>
                </a:cubicBezTo>
                <a:cubicBezTo>
                  <a:pt x="658459" y="70689"/>
                  <a:pt x="670278" y="87682"/>
                  <a:pt x="685800" y="100617"/>
                </a:cubicBezTo>
                <a:cubicBezTo>
                  <a:pt x="747099" y="151700"/>
                  <a:pt x="714608" y="103754"/>
                  <a:pt x="771525" y="172054"/>
                </a:cubicBezTo>
                <a:cubicBezTo>
                  <a:pt x="782518" y="185246"/>
                  <a:pt x="800100" y="214917"/>
                  <a:pt x="800100" y="214917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олилиния 13"/>
          <p:cNvSpPr/>
          <p:nvPr/>
        </p:nvSpPr>
        <p:spPr>
          <a:xfrm>
            <a:off x="3357720" y="2214720"/>
            <a:ext cx="799920" cy="214200"/>
          </a:xfrm>
          <a:custGeom>
            <a:avLst/>
            <a:gdLst/>
            <a:ahLst/>
            <a:rect l="l" t="t" r="r" b="b"/>
            <a:pathLst>
              <a:path w="800100" h="214917">
                <a:moveTo>
                  <a:pt x="0" y="200629"/>
                </a:moveTo>
                <a:cubicBezTo>
                  <a:pt x="26081" y="181068"/>
                  <a:pt x="121769" y="107652"/>
                  <a:pt x="142875" y="100617"/>
                </a:cubicBezTo>
                <a:cubicBezTo>
                  <a:pt x="171450" y="91092"/>
                  <a:pt x="202772" y="87539"/>
                  <a:pt x="228600" y="72042"/>
                </a:cubicBezTo>
                <a:cubicBezTo>
                  <a:pt x="252412" y="57754"/>
                  <a:pt x="274756" y="40670"/>
                  <a:pt x="300037" y="29179"/>
                </a:cubicBezTo>
                <a:cubicBezTo>
                  <a:pt x="327458" y="16715"/>
                  <a:pt x="385762" y="604"/>
                  <a:pt x="385762" y="604"/>
                </a:cubicBezTo>
                <a:cubicBezTo>
                  <a:pt x="424055" y="3795"/>
                  <a:pt x="541717" y="0"/>
                  <a:pt x="600075" y="29179"/>
                </a:cubicBezTo>
                <a:cubicBezTo>
                  <a:pt x="615434" y="36858"/>
                  <a:pt x="629746" y="46761"/>
                  <a:pt x="642937" y="57754"/>
                </a:cubicBezTo>
                <a:cubicBezTo>
                  <a:pt x="658459" y="70689"/>
                  <a:pt x="670278" y="87682"/>
                  <a:pt x="685800" y="100617"/>
                </a:cubicBezTo>
                <a:cubicBezTo>
                  <a:pt x="747099" y="151700"/>
                  <a:pt x="714608" y="103754"/>
                  <a:pt x="771525" y="172054"/>
                </a:cubicBezTo>
                <a:cubicBezTo>
                  <a:pt x="782518" y="185246"/>
                  <a:pt x="800100" y="214917"/>
                  <a:pt x="800100" y="214917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олилиния 14"/>
          <p:cNvSpPr/>
          <p:nvPr/>
        </p:nvSpPr>
        <p:spPr>
          <a:xfrm>
            <a:off x="3286080" y="2786040"/>
            <a:ext cx="800280" cy="214200"/>
          </a:xfrm>
          <a:custGeom>
            <a:avLst/>
            <a:gdLst/>
            <a:ahLst/>
            <a:rect l="l" t="t" r="r" b="b"/>
            <a:pathLst>
              <a:path w="800100" h="214917">
                <a:moveTo>
                  <a:pt x="0" y="200629"/>
                </a:moveTo>
                <a:cubicBezTo>
                  <a:pt x="26081" y="181068"/>
                  <a:pt x="121769" y="107652"/>
                  <a:pt x="142875" y="100617"/>
                </a:cubicBezTo>
                <a:cubicBezTo>
                  <a:pt x="171450" y="91092"/>
                  <a:pt x="202772" y="87539"/>
                  <a:pt x="228600" y="72042"/>
                </a:cubicBezTo>
                <a:cubicBezTo>
                  <a:pt x="252412" y="57754"/>
                  <a:pt x="274756" y="40670"/>
                  <a:pt x="300037" y="29179"/>
                </a:cubicBezTo>
                <a:cubicBezTo>
                  <a:pt x="327458" y="16715"/>
                  <a:pt x="385762" y="604"/>
                  <a:pt x="385762" y="604"/>
                </a:cubicBezTo>
                <a:cubicBezTo>
                  <a:pt x="424055" y="3795"/>
                  <a:pt x="541717" y="0"/>
                  <a:pt x="600075" y="29179"/>
                </a:cubicBezTo>
                <a:cubicBezTo>
                  <a:pt x="615434" y="36858"/>
                  <a:pt x="629746" y="46761"/>
                  <a:pt x="642937" y="57754"/>
                </a:cubicBezTo>
                <a:cubicBezTo>
                  <a:pt x="658459" y="70689"/>
                  <a:pt x="670278" y="87682"/>
                  <a:pt x="685800" y="100617"/>
                </a:cubicBezTo>
                <a:cubicBezTo>
                  <a:pt x="747099" y="151700"/>
                  <a:pt x="714608" y="103754"/>
                  <a:pt x="771525" y="172054"/>
                </a:cubicBezTo>
                <a:cubicBezTo>
                  <a:pt x="782518" y="185246"/>
                  <a:pt x="800100" y="214917"/>
                  <a:pt x="800100" y="214917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олилиния 15"/>
          <p:cNvSpPr/>
          <p:nvPr/>
        </p:nvSpPr>
        <p:spPr>
          <a:xfrm>
            <a:off x="5929200" y="1643040"/>
            <a:ext cx="800280" cy="214200"/>
          </a:xfrm>
          <a:custGeom>
            <a:avLst/>
            <a:gdLst/>
            <a:ahLst/>
            <a:rect l="l" t="t" r="r" b="b"/>
            <a:pathLst>
              <a:path w="800100" h="214917">
                <a:moveTo>
                  <a:pt x="0" y="200629"/>
                </a:moveTo>
                <a:cubicBezTo>
                  <a:pt x="26081" y="181068"/>
                  <a:pt x="121769" y="107652"/>
                  <a:pt x="142875" y="100617"/>
                </a:cubicBezTo>
                <a:cubicBezTo>
                  <a:pt x="171450" y="91092"/>
                  <a:pt x="202772" y="87539"/>
                  <a:pt x="228600" y="72042"/>
                </a:cubicBezTo>
                <a:cubicBezTo>
                  <a:pt x="252412" y="57754"/>
                  <a:pt x="274756" y="40670"/>
                  <a:pt x="300037" y="29179"/>
                </a:cubicBezTo>
                <a:cubicBezTo>
                  <a:pt x="327458" y="16715"/>
                  <a:pt x="385762" y="604"/>
                  <a:pt x="385762" y="604"/>
                </a:cubicBezTo>
                <a:cubicBezTo>
                  <a:pt x="424055" y="3795"/>
                  <a:pt x="541717" y="0"/>
                  <a:pt x="600075" y="29179"/>
                </a:cubicBezTo>
                <a:cubicBezTo>
                  <a:pt x="615434" y="36858"/>
                  <a:pt x="629746" y="46761"/>
                  <a:pt x="642937" y="57754"/>
                </a:cubicBezTo>
                <a:cubicBezTo>
                  <a:pt x="658459" y="70689"/>
                  <a:pt x="670278" y="87682"/>
                  <a:pt x="685800" y="100617"/>
                </a:cubicBezTo>
                <a:cubicBezTo>
                  <a:pt x="747099" y="151700"/>
                  <a:pt x="714608" y="103754"/>
                  <a:pt x="771525" y="172054"/>
                </a:cubicBezTo>
                <a:cubicBezTo>
                  <a:pt x="782518" y="185246"/>
                  <a:pt x="800100" y="214917"/>
                  <a:pt x="800100" y="214917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олилиния 16"/>
          <p:cNvSpPr/>
          <p:nvPr/>
        </p:nvSpPr>
        <p:spPr>
          <a:xfrm>
            <a:off x="5929200" y="2214720"/>
            <a:ext cx="800280" cy="214200"/>
          </a:xfrm>
          <a:custGeom>
            <a:avLst/>
            <a:gdLst/>
            <a:ahLst/>
            <a:rect l="l" t="t" r="r" b="b"/>
            <a:pathLst>
              <a:path w="800100" h="214917">
                <a:moveTo>
                  <a:pt x="0" y="200629"/>
                </a:moveTo>
                <a:cubicBezTo>
                  <a:pt x="26081" y="181068"/>
                  <a:pt x="121769" y="107652"/>
                  <a:pt x="142875" y="100617"/>
                </a:cubicBezTo>
                <a:cubicBezTo>
                  <a:pt x="171450" y="91092"/>
                  <a:pt x="202772" y="87539"/>
                  <a:pt x="228600" y="72042"/>
                </a:cubicBezTo>
                <a:cubicBezTo>
                  <a:pt x="252412" y="57754"/>
                  <a:pt x="274756" y="40670"/>
                  <a:pt x="300037" y="29179"/>
                </a:cubicBezTo>
                <a:cubicBezTo>
                  <a:pt x="327458" y="16715"/>
                  <a:pt x="385762" y="604"/>
                  <a:pt x="385762" y="604"/>
                </a:cubicBezTo>
                <a:cubicBezTo>
                  <a:pt x="424055" y="3795"/>
                  <a:pt x="541717" y="0"/>
                  <a:pt x="600075" y="29179"/>
                </a:cubicBezTo>
                <a:cubicBezTo>
                  <a:pt x="615434" y="36858"/>
                  <a:pt x="629746" y="46761"/>
                  <a:pt x="642937" y="57754"/>
                </a:cubicBezTo>
                <a:cubicBezTo>
                  <a:pt x="658459" y="70689"/>
                  <a:pt x="670278" y="87682"/>
                  <a:pt x="685800" y="100617"/>
                </a:cubicBezTo>
                <a:cubicBezTo>
                  <a:pt x="747099" y="151700"/>
                  <a:pt x="714608" y="103754"/>
                  <a:pt x="771525" y="172054"/>
                </a:cubicBezTo>
                <a:cubicBezTo>
                  <a:pt x="782518" y="185246"/>
                  <a:pt x="800100" y="214917"/>
                  <a:pt x="800100" y="214917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олилиния 17"/>
          <p:cNvSpPr/>
          <p:nvPr/>
        </p:nvSpPr>
        <p:spPr>
          <a:xfrm>
            <a:off x="7000920" y="2857680"/>
            <a:ext cx="799920" cy="214200"/>
          </a:xfrm>
          <a:custGeom>
            <a:avLst/>
            <a:gdLst/>
            <a:ahLst/>
            <a:rect l="l" t="t" r="r" b="b"/>
            <a:pathLst>
              <a:path w="800100" h="214917">
                <a:moveTo>
                  <a:pt x="0" y="200629"/>
                </a:moveTo>
                <a:cubicBezTo>
                  <a:pt x="26081" y="181068"/>
                  <a:pt x="121769" y="107652"/>
                  <a:pt x="142875" y="100617"/>
                </a:cubicBezTo>
                <a:cubicBezTo>
                  <a:pt x="171450" y="91092"/>
                  <a:pt x="202772" y="87539"/>
                  <a:pt x="228600" y="72042"/>
                </a:cubicBezTo>
                <a:cubicBezTo>
                  <a:pt x="252412" y="57754"/>
                  <a:pt x="274756" y="40670"/>
                  <a:pt x="300037" y="29179"/>
                </a:cubicBezTo>
                <a:cubicBezTo>
                  <a:pt x="327458" y="16715"/>
                  <a:pt x="385762" y="604"/>
                  <a:pt x="385762" y="604"/>
                </a:cubicBezTo>
                <a:cubicBezTo>
                  <a:pt x="424055" y="3795"/>
                  <a:pt x="541717" y="0"/>
                  <a:pt x="600075" y="29179"/>
                </a:cubicBezTo>
                <a:cubicBezTo>
                  <a:pt x="615434" y="36858"/>
                  <a:pt x="629746" y="46761"/>
                  <a:pt x="642937" y="57754"/>
                </a:cubicBezTo>
                <a:cubicBezTo>
                  <a:pt x="658459" y="70689"/>
                  <a:pt x="670278" y="87682"/>
                  <a:pt x="685800" y="100617"/>
                </a:cubicBezTo>
                <a:cubicBezTo>
                  <a:pt x="747099" y="151700"/>
                  <a:pt x="714608" y="103754"/>
                  <a:pt x="771525" y="172054"/>
                </a:cubicBezTo>
                <a:cubicBezTo>
                  <a:pt x="782518" y="185246"/>
                  <a:pt x="800100" y="214917"/>
                  <a:pt x="800100" y="214917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5" descr="https://st2.depositphotos.com/7413918/10331/i/950/depositphotos_103312504-stock-photo-cute-crow-cartoon-character-with.jpg"/>
          <p:cNvPicPr/>
          <p:nvPr/>
        </p:nvPicPr>
        <p:blipFill>
          <a:blip r:embed="rId1"/>
          <a:stretch/>
        </p:blipFill>
        <p:spPr>
          <a:xfrm>
            <a:off x="4500720" y="3571920"/>
            <a:ext cx="3070080" cy="2924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1" descr="https://img2.freepng.ru/20180318/jqe/kisspng-computer-icons-clip-art-underline-swirl-5aae745e406ca3.6560336815213824942639.jpg"/>
          <p:cNvPicPr/>
          <p:nvPr/>
        </p:nvPicPr>
        <p:blipFill>
          <a:blip r:embed="rId2"/>
          <a:stretch/>
        </p:blipFill>
        <p:spPr>
          <a:xfrm>
            <a:off x="5286240" y="5429160"/>
            <a:ext cx="81936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64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ИННИК                         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УННЫЙ 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ПОДДЕРЖ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помнит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нить правил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8811-8896-43CC-9A0A-4BBA5AA5745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E704-8660-400A-BBD1-A2D5DE3B12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Прямая со стрелкой 7"/>
          <p:cNvCxnSpPr/>
          <p:nvPr/>
        </p:nvCxnSpPr>
        <p:spPr>
          <a:xfrm flipH="1">
            <a:off x="2785320" y="3214440"/>
            <a:ext cx="1143720" cy="11437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3" name="Прямая со стрелкой 8"/>
          <p:cNvCxnSpPr/>
          <p:nvPr/>
        </p:nvCxnSpPr>
        <p:spPr>
          <a:xfrm>
            <a:off x="5143320" y="3214440"/>
            <a:ext cx="1215000" cy="11437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04" name="Picture 9" descr="https://thumbs.dreamstime.com/z/%D1%81%D0%BC%D0%B5%D1%88%D0%BD%D0%BE%D0%B9-%D0%BF%D0%B5%D1%80%D1%81%D0%BE%D0%BD%D0%B0%D0%B6-%D0%B8%D0%B7-%D0%BC%D1%83-%D1%8C%D1%82%D1%84%D0%B8-%D1%8C%D0%BC%D0%B0-%D0%B2%D0%BE%D1%80%D0%BE%D0%BD%D1%8B-69241929.jpg"/>
          <p:cNvPicPr/>
          <p:nvPr/>
        </p:nvPicPr>
        <p:blipFill>
          <a:blip r:embed="rId1"/>
          <a:srcRect l="7420" t="7521" r="8545" b="12333"/>
          <a:stretch/>
        </p:blipFill>
        <p:spPr>
          <a:xfrm>
            <a:off x="285840" y="214200"/>
            <a:ext cx="207144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ОСИННИК                   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ЛУННЫЙ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ОДДЕРЖ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B306-8830-4AA1-B626-652AAAE0F25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26A4-722C-4FE6-9F4A-88DF7B3FA5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https://st2.depositphotos.com/7413918/10331/i/950/depositphotos_103313224-stock-photo-cute-crow-cartoon-character-with.jpg"/>
          <p:cNvPicPr/>
          <p:nvPr/>
        </p:nvPicPr>
        <p:blipFill>
          <a:blip r:embed="rId1"/>
          <a:stretch/>
        </p:blipFill>
        <p:spPr>
          <a:xfrm>
            <a:off x="357120" y="1357200"/>
            <a:ext cx="3113280" cy="265140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7"/>
          <p:cNvSpPr/>
          <p:nvPr/>
        </p:nvSpPr>
        <p:spPr>
          <a:xfrm>
            <a:off x="827640" y="1857240"/>
            <a:ext cx="70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Arial Black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Прямоугольник 7" descr=""/>
          <p:cNvPicPr/>
          <p:nvPr/>
        </p:nvPicPr>
        <p:blipFill>
          <a:blip r:embed="rId2"/>
          <a:stretch/>
        </p:blipFill>
        <p:spPr>
          <a:xfrm>
            <a:off x="639720" y="3932280"/>
            <a:ext cx="81439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4D2C-BD8D-4898-A84E-AD882A0BA90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36C4-4521-4009-AD0D-979CCDFCD8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Прямоугольник 5" descr=""/>
          <p:cNvPicPr/>
          <p:nvPr/>
        </p:nvPicPr>
        <p:blipFill>
          <a:blip r:embed="rId1"/>
          <a:stretch/>
        </p:blipFill>
        <p:spPr>
          <a:xfrm>
            <a:off x="639720" y="1359000"/>
            <a:ext cx="8077320" cy="72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0T09:00:32Z</dcterms:created>
  <dc:creator>1</dc:creator>
  <dc:description>http://aida.ucoz.ru</dc:description>
  <dc:language>en-US</dc:language>
  <cp:lastModifiedBy>Админ</cp:lastModifiedBy>
  <dcterms:modified xsi:type="dcterms:W3CDTF">2023-07-12T10:25:27Z</dcterms:modified>
  <cp:revision>99</cp:revision>
  <dc:subject/>
  <dc:title>Слайд 1</dc:title>
</cp:coreProperties>
</file>