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0ED4-95C5-460E-B08E-37563278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6B0-05E5-4540-9B58-4CE75502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ED7-FEEF-49F9-937A-A5088052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AE3-381B-4C27-84AF-9088A2D8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14CB-A747-4BB8-9776-578E79B3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9DE2-1EFF-4FBA-A71E-40B85FF9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4F54-DF69-414E-B08C-E05653BE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3B58-2AAF-4F30-BE2C-FFB88351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FB78-05E4-4692-A112-CC80FCA7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3372-7EED-4684-8F76-BC357B35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2A58-3BAC-4E7E-9235-41D4EA7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139-0229-4112-9861-818CB99A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DE5D-DE2B-4976-8ABF-7768A03F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2A8B-7677-4511-9F3F-548B068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BAE0-5291-4DBE-9090-1F2CAE66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74C5-E014-44D2-B362-D268BD3F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7278-A50F-4915-8A85-E019E080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FB5-4800-413E-A50A-F178E6E1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B27-412D-4955-A367-D5D8FBF3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C9A-1E86-4B53-B8A5-1A9DBD6B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7FB-9289-4D83-9EC4-E57998FB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ECB-3BC3-41E0-9D94-8037B4E7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8AD-42EB-4F80-A91D-8863393B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D5F-D242-46D6-9632-6070D2B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BD68-9DAB-4581-970A-992C67EA75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AA26-F27F-4D22-A2D8-AA781D12C4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Arial"/>
              </a:rPr>
              <a:t>Проект по технологии</a:t>
            </a:r>
            <a:br>
              <a:rPr sz="3600"/>
            </a:br>
            <a:r>
              <a:rPr b="1" lang="ru-RU" sz="3600" spc="-1" strike="noStrike">
                <a:solidFill>
                  <a:srgbClr val="99ff99"/>
                </a:solidFill>
                <a:latin typeface="Arial"/>
              </a:rPr>
              <a:t>РАЗДЕЛОЧНАЯ ДОС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 работ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ник 9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вленко Ив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мсараева Д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3880" y="18864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2.4 Организация рабочего места и техника безопасност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42880" y="1413000"/>
            <a:ext cx="78868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Разрешается работать только исправным лобзиком, обеспечивающим надёжное правильное закрепление пил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Ручка лобзика не должна иметь трещины, су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Выпиливание выполняется на специальных столиках. столики должны быть ровными и гладк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При выпиливании применяется прямая сидячая по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Основная опасность при работе лобзиком - ранение рук в результате поломки пилки. пилку следует перемещать сверху вниз равномерно, без перекосов, с небольшим нажимом на метал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  Работать только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равным  выжигательном приборо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При работе следует проветривать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ещение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8. Не следует наклоняться близко к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месту выжигания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9. Не оставлять прибор включенным в сеть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0. Оберегать руки и одежду от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рикосновений раскаленного пера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1. Работать с красками, лаками следует только в хорошо проветриваемом помещении, проветривать помещение до и после работы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2.Не работать вблизи открытого огня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3. Работать на столе, покрытом целлофановой клеёнкой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4.При попадании лака на руки тщательно вымыть их водой. При попадании лака на кожу очистить руки при помощи ватного тампона, пропитанного растительным маслом, а затем тщательно вымыть водой с мылом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3880" y="333360"/>
            <a:ext cx="788688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1 технологическая карт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68360" y="1341360"/>
          <a:ext cx="8424720" cy="5327640"/>
        </p:xfrm>
        <a:graphic>
          <a:graphicData uri="http://schemas.openxmlformats.org/drawingml/2006/table">
            <a:tbl>
              <a:tblPr/>
              <a:tblGrid>
                <a:gridCol w="674640"/>
                <a:gridCol w="4079880"/>
                <a:gridCol w="3670200"/>
              </a:tblGrid>
              <a:tr h="74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опер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рудование , инструменты и приспособ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50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ыбрать заготовку с учетом припусков на обработку(30х20х5 мм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линей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5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Разметить контур изделия с помощью шабл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Шаблон, каранда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73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ыпилить контур изде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Лобзик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750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колоть шилом центр отверст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осверлить отверст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др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74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Зачистить отверстие. Скруглить острые кромки и угл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ждачная бумаг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750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Нанести рисунок с помощью копировальной бумаги и эскиз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Карандаш, </a:t>
                      </a:r>
                      <a:r>
                        <a:rPr b="0" lang="ru-RU" sz="1400" spc="-1" strike="noStrike" u="sng">
                          <a:solidFill>
                            <a:srgbClr val="008ae8"/>
                          </a:solidFill>
                          <a:uFillTx/>
                          <a:latin typeface="Arial"/>
                        </a:rPr>
                        <a:t>копировальная бумага,</a:t>
                      </a: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 эскиз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73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ыжечь рисунок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ыжигательный прибор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Отлакировать издел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Лак, ки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6988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Рисунок 2" descr="C:\Users\user\Desktop\13.jpg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Рисунок 3" descr="C:\Users\user\Desktop\11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84360" y="780840"/>
            <a:ext cx="446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Рисунок 2" descr="C:\Users\user\Desktop\15.jpg"/>
          <p:cNvPicPr/>
          <p:nvPr/>
        </p:nvPicPr>
        <p:blipFill>
          <a:blip r:embed="rId1"/>
          <a:stretch/>
        </p:blipFill>
        <p:spPr>
          <a:xfrm>
            <a:off x="755640" y="620640"/>
            <a:ext cx="74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64000" y="1413000"/>
            <a:ext cx="2303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Рисунок 2" descr="C:\Users\user\Desktop\17.jpg"/>
          <p:cNvPicPr/>
          <p:nvPr/>
        </p:nvPicPr>
        <p:blipFill>
          <a:blip r:embed="rId1"/>
          <a:stretch/>
        </p:blipFill>
        <p:spPr>
          <a:xfrm>
            <a:off x="971640" y="549360"/>
            <a:ext cx="7129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1000"/>
            <a:ext cx="547236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Рисунок 2" descr="C:\Users\user\Desktop\18.jpg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3880" y="115560"/>
            <a:ext cx="788688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2 Экологическое обосновани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3880" y="1628280"/>
            <a:ext cx="7886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использованные материалы изготовлены из экологически чистого сырья. Изделие тоже является экологически безвредным, не приносящим опасных последствий здоровью человека. Технология изготовления при соблюдении техники безопасности и санитарно-гигиенических норм также является безопас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3880" y="333360"/>
            <a:ext cx="788688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3 Экономический расчет</a:t>
            </a: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02920" y="2133720"/>
            <a:ext cx="504036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68360" y="1484280"/>
          <a:ext cx="7704000" cy="504036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131920"/>
              </a:tblGrid>
              <a:tr h="12114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матери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ловная цена за М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ты на оборудование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95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399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точки 1ш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4395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399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андаш ТМ имеет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,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 налич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4395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стик имеетс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0,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 налич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4413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ждачная бумага Р1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4399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ты на электроэнерги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749160">
                <a:tc gridSpan="3"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: 584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одержание: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.Введение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.1 Выбор и обоснование проекта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.2. Цель проекта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1 Историческая справка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2 Критерии оценки идей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3 Материалы инструменты и приспособления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2.4 Организация рабочего места и техника безопасности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1 Технологическая карта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2 Экологическое обоснование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3 Экономический расчет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4. Контроль качества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5 Заключение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3.6 Литература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3880" y="691920"/>
            <a:ext cx="7886880" cy="93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4. Контроль качеств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3880" y="2349000"/>
            <a:ext cx="78868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товое изделие отвечает следящему образц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елие выполнено аккурат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елие надежное и проч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очная доска представляет собой законченное издел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3880" y="476280"/>
            <a:ext cx="788688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Заключение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1154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доволен своим проектом. На мой взгляд, получилось хорошо, чисто, аккуратно. Одним словом, все задуманное выполнил. Исправить я ничего не хочу, но развивать свои знания и умения при оформлении разделочных досок продол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изготовления проектного изделия мне понадобились следующие знания и умения: - умение работать с лаком; -умение работать с электролобзиком и электровыжигателем. Наиболее трудоемкий этап был это выжигание рису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достиг желаемого результата и повысил умения работать с лобзиком   и выжигательным прибором, а также получил красивую разделочную доску. Она идеально подходит для разрезки овощей и фру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3880" y="40428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3.6 Литератур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3880" y="2276640"/>
            <a:ext cx="788688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Учебник:  П. С. Самородский, А. Т. Тищенко, В. Д. Симоненко «Технология (технический труд)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Пул Стефан. Выжигание по дереву / Пер. с англ.-М. АСТ-ПРЕСС.КНИГА. 2013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3880" y="333000"/>
            <a:ext cx="7886880" cy="93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1.Введени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3880" y="1557360"/>
            <a:ext cx="78868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тарину наши предки умели очень многие вещи делать своими ру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чались они качественные, красивые.  Конечно, сейчас в современной жизни продаются очень много красивых и оригинальных вещей выполненных при помощи современных технологий, но работа, сделанная своими руками из древесины, придает интерьеру своеобразный сти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еди многих художественных ремесел, связанных с обработкой дерева, особое место занимает декоративное выжигание. Одно из популярных ремесел, глубоко связанное с традициями русского народного творчества, выжигание развивалось параллельно с резьбой, точением, мозаикой и живописными работами по дереву, нередко дополняя эти виды искусства или выступая самостоятель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старину для выжигания использовали металлические стержни, концы которых на огне калили до красна или употребляли металлические клейма с выгравированными по мотивом народной резьбы рельефным узор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ше время применяют электровыжигател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99"/>
                </a:solidFill>
                <a:latin typeface="Arial"/>
              </a:rPr>
              <a:t>1.1 Выбор и обоснование проекта</a:t>
            </a:r>
            <a:br>
              <a:rPr sz="28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Мои родные очень любят готовить. Они  много времени проводят на кухне и готовят вкусные блюда. В процессе приготовления они часто используют разделочную доску, чтобы резать овощи или другие продукты. Мне захотелось доставить им удовольствие, чтобы им было приятно готовить. Я решил порадовать их новой доской и изготовить ее Они будут пользоваться этой доской, и вспоминать об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Красивая доска станет еще и украшением кухни. Разделочные доски могут быть пластмассовые, металлические, деревя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3880" y="189000"/>
            <a:ext cx="788688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1.2 Цель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Изготовить разделочную доску, украшенную выжиганием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3880" y="1988640"/>
            <a:ext cx="7886880" cy="41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Отработать навыки  работы с лобзиком и выжига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. Закрепить умения выжигания по дере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Закрепить умения производить расчёт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рат при изготовлении разделочной дос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рашенной выжиганием по дерев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674640"/>
            <a:ext cx="8229600" cy="799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2.1 Историческая справка</a:t>
            </a:r>
            <a:br>
              <a:rPr sz="2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азделочная доска – это неотъемлемый атрибут любой хозяйки. И сегодня невозможно представить приготовление пищи без использования разделочной доски. С самого начала создавали разделочные доски из дерева. Для ее изготовления применяли различную древесину: березу, дуб, сосну, бук и т.д. Отличительными чертами тех досок были только лишь размеры и порода дерева, из которого была сделана доска. Конечно, недостатков у деревянных досок много. Помимо того, что они очень быстро переходили в фазу непригодности. На них еще и скапливались, и быстро размножались различные бактерии. Ведь деревянную разделочную доску достаточно плохо мыть из-за ее пористой структуры. Но именно деревянная доска в неизменном состоянии «прожила» вплоть до начала ХХ века. На сегодняшний день большей популярностью пользуются все же пластиковые разделочные доски из-за своей практичности. Хотя свою актуальность со времен зачатков истории разделочной доски не утратили и деревянные доски, которые уж точно присутствую на каждой кухне – от ресторанной до домашней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История развития выжигание по дереву.         Так уж устроен человек, что помимо удовлетворения своих естественных потребностей в еде и крове он всегда стремился реализовать и свой творческий потенциал, и свое видение прекрасного. Именно отсюда и берет, наверное, свое начало такая техника декоративно-прикладного искусства, как выжигание, органично вплетающаяся в практически каждую культуру совершенно, казалось бы, различных народов мира. Об этом свидетельствуют артефакты, обнаруженные при раскопках на самых разных континентах. Интересно, что возраст некоторых предметов быта, декорированных выжженным узором и найденных на территории современного Перу, составляет около семисот лет до нашей эры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3880" y="189000"/>
            <a:ext cx="754848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2.2 Критерии оценки идей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3880" y="5154480"/>
            <a:ext cx="82692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3880" y="2036880"/>
          <a:ext cx="8269200" cy="4056120"/>
        </p:xfrm>
        <a:graphic>
          <a:graphicData uri="http://schemas.openxmlformats.org/drawingml/2006/table">
            <a:tbl>
              <a:tblPr/>
              <a:tblGrid>
                <a:gridCol w="1654200"/>
                <a:gridCol w="1654200"/>
                <a:gridCol w="1652400"/>
                <a:gridCol w="1654200"/>
                <a:gridCol w="1654200"/>
              </a:tblGrid>
              <a:tr h="81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заказа и спроса на рын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материа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личие инструментов и оборуд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аточность умения и навы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08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ка разделочная с элементом выжига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135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ка разделочная с элементами  резьбы по дерев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81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ка разделочная с гравировко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3880" y="18864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2.3 Материалы инструменты и приспособления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3880" y="1915920"/>
            <a:ext cx="78868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ревеси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Лобз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иней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арандаш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Шаб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 Копировальная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Наждачная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Выжигательный приб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4:59:14Z</dcterms:created>
  <dc:creator>Komputer</dc:creator>
  <dc:description/>
  <dc:language>en-US</dc:language>
  <cp:lastModifiedBy>Пользователь Windows</cp:lastModifiedBy>
  <dcterms:modified xsi:type="dcterms:W3CDTF">2023-06-20T07:43:46Z</dcterms:modified>
  <cp:revision>36</cp:revision>
  <dc:subject/>
  <dc:title>Проект  «Скорпион»</dc:title>
</cp:coreProperties>
</file>