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4.jpeg" ContentType="image/jpeg"/>
  <Override PartName="/ppt/media/image13.png" ContentType="image/png"/>
  <Override PartName="/ppt/media/image30.jpeg" ContentType="image/jpeg"/>
  <Override PartName="/ppt/media/image3.jpeg" ContentType="image/jpeg"/>
  <Override PartName="/ppt/media/image32.jpeg" ContentType="image/jpeg"/>
  <Override PartName="/ppt/media/image9.png" ContentType="image/png"/>
  <Override PartName="/ppt/media/image34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29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media/image19.png" ContentType="image/png"/>
  <Override PartName="/ppt/media/image20.png" ContentType="image/png"/>
  <Override PartName="/ppt/media/image28.jpeg" ContentType="image/jpe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2E28-AD7A-4B17-998B-9AC31AF7A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3483-21B7-4953-9D1E-BC457D2A5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81F5-6D51-4CD4-8841-298A24759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0AB4-F82B-4339-9788-D32FC1A51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E09C-4D20-436E-851C-C43E24797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4D90-2748-43A7-80B1-2EAF438CE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DCB3-F82C-4B42-BBDE-8AEC67A82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093C-2D14-4246-BFBE-81AAB4747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C363-FCC9-4427-AEA3-8395FB2B2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8169-E8F0-48C1-9910-48C53BAA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4550-CB09-4FF9-91DF-41C9EC55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6421-53F0-48F7-826C-95164196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BE643-E59E-4FB2-8E17-C33109AD82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6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Users\nezabudka\Desktop\К работе\2 - копия.png"/>
          <p:cNvPicPr/>
          <p:nvPr/>
        </p:nvPicPr>
        <p:blipFill>
          <a:blip r:embed="rId1"/>
          <a:stretch/>
        </p:blipFill>
        <p:spPr>
          <a:xfrm>
            <a:off x="250920" y="0"/>
            <a:ext cx="7921440" cy="6597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56000" y="2280960"/>
            <a:ext cx="4681440" cy="32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02b"/>
                </a:solidFill>
                <a:latin typeface="Comic Sans MS"/>
              </a:rPr>
              <a:t>Грибы съедобные и несъедобные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993600"/>
            <a:ext cx="6656400" cy="20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02b"/>
                </a:solidFill>
                <a:latin typeface="Arial"/>
              </a:rPr>
              <a:t>13 октябр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02b"/>
                </a:solidFill>
                <a:latin typeface="Arial"/>
              </a:rPr>
              <a:t>Классная рабо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826920" y="547524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omic Sans MS"/>
              </a:rPr>
              <a:t>Съедобные гриб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48320" y="1844280"/>
            <a:ext cx="403848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99"/>
                </a:solidFill>
                <a:latin typeface="Comic Sans MS"/>
              </a:rPr>
              <a:t>Маслята и рыжи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Встречают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под соснами и еля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547640" y="4005360"/>
            <a:ext cx="3095640" cy="2322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C:\Users\nezabudka\Desktop\Аттестация\К работе\16 маслята.jpeg"/>
          <p:cNvPicPr/>
          <p:nvPr/>
        </p:nvPicPr>
        <p:blipFill>
          <a:blip r:embed="rId2"/>
          <a:stretch/>
        </p:blipFill>
        <p:spPr>
          <a:xfrm>
            <a:off x="468360" y="1484280"/>
            <a:ext cx="269388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omic Sans MS"/>
              </a:rPr>
              <a:t>Съедобные гриб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427280" y="2205000"/>
            <a:ext cx="425916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99"/>
                </a:solidFill>
                <a:latin typeface="Comic Sans MS"/>
              </a:rPr>
              <a:t>Подосинов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Соседствуют не только с осиной, но и с сосной, ель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376236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omic Sans MS"/>
              </a:rPr>
              <a:t>Грибы, занесенные в Красную книг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99"/>
                </a:solidFill>
                <a:latin typeface="Comic Sans MS"/>
              </a:rPr>
              <a:t>Цезарский гри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C:\Users\nezabudka\Desktop\Аттестация\К работе\17 цезарский гриб.jpeg"/>
          <p:cNvPicPr/>
          <p:nvPr/>
        </p:nvPicPr>
        <p:blipFill>
          <a:blip r:embed="rId1"/>
          <a:stretch/>
        </p:blipFill>
        <p:spPr>
          <a:xfrm>
            <a:off x="971640" y="2421000"/>
            <a:ext cx="2963880" cy="39513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99"/>
                </a:solidFill>
                <a:latin typeface="Comic Sans MS"/>
              </a:rPr>
              <a:t>Гриб-бар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C:\Users\nezabudka\Desktop\Аттестация\К работе\20 баран.jpeg"/>
          <p:cNvPicPr/>
          <p:nvPr/>
        </p:nvPicPr>
        <p:blipFill>
          <a:blip r:embed="rId2"/>
          <a:stretch/>
        </p:blipFill>
        <p:spPr>
          <a:xfrm>
            <a:off x="4572000" y="2852640"/>
            <a:ext cx="4041720" cy="30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omic Sans MS"/>
              </a:rPr>
              <a:t>Грибы, занесенные в Красную книг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5000"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99"/>
                </a:solidFill>
                <a:latin typeface="Comic Sans MS"/>
              </a:rPr>
              <a:t>Гриб-каштанов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99"/>
                </a:solidFill>
                <a:latin typeface="Comic Sans MS"/>
              </a:rPr>
              <a:t>Гриб-синя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C:\Users\nezabudka\Desktop\Аттестация\К работе\18 каштановик.jpeg"/>
          <p:cNvPicPr/>
          <p:nvPr/>
        </p:nvPicPr>
        <p:blipFill>
          <a:blip r:embed="rId1"/>
          <a:stretch/>
        </p:blipFill>
        <p:spPr>
          <a:xfrm>
            <a:off x="684360" y="2421000"/>
            <a:ext cx="3600360" cy="3635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C:\Users\nezabudka\Desktop\Аттестация\К работе\19 синяк.jpeg"/>
          <p:cNvPicPr/>
          <p:nvPr/>
        </p:nvPicPr>
        <p:blipFill>
          <a:blip r:embed="rId2"/>
          <a:stretch/>
        </p:blipFill>
        <p:spPr>
          <a:xfrm>
            <a:off x="6084720" y="4221000"/>
            <a:ext cx="2517840" cy="1889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C:\Users\nezabudka\Desktop\Аттестация\К работе\19а.jpeg"/>
          <p:cNvPicPr/>
          <p:nvPr/>
        </p:nvPicPr>
        <p:blipFill>
          <a:blip r:embed="rId3"/>
          <a:stretch/>
        </p:blipFill>
        <p:spPr>
          <a:xfrm>
            <a:off x="5003640" y="2421000"/>
            <a:ext cx="2695680" cy="20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omic Sans MS"/>
              </a:rPr>
              <a:t>Несъедобные гриб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C:\Users\nezabudka\Desktop\Аттестация\К работе\22 ложные опята.jpeg"/>
          <p:cNvPicPr/>
          <p:nvPr/>
        </p:nvPicPr>
        <p:blipFill>
          <a:blip r:embed="rId1"/>
          <a:stretch/>
        </p:blipFill>
        <p:spPr>
          <a:xfrm>
            <a:off x="468360" y="4005360"/>
            <a:ext cx="2590920" cy="2097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C:\Users\nezabudka\Desktop\Аттестация\К работе\22 мухомор.jpeg"/>
          <p:cNvPicPr/>
          <p:nvPr/>
        </p:nvPicPr>
        <p:blipFill>
          <a:blip r:embed="rId2"/>
          <a:stretch/>
        </p:blipFill>
        <p:spPr>
          <a:xfrm>
            <a:off x="6084720" y="4221000"/>
            <a:ext cx="2570400" cy="1872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C:\Users\nezabudka\Desktop\Аттестация\К работе\21а.jpeg"/>
          <p:cNvPicPr/>
          <p:nvPr/>
        </p:nvPicPr>
        <p:blipFill>
          <a:blip r:embed="rId3"/>
          <a:stretch/>
        </p:blipFill>
        <p:spPr>
          <a:xfrm>
            <a:off x="3348000" y="2997360"/>
            <a:ext cx="2443320" cy="3319200"/>
          </a:xfrm>
          <a:prstGeom prst="rect">
            <a:avLst/>
          </a:prstGeom>
          <a:ln w="0">
            <a:noFill/>
          </a:ln>
        </p:spPr>
      </p:pic>
      <p:sp>
        <p:nvSpPr>
          <p:cNvPr id="122" name="TextBox 17"/>
          <p:cNvSpPr/>
          <p:nvPr/>
        </p:nvSpPr>
        <p:spPr>
          <a:xfrm>
            <a:off x="250920" y="3213000"/>
            <a:ext cx="30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Comic Sans MS"/>
              </a:rPr>
              <a:t>Ложные опя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8"/>
          <p:cNvSpPr/>
          <p:nvPr/>
        </p:nvSpPr>
        <p:spPr>
          <a:xfrm>
            <a:off x="3635280" y="1773360"/>
            <a:ext cx="187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Comic Sans MS"/>
              </a:rPr>
              <a:t>Бледн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Comic Sans MS"/>
              </a:rPr>
              <a:t>пога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9"/>
          <p:cNvSpPr/>
          <p:nvPr/>
        </p:nvSpPr>
        <p:spPr>
          <a:xfrm>
            <a:off x="6300720" y="335772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Comic Sans MS"/>
              </a:rPr>
              <a:t>Мухом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omic Sans MS"/>
              </a:rPr>
              <a:t>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50560" y="1600200"/>
            <a:ext cx="424476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99"/>
                </a:solidFill>
                <a:latin typeface="Comic Sans MS"/>
              </a:rPr>
              <a:t>	</a:t>
            </a:r>
            <a:r>
              <a:rPr b="0" lang="ru-RU" sz="3600" spc="-1" strike="noStrike">
                <a:solidFill>
                  <a:srgbClr val="336699"/>
                </a:solidFill>
                <a:latin typeface="Comic Sans MS"/>
              </a:rPr>
              <a:t>При отравлении грибами нужно срочно промыть желудок и вызвать врач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00720" y="1483920"/>
            <a:ext cx="41860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4859280" y="3141720"/>
            <a:ext cx="38149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-36360" y="2203920"/>
            <a:ext cx="8180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арите, солите и жарьте гриб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олько грибницу не трогайте вы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на словно нить глубоко под земле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спортишь ее, не будет другой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omic Sans MS"/>
              </a:rPr>
              <a:t>Правила сбора гриб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3622680" cy="41767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4067280" y="1413000"/>
            <a:ext cx="475272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Собирай только те грибы, которые хорошо знаеш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omic Sans MS"/>
              </a:rPr>
              <a:t>Не надо собирать старые съедобные грибы. В них может накопиться опасный для человека я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Comic Sans MS"/>
              </a:rPr>
              <a:t>Нельзя разрывать и раскидывать лесную подстил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omic Sans MS"/>
              </a:rPr>
              <a:t>Грибы нужно аккуратно срезать ножом или выкручивать из зем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omic Sans MS"/>
              </a:rPr>
              <a:t>Народные приметы о гриб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Comic Sans MS"/>
              </a:rPr>
              <a:t>Первый туман лета — верная грибная прим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Comic Sans MS"/>
              </a:rPr>
              <a:t>Коль пошел парной туман над лесом — иди по гри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Comic Sans MS"/>
              </a:rPr>
              <a:t>Много мошек — готовь под грибы лукош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Comic Sans MS"/>
              </a:rPr>
              <a:t>Вечером дожди — утром грибов ж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4788000" y="1916280"/>
            <a:ext cx="3754440" cy="37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omic Sans MS"/>
              </a:rPr>
              <a:t>Подведем ито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omic Sans MS"/>
              </a:rPr>
              <a:t>Назови съедобные и несъедобные грибы, встречающиеся в Краснодарском кра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omic Sans MS"/>
              </a:rPr>
              <a:t>Что необходимо сделать при отравлении гриба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Comic Sans MS"/>
              </a:rPr>
              <a:t>Какие правила сбора грибов нужно зн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Рисунок7"/>
          <p:cNvPicPr/>
          <p:nvPr/>
        </p:nvPicPr>
        <p:blipFill>
          <a:blip r:embed="rId1"/>
          <a:stretch/>
        </p:blipFill>
        <p:spPr>
          <a:xfrm>
            <a:off x="611280" y="1628640"/>
            <a:ext cx="372276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Грибы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это особое царство живой природы, которое не относится ни к миру растений, ни к миру живот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2971800" y="3733920"/>
            <a:ext cx="248292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ё настро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МНЕ БЫЛО ИНТЕРЕСН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b6bcf"/>
                </a:solidFill>
                <a:latin typeface="Arial"/>
              </a:rPr>
              <a:t>УЗНАЛ ЧТО-ТО НОВО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59480" y="11653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Arial"/>
              </a:rPr>
              <a:t>БЫЛО ТЯЖЕЛО, НО Я СПРАВИЛС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4433e"/>
                </a:solidFill>
                <a:latin typeface="Comic Sans MS"/>
              </a:rPr>
              <a:t>Вспомни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v_sarstve_grib"/>
          <p:cNvPicPr/>
          <p:nvPr/>
        </p:nvPicPr>
        <p:blipFill>
          <a:blip r:embed="rId1"/>
          <a:stretch/>
        </p:blipFill>
        <p:spPr>
          <a:xfrm>
            <a:off x="1547640" y="1700280"/>
            <a:ext cx="6193080" cy="46450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1640" y="404280"/>
            <a:ext cx="6337080" cy="7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Comic Sans MS"/>
              </a:rPr>
              <a:t>Из каких частей состоит гриб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 flipH="1">
            <a:off x="5363640" y="1844640"/>
            <a:ext cx="1297080" cy="719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>
            <a:off x="1835280" y="3933720"/>
            <a:ext cx="649080" cy="935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 flipH="1">
            <a:off x="5076360" y="3500280"/>
            <a:ext cx="1297080" cy="719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400" y="1268280"/>
            <a:ext cx="166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Шляп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6449760" y="3068640"/>
            <a:ext cx="14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Нож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222120" y="3284640"/>
            <a:ext cx="203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Грибн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3300"/>
                </a:solidFill>
                <a:latin typeface="Comic Sans MS"/>
              </a:rPr>
              <a:t>Отгадайте загад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5445000"/>
            <a:ext cx="822960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"/>
          <p:cNvSpPr/>
          <p:nvPr/>
        </p:nvSpPr>
        <p:spPr>
          <a:xfrm>
            <a:off x="1763640" y="2349360"/>
            <a:ext cx="5472360" cy="23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2066760" y="2577960"/>
            <a:ext cx="4767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лубоко был спрятан о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аз-два-три, и вышел во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 стоит он на ви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елый, я тебя найд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f"/>
          <p:cNvPicPr/>
          <p:nvPr/>
        </p:nvPicPr>
        <p:blipFill>
          <a:blip r:embed="rId1"/>
          <a:stretch/>
        </p:blipFill>
        <p:spPr>
          <a:xfrm>
            <a:off x="2987640" y="1268280"/>
            <a:ext cx="2940120" cy="827280"/>
          </a:xfrm>
          <a:prstGeom prst="rect">
            <a:avLst/>
          </a:prstGeom>
          <a:ln w="0">
            <a:noFill/>
          </a:ln>
        </p:spPr>
      </p:pic>
      <p:grpSp>
        <p:nvGrpSpPr>
          <p:cNvPr id="62" name="TextBox 6"/>
          <p:cNvGrpSpPr/>
          <p:nvPr/>
        </p:nvGrpSpPr>
        <p:grpSpPr>
          <a:xfrm>
            <a:off x="3352680" y="5241960"/>
            <a:ext cx="2389320" cy="628560"/>
            <a:chOff x="3352680" y="5241960"/>
            <a:chExt cx="2389320" cy="628560"/>
          </a:xfrm>
        </p:grpSpPr>
        <p:pic>
          <p:nvPicPr>
            <p:cNvPr id="63" name="TextBox 6" descr=""/>
            <p:cNvPicPr/>
            <p:nvPr/>
          </p:nvPicPr>
          <p:blipFill>
            <a:blip r:embed="rId2"/>
            <a:stretch/>
          </p:blipFill>
          <p:spPr>
            <a:xfrm>
              <a:off x="3352680" y="5241960"/>
              <a:ext cx="238932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3370320" y="5256360"/>
              <a:ext cx="235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Comic Sans MS"/>
                </a:rPr>
                <a:t>Борови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TextBox 6"/>
          <p:cNvGrpSpPr/>
          <p:nvPr/>
        </p:nvGrpSpPr>
        <p:grpSpPr>
          <a:xfrm>
            <a:off x="2786040" y="5241960"/>
            <a:ext cx="3290760" cy="628560"/>
            <a:chOff x="2786040" y="5241960"/>
            <a:chExt cx="3290760" cy="628560"/>
          </a:xfrm>
        </p:grpSpPr>
        <p:pic>
          <p:nvPicPr>
            <p:cNvPr id="66" name="TextBox 6" descr=""/>
            <p:cNvPicPr/>
            <p:nvPr/>
          </p:nvPicPr>
          <p:blipFill>
            <a:blip r:embed="rId3"/>
            <a:stretch/>
          </p:blipFill>
          <p:spPr>
            <a:xfrm>
              <a:off x="2786040" y="5241960"/>
              <a:ext cx="329076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2801880" y="5256360"/>
              <a:ext cx="32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Comic Sans MS"/>
                </a:rPr>
                <a:t>Подберёзови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TextBox 6"/>
          <p:cNvGrpSpPr/>
          <p:nvPr/>
        </p:nvGrpSpPr>
        <p:grpSpPr>
          <a:xfrm>
            <a:off x="3352680" y="5241960"/>
            <a:ext cx="2389320" cy="628560"/>
            <a:chOff x="3352680" y="5241960"/>
            <a:chExt cx="2389320" cy="628560"/>
          </a:xfrm>
        </p:grpSpPr>
        <p:pic>
          <p:nvPicPr>
            <p:cNvPr id="69" name="TextBox 6" descr=""/>
            <p:cNvPicPr/>
            <p:nvPr/>
          </p:nvPicPr>
          <p:blipFill>
            <a:blip r:embed="rId4"/>
            <a:stretch/>
          </p:blipFill>
          <p:spPr>
            <a:xfrm>
              <a:off x="3352680" y="5241960"/>
              <a:ext cx="238932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3370320" y="5256360"/>
              <a:ext cx="235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Comic Sans MS"/>
                </a:rPr>
                <a:t>Мухомо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" name="Picture 24" descr="7"/>
          <p:cNvPicPr/>
          <p:nvPr/>
        </p:nvPicPr>
        <p:blipFill>
          <a:blip r:embed="rId5"/>
          <a:stretch/>
        </p:blipFill>
        <p:spPr>
          <a:xfrm>
            <a:off x="0" y="189000"/>
            <a:ext cx="2214720" cy="22464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25"/>
          <p:cNvSpPr/>
          <p:nvPr/>
        </p:nvSpPr>
        <p:spPr>
          <a:xfrm>
            <a:off x="2490840" y="2637000"/>
            <a:ext cx="3958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е спорю – не бел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Я, братцы, попрощ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асту я обыч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берёзовой рощ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7" descr="12"/>
          <p:cNvPicPr/>
          <p:nvPr/>
        </p:nvPicPr>
        <p:blipFill>
          <a:blip r:embed="rId6"/>
          <a:stretch/>
        </p:blipFill>
        <p:spPr>
          <a:xfrm>
            <a:off x="7164360" y="333360"/>
            <a:ext cx="1720800" cy="19432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29"/>
          <p:cNvSpPr/>
          <p:nvPr/>
        </p:nvSpPr>
        <p:spPr>
          <a:xfrm>
            <a:off x="2052360" y="2708280"/>
            <a:ext cx="4917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н в лесу стоя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икто его не бра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красивой шапке модн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икуда не год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0" descr="10"/>
          <p:cNvPicPr/>
          <p:nvPr/>
        </p:nvPicPr>
        <p:blipFill>
          <a:blip r:embed="rId7"/>
          <a:stretch/>
        </p:blipFill>
        <p:spPr>
          <a:xfrm>
            <a:off x="0" y="3933720"/>
            <a:ext cx="2414520" cy="22208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1"/>
          <p:cNvSpPr/>
          <p:nvPr/>
        </p:nvSpPr>
        <p:spPr>
          <a:xfrm>
            <a:off x="1661760" y="2565360"/>
            <a:ext cx="5595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ет грибов дружней, чем эти,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Знают взрослые и дети,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 пеньках растут в лес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ак веснушки на нос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TextBox 6"/>
          <p:cNvGrpSpPr/>
          <p:nvPr/>
        </p:nvGrpSpPr>
        <p:grpSpPr>
          <a:xfrm>
            <a:off x="3286080" y="5241960"/>
            <a:ext cx="2389320" cy="628560"/>
            <a:chOff x="3286080" y="5241960"/>
            <a:chExt cx="2389320" cy="628560"/>
          </a:xfrm>
        </p:grpSpPr>
        <p:pic>
          <p:nvPicPr>
            <p:cNvPr id="78" name="TextBox 6" descr=""/>
            <p:cNvPicPr/>
            <p:nvPr/>
          </p:nvPicPr>
          <p:blipFill>
            <a:blip r:embed="rId8"/>
            <a:stretch/>
          </p:blipFill>
          <p:spPr>
            <a:xfrm>
              <a:off x="3286080" y="5241960"/>
              <a:ext cx="238932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3298680" y="5256360"/>
              <a:ext cx="235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Comic Sans MS"/>
                </a:rPr>
                <a:t>Опят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" name="Picture 32" descr="11"/>
          <p:cNvPicPr/>
          <p:nvPr/>
        </p:nvPicPr>
        <p:blipFill>
          <a:blip r:embed="rId9"/>
          <a:stretch/>
        </p:blipFill>
        <p:spPr>
          <a:xfrm>
            <a:off x="6576840" y="3716280"/>
            <a:ext cx="2567160" cy="26211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3"/>
          <p:cNvSpPr/>
          <p:nvPr/>
        </p:nvSpPr>
        <p:spPr>
          <a:xfrm>
            <a:off x="2104920" y="2637000"/>
            <a:ext cx="4926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Я в красной шапочке рас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реди корней осинов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еня увидишь за верст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Зовусь я 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TextBox 6"/>
          <p:cNvGrpSpPr/>
          <p:nvPr/>
        </p:nvGrpSpPr>
        <p:grpSpPr>
          <a:xfrm>
            <a:off x="4151160" y="3870360"/>
            <a:ext cx="2816280" cy="628560"/>
            <a:chOff x="4151160" y="3870360"/>
            <a:chExt cx="2816280" cy="628560"/>
          </a:xfrm>
        </p:grpSpPr>
        <p:pic>
          <p:nvPicPr>
            <p:cNvPr id="83" name="TextBox 6" descr=""/>
            <p:cNvPicPr/>
            <p:nvPr/>
          </p:nvPicPr>
          <p:blipFill>
            <a:blip r:embed="rId10"/>
            <a:stretch/>
          </p:blipFill>
          <p:spPr>
            <a:xfrm>
              <a:off x="4151160" y="3870360"/>
              <a:ext cx="281628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4165560" y="3887640"/>
              <a:ext cx="278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Comic Sans MS"/>
                </a:rPr>
                <a:t>Подосинови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Picture 34" descr="8"/>
          <p:cNvPicPr/>
          <p:nvPr/>
        </p:nvPicPr>
        <p:blipFill>
          <a:blip r:embed="rId11"/>
          <a:stretch/>
        </p:blipFill>
        <p:spPr>
          <a:xfrm>
            <a:off x="3203640" y="4437000"/>
            <a:ext cx="2343240" cy="2421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5"/>
          <p:cNvSpPr/>
          <p:nvPr/>
        </p:nvSpPr>
        <p:spPr>
          <a:xfrm>
            <a:off x="2112120" y="2565360"/>
            <a:ext cx="4928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Назовите эти природ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объекты одним слов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К какому царству жив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природы они относят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6"/>
          <p:cNvSpPr/>
          <p:nvPr/>
        </p:nvSpPr>
        <p:spPr>
          <a:xfrm>
            <a:off x="3399480" y="476280"/>
            <a:ext cx="209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3300"/>
                </a:solidFill>
                <a:latin typeface="Comic Sans MS"/>
              </a:rPr>
              <a:t>Гриб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9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2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0" descr="9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120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Грибы в нашем крае в основном растут летом и осенью. Их можно встретить в лесу и в поле. Вспомните, какие съедобные и несъедобные грибы вы знает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omic Sans MS"/>
              </a:rPr>
              <a:t>Съедобные гриб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C:\Users\nezabudka\Desktop\Аттестация\К работе\21 опята.jpeg"/>
          <p:cNvPicPr/>
          <p:nvPr/>
        </p:nvPicPr>
        <p:blipFill>
          <a:blip r:embed="rId1"/>
          <a:stretch/>
        </p:blipFill>
        <p:spPr>
          <a:xfrm>
            <a:off x="539640" y="1916280"/>
            <a:ext cx="3961080" cy="38383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356000" y="1730520"/>
            <a:ext cx="461808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99"/>
                </a:solidFill>
                <a:latin typeface="Comic Sans MS"/>
              </a:rPr>
              <a:t>Опя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Растут преимущественно на пня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omic Sans MS"/>
              </a:rPr>
              <a:t>Съедобные гриб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8320" y="2205000"/>
            <a:ext cx="40384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99"/>
                </a:solidFill>
                <a:latin typeface="Comic Sans MS"/>
              </a:rPr>
              <a:t>Белый гри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Растет у дубов и ел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rcRect l="12737" t="-931" r="7030" b="0"/>
          <a:stretch/>
        </p:blipFill>
        <p:spPr>
          <a:xfrm>
            <a:off x="468360" y="2205000"/>
            <a:ext cx="38671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3T20:12:00Z</dcterms:created>
  <dc:creator>Admin</dc:creator>
  <dc:description/>
  <dc:language>en-US</dc:language>
  <cp:lastModifiedBy>Natalya Rodionova</cp:lastModifiedBy>
  <dcterms:modified xsi:type="dcterms:W3CDTF">2022-10-12T16:39:09Z</dcterms:modified>
  <cp:revision>53</cp:revision>
  <dc:subject/>
  <dc:title>Слайд 1</dc:title>
</cp:coreProperties>
</file>