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4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931-8AD6-497A-86A2-02BE8267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C71-3CAD-4D51-AEDB-CBF07E6C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F0FE-6670-412D-AD58-53AE63C0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D017-CA62-4963-8C22-75755A62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3F40-5F9D-4A33-B8EB-8E85FFBF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8FF-BC07-4DB1-9E86-C4AD741E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A21-C890-4E70-A533-F3F1EE24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396D-DB1D-4560-A9E1-28F36099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71F-7EB6-4933-9159-DFFA42B2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3D94-449E-45A6-8D22-D3AFF5D9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4A8-9ABF-4E20-98A1-B838ABAC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1F0-F265-499B-8214-F139526B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4607-9BBD-4235-84F4-E4E2C10742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6" descr="28287.jpg"/>
          <p:cNvPicPr/>
          <p:nvPr/>
        </p:nvPicPr>
        <p:blipFill>
          <a:blip r:embed="rId2"/>
          <a:stretch/>
        </p:blipFill>
        <p:spPr>
          <a:xfrm>
            <a:off x="285840" y="214200"/>
            <a:ext cx="8577000" cy="635796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7" descr="lineechka-60.gif"/>
          <p:cNvPicPr/>
          <p:nvPr/>
        </p:nvPicPr>
        <p:blipFill>
          <a:blip r:embed="rId3"/>
          <a:stretch/>
        </p:blipFill>
        <p:spPr>
          <a:xfrm flipH="1">
            <a:off x="214200" y="6000840"/>
            <a:ext cx="8715600" cy="85716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9" descr="music.pngv.png"/>
          <p:cNvPicPr/>
          <p:nvPr/>
        </p:nvPicPr>
        <p:blipFill>
          <a:blip r:embed="rId4"/>
          <a:stretch/>
        </p:blipFill>
        <p:spPr>
          <a:xfrm rot="1411200">
            <a:off x="7983360" y="125280"/>
            <a:ext cx="795600" cy="79560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10" descr="phoca_thumb_l_music-40.jpg"/>
          <p:cNvPicPr/>
          <p:nvPr/>
        </p:nvPicPr>
        <p:blipFill>
          <a:blip r:embed="rId5"/>
          <a:stretch/>
        </p:blipFill>
        <p:spPr>
          <a:xfrm>
            <a:off x="8215200" y="571680"/>
            <a:ext cx="67464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0256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сский народный музыкальный инструмент- </a:t>
            </a:r>
            <a:br>
              <a:rPr sz="4000"/>
            </a:b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Лож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2781000"/>
            <a:ext cx="84470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прова Елена Мака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уководи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№164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Чебокса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374148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6840" y="333000"/>
            <a:ext cx="6994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ки расписывают  вручную настоящие художник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нну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а, за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ываю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54198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кой ели, на ложках гадали, а ещё из ложек делали игрушки для детей. И в наше время все фантазируют, мастерят из лож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5" descr=""/>
          <p:cNvPicPr/>
          <p:nvPr/>
        </p:nvPicPr>
        <p:blipFill>
          <a:blip r:embed="rId1"/>
          <a:stretch/>
        </p:blipFill>
        <p:spPr>
          <a:xfrm>
            <a:off x="290520" y="1916280"/>
            <a:ext cx="3365640" cy="2520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"/>
          <p:cNvPicPr/>
          <p:nvPr/>
        </p:nvPicPr>
        <p:blipFill>
          <a:blip r:embed="rId2"/>
          <a:stretch/>
        </p:blipFill>
        <p:spPr>
          <a:xfrm>
            <a:off x="5435640" y="1909800"/>
            <a:ext cx="3373560" cy="25272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"/>
          <p:cNvPicPr/>
          <p:nvPr/>
        </p:nvPicPr>
        <p:blipFill>
          <a:blip r:embed="rId3"/>
          <a:stretch/>
        </p:blipFill>
        <p:spPr>
          <a:xfrm>
            <a:off x="2941560" y="4221000"/>
            <a:ext cx="3260880" cy="24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ложки просто сделать куклу или разнообразных персонажей для кукольного теат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5418000" y="1268280"/>
            <a:ext cx="3203640" cy="2395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"/>
          <p:cNvPicPr/>
          <p:nvPr/>
        </p:nvPicPr>
        <p:blipFill>
          <a:blip r:embed="rId2"/>
          <a:stretch/>
        </p:blipFill>
        <p:spPr>
          <a:xfrm>
            <a:off x="457200" y="1787400"/>
            <a:ext cx="3936960" cy="2649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"/>
          <p:cNvPicPr/>
          <p:nvPr/>
        </p:nvPicPr>
        <p:blipFill>
          <a:blip r:embed="rId3"/>
          <a:stretch/>
        </p:blipFill>
        <p:spPr>
          <a:xfrm>
            <a:off x="3402000" y="3668760"/>
            <a:ext cx="40323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8000" y="11592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е ложки используют как музыкальный инструмент. Относится к группе ударных инструментов. Их ударяют одна о другую чтобы получился чёткий, звонкий звук. Существует множество приёмов игры на ложках. Обычно используются три лож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из них закладываются между пальцами левой руки, третью берут в правую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5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5824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е ложки- постучи-ка ты немножк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чешь вальс играй, а хочешь суп хлебай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1960560" y="1743120"/>
            <a:ext cx="55148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49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редназначена для дет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7лет, родителей и педагог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ю для использования на занятиях в ДОУ и работе с родител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Цель: Знакомство и работа с музыкальным инструментом- ложки, пробудить интерес к русской народной культуре, фольклорной музы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бедом суп едят, к вечеру «заговорят» деревянные девчонки, музыкальные сестрёнки. Поиграй и ты немножко на красивых ярких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871640" y="2205000"/>
            <a:ext cx="540072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ревянные ложки- это отражение самобытности нашей русской культуры и её наших культурных традиций. Деревянные ложки пришли к нам из глубины веков, очаровывая всех своей неповторимостью и колори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2550960" y="3429000"/>
            <a:ext cx="40420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333000"/>
            <a:ext cx="3898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ожкарной столицей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и называют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е горо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ёнов Нижегородс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4379760" y="836640"/>
            <a:ext cx="382284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24000" y="189000"/>
            <a:ext cx="8496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карный промысел был распространё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сей России. Деревянные ложки изготавливались в ручну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1838160" y="1844640"/>
            <a:ext cx="54676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23640" y="333360"/>
            <a:ext cx="7561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ьше ложки, вилки и разную посуду делали из дерева. Чтобы изготовить ложку, нужно было сначала от большого бревна отколоть небольшой кусочек дерева. Этот кусочек назывался баклушей. Откалывать такие кусочки- дел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сем простое и лёгк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заготавлива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луши поручалос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мастерьям. Проце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отовки называл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аклуши бить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ные масте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еивались на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лушечникам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, занимаю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ундой- баклуши бь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4089240" y="2224080"/>
            <a:ext cx="459612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ка в древности считалась символом сытости, благосостояния и довольства. Её вырезали из берёзы, кедра, липы, клёна и других деревьев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е ложки разнообразные по форме- настоящий русский сувени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2050920" y="3189240"/>
            <a:ext cx="511344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587520" y="333360"/>
            <a:ext cx="731808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6:58:42Z</dcterms:created>
  <dc:creator>Lenovo</dc:creator>
  <dc:description/>
  <dc:language>en-US</dc:language>
  <cp:lastModifiedBy>Certified Windows</cp:lastModifiedBy>
  <dcterms:modified xsi:type="dcterms:W3CDTF">2023-07-11T18:57:50Z</dcterms:modified>
  <cp:revision>33</cp:revision>
  <dc:subject/>
  <dc:title>Слайд 1</dc:title>
</cp:coreProperties>
</file>