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6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A9DB-8935-47DC-A375-8718941404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600A-0E73-46F2-BB8C-74E01F2045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D09E-091E-444C-94A2-EDA678ACA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1A33-2ADD-49FE-A658-09C31581C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10DF-E4DE-4857-BE7A-5ABDD181A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F13B-7EBC-491C-B1A0-7DFAAF809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7802-6166-4790-8B46-CFC6890B0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B05B-3D09-48B4-AA0D-C1C59F6E1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199D-94E7-4888-B958-2D8470381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978B-419F-43B2-A915-4396DD136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9ED0-EE82-45F1-8A75-970D82A504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7FE7-213D-4A0F-9F26-A849766DE9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A470-9136-4A59-96D8-6D5F751608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DC2A-F8CB-4BD9-B620-19E25545D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D377-F082-4049-9D9B-4456E70006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DB6D-6BFB-4547-9AEF-342217F22F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363B-9089-4AD1-A09A-5ADE503261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2322-8176-43D6-9F20-5A9D9E4DFF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1D79-BBEA-48F1-95D2-3A3F659618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2C92-0AA2-4FC3-B668-FDF09EE47B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913F-FC75-4D2B-9B8C-B63CAFE971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11E0-F861-4450-834E-6C69736494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B69A-D655-4100-8389-482F65C53E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3B44-465C-4CC5-AC6C-F76DA100C2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810-6704-4CB2-800A-14F22DCD4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92DC-A082-430D-B265-B1B81E40F3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606-F0C9-4D1F-B3C4-F401B117391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FA6-3CC0-492A-B609-2E3F2801ED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F94-AFB1-4665-B47B-6F4472506E3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F3B-03B8-4649-9790-8F677F0C9E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EC2-9CD3-4FF6-A222-4024872C51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32C-1CE6-46B0-A82B-2E70F2D6688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C23-4AEE-4130-9C47-3F233D6699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B9E-33A7-4FB3-A33F-96CA2AF63D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1FF-FC47-4B61-8D0B-BC4B09E71F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B64-E85A-4C31-BEC8-F5A94F431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E854-A7D3-4F28-85C5-3D8168A7363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EAB-054C-42D6-8663-15F46F575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D8BD-14BD-40D9-84AC-386340C57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49F3-E7E1-4905-AF40-D051E4495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6946-5E53-4E15-939E-D621A4A28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15200" y="6519600"/>
            <a:ext cx="86544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848F-3676-4CB4-8A14-BB6CAD435CC2}" type="slidenum"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2"/>
          <p:cNvSpPr/>
          <p:nvPr/>
        </p:nvSpPr>
        <p:spPr>
          <a:xfrm>
            <a:off x="8215200" y="6524640"/>
            <a:ext cx="865440" cy="21744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Num" idx="2"/>
          </p:nvPr>
        </p:nvSpPr>
        <p:spPr>
          <a:xfrm>
            <a:off x="8215200" y="6519600"/>
            <a:ext cx="865440" cy="222120"/>
          </a:xfrm>
          <a:prstGeom prst="rect">
            <a:avLst/>
          </a:prstGeom>
          <a:solidFill>
            <a:srgbClr val="9d77c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73E-D026-41C3-8D5D-FED9391A8431}" type="slidenum"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кругленный прямоугольник 2"/>
          <p:cNvSpPr/>
          <p:nvPr/>
        </p:nvSpPr>
        <p:spPr>
          <a:xfrm>
            <a:off x="8215200" y="6524640"/>
            <a:ext cx="865440" cy="21744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3"/>
          </p:nvPr>
        </p:nvSpPr>
        <p:spPr>
          <a:xfrm>
            <a:off x="8215200" y="6519600"/>
            <a:ext cx="865440" cy="222120"/>
          </a:xfrm>
          <a:prstGeom prst="rect">
            <a:avLst/>
          </a:prstGeom>
          <a:solidFill>
            <a:srgbClr val="9d77c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FFA4-D5FE-4299-BF13-E16C2EE7C369}" type="slidenum"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708160" y="5835600"/>
            <a:ext cx="34196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еник 3 «А» клас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У Гимназия №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 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academic.ru/pictures/wiki/files/71/Guitar_1.jpg"/>
          <p:cNvPicPr/>
          <p:nvPr/>
        </p:nvPicPr>
        <p:blipFill>
          <a:blip r:embed="rId1"/>
          <a:stretch/>
        </p:blipFill>
        <p:spPr>
          <a:xfrm>
            <a:off x="81000" y="-100080"/>
            <a:ext cx="1357200" cy="2665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http://eomi.ws/img/keyboard/piano_2.jpg"/>
          <p:cNvPicPr/>
          <p:nvPr/>
        </p:nvPicPr>
        <p:blipFill>
          <a:blip r:embed="rId2"/>
          <a:stretch/>
        </p:blipFill>
        <p:spPr>
          <a:xfrm>
            <a:off x="6305400" y="0"/>
            <a:ext cx="2838600" cy="2857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http://positime.ru/uploads/2013/10/music-clipart4-1024x835.jpg"/>
          <p:cNvPicPr/>
          <p:nvPr/>
        </p:nvPicPr>
        <p:blipFill>
          <a:blip r:embed="rId3"/>
          <a:stretch/>
        </p:blipFill>
        <p:spPr>
          <a:xfrm>
            <a:off x="1844640" y="765000"/>
            <a:ext cx="4056120" cy="3306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http://www.nahodka.pro/news_img/img56.jpg"/>
          <p:cNvPicPr/>
          <p:nvPr/>
        </p:nvPicPr>
        <p:blipFill>
          <a:blip r:embed="rId4"/>
          <a:stretch/>
        </p:blipFill>
        <p:spPr>
          <a:xfrm>
            <a:off x="0" y="4616280"/>
            <a:ext cx="42847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11"/>
          <p:cNvGrpSpPr/>
          <p:nvPr/>
        </p:nvGrpSpPr>
        <p:grpSpPr>
          <a:xfrm>
            <a:off x="746280" y="1368360"/>
            <a:ext cx="7764480" cy="1093680"/>
            <a:chOff x="746280" y="1368360"/>
            <a:chExt cx="7764480" cy="1093680"/>
          </a:xfrm>
        </p:grpSpPr>
        <p:sp>
          <p:nvSpPr>
            <p:cNvPr id="200" name="Прямоугольник 27"/>
            <p:cNvSpPr/>
            <p:nvPr/>
          </p:nvSpPr>
          <p:spPr>
            <a:xfrm>
              <a:off x="746280" y="137772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оугольник 28"/>
            <p:cNvSpPr/>
            <p:nvPr/>
          </p:nvSpPr>
          <p:spPr>
            <a:xfrm>
              <a:off x="2054160" y="1377720"/>
              <a:ext cx="129528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оугольник 29"/>
            <p:cNvSpPr/>
            <p:nvPr/>
          </p:nvSpPr>
          <p:spPr>
            <a:xfrm>
              <a:off x="3332160" y="137772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30"/>
            <p:cNvSpPr/>
            <p:nvPr/>
          </p:nvSpPr>
          <p:spPr>
            <a:xfrm>
              <a:off x="4629240" y="137772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ольник 31"/>
            <p:cNvSpPr/>
            <p:nvPr/>
          </p:nvSpPr>
          <p:spPr>
            <a:xfrm>
              <a:off x="5918400" y="1377720"/>
              <a:ext cx="129528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ольник 32"/>
            <p:cNvSpPr/>
            <p:nvPr/>
          </p:nvSpPr>
          <p:spPr>
            <a:xfrm>
              <a:off x="7214040" y="136836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Группа 11"/>
          <p:cNvGrpSpPr/>
          <p:nvPr/>
        </p:nvGrpSpPr>
        <p:grpSpPr>
          <a:xfrm>
            <a:off x="766800" y="1359000"/>
            <a:ext cx="7764480" cy="1093680"/>
            <a:chOff x="766800" y="1359000"/>
            <a:chExt cx="7764480" cy="1093680"/>
          </a:xfrm>
        </p:grpSpPr>
        <p:sp>
          <p:nvSpPr>
            <p:cNvPr id="207" name="Прямоугольник 12"/>
            <p:cNvSpPr/>
            <p:nvPr/>
          </p:nvSpPr>
          <p:spPr>
            <a:xfrm>
              <a:off x="766800" y="136836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оугольник 13"/>
            <p:cNvSpPr/>
            <p:nvPr/>
          </p:nvSpPr>
          <p:spPr>
            <a:xfrm>
              <a:off x="2074680" y="1368360"/>
              <a:ext cx="129528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рямоугольник 14"/>
            <p:cNvSpPr/>
            <p:nvPr/>
          </p:nvSpPr>
          <p:spPr>
            <a:xfrm>
              <a:off x="3352680" y="136836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оугольник 15"/>
            <p:cNvSpPr/>
            <p:nvPr/>
          </p:nvSpPr>
          <p:spPr>
            <a:xfrm>
              <a:off x="4649760" y="136836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оугольник 16"/>
            <p:cNvSpPr/>
            <p:nvPr/>
          </p:nvSpPr>
          <p:spPr>
            <a:xfrm>
              <a:off x="5938920" y="1368360"/>
              <a:ext cx="129528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оугольник 17"/>
            <p:cNvSpPr/>
            <p:nvPr/>
          </p:nvSpPr>
          <p:spPr>
            <a:xfrm>
              <a:off x="7234560" y="135900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71640" y="688680"/>
            <a:ext cx="6189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9194d"/>
                </a:solidFill>
                <a:latin typeface="Arial"/>
              </a:rPr>
              <a:t>…</a:t>
            </a:r>
            <a:r>
              <a:rPr b="1" lang="ru-RU" sz="2600" spc="-1" strike="noStrike">
                <a:solidFill>
                  <a:srgbClr val="19194d"/>
                </a:solidFill>
                <a:latin typeface="Arial"/>
              </a:rPr>
              <a:t>. Нужны подсказки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39680" y="198360"/>
            <a:ext cx="9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Это слово обозначает сочетание  музыкальных звук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3"/>
          <p:cNvGrpSpPr/>
          <p:nvPr/>
        </p:nvGrpSpPr>
        <p:grpSpPr>
          <a:xfrm>
            <a:off x="0" y="3249720"/>
            <a:ext cx="4987800" cy="1215360"/>
            <a:chOff x="0" y="3249720"/>
            <a:chExt cx="4987800" cy="1215360"/>
          </a:xfrm>
        </p:grpSpPr>
        <p:sp>
          <p:nvSpPr>
            <p:cNvPr id="216" name="Прямоугольник 18"/>
            <p:cNvSpPr/>
            <p:nvPr/>
          </p:nvSpPr>
          <p:spPr>
            <a:xfrm>
              <a:off x="420480" y="3548160"/>
              <a:ext cx="456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Вторая и Третья буквы в слове – являются сдвоенной согласной буквой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9" descr="http://upload.wikimedia.org/wikipedia/commons/thumb/e/e9/Check_mark.svg/200px-Check_mark.svg.png"/>
            <p:cNvPicPr/>
            <p:nvPr/>
          </p:nvPicPr>
          <p:blipFill>
            <a:blip r:embed="rId1"/>
            <a:stretch/>
          </p:blipFill>
          <p:spPr>
            <a:xfrm>
              <a:off x="0" y="3249720"/>
              <a:ext cx="752760" cy="75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па 2"/>
          <p:cNvGrpSpPr/>
          <p:nvPr/>
        </p:nvGrpSpPr>
        <p:grpSpPr>
          <a:xfrm>
            <a:off x="4738680" y="2766960"/>
            <a:ext cx="4368960" cy="864720"/>
            <a:chOff x="4738680" y="2766960"/>
            <a:chExt cx="4368960" cy="864720"/>
          </a:xfrm>
        </p:grpSpPr>
        <p:sp>
          <p:nvSpPr>
            <p:cNvPr id="219" name="Прямоугольник 1"/>
            <p:cNvSpPr/>
            <p:nvPr/>
          </p:nvSpPr>
          <p:spPr>
            <a:xfrm>
              <a:off x="5219640" y="2989080"/>
              <a:ext cx="38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 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В слове всего Две гласных буквы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19" descr="http://upload.wikimedia.org/wikipedia/commons/thumb/e/e9/Check_mark.svg/200px-Check_mark.svg.png"/>
            <p:cNvPicPr/>
            <p:nvPr/>
          </p:nvPicPr>
          <p:blipFill>
            <a:blip r:embed="rId2"/>
            <a:stretch/>
          </p:blipFill>
          <p:spPr>
            <a:xfrm>
              <a:off x="4738680" y="2766960"/>
              <a:ext cx="697680" cy="69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Группа 4"/>
          <p:cNvGrpSpPr/>
          <p:nvPr/>
        </p:nvGrpSpPr>
        <p:grpSpPr>
          <a:xfrm>
            <a:off x="4402080" y="3973680"/>
            <a:ext cx="4705560" cy="769320"/>
            <a:chOff x="4402080" y="3973680"/>
            <a:chExt cx="4705560" cy="769320"/>
          </a:xfrm>
        </p:grpSpPr>
        <p:sp>
          <p:nvSpPr>
            <p:cNvPr id="222" name="Прямоугольник 8"/>
            <p:cNvSpPr/>
            <p:nvPr/>
          </p:nvSpPr>
          <p:spPr>
            <a:xfrm>
              <a:off x="4989240" y="4100400"/>
              <a:ext cx="411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Начинается на Первую гласную букву Алфавита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19" descr="http://upload.wikimedia.org/wikipedia/commons/thumb/e/e9/Check_mark.svg/200px-Check_mark.svg.png"/>
            <p:cNvPicPr/>
            <p:nvPr/>
          </p:nvPicPr>
          <p:blipFill>
            <a:blip r:embed="rId3"/>
            <a:stretch/>
          </p:blipFill>
          <p:spPr>
            <a:xfrm>
              <a:off x="4402080" y="3973680"/>
              <a:ext cx="672840" cy="67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Группа 6"/>
          <p:cNvGrpSpPr/>
          <p:nvPr/>
        </p:nvGrpSpPr>
        <p:grpSpPr>
          <a:xfrm>
            <a:off x="-25560" y="4543560"/>
            <a:ext cx="4553280" cy="807480"/>
            <a:chOff x="-25560" y="4543560"/>
            <a:chExt cx="4553280" cy="807480"/>
          </a:xfrm>
        </p:grpSpPr>
        <p:sp>
          <p:nvSpPr>
            <p:cNvPr id="225" name="Прямоугольник 19"/>
            <p:cNvSpPr/>
            <p:nvPr/>
          </p:nvSpPr>
          <p:spPr>
            <a:xfrm>
              <a:off x="631440" y="4708440"/>
              <a:ext cx="389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. Заканчивается на Четвертую согласную букву Алфавита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19" descr="http://upload.wikimedia.org/wikipedia/commons/thumb/e/e9/Check_mark.svg/200px-Check_mark.svg.png"/>
            <p:cNvPicPr/>
            <p:nvPr/>
          </p:nvPicPr>
          <p:blipFill>
            <a:blip r:embed="rId4"/>
            <a:stretch/>
          </p:blipFill>
          <p:spPr>
            <a:xfrm>
              <a:off x="-25560" y="4543560"/>
              <a:ext cx="791640" cy="7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Группа 7"/>
          <p:cNvGrpSpPr/>
          <p:nvPr/>
        </p:nvGrpSpPr>
        <p:grpSpPr>
          <a:xfrm>
            <a:off x="893880" y="6029280"/>
            <a:ext cx="7478640" cy="725400"/>
            <a:chOff x="893880" y="6029280"/>
            <a:chExt cx="7478640" cy="725400"/>
          </a:xfrm>
        </p:grpSpPr>
        <p:sp>
          <p:nvSpPr>
            <p:cNvPr id="228" name="Rectangle 3"/>
            <p:cNvSpPr/>
            <p:nvPr/>
          </p:nvSpPr>
          <p:spPr>
            <a:xfrm>
              <a:off x="1547640" y="6045120"/>
              <a:ext cx="68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 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Четвертая и Пятая буквы в слове -вместе составляют  односложное слово…     Готовы к ответ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9" descr="http://upload.wikimedia.org/wikipedia/commons/thumb/e/e9/Check_mark.svg/200px-Check_mark.svg.png"/>
            <p:cNvPicPr/>
            <p:nvPr/>
          </p:nvPicPr>
          <p:blipFill>
            <a:blip r:embed="rId5"/>
            <a:stretch/>
          </p:blipFill>
          <p:spPr>
            <a:xfrm>
              <a:off x="893880" y="6029280"/>
              <a:ext cx="724680" cy="72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121896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Document"/>
          <p:cNvSpPr/>
          <p:nvPr/>
        </p:nvSpPr>
        <p:spPr>
          <a:xfrm>
            <a:off x="457200" y="2057400"/>
            <a:ext cx="3886200" cy="4572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7f7f7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Слово АККОРД 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- произошло от  французкого – accord и  итальянского -  accordo, что означает </a:t>
            </a:r>
            <a:r>
              <a:rPr b="1" i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согласовыва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и имеет несколько знач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e1e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-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Одновременное сочетание нескольких музыкальных звуков различной высоты, воспринимаемое как звуковое единство. Взять два-три аккор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2.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 струн-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полный набор струн для смычкового или щипкового музыкального инстру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3. Устаревшее значение слова      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-  Соглашение, догов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Горизонтальный свиток 7"/>
          <p:cNvSpPr/>
          <p:nvPr/>
        </p:nvSpPr>
        <p:spPr>
          <a:xfrm>
            <a:off x="2133720" y="152280"/>
            <a:ext cx="6095880" cy="129564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з толкового слов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cument"/>
          <p:cNvSpPr/>
          <p:nvPr/>
        </p:nvSpPr>
        <p:spPr>
          <a:xfrm>
            <a:off x="4788000" y="2057400"/>
            <a:ext cx="3886200" cy="45720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7f7f7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4. Прозвучал последний, заключительный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-  завершающее что-либо действие, событие.  Например: </a:t>
            </a:r>
            <a:r>
              <a:rPr b="1" i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овое вступ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5. Взять несколько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ОВ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на рояле- одновременное нажатие трёх и более клавиш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6. Применительно к музыке XX века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«АККОРДАМИ»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называют любые вертикальные созвуч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7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1072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8:52:54Z</dcterms:created>
  <dc:creator>Olga</dc:creator>
  <dc:description/>
  <dc:language>en-US</dc:language>
  <cp:lastModifiedBy>Unknown user</cp:lastModifiedBy>
  <cp:lastPrinted>2012-11-20T11:48:56Z</cp:lastPrinted>
  <dcterms:modified xsi:type="dcterms:W3CDTF">2023-07-12T05:45:12Z</dcterms:modified>
  <cp:revision>80</cp:revision>
  <dc:subject/>
  <dc:title>Слайд 1</dc:title>
</cp:coreProperties>
</file>