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717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892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6"/>
          </p:nvPr>
        </p:nvSpPr>
        <p:spPr>
          <a:xfrm>
            <a:off x="3805200" y="93722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3F0E-0F81-4B54-8A10-2EBD26D45D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5605-B898-4C2B-874C-2763A1C85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98FA-4F79-43D5-A090-7C4820FEC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FAF6-602C-4058-A7D5-179AAE756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92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1400" y="4687920"/>
            <a:ext cx="53755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05200" y="93726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6EA-1419-4D7A-ADA8-9DF7AC4C4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C4F9-2EB2-4171-90CC-DA2310AFE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8DC4-7941-4C11-B008-2BAD7DDE0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4D0D-B2CA-4544-AD5D-B4F10EEEF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FBF3-1C4A-4B4D-A0ED-9E770022F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5085-6BE6-4B48-A3E2-EE04E8ACE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7016-4389-4EED-A731-D85F241D9D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89250-05AA-4D34-8F83-DBAFB13EF1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A835-446D-4786-860C-3A95949868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4CB8-DB1A-492F-867F-6DC41ACCC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C7DE-36CA-4680-A00E-9F14ACAAFA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825F-727C-45C4-B84D-5A1B5EA410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3CF5-920A-4880-B03D-E0F19198FF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9755-544A-4AA0-9958-C3A9DC2316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2695-3F44-48B7-BC32-FFB8C51A88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1110-E4BE-4FD9-89CA-A06C296FEE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E25C-C539-4FC3-AC92-7DBDA9E45B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1CC7-1CB5-48E9-9714-FBFF7BECEF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349BB-4F96-4074-B606-9EC5FD8D15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7961-BE9C-4F4B-AEB9-0CFFC81876A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326-B58F-4517-B9C3-EAE05E807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8F4F-4070-4F3A-B896-77EF0E5786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354-508B-40B3-AD7F-8CF9E90493C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454-0C72-4DEC-B765-206DAF6FA3B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F90-1A9D-40E6-904D-916B94E189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FEF-154C-433A-9764-2C506A98DC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58E-8D94-4215-A359-594679DC39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C837-54E5-48C2-846F-FEDAC9EDCB2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315-01D3-406A-AF83-6EBA6FAB8C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8FD-175E-4468-8CCF-CD521CCB3C2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226-6DFC-46D7-9DE0-95BD44C5BE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9B7-7523-48AC-987F-8C431017B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1E2A-2FE2-4006-848D-9CBE33671ED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02F-0719-4613-8701-6A9DC12FA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CA6F-C574-4827-8954-2508FBF72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B2F8-2A62-4D26-B718-6E5D83254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27FE-6B43-4D19-8409-D6CCE95F4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215200" y="6519600"/>
            <a:ext cx="86544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8516-D6DC-442D-A16B-65C57D2B1B86}" type="slidenum"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2"/>
          <p:cNvSpPr/>
          <p:nvPr/>
        </p:nvSpPr>
        <p:spPr>
          <a:xfrm>
            <a:off x="8215200" y="6524640"/>
            <a:ext cx="865440" cy="21744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Num" idx="2"/>
          </p:nvPr>
        </p:nvSpPr>
        <p:spPr>
          <a:xfrm>
            <a:off x="8215200" y="6519600"/>
            <a:ext cx="865440" cy="222120"/>
          </a:xfrm>
          <a:prstGeom prst="rect">
            <a:avLst/>
          </a:prstGeom>
          <a:solidFill>
            <a:srgbClr val="9d77c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89CD-F405-4EDA-A99C-058A13270AEE}" type="slidenum"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кругленный прямоугольник 2"/>
          <p:cNvSpPr/>
          <p:nvPr/>
        </p:nvSpPr>
        <p:spPr>
          <a:xfrm>
            <a:off x="8215200" y="6524640"/>
            <a:ext cx="865440" cy="217440"/>
          </a:xfrm>
          <a:prstGeom prst="roundRect">
            <a:avLst>
              <a:gd name="adj" fmla="val 16667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3"/>
          </p:nvPr>
        </p:nvSpPr>
        <p:spPr>
          <a:xfrm>
            <a:off x="8215200" y="6519600"/>
            <a:ext cx="865440" cy="222120"/>
          </a:xfrm>
          <a:prstGeom prst="rect">
            <a:avLst/>
          </a:prstGeom>
          <a:solidFill>
            <a:srgbClr val="9d77c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9076-F037-4BED-BB44-D2CF67E397E2}" type="slidenum"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5708160" y="5835600"/>
            <a:ext cx="341964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еник 3 «А» клас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У Гимназия №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 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academic.ru/pictures/wiki/files/71/Guitar_1.jpg"/>
          <p:cNvPicPr/>
          <p:nvPr/>
        </p:nvPicPr>
        <p:blipFill>
          <a:blip r:embed="rId1"/>
          <a:stretch/>
        </p:blipFill>
        <p:spPr>
          <a:xfrm>
            <a:off x="81000" y="-100080"/>
            <a:ext cx="1357200" cy="2665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http://eomi.ws/img/keyboard/piano_2.jpg"/>
          <p:cNvPicPr/>
          <p:nvPr/>
        </p:nvPicPr>
        <p:blipFill>
          <a:blip r:embed="rId2"/>
          <a:stretch/>
        </p:blipFill>
        <p:spPr>
          <a:xfrm>
            <a:off x="6305400" y="0"/>
            <a:ext cx="2838600" cy="2857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http://positime.ru/uploads/2013/10/music-clipart4-1024x835.jpg"/>
          <p:cNvPicPr/>
          <p:nvPr/>
        </p:nvPicPr>
        <p:blipFill>
          <a:blip r:embed="rId3"/>
          <a:stretch/>
        </p:blipFill>
        <p:spPr>
          <a:xfrm>
            <a:off x="1844640" y="765000"/>
            <a:ext cx="4056120" cy="3306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http://www.nahodka.pro/news_img/img56.jpg"/>
          <p:cNvPicPr/>
          <p:nvPr/>
        </p:nvPicPr>
        <p:blipFill>
          <a:blip r:embed="rId4"/>
          <a:stretch/>
        </p:blipFill>
        <p:spPr>
          <a:xfrm>
            <a:off x="0" y="4616280"/>
            <a:ext cx="42847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6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Группа 11"/>
          <p:cNvGrpSpPr/>
          <p:nvPr/>
        </p:nvGrpSpPr>
        <p:grpSpPr>
          <a:xfrm>
            <a:off x="746280" y="1368360"/>
            <a:ext cx="7764480" cy="1093680"/>
            <a:chOff x="746280" y="1368360"/>
            <a:chExt cx="7764480" cy="1093680"/>
          </a:xfrm>
        </p:grpSpPr>
        <p:sp>
          <p:nvSpPr>
            <p:cNvPr id="200" name="Прямоугольник 27"/>
            <p:cNvSpPr/>
            <p:nvPr/>
          </p:nvSpPr>
          <p:spPr>
            <a:xfrm>
              <a:off x="746280" y="137772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оугольник 28"/>
            <p:cNvSpPr/>
            <p:nvPr/>
          </p:nvSpPr>
          <p:spPr>
            <a:xfrm>
              <a:off x="2054160" y="1377720"/>
              <a:ext cx="129528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оугольник 29"/>
            <p:cNvSpPr/>
            <p:nvPr/>
          </p:nvSpPr>
          <p:spPr>
            <a:xfrm>
              <a:off x="3332160" y="137772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оугольник 30"/>
            <p:cNvSpPr/>
            <p:nvPr/>
          </p:nvSpPr>
          <p:spPr>
            <a:xfrm>
              <a:off x="4629240" y="137772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оугольник 31"/>
            <p:cNvSpPr/>
            <p:nvPr/>
          </p:nvSpPr>
          <p:spPr>
            <a:xfrm>
              <a:off x="5918400" y="1377720"/>
              <a:ext cx="129528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Прямоугольник 32"/>
            <p:cNvSpPr/>
            <p:nvPr/>
          </p:nvSpPr>
          <p:spPr>
            <a:xfrm>
              <a:off x="7214040" y="136836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Группа 11"/>
          <p:cNvGrpSpPr/>
          <p:nvPr/>
        </p:nvGrpSpPr>
        <p:grpSpPr>
          <a:xfrm>
            <a:off x="766800" y="1359000"/>
            <a:ext cx="7764480" cy="1093680"/>
            <a:chOff x="766800" y="1359000"/>
            <a:chExt cx="7764480" cy="1093680"/>
          </a:xfrm>
        </p:grpSpPr>
        <p:sp>
          <p:nvSpPr>
            <p:cNvPr id="207" name="Прямоугольник 12"/>
            <p:cNvSpPr/>
            <p:nvPr/>
          </p:nvSpPr>
          <p:spPr>
            <a:xfrm>
              <a:off x="766800" y="136836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оугольник 13"/>
            <p:cNvSpPr/>
            <p:nvPr/>
          </p:nvSpPr>
          <p:spPr>
            <a:xfrm>
              <a:off x="2074680" y="1368360"/>
              <a:ext cx="129528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Прямоугольник 14"/>
            <p:cNvSpPr/>
            <p:nvPr/>
          </p:nvSpPr>
          <p:spPr>
            <a:xfrm>
              <a:off x="3352680" y="136836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оугольник 15"/>
            <p:cNvSpPr/>
            <p:nvPr/>
          </p:nvSpPr>
          <p:spPr>
            <a:xfrm>
              <a:off x="4649760" y="136836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оугольник 16"/>
            <p:cNvSpPr/>
            <p:nvPr/>
          </p:nvSpPr>
          <p:spPr>
            <a:xfrm>
              <a:off x="5938920" y="1368360"/>
              <a:ext cx="129528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оугольник 17"/>
            <p:cNvSpPr/>
            <p:nvPr/>
          </p:nvSpPr>
          <p:spPr>
            <a:xfrm>
              <a:off x="7234560" y="1359000"/>
              <a:ext cx="1296720" cy="10843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e1e20"/>
                  </a:solidFill>
                  <a:latin typeface="Arial"/>
                </a:rPr>
                <a:t>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71640" y="688680"/>
            <a:ext cx="6189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9194d"/>
                </a:solidFill>
                <a:latin typeface="Arial"/>
              </a:rPr>
              <a:t>…</a:t>
            </a:r>
            <a:r>
              <a:rPr b="1" lang="ru-RU" sz="2600" spc="-1" strike="noStrike">
                <a:solidFill>
                  <a:srgbClr val="19194d"/>
                </a:solidFill>
                <a:latin typeface="Arial"/>
              </a:rPr>
              <a:t>. Нужны подсказки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39680" y="198360"/>
            <a:ext cx="9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Это слово обозначает сочетание  музыкальных звук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Группа 3"/>
          <p:cNvGrpSpPr/>
          <p:nvPr/>
        </p:nvGrpSpPr>
        <p:grpSpPr>
          <a:xfrm>
            <a:off x="0" y="3249720"/>
            <a:ext cx="4987800" cy="1215360"/>
            <a:chOff x="0" y="3249720"/>
            <a:chExt cx="4987800" cy="1215360"/>
          </a:xfrm>
        </p:grpSpPr>
        <p:sp>
          <p:nvSpPr>
            <p:cNvPr id="216" name="Прямоугольник 18"/>
            <p:cNvSpPr/>
            <p:nvPr/>
          </p:nvSpPr>
          <p:spPr>
            <a:xfrm>
              <a:off x="420480" y="3548160"/>
              <a:ext cx="4567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Вторая и Третья буквы в слове – являются сдвоенной согласной буквой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9" descr="http://upload.wikimedia.org/wikipedia/commons/thumb/e/e9/Check_mark.svg/200px-Check_mark.svg.png"/>
            <p:cNvPicPr/>
            <p:nvPr/>
          </p:nvPicPr>
          <p:blipFill>
            <a:blip r:embed="rId1"/>
            <a:stretch/>
          </p:blipFill>
          <p:spPr>
            <a:xfrm>
              <a:off x="0" y="3249720"/>
              <a:ext cx="752760" cy="75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Группа 2"/>
          <p:cNvGrpSpPr/>
          <p:nvPr/>
        </p:nvGrpSpPr>
        <p:grpSpPr>
          <a:xfrm>
            <a:off x="4738680" y="2766960"/>
            <a:ext cx="4368960" cy="864720"/>
            <a:chOff x="4738680" y="2766960"/>
            <a:chExt cx="4368960" cy="864720"/>
          </a:xfrm>
        </p:grpSpPr>
        <p:sp>
          <p:nvSpPr>
            <p:cNvPr id="219" name="Прямоугольник 1"/>
            <p:cNvSpPr/>
            <p:nvPr/>
          </p:nvSpPr>
          <p:spPr>
            <a:xfrm>
              <a:off x="5219640" y="2989080"/>
              <a:ext cx="38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 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В слове всего Две гласных буквы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19" descr="http://upload.wikimedia.org/wikipedia/commons/thumb/e/e9/Check_mark.svg/200px-Check_mark.svg.png"/>
            <p:cNvPicPr/>
            <p:nvPr/>
          </p:nvPicPr>
          <p:blipFill>
            <a:blip r:embed="rId2"/>
            <a:stretch/>
          </p:blipFill>
          <p:spPr>
            <a:xfrm>
              <a:off x="4738680" y="2766960"/>
              <a:ext cx="697680" cy="69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Группа 4"/>
          <p:cNvGrpSpPr/>
          <p:nvPr/>
        </p:nvGrpSpPr>
        <p:grpSpPr>
          <a:xfrm>
            <a:off x="4402080" y="3973680"/>
            <a:ext cx="4705560" cy="769320"/>
            <a:chOff x="4402080" y="3973680"/>
            <a:chExt cx="4705560" cy="769320"/>
          </a:xfrm>
        </p:grpSpPr>
        <p:sp>
          <p:nvSpPr>
            <p:cNvPr id="222" name="Прямоугольник 8"/>
            <p:cNvSpPr/>
            <p:nvPr/>
          </p:nvSpPr>
          <p:spPr>
            <a:xfrm>
              <a:off x="4989240" y="4100400"/>
              <a:ext cx="411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Начинается на Первую гласную букву Алфавита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19" descr="http://upload.wikimedia.org/wikipedia/commons/thumb/e/e9/Check_mark.svg/200px-Check_mark.svg.png"/>
            <p:cNvPicPr/>
            <p:nvPr/>
          </p:nvPicPr>
          <p:blipFill>
            <a:blip r:embed="rId3"/>
            <a:stretch/>
          </p:blipFill>
          <p:spPr>
            <a:xfrm>
              <a:off x="4402080" y="3973680"/>
              <a:ext cx="672840" cy="67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Группа 6"/>
          <p:cNvGrpSpPr/>
          <p:nvPr/>
        </p:nvGrpSpPr>
        <p:grpSpPr>
          <a:xfrm>
            <a:off x="-25560" y="4543560"/>
            <a:ext cx="4553280" cy="807480"/>
            <a:chOff x="-25560" y="4543560"/>
            <a:chExt cx="4553280" cy="807480"/>
          </a:xfrm>
        </p:grpSpPr>
        <p:sp>
          <p:nvSpPr>
            <p:cNvPr id="225" name="Прямоугольник 19"/>
            <p:cNvSpPr/>
            <p:nvPr/>
          </p:nvSpPr>
          <p:spPr>
            <a:xfrm>
              <a:off x="631440" y="4708440"/>
              <a:ext cx="389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. Заканчивается на Четвертую согласную букву Алфавита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19" descr="http://upload.wikimedia.org/wikipedia/commons/thumb/e/e9/Check_mark.svg/200px-Check_mark.svg.png"/>
            <p:cNvPicPr/>
            <p:nvPr/>
          </p:nvPicPr>
          <p:blipFill>
            <a:blip r:embed="rId4"/>
            <a:stretch/>
          </p:blipFill>
          <p:spPr>
            <a:xfrm>
              <a:off x="-25560" y="4543560"/>
              <a:ext cx="791640" cy="7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Группа 7"/>
          <p:cNvGrpSpPr/>
          <p:nvPr/>
        </p:nvGrpSpPr>
        <p:grpSpPr>
          <a:xfrm>
            <a:off x="893880" y="6029280"/>
            <a:ext cx="7478640" cy="725400"/>
            <a:chOff x="893880" y="6029280"/>
            <a:chExt cx="7478640" cy="725400"/>
          </a:xfrm>
        </p:grpSpPr>
        <p:sp>
          <p:nvSpPr>
            <p:cNvPr id="228" name="Rectangle 3"/>
            <p:cNvSpPr/>
            <p:nvPr/>
          </p:nvSpPr>
          <p:spPr>
            <a:xfrm>
              <a:off x="1547640" y="6045120"/>
              <a:ext cx="68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… </a:t>
              </a:r>
              <a:r>
                <a:rPr b="1" lang="ru-RU" sz="1800" spc="-1" strike="noStrike">
                  <a:solidFill>
                    <a:srgbClr val="19194d"/>
                  </a:solidFill>
                  <a:latin typeface="Arial"/>
                </a:rPr>
                <a:t>Четвертая и Пятая буквы в слове -вместе составляют  односложное слово…     Готовы к ответ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19" descr="http://upload.wikimedia.org/wikipedia/commons/thumb/e/e9/Check_mark.svg/200px-Check_mark.svg.png"/>
            <p:cNvPicPr/>
            <p:nvPr/>
          </p:nvPicPr>
          <p:blipFill>
            <a:blip r:embed="rId5"/>
            <a:stretch/>
          </p:blipFill>
          <p:spPr>
            <a:xfrm>
              <a:off x="893880" y="6029280"/>
              <a:ext cx="724680" cy="72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121896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Document"/>
          <p:cNvSpPr/>
          <p:nvPr/>
        </p:nvSpPr>
        <p:spPr>
          <a:xfrm>
            <a:off x="457200" y="2057400"/>
            <a:ext cx="3886200" cy="4572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7f7f7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Слово АККОРД 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- произошло от  французкого – accord и  итальянского -  accordo, что означает </a:t>
            </a:r>
            <a:r>
              <a:rPr b="1" i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согласовываю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и имеет несколько знач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e1e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-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Одновременное сочетание нескольких музыкальных звуков различной высоты, воспринимаемое как звуковое единство. Взять два-три аккор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2.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 струн-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полный набор струн для смычкового или щипкового музыкального инстру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3. Устаревшее значение слова      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-  Соглашение, догов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Горизонтальный свиток 7"/>
          <p:cNvSpPr/>
          <p:nvPr/>
        </p:nvSpPr>
        <p:spPr>
          <a:xfrm>
            <a:off x="2133720" y="152280"/>
            <a:ext cx="6095880" cy="129564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з толкового слов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cument"/>
          <p:cNvSpPr/>
          <p:nvPr/>
        </p:nvSpPr>
        <p:spPr>
          <a:xfrm>
            <a:off x="4788000" y="2057400"/>
            <a:ext cx="3886200" cy="45720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7f7f7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4. Прозвучал последний, заключительный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-  завершающее что-либо действие, событие.  Например: </a:t>
            </a:r>
            <a:r>
              <a:rPr b="1" i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овое вступ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5. Взять несколько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АККОРДОВ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 на рояле- одновременное нажатие трёх и более клавиш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6. Применительно к музыке XX века </a:t>
            </a:r>
            <a:r>
              <a:rPr b="1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«АККОРДАМИ» </a:t>
            </a:r>
            <a:r>
              <a:rPr b="0" lang="ru-RU" sz="1600" spc="-1" strike="noStrike">
                <a:solidFill>
                  <a:srgbClr val="0e1e20"/>
                </a:solidFill>
                <a:latin typeface="Times New Roman"/>
                <a:ea typeface="Times New Roman"/>
              </a:rPr>
              <a:t>называют любые вертикальные созвуч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7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1072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8:52:54Z</dcterms:created>
  <dc:creator>Olga</dc:creator>
  <dc:description/>
  <dc:language>en-US</dc:language>
  <cp:lastModifiedBy>Unknown user</cp:lastModifiedBy>
  <cp:lastPrinted>2012-11-20T11:48:56Z</cp:lastPrinted>
  <dcterms:modified xsi:type="dcterms:W3CDTF">2023-07-12T05:45:12Z</dcterms:modified>
  <cp:revision>80</cp:revision>
  <dc:subject/>
  <dc:title>Слайд 1</dc:title>
</cp:coreProperties>
</file>