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14D4-9AA9-4D25-9711-D65A0F74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796-00C5-4DBC-81FD-45FFAEBC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7FE-9EA7-4A03-8600-E81675BD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380-2E02-4E8E-9794-4CD401B1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8079-5B7C-4089-936E-D455AD0C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E06-D85A-43F9-ACCB-BCCFBD3D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78C-C54B-4652-95A1-965BDB5A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E85-AA73-4159-BE49-DF5DBBD2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6CB-4D5C-41C9-8035-B15ED32E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00C-BE96-4D1B-A829-24348A55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7FF-9E77-4D7D-9EA3-283F4CA9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55DE-D8E4-4BD2-839E-B77643AC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0C65-DD7F-4ADC-997D-A06063E9EA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oidagestan.ru/famous/Batirov_Mavlet_Alavdinovich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www.moidagestan.ru/famous/Isinbaeva_Elena_Gadzhievna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www.moidagestan.ru/famous/isaev_mansur_mustafaevich" TargetMode="External"/><Relationship Id="rId6" Type="http://schemas.openxmlformats.org/officeDocument/2006/relationships/image" Target="../media/image38.jpeg"/><Relationship Id="rId7" Type="http://schemas.openxmlformats.org/officeDocument/2006/relationships/hyperlink" Target="http://www.moidagestan.ru/famous/otarsultanov_dzhamal_sultanovich" TargetMode="External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лассный час на тему:</a:t>
            </a:r>
            <a:br>
              <a:rPr sz="3200"/>
            </a:br>
            <a:r>
              <a:rPr b="0" lang="ru-RU" sz="6000" spc="-1" strike="noStrike">
                <a:solidFill>
                  <a:srgbClr val="a50021"/>
                </a:solidFill>
                <a:latin typeface="Monotype Corsiva"/>
              </a:rPr>
              <a:t>«Я, ты, он, она – вместе дружная страна!»</a:t>
            </a:r>
            <a:br>
              <a:rPr sz="6000"/>
            </a:b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(для обучающихся 2 класс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63640" y="3885840"/>
            <a:ext cx="324036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alibri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alibri"/>
              </a:rPr>
              <a:t>Беседина Инна Александ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alibri"/>
              </a:rPr>
              <a:t>учитель начальных клас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46083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Российская Федерация – это федеративное государство, созданное по воле ее многонационального народ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5524560" cy="400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638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РОССИЯ – ЭТО МЫ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79640" y="1397160"/>
            <a:ext cx="56167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Конституция – основной зак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51280" y="1557000"/>
            <a:ext cx="4835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“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...государство гарантирует равенство, право и свободу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”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959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Конституции РФ – 20 лет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5124240" cy="3387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60962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Тувинская автономная обл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4005000"/>
            <a:ext cx="374328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Министр обороны РФ - Шойгу Сергей Кужугет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529080" cy="24368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5003640" y="4076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Праздник Наад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3665520" cy="245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3"/>
          <a:stretch/>
        </p:blipFill>
        <p:spPr>
          <a:xfrm>
            <a:off x="1187280" y="4699080"/>
            <a:ext cx="2880000" cy="1982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4"/>
          <a:stretch/>
        </p:blipFill>
        <p:spPr>
          <a:xfrm>
            <a:off x="5292720" y="4508640"/>
            <a:ext cx="31528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Удмур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51280" y="5157720"/>
            <a:ext cx="30351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Кулакова Галина Алексеевна  знаменитая лыжница, 4-кратная олимпийская чемпио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744720" cy="2492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6012000" y="1557360"/>
            <a:ext cx="2705040" cy="360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3348000" y="3860640"/>
            <a:ext cx="1979640" cy="2568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"/>
          <p:cNvSpPr/>
          <p:nvPr/>
        </p:nvSpPr>
        <p:spPr>
          <a:xfrm>
            <a:off x="468360" y="45813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Чайковский Пётр Ильич – знаменитый русский композито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Карачаево-Черкесский А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2351160" cy="31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3810240" cy="3286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1042920" y="4724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Дима Билан известный российский певец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643280" y="5084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Национальный костюм народов Карачаево-Черке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Республика Татарст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08720" y="3357360"/>
            <a:ext cx="31068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Праздник Сабанту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50920" y="39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Муса Джалиль знаменитый поэт-патри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2411280" y="1268280"/>
            <a:ext cx="2952720" cy="197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5796000" y="1268280"/>
            <a:ext cx="2452680" cy="196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3335400" cy="2230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5"/>
          <a:stretch/>
        </p:blipFill>
        <p:spPr>
          <a:xfrm>
            <a:off x="395280" y="4962600"/>
            <a:ext cx="2514600" cy="1895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3132000" y="558972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Чулпан Хаматова – российская актри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7" descr=""/>
          <p:cNvPicPr/>
          <p:nvPr/>
        </p:nvPicPr>
        <p:blipFill>
          <a:blip r:embed="rId6"/>
          <a:stretch/>
        </p:blipFill>
        <p:spPr>
          <a:xfrm>
            <a:off x="2484360" y="335772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Республика Ко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7640" y="3789000"/>
            <a:ext cx="2952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Национальный костю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50920" y="1263600"/>
            <a:ext cx="2881080" cy="2685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24000" y="414972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Леонтьев Валерий Яковлевич – народный артист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358308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3"/>
          <a:stretch/>
        </p:blipFill>
        <p:spPr>
          <a:xfrm>
            <a:off x="6227640" y="5073480"/>
            <a:ext cx="2670120" cy="178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2998800" cy="1998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5"/>
          <p:cNvSpPr/>
          <p:nvPr/>
        </p:nvSpPr>
        <p:spPr>
          <a:xfrm>
            <a:off x="6156360" y="4221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Праздник «Зарни Сюр» («Золотой Рог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Республика Дагестан – родина борц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16360" y="4292640"/>
            <a:ext cx="1871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Батиров_x000b_Мавлет Алавдинови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Борец вольного стиля, двукратный олимпийский чемпи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Исинбаева Елена Гаджиевна"/>
          <p:cNvPicPr/>
          <p:nvPr/>
        </p:nvPicPr>
        <p:blipFill>
          <a:blip r:embed="rId2"/>
          <a:stretch/>
        </p:blipFill>
        <p:spPr>
          <a:xfrm>
            <a:off x="395280" y="1557360"/>
            <a:ext cx="1717560" cy="2376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24000" y="4292640"/>
            <a:ext cx="187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Исинбаева_x000b_Елена Гаджие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Спортсменка в прыжках с шестом, двукратная олимпийская чемпио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8" descr="Исаев Мансур Мустафаевич"/>
          <p:cNvPicPr/>
          <p:nvPr/>
        </p:nvPicPr>
        <p:blipFill>
          <a:blip r:embed="rId4"/>
          <a:stretch/>
        </p:blipFill>
        <p:spPr>
          <a:xfrm>
            <a:off x="2530440" y="1557360"/>
            <a:ext cx="1719360" cy="2376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2411280" y="4292640"/>
            <a:ext cx="194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Исаев_x000b_Мансур Мустафаеви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Российский дзюдоист, олимпийский чемпи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1" descr="Отарсултанов Джамал Султанович"/>
          <p:cNvPicPr/>
          <p:nvPr/>
        </p:nvPicPr>
        <p:blipFill>
          <a:blip r:embed="rId6"/>
          <a:stretch/>
        </p:blipFill>
        <p:spPr>
          <a:xfrm>
            <a:off x="4427640" y="1557360"/>
            <a:ext cx="1717560" cy="237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2"/>
          <p:cNvSpPr/>
          <p:nvPr/>
        </p:nvSpPr>
        <p:spPr>
          <a:xfrm>
            <a:off x="4500720" y="42926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Отарсултанов_x000b_Джамал Султанови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Российский борец вольного стиля, олимпийский чемпи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4" descr="Батиров Мавлет Алавдинович"/>
          <p:cNvPicPr/>
          <p:nvPr/>
        </p:nvPicPr>
        <p:blipFill>
          <a:blip r:embed="rId8"/>
          <a:stretch/>
        </p:blipFill>
        <p:spPr>
          <a:xfrm>
            <a:off x="6372360" y="1557360"/>
            <a:ext cx="1717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Краткая аннотация классного ча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971640" y="1989000"/>
            <a:ext cx="7345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Классный час ориентирован на обучающихся 2 класса. Представляет собой мероприятие , демонстрирующее многонациональный состав Российского государство, устройство государства, Конституцию - основной закон нашей страны. Богатство культурных традиций народов Росс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Осознание понимания, что Россия это родная страна для всех этнических культу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Едино государств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Когда един народ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Когда великой сил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Он движется впер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3780000" y="256536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alibri"/>
                <a:ea typeface="ＭＳ Ｐゴシック"/>
              </a:rPr>
              <a:t>     </a:t>
            </a:r>
            <a:r>
              <a:rPr b="0" lang="ru-RU" sz="3200" spc="-1" strike="noStrike">
                <a:solidFill>
                  <a:srgbClr val="6600ff"/>
                </a:solidFill>
                <a:latin typeface="Calibri"/>
                <a:ea typeface="ＭＳ Ｐゴシック"/>
              </a:rPr>
              <a:t>Формирование гражданско -патриотических чувств, уважительного отношения к национальной культу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2050920" y="3094200"/>
            <a:ext cx="514044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- формировать ответственность за судьбу Роди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- расширить представление обучающихся о России как о много национальном государств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- формировать этнокультурную толерантность подрастающего покол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- прививать интерес обучающихся к этническому и культурному многообразию состава российского государств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- привлечь внимания к многообразию традиций этнокультурных групп, проживающих на территории Липецкой обла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- воспитывать интерес к изучению истории своей страны, чувство толерантности и уважения к представителям других национальнос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- развивать умение делать выводы, обобщ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Оборудов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1.Слайдовая презен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2.Компьют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3.Музыкальные клип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4.Проек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5.Экран</a:t>
            </a:r>
            <a:r>
              <a:rPr b="0" lang="ru-RU" sz="3600" spc="-1" strike="noStrike">
                <a:solidFill>
                  <a:srgbClr val="660066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alibri"/>
              </a:rPr>
              <a:t>6</a:t>
            </a:r>
            <a:r>
              <a:rPr b="0" lang="ru-RU" sz="3600" spc="-1" strike="noStrike">
                <a:solidFill>
                  <a:srgbClr val="6600ff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Листы ватм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7. Кра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427176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План классного ча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Песня «Россия, мы дети тво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2. Национальный состав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3. Понятие «Федерац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4. Конституция – основной закон Р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5. Культурные традиции народов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6. Организация 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7. Рефлекс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8. Музыкальный клип «Моя Росс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68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дминистративная карта Ро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76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5508720" y="1052640"/>
            <a:ext cx="1681200" cy="126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"/>
          <p:cNvPicPr/>
          <p:nvPr/>
        </p:nvPicPr>
        <p:blipFill>
          <a:blip r:embed="rId3"/>
          <a:stretch/>
        </p:blipFill>
        <p:spPr>
          <a:xfrm>
            <a:off x="539640" y="458136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4"/>
          <a:stretch/>
        </p:blipFill>
        <p:spPr>
          <a:xfrm>
            <a:off x="6659640" y="5157720"/>
            <a:ext cx="2252520" cy="145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5"/>
          <a:stretch/>
        </p:blipFill>
        <p:spPr>
          <a:xfrm>
            <a:off x="324000" y="1052640"/>
            <a:ext cx="1726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Состав Российского госуда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               </a:t>
            </a: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В составе Российской Федерации 85 </a:t>
            </a:r>
            <a:r>
              <a:rPr b="1" lang="ru-RU" sz="2800" spc="-1" strike="noStrike" u="sng">
                <a:solidFill>
                  <a:srgbClr val="6600ff"/>
                </a:solidFill>
                <a:uFillTx/>
                <a:latin typeface="Calibri"/>
              </a:rPr>
              <a:t>равноправных</a:t>
            </a: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 субъекта федерации, в том числ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22 респуб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9 краё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46 обла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3 города федерального зна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(Москва, Санкт – Петербург и Севастопол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1 автономная обл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4 автономных окру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БЕСЕДИНЫ-ПК</cp:lastModifiedBy>
  <dcterms:modified xsi:type="dcterms:W3CDTF">2022-08-30T11:04:47Z</dcterms:modified>
  <cp:revision>11</cp:revision>
  <dc:subject/>
  <dc:title>Презентация PowerPoint</dc:title>
</cp:coreProperties>
</file>