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DE8-6FF9-4205-9EE2-11A3C0A8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327-2311-4052-8DC6-CF28BB57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F69-B661-47E6-BD64-2DB2CDFD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F08-7A61-4532-A8A4-BD7D895F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099-7123-4AD8-B36D-694B826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33E3-A23F-4D70-AF4E-F17A96A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5D12-CF40-4A4E-8671-DBA499D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640B-2805-413C-B43C-EF3E88FB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5CF3-EE1B-4954-BD18-89C364D9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E86-4EF6-4F62-8FB9-892FDF2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7432-AF89-4F22-B68F-076F10F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6ED-A955-49F7-BEDB-491392FA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7A7E-4C55-4471-B564-5BD7C67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2B45-BD3D-43A0-B418-8FA3C60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971-8221-4DCF-8C81-A706050B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60F9-1BF6-4ED6-82B7-A764AB0C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8E67-EFA8-4F17-AC28-E27B12C0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440-AC9F-41A9-90CA-91EAA0E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D7C-02E8-4965-9039-3C6B9DF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69D-0FE5-45CB-AE58-17299311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17E-B098-45B3-9891-5D4043EC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EB0-F52E-45BE-BEA5-1D90E12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5C9-A1C1-4E63-9564-FE600AA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45E-C064-4DB7-8B53-5C3960B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977-686A-4361-91EB-C1460EED2D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815-F49B-46D0-BD9D-5FC0E694FE0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Литературное чтени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короговорк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а –ба – ба – из окна торчит труб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а – жа – жа – есть иголки у еж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 – за – за – уходи домой коз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 – ло – ло – на улице тепл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у – му – му – молока ко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 – ре – ре – метём сор во дво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у – су – су – очень холодно в лес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короговор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Бори – винт, у Вити –бин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Кот молоко лакал, а Бор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булку в молоко макал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_AlbionicTitulBrk"/>
              </a:rPr>
              <a:t>Трудные сло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– да- лён – н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– ка- са –ли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 – та – ю – щих –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 – лак – ти –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– над- ле –жа –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 – прос –тра – нён – н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 – ре – вёр – ты – ва -ла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8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_AlbionicTitulBrk"/>
              </a:rPr>
              <a:t>Трудные  сло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– про – шай – ни – ча – 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– корм – лен – но – 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 – ре – ста – вав – ши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р – ри – то – ри – аль – ны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и – пло – ма – ти – чес- 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 – по – ря – жа - ли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8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8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8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1. Познакомить детей с рассказом А.И. Купри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«Барбос и Жулька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. Отрабатывать навык правильного выразительн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чт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3. Учить анализировать поступки героев, с целью в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явления мотивов поступ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4. Развивать память, внимание, мышление учащих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5. Воспитывать любовь к животны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7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7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7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oper Black"/>
              </a:rPr>
              <a:t>Отгадайте фамилию автор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600200"/>
          <a:ext cx="4038480" cy="4924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7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57200" y="1628640"/>
          <a:ext cx="4038480" cy="49165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4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1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6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7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2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5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3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Wide Latin"/>
              </a:rPr>
              <a:t>Александр Иванович Куприн</a:t>
            </a:r>
            <a:br>
              <a:rPr sz="4400"/>
            </a:br>
            <a:r>
              <a:rPr b="0" lang="ru-RU" sz="3600" spc="-1" strike="noStrike">
                <a:solidFill>
                  <a:srgbClr val="006666"/>
                </a:solidFill>
                <a:latin typeface="Wide Latin"/>
              </a:rPr>
              <a:t>1870 - 1938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img109"/>
          <p:cNvPicPr/>
          <p:nvPr/>
        </p:nvPicPr>
        <p:blipFill>
          <a:blip r:embed="rId1"/>
          <a:stretch/>
        </p:blipFill>
        <p:spPr>
          <a:xfrm>
            <a:off x="2484360" y="1700280"/>
            <a:ext cx="388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700280"/>
            <a:ext cx="824400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амилия Куприн происходит  от названия речонки в Тамбовской губернии – Купры. Куприн родился в семье мелкого чиновника. Отец его умер, когда мальчику не был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тырёх лет. Семья осталась без денег и мать перееха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Москву, поселилась во вдовьем доме, мальчик жил с ней до шести лет, а потом его отправили в сиротский панси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прин был человеком широкой, доброй и отзывчивой душ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заре воздухоплавания одним из первых поднялся на воздушном шаре, а несколько позднее – на самолёте и едва не погиб, когда самолёт начал неожиданно падать.</a:t>
            </a:r>
            <a:br>
              <a:rPr sz="20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765000"/>
            <a:ext cx="82440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ился в бурю по морю с рыбаками в лодке и спускался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фандре водолаза на дно. Случалось работать ему корреспондентом газеты, певчим в хоре, зубным врач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зчиком арбузов. Широкоплечий , коренастый Куприн м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е всего походил на писателя. Его зоркий взгляд всегда светился добротой, любовью, талант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ворчество Куприна дышит любовью к Родине, к трудолюб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му народу, к щедрой природе, к могучему русскому языку. Он любил русскую природу, превосходно знал характер и повад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тиц и животных. Он написал много рассказов о собаках, кошках, обезьянах, птицах и слонах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dobe Caslon Pro Bold"/>
              </a:rPr>
              <a:t>Соба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Охотничь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2. Служебны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3. Декоративны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ороды  собак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7" descr="Английский мастиф"/>
          <p:cNvPicPr/>
          <p:nvPr/>
        </p:nvPicPr>
        <p:blipFill>
          <a:blip r:embed="rId1"/>
          <a:stretch/>
        </p:blipFill>
        <p:spPr>
          <a:xfrm rot="20266200">
            <a:off x="1763640" y="1557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далматин"/>
          <p:cNvPicPr/>
          <p:nvPr/>
        </p:nvPicPr>
        <p:blipFill>
          <a:blip r:embed="rId2"/>
          <a:stretch/>
        </p:blipFill>
        <p:spPr>
          <a:xfrm rot="1184400">
            <a:off x="5292360" y="1628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бассет"/>
          <p:cNvPicPr/>
          <p:nvPr/>
        </p:nvPicPr>
        <p:blipFill>
          <a:blip r:embed="rId3"/>
          <a:stretch/>
        </p:blipFill>
        <p:spPr>
          <a:xfrm>
            <a:off x="2484360" y="400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Американский коккер-спаниель"/>
          <p:cNvPicPr/>
          <p:nvPr/>
        </p:nvPicPr>
        <p:blipFill>
          <a:blip r:embed="rId4"/>
          <a:stretch/>
        </p:blipFill>
        <p:spPr>
          <a:xfrm>
            <a:off x="5219640" y="400536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7ff"/>
            </a:gs>
            <a:gs pos="100000">
              <a:srgbClr val="f2dff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omic"/>
              </a:rPr>
              <a:t>Физминут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91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верх ладошки! Хлоп! Хлоп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коленкам – шлёп, шлёп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плечам теперь похлопа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бокам себя пошлёпа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ем хлопнуть за спино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лопаем перед собо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право можем! Влево можем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 крест – накрест руки сложим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ani-panda"/>
          <p:cNvPicPr/>
          <p:nvPr/>
        </p:nvPicPr>
        <p:blipFill>
          <a:blip r:embed="rId1"/>
          <a:stretch/>
        </p:blipFill>
        <p:spPr>
          <a:xfrm>
            <a:off x="5580000" y="2708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20:02:06Z</dcterms:created>
  <dc:creator>Алексей</dc:creator>
  <dc:description/>
  <dc:language>en-US</dc:language>
  <cp:lastModifiedBy>Беседины</cp:lastModifiedBy>
  <dcterms:modified xsi:type="dcterms:W3CDTF">2021-02-16T15:45:18Z</dcterms:modified>
  <cp:revision>7</cp:revision>
  <dc:subject/>
  <dc:title>Литературное чт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