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9BF-C208-4C79-89F8-4292184A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E63-EF0C-4ECE-8207-3F1541FD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204-1635-4A7C-A007-188D647E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A2D-480D-43A4-9F46-58EB8519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7B2-1E23-417A-A188-4FAA74D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F12-24CD-4D7A-BD53-D56467D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E164-14D6-4917-8E8C-5C049C0D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32ED-1FFB-448E-9376-0423BDDC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D007-FE3C-4BD7-8C75-C1BF42B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8F6-F11A-46E7-8223-84839F5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E609-4D31-433D-B12F-2C4A77F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ED4-8657-4F35-B107-FDD1F63F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D0B0-06AE-445E-9608-95010A1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881A-EC0B-4DFC-8AE7-C5D71859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6FD7-82C1-4B65-9B79-721C7B7B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DE57-CDCC-45BB-88B4-0EAC1493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06F1-34D9-4E82-BB46-C3513021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F23-CC02-4FDD-96A6-E7CE01B2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138-33C6-4EB5-A7A3-33207DE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BAF-8D68-4F36-BDD9-66EED53F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E4B-2109-48CE-84FA-1A6804B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72C-A3ED-43E0-9054-4A803F8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A41-B709-4F79-9523-9BC57AE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7AB-224F-48F9-A49D-D3FB2EA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0BD8-2E06-4626-9517-29B831248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35A-2567-41BF-86F7-BEDA9C2E61FE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Литературное чтени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короговорки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а –ба – ба – из окна торчит труб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Жа – жа – жа – есть иголки у еж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За – за – за – уходи домой коз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о – ло – ло – на улице тепл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у – му – му – молока ко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 – ре – ре – метём сор во двор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у – су – су – очень холодно в лесу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3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3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3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3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3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короговор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У Бори – винт, у Вити –бинт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Кот молоко лакал, а Боря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булку в молоко макал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_AlbionicTitulBrk"/>
              </a:rPr>
              <a:t>Трудные сло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– да- лён – н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– ка- са –ли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ол – та – ю – щих –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 – лак – ти –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– над- ле –жа –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 – прос –тра – нён – н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 – ре – вёр – ты – ва -ла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8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_AlbionicTitulBrk"/>
              </a:rPr>
              <a:t>Трудные  сло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– про – шай – ни – ча – 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 – корм – лен – но – 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 – ре – ста – вав – ши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р – ри – то – ри – аль – ны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и – пло – ма – ти – чес- 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с – по – ря – жа - лис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8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8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8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Цели урока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1. Познакомить детей с рассказом А.И. Купри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«Барбос и Жулька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. Отрабатывать навык правильного выразительн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чт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3. Учить анализировать поступки героев, с целью в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явления мотивов поступ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4. Развивать память, внимание, мышление учащих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5. Воспитывать любовь к животны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7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7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7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7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7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oper Black"/>
              </a:rPr>
              <a:t>Отгадайте фамилию автор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600200"/>
          <a:ext cx="4038480" cy="49244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7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57200" y="1628640"/>
          <a:ext cx="4038480" cy="491652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4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1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6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7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2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5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6000" spc="-1" strike="noStrike">
                          <a:solidFill>
                            <a:srgbClr val="ff3399"/>
                          </a:solidFill>
                          <a:latin typeface="Verdana"/>
                        </a:rPr>
                        <a:t>3</a:t>
                      </a:r>
                      <a:endParaRPr b="0" lang="en-US" sz="6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Wide Latin"/>
              </a:rPr>
              <a:t>Александр Иванович Куприн</a:t>
            </a:r>
            <a:br>
              <a:rPr sz="4400"/>
            </a:br>
            <a:r>
              <a:rPr b="0" lang="ru-RU" sz="3600" spc="-1" strike="noStrike">
                <a:solidFill>
                  <a:srgbClr val="006666"/>
                </a:solidFill>
                <a:latin typeface="Wide Latin"/>
              </a:rPr>
              <a:t>1870 - 1938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4" descr="img109"/>
          <p:cNvPicPr/>
          <p:nvPr/>
        </p:nvPicPr>
        <p:blipFill>
          <a:blip r:embed="rId1"/>
          <a:stretch/>
        </p:blipFill>
        <p:spPr>
          <a:xfrm>
            <a:off x="2484360" y="1700280"/>
            <a:ext cx="3888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700280"/>
            <a:ext cx="824400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амилия Куприн происходит  от названия речонки в Тамбовской губернии – Купры. Куприн родился в семье мелкого чиновника. Отец его умер, когда мальчику не был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тырёх лет. Семья осталась без денег и мать перееха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Москву, поселилась во вдовьем доме, мальчик жил с ней до шести лет, а потом его отправили в сиротский панси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прин был человеком широкой, доброй и отзывчивой душ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заре воздухоплавания одним из первых поднялся на воздушном шаре, а несколько позднее – на самолёте и едва не погиб, когда самолёт начал неожиданно падать.</a:t>
            </a:r>
            <a:br>
              <a:rPr sz="2000"/>
            </a:b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765000"/>
            <a:ext cx="8244000" cy="46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ился в бурю по морю с рыбаками в лодке и спускался 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фандре водолаза на дно. Случалось работать ему корреспондентом газеты, певчим в хоре, зубным врач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узчиком арбузов. Широкоплечий , коренастый Куприн м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е всего походил на писателя. Его зоркий взгляд всегда светился добротой, любовью, талант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ворчество Куприна дышит любовью к Родине, к трудолюб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му народу, к щедрой природе, к могучему русскому языку. Он любил русскую природу, превосходно знал характер и повад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тиц и животных. Он написал много рассказов о собаках, кошках, обезьянах, птицах и слонах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475920"/>
            <a:ext cx="82440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dobe Caslon Pro Bold"/>
              </a:rPr>
              <a:t>Соба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Охотничь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2. Служебны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Verdana"/>
              </a:rPr>
              <a:t>3. Декоративные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ороды  собак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Picture 7" descr="Английский мастиф"/>
          <p:cNvPicPr/>
          <p:nvPr/>
        </p:nvPicPr>
        <p:blipFill>
          <a:blip r:embed="rId1"/>
          <a:stretch/>
        </p:blipFill>
        <p:spPr>
          <a:xfrm rot="20266200">
            <a:off x="1763640" y="1557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далматин"/>
          <p:cNvPicPr/>
          <p:nvPr/>
        </p:nvPicPr>
        <p:blipFill>
          <a:blip r:embed="rId2"/>
          <a:stretch/>
        </p:blipFill>
        <p:spPr>
          <a:xfrm rot="1184400">
            <a:off x="5292360" y="16286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бассет"/>
          <p:cNvPicPr/>
          <p:nvPr/>
        </p:nvPicPr>
        <p:blipFill>
          <a:blip r:embed="rId3"/>
          <a:stretch/>
        </p:blipFill>
        <p:spPr>
          <a:xfrm>
            <a:off x="2484360" y="400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Американский коккер-спаниель"/>
          <p:cNvPicPr/>
          <p:nvPr/>
        </p:nvPicPr>
        <p:blipFill>
          <a:blip r:embed="rId4"/>
          <a:stretch/>
        </p:blipFill>
        <p:spPr>
          <a:xfrm>
            <a:off x="5219640" y="400536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7ff"/>
            </a:gs>
            <a:gs pos="100000">
              <a:srgbClr val="f2dff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62064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omic"/>
              </a:rPr>
              <a:t>Физминут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691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верх ладошки! Хлоп! Хлоп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коленкам – шлёп, шлёп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плечам теперь похлопа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бокам себя пошлёпа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ем хлопнуть за спино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лопаем перед собой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право можем! Влево можем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 крест – накрест руки сложим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ani-panda"/>
          <p:cNvPicPr/>
          <p:nvPr/>
        </p:nvPicPr>
        <p:blipFill>
          <a:blip r:embed="rId1"/>
          <a:stretch/>
        </p:blipFill>
        <p:spPr>
          <a:xfrm>
            <a:off x="5580000" y="2708280"/>
            <a:ext cx="2664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20:02:06Z</dcterms:created>
  <dc:creator>Алексей</dc:creator>
  <dc:description/>
  <dc:language>en-US</dc:language>
  <cp:lastModifiedBy>Беседины</cp:lastModifiedBy>
  <dcterms:modified xsi:type="dcterms:W3CDTF">2021-02-16T15:45:18Z</dcterms:modified>
  <cp:revision>7</cp:revision>
  <dc:subject/>
  <dc:title>Литературное чт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