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C05-A3C6-4C25-90D6-DA60ABC0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EB4-97DA-4190-8FD3-BAD62907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16A-D7F7-42D2-903A-77595CBC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356-2441-43FE-8884-0BCAFEB1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A7FF-FB28-4EDA-BF62-2F07C162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8A19-7592-4DDD-A584-17E0E419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EEDD-1E07-4A31-8837-F296C45A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F7ED-29AD-450C-A075-CE7021CB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6D06-9FE4-4F46-88E0-8AFF6FBC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EAC1-03F8-4995-BC9D-672C0803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A040-280D-4ACC-BB3F-B54683E6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5B6-5838-4AA7-8120-13F01355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B87F-B32A-4755-B041-A06B573E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3CFC-494C-4769-B61F-E28751FE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CC10-59EE-4A74-A7F6-DC548E96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05D5-75E8-4C56-A624-14D0D35A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C948-1FDF-4D6E-966B-FF982436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556-D2F2-48C4-93F8-EF567ED8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C51-90E5-4EEA-BABF-90A8892E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FE3-3F76-4617-9912-2676B78D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9C6-F0D9-49DC-A923-8D21B62F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89A-57F4-4AEE-B527-3206124E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F4E-A4D2-47E9-BB46-5578E8C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CB0-E3BB-4294-B5F7-CCE456C5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3B07-1CCA-45DC-8F61-1D804C1314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39AD-2E4F-46A3-806A-4F2244AF19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4;&#1087;&#1100;&#1102;&#1090;&#1077;&#1088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ковенко Татьяна Михайл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 №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79280" y="162864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80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мпьютер и его возмож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80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98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98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3754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 компьютер является незаменимым помощником человека в любой сфере деятельности и владеет  многи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я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dsc00006"/>
          <p:cNvPicPr/>
          <p:nvPr/>
        </p:nvPicPr>
        <p:blipFill>
          <a:blip r:embed="rId1"/>
          <a:stretch/>
        </p:blipFill>
        <p:spPr>
          <a:xfrm>
            <a:off x="4140360" y="1844640"/>
            <a:ext cx="4752720" cy="380376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тика:Учебник для 5 клас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.Л. Босова.-3-е изд.,испр. И доп.-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НОМ.Лаборатория знаний,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е рекомендации и поурочное планирование к учебнику "Информатика" 5 - 6 класс (Л.Л. Бос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ru.wikipedia.org/wiki/%D0%9A%D0%BE%D0%BC%D0%BF%D1%8C%D1%8E%D1%82%D0%B5%D1%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кипедия-свободная энциклопе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39640" y="414360"/>
            <a:ext cx="47149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исок литературы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45356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 ве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ом назыв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я челове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ющего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ами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слайд 2"/>
          <p:cNvPicPr/>
          <p:nvPr/>
        </p:nvPicPr>
        <p:blipFill>
          <a:blip r:embed="rId1"/>
          <a:srcRect l="7908" t="27396" r="7979" b="8575"/>
          <a:stretch/>
        </p:blipFill>
        <p:spPr>
          <a:xfrm>
            <a:off x="5076720" y="2249640"/>
            <a:ext cx="3278160" cy="290808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584280" y="471600"/>
            <a:ext cx="3124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пьютер …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417672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ше время определение компьютера звучит т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-это устройство взаимосвязанных технических устройств, выполняющих автоматизированную обработку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30bc373deaf04cb0e3b15fa045e27a6e"/>
          <p:cNvPicPr/>
          <p:nvPr/>
        </p:nvPicPr>
        <p:blipFill>
          <a:blip r:embed="rId1"/>
          <a:stretch/>
        </p:blipFill>
        <p:spPr>
          <a:xfrm>
            <a:off x="4427640" y="1628640"/>
            <a:ext cx="4105080" cy="37306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388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ущ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опроиз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ый секрет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хгал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авочное бю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таль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388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льтиплик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ит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ай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зитор и музы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684360" y="404640"/>
            <a:ext cx="6324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зможности компьютера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4249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ор и редактирование текстов, хранение и печать документов широко используются во всех сфер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R%20-%20Invalid0880"/>
          <p:cNvPicPr/>
          <p:nvPr/>
        </p:nvPicPr>
        <p:blipFill>
          <a:blip r:embed="rId1"/>
          <a:stretch/>
        </p:blipFill>
        <p:spPr>
          <a:xfrm>
            <a:off x="4932360" y="1557360"/>
            <a:ext cx="3436920" cy="43196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539640" y="404640"/>
            <a:ext cx="4638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шущая машинка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3251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и сообщения могут быть доставлены в любую точку планеты за считанные мин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postman_pa_m1126970"/>
          <p:cNvPicPr/>
          <p:nvPr/>
        </p:nvPicPr>
        <p:blipFill>
          <a:blip r:embed="rId1"/>
          <a:stretch/>
        </p:blipFill>
        <p:spPr>
          <a:xfrm>
            <a:off x="5076720" y="1628640"/>
            <a:ext cx="3240360" cy="44006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539640" y="403200"/>
            <a:ext cx="2952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тальон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3754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омпьютере можно создавать двумерные и трехмерные движущиеся изображения, всевозможные видеоэффек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539640" y="414360"/>
            <a:ext cx="4067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льтипликатор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Picture 10" descr="утка"/>
          <p:cNvPicPr/>
          <p:nvPr/>
        </p:nvPicPr>
        <p:blipFill>
          <a:blip r:embed="rId1"/>
          <a:stretch/>
        </p:blipFill>
        <p:spPr>
          <a:xfrm>
            <a:off x="4643280" y="1557360"/>
            <a:ext cx="3357720" cy="41958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4824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компьютере можно разрабатывать модели обуви и одежды, подготавливать выкро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kursy32_01"/>
          <p:cNvPicPr/>
          <p:nvPr/>
        </p:nvPicPr>
        <p:blipFill>
          <a:blip r:embed="rId1"/>
          <a:stretch/>
        </p:blipFill>
        <p:spPr>
          <a:xfrm>
            <a:off x="5508720" y="1484280"/>
            <a:ext cx="2643120" cy="41054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8"/>
          <p:cNvSpPr txBox="1"/>
          <p:nvPr/>
        </p:nvSpPr>
        <p:spPr>
          <a:xfrm>
            <a:off x="539640" y="343080"/>
            <a:ext cx="2519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ьер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4859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ся возможность обследования, диагностирования и назначения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doctor"/>
          <p:cNvPicPr/>
          <p:nvPr/>
        </p:nvPicPr>
        <p:blipFill>
          <a:blip r:embed="rId1"/>
          <a:stretch/>
        </p:blipFill>
        <p:spPr>
          <a:xfrm>
            <a:off x="5219640" y="1628640"/>
            <a:ext cx="2990880" cy="41767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9"/>
          <p:cNvSpPr txBox="1"/>
          <p:nvPr/>
        </p:nvSpPr>
        <p:spPr>
          <a:xfrm>
            <a:off x="539640" y="343080"/>
            <a:ext cx="1190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ач</a:t>
            </a:r>
            <a:endParaRPr b="0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3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9:07:06Z</dcterms:created>
  <dc:creator>61</dc:creator>
  <dc:description/>
  <dc:language>en-US</dc:language>
  <cp:lastModifiedBy>User</cp:lastModifiedBy>
  <dcterms:modified xsi:type="dcterms:W3CDTF">2023-07-11T13:42:45Z</dcterms:modified>
  <cp:revision>10</cp:revision>
  <dc:subject/>
  <dc:title>Компьютер и его возможности</dc:title>
</cp:coreProperties>
</file>