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003-7751-4BD4-BF5D-C17888BA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E4F-F5C6-4706-A67B-544A8F55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823-E2C8-476D-882E-C6626665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806-71CB-419D-8B85-A710081A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B8A5-0F45-4EF2-AEF3-C345003F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E403-CD20-44C4-9AC8-0D372158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186A-83BD-4605-ABDC-124369B3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1818-E4C7-4705-BE67-88617FEA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E1ED-3A64-4989-BB79-7F3DBDC0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3C65-93CD-43C3-A7E0-4AE40B8C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FFB4-3AF3-4AF6-9D90-05FE0671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40F-9077-419F-8A68-293B364E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B7A5-5E72-48A5-A572-0F3B51F9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9846-961E-4FA7-9879-81674D5A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675B-8511-449E-9B99-ABFE3430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FF47-F153-4A67-917B-A9CB8EF2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AD3A-1383-4EDC-A902-9D517FBF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8ED-03B6-4C56-A67D-822D8412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1D3-C0DD-4A44-8053-E4060B29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485-DA57-47C2-A6F5-22CEE21E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9FF-1BC7-487C-8621-B48CFA61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CAB-96B8-4E5B-9DC0-EF4EC3C3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154-4E3F-41C3-B972-196A2918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9B2-06D8-4A73-9366-A7CAB22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AC62-4174-4EAB-80C7-37C9F14B10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26FE-0F44-4B14-9A26-C8012B53F1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4;&#1087;&#1100;&#1102;&#1090;&#1077;&#1088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ковенко Татьяна Михайл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 №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79280" y="162864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80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мпьютер и его возмож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80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3754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 компьютер является незаменимым помощником человека в любой сфере деятельности и владеет  многи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я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dsc00006"/>
          <p:cNvPicPr/>
          <p:nvPr/>
        </p:nvPicPr>
        <p:blipFill>
          <a:blip r:embed="rId1"/>
          <a:stretch/>
        </p:blipFill>
        <p:spPr>
          <a:xfrm>
            <a:off x="4140360" y="1844640"/>
            <a:ext cx="4752720" cy="380376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тика:Учебник для 5 клас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.Л. Босова.-3-е изд.,испр. И доп.-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НОМ.Лаборатория знаний,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е рекомендации и поурочное планирование к учебнику "Информатика" 5 - 6 класс (Л.Л. Бос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ru.wikipedia.org/wiki/%D0%9A%D0%BE%D0%BC%D0%BF%D1%8C%D1%8E%D1%82%D0%B5%D1%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кипедия-свободная энциклопе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39640" y="414360"/>
            <a:ext cx="47149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исок литературы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45356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 ве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ом назы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я челове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ющего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ами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слайд 2"/>
          <p:cNvPicPr/>
          <p:nvPr/>
        </p:nvPicPr>
        <p:blipFill>
          <a:blip r:embed="rId1"/>
          <a:srcRect l="7908" t="27396" r="7979" b="8575"/>
          <a:stretch/>
        </p:blipFill>
        <p:spPr>
          <a:xfrm>
            <a:off x="5076720" y="2249640"/>
            <a:ext cx="3278160" cy="290808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584280" y="471600"/>
            <a:ext cx="3124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пьютер …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417672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ше время определение компьютера звучит т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-это устройство взаимосвязанных технических устройств, выполняющих автоматизированную обработку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30bc373deaf04cb0e3b15fa045e27a6e"/>
          <p:cNvPicPr/>
          <p:nvPr/>
        </p:nvPicPr>
        <p:blipFill>
          <a:blip r:embed="rId1"/>
          <a:stretch/>
        </p:blipFill>
        <p:spPr>
          <a:xfrm>
            <a:off x="4427640" y="1628640"/>
            <a:ext cx="4105080" cy="37306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388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ущ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опроиз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ый секрет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хгал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вочное бю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аль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388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ит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ай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зитор и музы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684360" y="404640"/>
            <a:ext cx="6324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зможности компьютера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4249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ор и редактирование текстов, хранение и печать документов широко используются во всех сфер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R%20-%20Invalid0880"/>
          <p:cNvPicPr/>
          <p:nvPr/>
        </p:nvPicPr>
        <p:blipFill>
          <a:blip r:embed="rId1"/>
          <a:stretch/>
        </p:blipFill>
        <p:spPr>
          <a:xfrm>
            <a:off x="4932360" y="1557360"/>
            <a:ext cx="3436920" cy="43196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539640" y="404640"/>
            <a:ext cx="4638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шущая машинка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3251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и сообщения могут быть доставлены в любую точку планеты за считанные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ostman_pa_m1126970"/>
          <p:cNvPicPr/>
          <p:nvPr/>
        </p:nvPicPr>
        <p:blipFill>
          <a:blip r:embed="rId1"/>
          <a:stretch/>
        </p:blipFill>
        <p:spPr>
          <a:xfrm>
            <a:off x="5076720" y="1628640"/>
            <a:ext cx="3240360" cy="44006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539640" y="403200"/>
            <a:ext cx="295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тальон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3754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омпьютере можно создавать двумерные и трехмерные движущиеся изображения, всевозможные видеоэффек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539640" y="414360"/>
            <a:ext cx="4067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льтипликатор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Picture 10" descr="утка"/>
          <p:cNvPicPr/>
          <p:nvPr/>
        </p:nvPicPr>
        <p:blipFill>
          <a:blip r:embed="rId1"/>
          <a:stretch/>
        </p:blipFill>
        <p:spPr>
          <a:xfrm>
            <a:off x="4643280" y="1557360"/>
            <a:ext cx="3357720" cy="41958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4824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омпьютере можно разрабатывать модели обуви и одежды, подготавливать выкро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kursy32_01"/>
          <p:cNvPicPr/>
          <p:nvPr/>
        </p:nvPicPr>
        <p:blipFill>
          <a:blip r:embed="rId1"/>
          <a:stretch/>
        </p:blipFill>
        <p:spPr>
          <a:xfrm>
            <a:off x="5508720" y="1484280"/>
            <a:ext cx="2643120" cy="41054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8"/>
          <p:cNvSpPr txBox="1"/>
          <p:nvPr/>
        </p:nvSpPr>
        <p:spPr>
          <a:xfrm>
            <a:off x="539640" y="343080"/>
            <a:ext cx="2519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ьер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48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ся возможность обследования, диагностирования и назначения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doctor"/>
          <p:cNvPicPr/>
          <p:nvPr/>
        </p:nvPicPr>
        <p:blipFill>
          <a:blip r:embed="rId1"/>
          <a:stretch/>
        </p:blipFill>
        <p:spPr>
          <a:xfrm>
            <a:off x="5219640" y="1628640"/>
            <a:ext cx="2990880" cy="41767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9"/>
          <p:cNvSpPr txBox="1"/>
          <p:nvPr/>
        </p:nvSpPr>
        <p:spPr>
          <a:xfrm>
            <a:off x="539640" y="343080"/>
            <a:ext cx="1190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ач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9:07:06Z</dcterms:created>
  <dc:creator>61</dc:creator>
  <dc:description/>
  <dc:language>en-US</dc:language>
  <cp:lastModifiedBy>User</cp:lastModifiedBy>
  <dcterms:modified xsi:type="dcterms:W3CDTF">2023-07-11T13:42:45Z</dcterms:modified>
  <cp:revision>10</cp:revision>
  <dc:subject/>
  <dc:title>Компьютер и его возможности</dc:title>
</cp:coreProperties>
</file>