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5.wmf" ContentType="image/x-wmf"/>
  <Override PartName="/ppt/media/image14.jpeg" ContentType="image/jpeg"/>
  <Override PartName="/ppt/media/image9.png" ContentType="image/png"/>
  <Override PartName="/ppt/media/image34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35.gif" ContentType="image/gif"/>
  <Override PartName="/ppt/media/image31.png" ContentType="image/png"/>
  <Override PartName="/ppt/media/image6.png" ContentType="image/png"/>
  <Override PartName="/ppt/media/image29.png" ContentType="image/png"/>
  <Override PartName="/ppt/media/image13.gif" ContentType="image/gif"/>
  <Override PartName="/ppt/media/image1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7.png" ContentType="image/png"/>
  <Override PartName="/ppt/media/image18.png" ContentType="image/png"/>
  <Override PartName="/ppt/media/image36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FAF-5F87-4E46-AB32-F986C03B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141-8EE0-485B-A517-077DC52B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B5F-9078-4B0F-A17A-6345510A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DA7-3588-479D-A764-6A59E4D6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004-04B6-4004-86B0-19849293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B8B-F2E4-434B-AD5B-7D1888FA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6F3-AAC0-499E-81D5-A210DDC9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1C1-1068-411E-82B0-291CCCA2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D5A-00CB-49D9-95CE-F0ABC474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ED7-02E4-4EDE-B33D-17EC651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BF0-90D4-4DF7-B19A-C2E742D7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E18-BA46-4CA4-B9F3-376D1892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6F0D-0902-4044-95C1-E681A5F2A88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png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338400"/>
            <a:ext cx="7427880" cy="168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24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т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я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ря.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ла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сс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ная  р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ота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Picture 4" descr="C:\Documents and Settings\Лариса\Рабочий стол\Коллекция для  созд  презентаций\правильно  сижу.jpg"/>
          <p:cNvPicPr/>
          <p:nvPr/>
        </p:nvPicPr>
        <p:blipFill>
          <a:blip r:embed="rId1"/>
          <a:stretch/>
        </p:blipFill>
        <p:spPr>
          <a:xfrm>
            <a:off x="5145120" y="2077920"/>
            <a:ext cx="2365200" cy="262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Лариса\Рабочий стол\Коллекция для  созд  презентаций\правильно  сижу.jpg"/>
          <p:cNvPicPr/>
          <p:nvPr/>
        </p:nvPicPr>
        <p:blipFill>
          <a:blip r:embed="rId2"/>
          <a:stretch/>
        </p:blipFill>
        <p:spPr>
          <a:xfrm>
            <a:off x="1835280" y="2060640"/>
            <a:ext cx="2487600" cy="265104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8"/>
          <p:cNvSpPr/>
          <p:nvPr/>
        </p:nvSpPr>
        <p:spPr>
          <a:xfrm>
            <a:off x="2752560" y="5157720"/>
            <a:ext cx="4759560" cy="914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ижу  правильн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пишу  красив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extBox 1" descr=""/>
          <p:cNvPicPr/>
          <p:nvPr/>
        </p:nvPicPr>
        <p:blipFill>
          <a:blip r:embed="rId1"/>
          <a:stretch/>
        </p:blipFill>
        <p:spPr>
          <a:xfrm>
            <a:off x="847800" y="420840"/>
            <a:ext cx="7375320" cy="7315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1895400" y="198432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809720" y="3378240"/>
            <a:ext cx="14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0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4294080" y="25700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 ? ра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вал 15"/>
          <p:cNvSpPr/>
          <p:nvPr/>
        </p:nvSpPr>
        <p:spPr>
          <a:xfrm>
            <a:off x="8501040" y="714240"/>
            <a:ext cx="428760" cy="428760"/>
          </a:xfrm>
          <a:prstGeom prst="ellipse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4520" y="2401560"/>
            <a:ext cx="20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Кв.-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Кр.-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8" name="Picture 13" descr=""/>
          <p:cNvPicPr/>
          <p:nvPr/>
        </p:nvPicPr>
        <p:blipFill>
          <a:blip r:embed="rId2"/>
          <a:stretch/>
        </p:blipFill>
        <p:spPr>
          <a:xfrm rot="18330600">
            <a:off x="2781000" y="2280960"/>
            <a:ext cx="1465200" cy="146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1830240" y="55260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847880" y="1838160"/>
            <a:ext cx="14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0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4356000" y="1254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 ? ра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1360" y="915480"/>
            <a:ext cx="201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Кв.-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Кр.-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1"/>
          <a:stretch/>
        </p:blipFill>
        <p:spPr>
          <a:xfrm rot="18330600">
            <a:off x="2817360" y="802800"/>
            <a:ext cx="1465200" cy="1465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453960" y="28782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 : 2 = 5 (раз) больше кру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41360" y="3144960"/>
            <a:ext cx="78865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 Black"/>
              </a:rPr>
              <a:t>Ответ: в 5 раз больш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3243240" y="255600"/>
            <a:ext cx="2408400" cy="6890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3" descr=""/>
          <p:cNvPicPr/>
          <p:nvPr/>
        </p:nvPicPr>
        <p:blipFill>
          <a:blip r:embed="rId2"/>
          <a:stretch/>
        </p:blipFill>
        <p:spPr>
          <a:xfrm>
            <a:off x="719280" y="2060640"/>
            <a:ext cx="2590560" cy="815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3597120" y="2792520"/>
            <a:ext cx="1398600" cy="1858680"/>
          </a:xfrm>
          <a:prstGeom prst="rect">
            <a:avLst/>
          </a:prstGeom>
          <a:ln w="0">
            <a:noFill/>
          </a:ln>
        </p:spPr>
      </p:pic>
      <p:sp>
        <p:nvSpPr>
          <p:cNvPr id="139" name="Овал 1"/>
          <p:cNvSpPr/>
          <p:nvPr/>
        </p:nvSpPr>
        <p:spPr>
          <a:xfrm>
            <a:off x="6303960" y="3014640"/>
            <a:ext cx="609480" cy="588960"/>
          </a:xfrm>
          <a:prstGeom prst="ellipse">
            <a:avLst/>
          </a:prstGeom>
          <a:solidFill>
            <a:srgbClr val="4472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6"/>
          <p:cNvSpPr/>
          <p:nvPr/>
        </p:nvSpPr>
        <p:spPr>
          <a:xfrm>
            <a:off x="6303960" y="3827520"/>
            <a:ext cx="609480" cy="588960"/>
          </a:xfrm>
          <a:prstGeom prst="ellipse">
            <a:avLst/>
          </a:prstGeom>
          <a:solidFill>
            <a:srgbClr val="4472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Прямоугольник 7" descr=""/>
          <p:cNvPicPr/>
          <p:nvPr/>
        </p:nvPicPr>
        <p:blipFill>
          <a:blip r:embed="rId4"/>
          <a:stretch/>
        </p:blipFill>
        <p:spPr>
          <a:xfrm>
            <a:off x="5505480" y="2060640"/>
            <a:ext cx="2590920" cy="815760"/>
          </a:xfrm>
          <a:prstGeom prst="rect">
            <a:avLst/>
          </a:prstGeom>
          <a:ln w="0">
            <a:noFill/>
          </a:ln>
        </p:spPr>
      </p:pic>
      <p:sp>
        <p:nvSpPr>
          <p:cNvPr id="142" name="Знак ''минус'' 2"/>
          <p:cNvSpPr/>
          <p:nvPr/>
        </p:nvSpPr>
        <p:spPr>
          <a:xfrm>
            <a:off x="887400" y="3117960"/>
            <a:ext cx="1955880" cy="1207800"/>
          </a:xfrm>
          <a:custGeom>
            <a:avLst/>
            <a:gdLst/>
            <a:ahLst/>
            <a:rect l="l" t="t" r="r" b="b"/>
            <a:pathLst>
              <a:path w="1955800" h="1208088">
                <a:moveTo>
                  <a:pt x="259241" y="461973"/>
                </a:moveTo>
                <a:lnTo>
                  <a:pt x="1696559" y="461973"/>
                </a:lnTo>
                <a:lnTo>
                  <a:pt x="1696559" y="746115"/>
                </a:lnTo>
                <a:lnTo>
                  <a:pt x="259241" y="746115"/>
                </a:lnTo>
                <a:lnTo>
                  <a:pt x="259241" y="461973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Прямоугольник: скругленные углы 8" descr=""/>
          <p:cNvPicPr/>
          <p:nvPr/>
        </p:nvPicPr>
        <p:blipFill>
          <a:blip r:embed="rId5"/>
          <a:stretch/>
        </p:blipFill>
        <p:spPr>
          <a:xfrm>
            <a:off x="658800" y="4718160"/>
            <a:ext cx="2419200" cy="102384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: скругленные углы 9" descr=""/>
          <p:cNvPicPr/>
          <p:nvPr/>
        </p:nvPicPr>
        <p:blipFill>
          <a:blip r:embed="rId6"/>
          <a:stretch/>
        </p:blipFill>
        <p:spPr>
          <a:xfrm>
            <a:off x="5437080" y="4668840"/>
            <a:ext cx="2421000" cy="103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738360" y="530280"/>
            <a:ext cx="8008920" cy="6159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3525840" y="1986120"/>
            <a:ext cx="172260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0 и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539640" y="4581360"/>
            <a:ext cx="1525680" cy="20257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16"/>
          <p:cNvSpPr/>
          <p:nvPr/>
        </p:nvSpPr>
        <p:spPr>
          <a:xfrm>
            <a:off x="3525840" y="2889360"/>
            <a:ext cx="172260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2 и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3525840" y="3722760"/>
            <a:ext cx="1722600" cy="5414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40 и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4"/>
          <p:cNvSpPr/>
          <p:nvPr/>
        </p:nvSpPr>
        <p:spPr>
          <a:xfrm>
            <a:off x="4653000" y="2421000"/>
            <a:ext cx="2008080" cy="6426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.41 №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3" descr="C:\Users\1\Pictures\2013-08-08\Mail0001.JPG"/>
          <p:cNvPicPr/>
          <p:nvPr/>
        </p:nvPicPr>
        <p:blipFill>
          <a:blip r:embed="rId1"/>
          <a:srcRect l="0" t="0" r="6549" b="11848"/>
          <a:stretch/>
        </p:blipFill>
        <p:spPr>
          <a:xfrm>
            <a:off x="0" y="-20520"/>
            <a:ext cx="3168720" cy="4533840"/>
          </a:xfrm>
          <a:prstGeom prst="rect">
            <a:avLst/>
          </a:prstGeom>
          <a:ln w="9360">
            <a:solidFill>
              <a:srgbClr val="4472c4"/>
            </a:solidFill>
            <a:miter/>
          </a:ln>
        </p:spPr>
      </p:pic>
      <p:pic>
        <p:nvPicPr>
          <p:cNvPr id="152" name="Picture 4" descr="ANTN027"/>
          <p:cNvPicPr/>
          <p:nvPr/>
        </p:nvPicPr>
        <p:blipFill>
          <a:blip r:embed="rId2"/>
          <a:stretch/>
        </p:blipFill>
        <p:spPr>
          <a:xfrm>
            <a:off x="3929040" y="3643200"/>
            <a:ext cx="3456000" cy="288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8280" y="3500280"/>
            <a:ext cx="1792440" cy="237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960560" y="2228760"/>
          <a:ext cx="6095880" cy="1851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17400">
                <a:tc gridSpan="5"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Увеличь в 4 раз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40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</a:tr>
              <a:tr h="61740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4"/>
          <p:cNvSpPr/>
          <p:nvPr/>
        </p:nvSpPr>
        <p:spPr>
          <a:xfrm>
            <a:off x="4653000" y="2421000"/>
            <a:ext cx="2008080" cy="6426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.41 №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Содержимое 3" descr="C:\Users\1\Pictures\2013-08-08\Mail0001.JPG"/>
          <p:cNvPicPr/>
          <p:nvPr/>
        </p:nvPicPr>
        <p:blipFill>
          <a:blip r:embed="rId1"/>
          <a:srcRect l="0" t="0" r="6549" b="11848"/>
          <a:stretch/>
        </p:blipFill>
        <p:spPr>
          <a:xfrm>
            <a:off x="0" y="-20520"/>
            <a:ext cx="3168720" cy="4533840"/>
          </a:xfrm>
          <a:prstGeom prst="rect">
            <a:avLst/>
          </a:prstGeom>
          <a:ln w="9360">
            <a:solidFill>
              <a:srgbClr val="4472c4"/>
            </a:solidFill>
            <a:miter/>
          </a:ln>
        </p:spPr>
      </p:pic>
      <p:pic>
        <p:nvPicPr>
          <p:cNvPr id="157" name="Picture 4" descr="ANTN027"/>
          <p:cNvPicPr/>
          <p:nvPr/>
        </p:nvPicPr>
        <p:blipFill>
          <a:blip r:embed="rId2"/>
          <a:stretch/>
        </p:blipFill>
        <p:spPr>
          <a:xfrm>
            <a:off x="3929040" y="3643200"/>
            <a:ext cx="3456000" cy="288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68360" y="1397160"/>
          <a:ext cx="7920000" cy="2549520"/>
        </p:xfrm>
        <a:graphic>
          <a:graphicData uri="http://schemas.openxmlformats.org/drawingml/2006/table">
            <a:tbl>
              <a:tblPr/>
              <a:tblGrid>
                <a:gridCol w="2639880"/>
                <a:gridCol w="2640240"/>
                <a:gridCol w="26398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 1 команд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ол-во коман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сего де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? де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 коман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? де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397160"/>
          <a:ext cx="7920000" cy="2549520"/>
        </p:xfrm>
        <a:graphic>
          <a:graphicData uri="http://schemas.openxmlformats.org/drawingml/2006/table">
            <a:tbl>
              <a:tblPr/>
              <a:tblGrid>
                <a:gridCol w="2639880"/>
                <a:gridCol w="2640240"/>
                <a:gridCol w="26398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 1 команд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ол-во коман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сего де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? де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 коман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? детей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д. и 7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Овал 1"/>
          <p:cNvSpPr/>
          <p:nvPr/>
        </p:nvSpPr>
        <p:spPr>
          <a:xfrm>
            <a:off x="971640" y="2565360"/>
            <a:ext cx="431640" cy="6476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17733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1) 5+7 =12 (д.)- всего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2) 12:2=6 (дет.) – в 1 команде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Ответ: 6 детей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2" descr=""/>
          <p:cNvPicPr/>
          <p:nvPr/>
        </p:nvPicPr>
        <p:blipFill>
          <a:blip r:embed="rId2"/>
          <a:stretch/>
        </p:blipFill>
        <p:spPr>
          <a:xfrm>
            <a:off x="1109520" y="2127240"/>
            <a:ext cx="7285320" cy="453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2798640" y="1139760"/>
            <a:ext cx="3230640" cy="6825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3"/>
          <p:cNvSpPr/>
          <p:nvPr/>
        </p:nvSpPr>
        <p:spPr>
          <a:xfrm>
            <a:off x="2008080" y="2149560"/>
            <a:ext cx="4334040" cy="54108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ло 30 больше, чем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6804000" y="4005360"/>
            <a:ext cx="1800360" cy="23796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9"/>
          <p:cNvSpPr/>
          <p:nvPr/>
        </p:nvSpPr>
        <p:spPr>
          <a:xfrm>
            <a:off x="2008080" y="2854440"/>
            <a:ext cx="433404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ло 4 меньше, чем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10"/>
          <p:cNvSpPr/>
          <p:nvPr/>
        </p:nvSpPr>
        <p:spPr>
          <a:xfrm>
            <a:off x="2008080" y="3557520"/>
            <a:ext cx="433404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ло 5 меньше, чем 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11"/>
          <p:cNvSpPr/>
          <p:nvPr/>
        </p:nvSpPr>
        <p:spPr>
          <a:xfrm>
            <a:off x="2008080" y="4335480"/>
            <a:ext cx="433404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ло 28 больше, чем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3267000" y="212760"/>
            <a:ext cx="2401920" cy="65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98280" y="3500280"/>
            <a:ext cx="1792440" cy="23799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5"/>
          <p:cNvSpPr/>
          <p:nvPr/>
        </p:nvSpPr>
        <p:spPr>
          <a:xfrm>
            <a:off x="2195640" y="1125360"/>
            <a:ext cx="4752720" cy="120492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ы теперь ещё и умеем решать задачи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Прямоугольник 6" descr=""/>
          <p:cNvPicPr/>
          <p:nvPr/>
        </p:nvPicPr>
        <p:blipFill>
          <a:blip r:embed="rId3"/>
          <a:stretch/>
        </p:blipFill>
        <p:spPr>
          <a:xfrm>
            <a:off x="2182680" y="2670120"/>
            <a:ext cx="4784760" cy="123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funforkids.ru/pictures/neznaika/neznaika27.png"/>
          <p:cNvPicPr/>
          <p:nvPr/>
        </p:nvPicPr>
        <p:blipFill>
          <a:blip r:embed="rId4"/>
          <a:stretch/>
        </p:blipFill>
        <p:spPr>
          <a:xfrm>
            <a:off x="6765840" y="2924280"/>
            <a:ext cx="2378160" cy="379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Прямоугольник 3" descr=""/>
          <p:cNvPicPr/>
          <p:nvPr/>
        </p:nvPicPr>
        <p:blipFill>
          <a:blip r:embed="rId1"/>
          <a:stretch/>
        </p:blipFill>
        <p:spPr>
          <a:xfrm>
            <a:off x="517680" y="255600"/>
            <a:ext cx="6804000" cy="1560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natalilyadsk.my1.ru/domik.gif"/>
          <p:cNvPicPr/>
          <p:nvPr/>
        </p:nvPicPr>
        <p:blipFill>
          <a:blip r:embed="rId2"/>
          <a:stretch/>
        </p:blipFill>
        <p:spPr>
          <a:xfrm>
            <a:off x="7311960" y="260280"/>
            <a:ext cx="183204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://wnlbv.narod.ru/pisar32.gif"/>
          <p:cNvPicPr/>
          <p:nvPr/>
        </p:nvPicPr>
        <p:blipFill>
          <a:blip r:embed="rId3"/>
          <a:stretch/>
        </p:blipFill>
        <p:spPr>
          <a:xfrm flipH="1">
            <a:off x="6443640" y="3141720"/>
            <a:ext cx="1984320" cy="3500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taigvi2008.narod.ru/5.jpg"/>
          <p:cNvPicPr/>
          <p:nvPr/>
        </p:nvPicPr>
        <p:blipFill>
          <a:blip r:embed="rId4"/>
          <a:stretch/>
        </p:blipFill>
        <p:spPr>
          <a:xfrm>
            <a:off x="539640" y="1484280"/>
            <a:ext cx="2227320" cy="17287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3929040" y="1357200"/>
            <a:ext cx="3102120" cy="6426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.41. №4,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одержимое 3" descr="C:\Users\1\Pictures\2013-08-08\Mail0001.JPG"/>
          <p:cNvPicPr/>
          <p:nvPr/>
        </p:nvPicPr>
        <p:blipFill>
          <a:blip r:embed="rId5"/>
          <a:srcRect l="0" t="0" r="6549" b="11848"/>
          <a:stretch/>
        </p:blipFill>
        <p:spPr>
          <a:xfrm>
            <a:off x="3348000" y="2997360"/>
            <a:ext cx="2243160" cy="3084480"/>
          </a:xfrm>
          <a:prstGeom prst="rect">
            <a:avLst/>
          </a:prstGeom>
          <a:ln w="9360">
            <a:solidFill>
              <a:srgbClr val="4472c4"/>
            </a:solidFill>
            <a:miter/>
          </a:ln>
        </p:spPr>
      </p:pic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3267000" y="317520"/>
            <a:ext cx="1859040" cy="6937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228600" y="1909800"/>
            <a:ext cx="4121280" cy="173988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лужайке гуляло 6 белых цыплят, а чёрных 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колько больше было белых цыплят, чем чёрны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4672080" y="1909800"/>
            <a:ext cx="4122720" cy="173988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лужайке гуляло 6 белых цыплят, а чёрных 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сколько раз больше было белых цыплят, чем чёрны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2"/>
          <p:cNvSpPr/>
          <p:nvPr/>
        </p:nvSpPr>
        <p:spPr>
          <a:xfrm>
            <a:off x="328680" y="3108240"/>
            <a:ext cx="1485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4730760" y="3108240"/>
            <a:ext cx="200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2309760" y="347760"/>
            <a:ext cx="5029200" cy="6523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2147760" y="1873080"/>
            <a:ext cx="5354640" cy="944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дачи на увеличение числ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несколько ра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89000" y="3917880"/>
            <a:ext cx="1452600" cy="19288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"/>
          <p:cNvSpPr/>
          <p:nvPr/>
        </p:nvSpPr>
        <p:spPr>
          <a:xfrm>
            <a:off x="2147760" y="2965320"/>
            <a:ext cx="5354640" cy="54000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дачи на кратное сравн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2147760" y="4784760"/>
            <a:ext cx="5354640" cy="944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дачи на уменьшение числ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несколько ра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2147760" y="3681360"/>
            <a:ext cx="5354640" cy="944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дачи на разностное сравн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3260880" y="1158840"/>
            <a:ext cx="2487600" cy="6764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2506680" y="2492280"/>
            <a:ext cx="4130640" cy="136836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чи на кратное сравн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3921120"/>
            <a:ext cx="1790640" cy="237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39760" y="660240"/>
            <a:ext cx="839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Кратный – в математик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елящийся без остатка на какое-нибудь чис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Calibri"/>
                <a:ea typeface="Calibri"/>
              </a:rPr>
              <a:t>Толковый словарь С.И. Ожег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156360" y="3735360"/>
            <a:ext cx="2239920" cy="290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Helen\Desktop\схемы\шаблоны мои\2011-10-16_170341.jpg"/>
          <p:cNvPicPr/>
          <p:nvPr/>
        </p:nvPicPr>
        <p:blipFill>
          <a:blip r:embed="rId1"/>
          <a:srcRect l="0" t="0" r="0" b="82661"/>
          <a:stretch/>
        </p:blipFill>
        <p:spPr>
          <a:xfrm>
            <a:off x="684360" y="260280"/>
            <a:ext cx="8229600" cy="10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2359080" y="4857840"/>
            <a:ext cx="5273640" cy="84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davlinang.edusite.ru/images/55.gif"/>
          <p:cNvPicPr/>
          <p:nvPr/>
        </p:nvPicPr>
        <p:blipFill>
          <a:blip r:embed="rId3"/>
          <a:stretch/>
        </p:blipFill>
        <p:spPr>
          <a:xfrm>
            <a:off x="7451640" y="4941720"/>
            <a:ext cx="900360" cy="15195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C:\Users\1\Pictures\2013-08-08\Mail0001.JPG"/>
          <p:cNvPicPr/>
          <p:nvPr/>
        </p:nvPicPr>
        <p:blipFill>
          <a:blip r:embed="rId4"/>
          <a:srcRect l="0" t="0" r="6549" b="11848"/>
          <a:stretch/>
        </p:blipFill>
        <p:spPr>
          <a:xfrm>
            <a:off x="5500800" y="1643040"/>
            <a:ext cx="2016000" cy="2873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05" name="Прямоугольник 7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ANTN027"/>
          <p:cNvPicPr/>
          <p:nvPr/>
        </p:nvPicPr>
        <p:blipFill>
          <a:blip r:embed="rId5"/>
          <a:stretch/>
        </p:blipFill>
        <p:spPr>
          <a:xfrm>
            <a:off x="571680" y="2071800"/>
            <a:ext cx="3455640" cy="288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4080" y="3967200"/>
            <a:ext cx="1425600" cy="1892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rcRect l="30192" t="27612" r="56755" b="62167"/>
          <a:stretch/>
        </p:blipFill>
        <p:spPr>
          <a:xfrm>
            <a:off x="833400" y="506520"/>
            <a:ext cx="248940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9" name="Рисунок 6" descr=""/>
          <p:cNvPicPr/>
          <p:nvPr/>
        </p:nvPicPr>
        <p:blipFill>
          <a:blip r:embed="rId3"/>
          <a:srcRect l="43133" t="27612" r="41414" b="62167"/>
          <a:stretch/>
        </p:blipFill>
        <p:spPr>
          <a:xfrm>
            <a:off x="5791320" y="333360"/>
            <a:ext cx="273348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0" name="Прямоугольник: скругленные углы 7" descr=""/>
          <p:cNvPicPr/>
          <p:nvPr/>
        </p:nvPicPr>
        <p:blipFill>
          <a:blip r:embed="rId4"/>
          <a:stretch/>
        </p:blipFill>
        <p:spPr>
          <a:xfrm>
            <a:off x="1468440" y="2779560"/>
            <a:ext cx="1519200" cy="6033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: скругленные углы 8" descr=""/>
          <p:cNvPicPr/>
          <p:nvPr/>
        </p:nvPicPr>
        <p:blipFill>
          <a:blip r:embed="rId5"/>
          <a:stretch/>
        </p:blipFill>
        <p:spPr>
          <a:xfrm>
            <a:off x="6181560" y="2706840"/>
            <a:ext cx="1951200" cy="60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9"/>
          <p:cNvSpPr/>
          <p:nvPr/>
        </p:nvSpPr>
        <p:spPr>
          <a:xfrm>
            <a:off x="2978280" y="4522680"/>
            <a:ext cx="4052880" cy="5414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сколько раз утят меньш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757600" y="5254560"/>
            <a:ext cx="449568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сколько раз цыплят больш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2978280" y="4522680"/>
            <a:ext cx="4052880" cy="5414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тят в 2 раза мень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12"/>
          <p:cNvSpPr/>
          <p:nvPr/>
        </p:nvSpPr>
        <p:spPr>
          <a:xfrm>
            <a:off x="2757600" y="5251320"/>
            <a:ext cx="4495680" cy="54000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ыплят в 2 раза боль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Helen\Desktop\схемы\шаблоны мои\2011-10-16_170341.jpg"/>
          <p:cNvPicPr/>
          <p:nvPr/>
        </p:nvPicPr>
        <p:blipFill>
          <a:blip r:embed="rId1"/>
          <a:srcRect l="0" t="0" r="0" b="82661"/>
          <a:stretch/>
        </p:blipFill>
        <p:spPr>
          <a:xfrm>
            <a:off x="684360" y="260280"/>
            <a:ext cx="8229600" cy="10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Прямоугольник 2" descr=""/>
          <p:cNvPicPr/>
          <p:nvPr/>
        </p:nvPicPr>
        <p:blipFill>
          <a:blip r:embed="rId2"/>
          <a:stretch/>
        </p:blipFill>
        <p:spPr>
          <a:xfrm>
            <a:off x="2359080" y="4857840"/>
            <a:ext cx="5273640" cy="841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davlinang.edusite.ru/images/55.gif"/>
          <p:cNvPicPr/>
          <p:nvPr/>
        </p:nvPicPr>
        <p:blipFill>
          <a:blip r:embed="rId3"/>
          <a:stretch/>
        </p:blipFill>
        <p:spPr>
          <a:xfrm>
            <a:off x="7451640" y="4941720"/>
            <a:ext cx="900360" cy="151956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3" descr="C:\Users\1\Pictures\2013-08-08\Mail0001.JPG"/>
          <p:cNvPicPr/>
          <p:nvPr/>
        </p:nvPicPr>
        <p:blipFill>
          <a:blip r:embed="rId4"/>
          <a:srcRect l="0" t="0" r="6549" b="11848"/>
          <a:stretch/>
        </p:blipFill>
        <p:spPr>
          <a:xfrm>
            <a:off x="5500800" y="1643040"/>
            <a:ext cx="2016000" cy="2873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20" name="Прямоугольник 7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ANTN027"/>
          <p:cNvPicPr/>
          <p:nvPr/>
        </p:nvPicPr>
        <p:blipFill>
          <a:blip r:embed="rId5"/>
          <a:stretch/>
        </p:blipFill>
        <p:spPr>
          <a:xfrm>
            <a:off x="571680" y="2071800"/>
            <a:ext cx="3455640" cy="288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4:09:53Z</dcterms:created>
  <dc:creator>Еленга Берюхова</dc:creator>
  <dc:description/>
  <dc:language>en-US</dc:language>
  <cp:lastModifiedBy>User</cp:lastModifiedBy>
  <dcterms:modified xsi:type="dcterms:W3CDTF">2022-10-23T16:03:16Z</dcterms:modified>
  <cp:revision>21</cp:revision>
  <dc:subject/>
  <dc:title>Слайд 1</dc:title>
</cp:coreProperties>
</file>