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3E1-C7C8-4B26-B9AA-0E070963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B7C-DDAC-47E9-B3F4-3831A2A8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1E8B-B189-4EFF-B0B6-13EE6C49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02B-1F11-421D-BF32-02A71464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43E-F5A6-459B-88FB-D4E108F5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3EC-9A6E-47C6-8803-3EC6588B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297-2BFB-4801-84F1-D77F9C49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D28-5C6D-40B5-BE32-D9248F78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358-4992-4699-9148-07A12E42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A9B-58BC-440D-880F-E5134656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044-0D73-492C-9E35-771BB4EC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12D-9C18-43FC-AD3B-C2D3768D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91DD-8B1A-4E11-AE26-A48C5186B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77129"/>
                </a:solidFill>
                <a:latin typeface="Times New Roman"/>
                <a:ea typeface="Times New Roman"/>
              </a:rPr>
              <a:t>Основные способы образования слов, 6 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2120" y="1295280"/>
            <a:ext cx="2209680" cy="1143000"/>
          </a:xfrm>
          <a:prstGeom prst="roundRect">
            <a:avLst>
              <a:gd name="adj" fmla="val 16667"/>
            </a:avLst>
          </a:prstGeom>
          <a:solidFill>
            <a:srgbClr val="ca892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место, 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я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1676520"/>
            <a:ext cx="1904760" cy="380880"/>
          </a:xfrm>
          <a:prstGeom prst="rightArrow">
            <a:avLst>
              <a:gd name="adj1" fmla="val 50000"/>
              <a:gd name="adj2" fmla="val 125024"/>
            </a:avLst>
          </a:prstGeom>
          <a:solidFill>
            <a:srgbClr val="000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1523880"/>
            <a:ext cx="2210040" cy="685800"/>
          </a:xfrm>
          <a:prstGeom prst="rect">
            <a:avLst/>
          </a:prstGeom>
          <a:solidFill>
            <a:srgbClr val="ca892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581280"/>
            <a:ext cx="2209680" cy="1067040"/>
          </a:xfrm>
          <a:prstGeom prst="rect">
            <a:avLst/>
          </a:prstGeom>
          <a:solidFill>
            <a:srgbClr val="e2a94c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лы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ействи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го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лыв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3886200"/>
            <a:ext cx="1828800" cy="380880"/>
          </a:xfrm>
          <a:prstGeom prst="rightArrow">
            <a:avLst>
              <a:gd name="adj1" fmla="val 50000"/>
              <a:gd name="adj2" fmla="val 120038"/>
            </a:avLst>
          </a:prstGeom>
          <a:solidFill>
            <a:srgbClr val="000000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3809880"/>
            <a:ext cx="2133720" cy="609840"/>
          </a:xfrm>
          <a:prstGeom prst="roundRect">
            <a:avLst>
              <a:gd name="adj" fmla="val 16667"/>
            </a:avLst>
          </a:prstGeom>
          <a:solidFill>
            <a:srgbClr val="e2a9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лы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962520" y="6858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ение правил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2133720"/>
            <a:ext cx="1295280" cy="1904760"/>
          </a:xfrm>
          <a:custGeom>
            <a:avLst/>
            <a:gdLst>
              <a:gd name="textAreaLeft" fmla="*/ 323640 w 1295280"/>
              <a:gd name="textAreaRight" fmla="*/ 971640 w 12952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ооб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87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447920"/>
          <a:ext cx="4343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4343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09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859360" y="1523880"/>
          <a:ext cx="3284640" cy="419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59360" y="1523880"/>
                    <a:ext cx="3284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ебно-языковых и  речевых ум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133720"/>
            <a:ext cx="15242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971800"/>
            <a:ext cx="16761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отл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3886200"/>
            <a:ext cx="19810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ом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5334120"/>
            <a:ext cx="2210040" cy="533160"/>
          </a:xfrm>
          <a:prstGeom prst="flowChartProcess">
            <a:avLst/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лочная (сущ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228600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ff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3124080"/>
            <a:ext cx="1447560" cy="228600"/>
          </a:xfrm>
          <a:prstGeom prst="rightArrow">
            <a:avLst>
              <a:gd name="adj1" fmla="val 50000"/>
              <a:gd name="adj2" fmla="val 15830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4038480"/>
            <a:ext cx="1067040" cy="304920"/>
          </a:xfrm>
          <a:prstGeom prst="rightArrow">
            <a:avLst>
              <a:gd name="adj1" fmla="val 50000"/>
              <a:gd name="adj2" fmla="val 87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4864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905120"/>
            <a:ext cx="2590560" cy="76176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 помощью суфф. -н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2971800"/>
            <a:ext cx="3200400" cy="6858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 помощью приставки пре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3886200"/>
            <a:ext cx="2361960" cy="76212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 и ход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 помощ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ит.гласн. -о-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5029200"/>
            <a:ext cx="2438640" cy="1295280"/>
          </a:xfrm>
          <a:prstGeom prst="flowChartProcess">
            <a:avLst/>
          </a:prstGeom>
          <a:solidFill>
            <a:srgbClr val="ffff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лочная (прил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вка (переход о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и речи в другую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14600" y="3808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несколько слов, образован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иставочным способ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уффиксаль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ставочно -суффиксаль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ложе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ессуффиксным спосо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905120"/>
            <a:ext cx="4267440" cy="1143000"/>
          </a:xfrm>
          <a:custGeom>
            <a:avLst/>
            <a:gdLst>
              <a:gd name="textAreaLeft" fmla="*/ 0 w 4267440"/>
              <a:gd name="textAreaRight" fmla="*/ 4267800 w 426744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научился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4648320"/>
            <a:ext cx="3962520" cy="1143000"/>
          </a:xfrm>
          <a:custGeom>
            <a:avLst/>
            <a:gdLst>
              <a:gd name="textAreaLeft" fmla="*/ 0 w 3962520"/>
              <a:gd name="textAreaRight" fmla="*/ 3962880 w 39625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95b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я могу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1905120"/>
            <a:ext cx="4876920" cy="3352680"/>
          </a:xfrm>
          <a:prstGeom prst="wedgeRoundRectCallout">
            <a:avLst>
              <a:gd name="adj1" fmla="val -44435"/>
              <a:gd name="adj2" fmla="val 34564"/>
              <a:gd name="adj3" fmla="val 16667"/>
            </a:avLst>
          </a:prstGeom>
          <a:solidFill>
            <a:srgbClr val="e2a94c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Обобщить полученную информацию и оформить ее в виде схемы или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п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7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9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09680" y="1828440"/>
            <a:ext cx="502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е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науки о языке, в котором изучается, из каких частей состоит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676520"/>
            <a:ext cx="2209680" cy="3504960"/>
          </a:xfrm>
          <a:custGeom>
            <a:avLst/>
            <a:gdLst>
              <a:gd name="textAreaLeft" fmla="*/ 295920 w 2209680"/>
              <a:gd name="textAreaRight" fmla="*/ 1913760 w 220968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1600200"/>
            <a:ext cx="2286000" cy="3733920"/>
          </a:xfrm>
          <a:custGeom>
            <a:avLst/>
            <a:gdLst>
              <a:gd name="textAreaLeft" fmla="*/ 306000 w 2286000"/>
              <a:gd name="textAreaRight" fmla="*/ 1980000 w 2286000"/>
              <a:gd name="textAreaTop" fmla="*/ 653400 h 3733920"/>
              <a:gd name="textAreaBottom" fmla="*/ 270720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3581280"/>
            <a:ext cx="1523880" cy="53352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114800"/>
            <a:ext cx="1523880" cy="45720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4572000"/>
            <a:ext cx="1523880" cy="457200"/>
          </a:xfrm>
          <a:prstGeom prst="flowChartProcess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5029200"/>
            <a:ext cx="1523880" cy="53352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5562720"/>
            <a:ext cx="1523880" cy="53316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71800" y="685800"/>
            <a:ext cx="1676520" cy="380880"/>
          </a:xfrm>
          <a:prstGeom prst="rightArrow">
            <a:avLst>
              <a:gd name="adj1" fmla="val 50000"/>
              <a:gd name="adj2" fmla="val 110043"/>
            </a:avLst>
          </a:prstGeom>
          <a:solidFill>
            <a:srgbClr val="9933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5257800"/>
            <a:ext cx="3886200" cy="1371600"/>
          </a:xfrm>
          <a:prstGeom prst="roundRect">
            <a:avLst>
              <a:gd name="adj" fmla="val 16667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ставка- это значи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слова, стоящая пер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ем и служащая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ия новых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334120"/>
            <a:ext cx="2590920" cy="76176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такое пристав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она нужн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733920"/>
            <a:ext cx="2514600" cy="76176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 такое суффикс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чего он служит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33520"/>
            <a:ext cx="2590560" cy="761760"/>
          </a:xfrm>
          <a:prstGeom prst="flowChartProcess">
            <a:avLst/>
          </a:prstGeom>
          <a:solidFill>
            <a:srgbClr val="ff0000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такое оконча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оно служ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286000"/>
            <a:ext cx="2666880" cy="762120"/>
          </a:xfrm>
          <a:prstGeom prst="flowChartProcess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такое корен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он служ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962520"/>
            <a:ext cx="1676160" cy="380880"/>
          </a:xfrm>
          <a:prstGeom prst="rightArrow">
            <a:avLst>
              <a:gd name="adj1" fmla="val 50000"/>
              <a:gd name="adj2" fmla="val 110019"/>
            </a:avLst>
          </a:prstGeom>
          <a:solidFill>
            <a:srgbClr val="993366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438280"/>
            <a:ext cx="1676520" cy="381240"/>
          </a:xfrm>
          <a:prstGeom prst="rightArrow">
            <a:avLst>
              <a:gd name="adj1" fmla="val 50000"/>
              <a:gd name="adj2" fmla="val 109939"/>
            </a:avLst>
          </a:prstGeom>
          <a:solidFill>
            <a:srgbClr val="ff0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5562720"/>
            <a:ext cx="1676520" cy="380880"/>
          </a:xfrm>
          <a:prstGeom prst="rightArrow">
            <a:avLst>
              <a:gd name="adj1" fmla="val 50000"/>
              <a:gd name="adj2" fmla="val 11004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809880"/>
            <a:ext cx="3886200" cy="1219320"/>
          </a:xfrm>
          <a:prstGeom prst="roundRect">
            <a:avLst>
              <a:gd name="adj" fmla="val 16667"/>
            </a:avLst>
          </a:prstGeom>
          <a:solidFill>
            <a:srgbClr val="993366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ффикс- это значимая ч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ва, которая находится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ня и служит  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зования новых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22860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0000ff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нчание-это значи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сть слова, которая образ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у слова и служит для свя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в в словосочет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предло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1905120"/>
            <a:ext cx="3733920" cy="1600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нь – это главная  значи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ь слова, в которой заключ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е значение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окоренных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ные способы образования сл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ие нового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сн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твист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м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мотреть,  неприятный, бездушный,  примор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962520" y="68580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362320" y="685800"/>
            <a:ext cx="609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419720" y="380880"/>
            <a:ext cx="457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457200"/>
            <a:ext cx="2361960" cy="914400"/>
          </a:xfrm>
          <a:prstGeom prst="rect">
            <a:avLst/>
          </a:prstGeom>
          <a:solidFill>
            <a:srgbClr val="ffcc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590000">
            <a:off x="1218960" y="137160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895480"/>
            <a:ext cx="2133720" cy="762120"/>
          </a:xfrm>
          <a:prstGeom prst="roundRect">
            <a:avLst>
              <a:gd name="adj" fmla="val 16667"/>
            </a:avLst>
          </a:prstGeom>
          <a:solidFill>
            <a:srgbClr val="ccffcc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8954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ccffcc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1752480"/>
            <a:ext cx="251460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лы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827400">
            <a:off x="5943240" y="274284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ffcc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771200">
            <a:off x="2743200" y="1371600"/>
            <a:ext cx="457200" cy="1249200"/>
          </a:xfrm>
          <a:prstGeom prst="downArrow">
            <a:avLst>
              <a:gd name="adj1" fmla="val 50000"/>
              <a:gd name="adj2" fmla="val 68307"/>
            </a:avLst>
          </a:prstGeom>
          <a:solidFill>
            <a:srgbClr val="ffcc99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0672400">
            <a:off x="7772040" y="274284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43434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ccffcc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15200" y="441972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ccffcc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лы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12:47:01Z</dcterms:created>
  <dc:creator>Masha</dc:creator>
  <dc:description/>
  <dc:language>en-US</dc:language>
  <cp:lastModifiedBy>Masha</cp:lastModifiedBy>
  <dcterms:modified xsi:type="dcterms:W3CDTF">2014-11-25T13:21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