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5DA-21B1-4FC9-BB32-6309736C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79D-A24D-464B-8AB4-3BBA211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672-2D9B-4434-A60B-18E6367E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4A6-5C1F-4DDB-9C0C-62C65294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782-CA6B-4CF8-B7A7-E82AFFCC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D6E-8FE1-4E8A-BFD0-5F9E5227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F27-ABF2-4097-ADAF-18472E04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0D9-D4C6-44AD-B4B7-FDD2B157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B6A-4E07-4EC2-B0CA-F15E98BB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E63-CA25-4CCF-B434-5DE98EA7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452-FD9C-4292-92F8-D191D3A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B01-60E2-4AE2-8F79-6ADF11A8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85BC-D7DE-41A5-ABD8-AFD536FE7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1471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7b07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a97b07"/>
                </a:solidFill>
                <a:latin typeface="Times New Roman"/>
                <a:ea typeface="Times New Roman"/>
              </a:rPr>
              <a:t>Лексика. Прямое и переносное значение слова</a:t>
            </a:r>
            <a:br>
              <a:rPr sz="4000"/>
            </a:br>
            <a:r>
              <a:rPr b="0" lang="ru-RU" sz="4000" spc="-1" strike="noStrike">
                <a:solidFill>
                  <a:srgbClr val="a97b07"/>
                </a:solidFill>
                <a:latin typeface="Times New Roman"/>
                <a:ea typeface="Times New Roman"/>
              </a:rPr>
              <a:t>русский язык, 5 к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908000" y="1699920"/>
            <a:ext cx="4824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d80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694fc"/>
                </a:solidFill>
                <a:latin typeface="Times New Roman"/>
                <a:ea typeface="Times New Roman"/>
              </a:rPr>
              <a:t>1. Вы должны преобразовать полученную на уроке информацию и изобразить ее таким способом, какой будет удобней для вас (схема, таблица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Выполнить упр.3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>
            <a:stCxn id="44" idx="0"/>
            <a:endCxn id="44" idx="0"/>
          </p:cNvCxnSpPr>
          <p:nvPr/>
        </p:nvCxnSpPr>
        <p:spPr>
          <a:xfrm>
            <a:off x="4365360" y="1412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" name=""/>
          <p:cNvCxnSpPr>
            <a:stCxn id="44" idx="0"/>
            <a:endCxn id="44" idx="0"/>
          </p:cNvCxnSpPr>
          <p:nvPr/>
        </p:nvCxnSpPr>
        <p:spPr>
          <a:xfrm>
            <a:off x="4365360" y="1412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2852640"/>
            <a:ext cx="4681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0303"/>
                </a:solidFill>
                <a:latin typeface="Times New Roman"/>
                <a:ea typeface="Times New Roman"/>
              </a:rPr>
              <a:t>однозначные       многозна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0303"/>
                </a:solidFill>
                <a:latin typeface="Times New Roman"/>
                <a:ea typeface="Times New Roman"/>
              </a:rPr>
              <a:t>одно лекс.         два и более 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0303"/>
                </a:solidFill>
                <a:latin typeface="Times New Roman"/>
                <a:ea typeface="Times New Roman"/>
              </a:rPr>
              <a:t>значение           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133720"/>
            <a:ext cx="215640" cy="790560"/>
          </a:xfrm>
          <a:prstGeom prst="downArrow">
            <a:avLst>
              <a:gd name="adj1" fmla="val 50000"/>
              <a:gd name="adj2" fmla="val 916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лова  б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рямое и переносное значени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32360" y="169992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мы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золото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ая голова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мы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е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орятся ее дела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апа маму называет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ы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аш золотой!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чка только вот вздыхает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дь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 метал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й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чко, правда, есть на пальце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руки вовсе не блестят, 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лице у глаз морщинки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олотые – штучек пять…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т на сердце золотого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… так оно внутри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 груди у мамы бьется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 пробу разгляди!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в тему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ановка учебной проблем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916280"/>
            <a:ext cx="4038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Какое слово повторяется в данном стихотвор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4bf3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4bf3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000" spc="-1" strike="noStrike">
                <a:solidFill>
                  <a:srgbClr val="574bf3"/>
                </a:solidFill>
                <a:latin typeface="Times New Roman"/>
                <a:ea typeface="Times New Roman"/>
              </a:rPr>
              <a:t>слово «золото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74bf3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223eb4"/>
                </a:solidFill>
                <a:latin typeface="Times New Roman"/>
                <a:ea typeface="Times New Roman"/>
              </a:rPr>
              <a:t>Проанализируйте сколько раз встречается слово золотой в тексте.</a:t>
            </a:r>
            <a:r>
              <a:rPr b="1" lang="en-US" sz="2800" spc="-1" strike="noStrike">
                <a:solidFill>
                  <a:srgbClr val="223eb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2852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22100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484280"/>
            <a:ext cx="5975280" cy="1295280"/>
          </a:xfrm>
          <a:prstGeom prst="flowChartAlternateProcess">
            <a:avLst/>
          </a:prstGeom>
          <a:solidFill>
            <a:srgbClr val="fb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4bf3"/>
                </a:solidFill>
                <a:latin typeface="Arial"/>
              </a:rPr>
              <a:t>Зо́лотой см.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74bf3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574bf3"/>
                </a:solidFill>
                <a:latin typeface="Arial"/>
              </a:rPr>
              <a:t>Один из благородных металлов желтого ц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4bf3"/>
                </a:solidFill>
                <a:latin typeface="Arial"/>
              </a:rPr>
              <a:t>отличающийся мягкостью и пластич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46200" y="3546360"/>
            <a:ext cx="6697800" cy="3311640"/>
          </a:xfrm>
          <a:prstGeom prst="flowChartProcess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зо́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2. То, что цветом напоминает блеск такого ме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Изделия из такого ме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3. разг. Золотая медаль или золотые мед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как высшая награда за выдаю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успехи в спортивных соревнованиях, на конкурсе и 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бота со словар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300720" y="1915920"/>
            <a:ext cx="1584360" cy="14414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be19f"/>
              </a:gs>
              <a:gs pos="100000">
                <a:srgbClr val="223e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84360" y="3357720"/>
            <a:ext cx="4248360" cy="2808000"/>
          </a:xfrm>
          <a:prstGeom prst="flowChartPreparation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d805"/>
                </a:solidFill>
                <a:latin typeface="Times New Roman"/>
                <a:ea typeface="Times New Roman"/>
              </a:rPr>
              <a:t>«Золот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331"/>
                </a:solidFill>
                <a:latin typeface="Arial"/>
              </a:rPr>
              <a:t>Многозна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331"/>
                </a:solidFill>
                <a:latin typeface="Arial"/>
              </a:rPr>
              <a:t>прямое    перенос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78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260280"/>
            <a:ext cx="5185080" cy="12970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d805"/>
                </a:solidFill>
                <a:latin typeface="Times New Roman"/>
                <a:ea typeface="Times New Roman"/>
              </a:rPr>
              <a:t>Делаем вывод</a:t>
            </a:r>
            <a:r>
              <a:rPr b="0" lang="en-US" sz="1800" spc="-1" strike="noStrike">
                <a:solidFill>
                  <a:srgbClr val="f5d805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1844640"/>
            <a:ext cx="576000" cy="1295280"/>
          </a:xfrm>
          <a:prstGeom prst="downArrow">
            <a:avLst>
              <a:gd name="adj1" fmla="val 50000"/>
              <a:gd name="adj2" fmla="val 5621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140360" y="4653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65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нового зн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1700280"/>
            <a:ext cx="5508720" cy="180000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dbb3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7595640" y="2349360"/>
            <a:ext cx="1441440" cy="10098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b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789360"/>
            <a:ext cx="23763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b3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94fc"/>
                </a:solidFill>
                <a:latin typeface="Arial"/>
              </a:rPr>
              <a:t>Прямое- глав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94fc"/>
                </a:solidFill>
                <a:latin typeface="Arial"/>
              </a:rPr>
              <a:t>основное зна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94fc"/>
                </a:solidFill>
                <a:latin typeface="Arial"/>
              </a:rPr>
              <a:t>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3860640"/>
            <a:ext cx="3384720" cy="1197000"/>
          </a:xfrm>
          <a:prstGeom prst="rect">
            <a:avLst/>
          </a:prstGeom>
          <a:gradFill rotWithShape="0">
            <a:gsLst>
              <a:gs pos="0">
                <a:srgbClr val="dbb33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00"/>
                </a:solidFill>
                <a:latin typeface="Arial"/>
              </a:rPr>
              <a:t>Переносное - зна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00"/>
                </a:solidFill>
                <a:latin typeface="Arial"/>
              </a:rPr>
              <a:t>перенесенное по сходст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00"/>
                </a:solidFill>
                <a:latin typeface="Arial"/>
              </a:rPr>
              <a:t>с другим предмето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684360" y="2205000"/>
            <a:ext cx="1295280" cy="1440000"/>
          </a:xfrm>
          <a:custGeom>
            <a:avLst/>
            <a:gdLst>
              <a:gd name="textAreaLeft" fmla="*/ 431640 w 1295280"/>
              <a:gd name="textAreaRight" fmla="*/ 1109520 w 129528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6156360" cy="5229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знач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нож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628640"/>
            <a:ext cx="2808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4c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в ка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нож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ямое зна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м перенос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4581360"/>
            <a:ext cx="2700360" cy="11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4cd"/>
              </a:gs>
              <a:gs pos="100000">
                <a:srgbClr val="7569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0000"/>
                </a:solidFill>
                <a:latin typeface="Times New Roman"/>
                <a:ea typeface="Times New Roman"/>
              </a:rPr>
              <a:t>Что общего есть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b80000"/>
                </a:solidFill>
                <a:latin typeface="Times New Roman"/>
                <a:ea typeface="Times New Roman"/>
              </a:rPr>
              <a:t>разных знач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0000"/>
                </a:solidFill>
                <a:latin typeface="Times New Roman"/>
                <a:ea typeface="Times New Roman"/>
              </a:rPr>
              <a:t>слова «ножка»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1152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1989000"/>
            <a:ext cx="1152360" cy="935280"/>
          </a:xfrm>
          <a:custGeom>
            <a:avLst/>
            <a:gdLst>
              <a:gd name="textAreaLeft" fmla="*/ 253440 w 1152360"/>
              <a:gd name="textAreaRight" fmla="*/ 898920 w 1152360"/>
              <a:gd name="textAreaTop" fmla="*/ 205560 h 935280"/>
              <a:gd name="textAreaBottom" fmla="*/ 7297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0303"/>
                </a:solidFill>
                <a:latin typeface="Arial"/>
              </a:rPr>
              <a:t>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084640"/>
            <a:ext cx="1297080" cy="107964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645000"/>
            <a:ext cx="1224000" cy="1152360"/>
          </a:xfrm>
          <a:prstGeom prst="hexagon">
            <a:avLst>
              <a:gd name="adj" fmla="val 26554"/>
              <a:gd name="vf" fmla="val 1154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ебно-языковых и  речевых ум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95280" y="1699920"/>
            <a:ext cx="6948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ьте словосочетания с прямым и переносным значением со словом                «холод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а, сердце, утро, взгляд, комна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50920" y="4797360"/>
            <a:ext cx="2916000" cy="719280"/>
          </a:xfrm>
          <a:prstGeom prst="rect">
            <a:avLst/>
          </a:prstGeom>
          <a:gradFill rotWithShape="0">
            <a:gsLst>
              <a:gs pos="0">
                <a:srgbClr val="d4dbbd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348000" y="4797360"/>
            <a:ext cx="2916360" cy="719280"/>
          </a:xfrm>
          <a:prstGeom prst="rect">
            <a:avLst/>
          </a:prstGeom>
          <a:gradFill rotWithShape="0">
            <a:gsLst>
              <a:gs pos="0">
                <a:srgbClr val="d4dbbd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ое 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6516720" y="4797360"/>
            <a:ext cx="2484360" cy="712800"/>
          </a:xfrm>
          <a:prstGeom prst="rect">
            <a:avLst/>
          </a:prstGeom>
          <a:gradFill rotWithShape="0">
            <a:gsLst>
              <a:gs pos="0">
                <a:srgbClr val="d4dbbd"/>
              </a:gs>
              <a:gs pos="100000">
                <a:srgbClr val="dbb3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ая ком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395280" y="5634000"/>
            <a:ext cx="266400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d4db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ое серд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3492360" y="5634000"/>
            <a:ext cx="266400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d4db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ый взгл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6480000" y="5634000"/>
            <a:ext cx="266400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d4db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ые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6:47:22Z</dcterms:created>
  <dc:creator>Masha</dc:creator>
  <dc:description/>
  <dc:language>en-US</dc:language>
  <cp:lastModifiedBy>Masha</cp:lastModifiedBy>
  <dcterms:modified xsi:type="dcterms:W3CDTF">2014-10-29T14:02:29Z</dcterms:modified>
  <cp:revision>6</cp:revision>
  <dc:subject/>
  <dc:title>Прямое и переносное значение слова</dc:title>
</cp:coreProperties>
</file>