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B95-69FD-4611-B23F-199AF4DE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CB5-AE78-4EC2-A30D-1E459B8D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07B-10B0-4923-B8BF-BB0CDF5B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060-8EBC-46D0-8FCA-A85831D9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46F-04C9-413C-9C81-ED49839A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231-768F-4718-9746-57691D6E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B6E-E972-47ED-B41B-5E3D435E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A01-9BAC-44B8-B7D0-91A42C10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60D-21C2-45DC-BDA1-B16AE855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F4A-932E-4343-A704-7500ED1C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743-4017-455F-8C6D-659F1802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45A-8EF4-42A9-88DD-DA512F4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A26E-1FD8-43D6-9B37-6B3D9730B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1471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97b07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a97b07"/>
                </a:solidFill>
                <a:latin typeface="Times New Roman"/>
                <a:ea typeface="Times New Roman"/>
              </a:rPr>
              <a:t>Лексика. Прямое и переносное значение слова</a:t>
            </a:r>
            <a:br>
              <a:rPr sz="4000"/>
            </a:br>
            <a:r>
              <a:rPr b="0" lang="ru-RU" sz="4000" spc="-1" strike="noStrike">
                <a:solidFill>
                  <a:srgbClr val="a97b07"/>
                </a:solidFill>
                <a:latin typeface="Times New Roman"/>
                <a:ea typeface="Times New Roman"/>
              </a:rPr>
              <a:t>русский язык, 5 к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908000" y="1699920"/>
            <a:ext cx="4824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d80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694fc"/>
                </a:solidFill>
                <a:latin typeface="Times New Roman"/>
                <a:ea typeface="Times New Roman"/>
              </a:rPr>
              <a:t>1. Вы должны преобразовать полученную на уроке информацию и изобразить ее таким способом, какой будет удобней для вас (схема, таблица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Выполнить упр.34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>
            <a:stCxn id="44" idx="0"/>
            <a:endCxn id="44" idx="0"/>
          </p:cNvCxnSpPr>
          <p:nvPr/>
        </p:nvCxnSpPr>
        <p:spPr>
          <a:xfrm>
            <a:off x="4365360" y="1412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" name=""/>
          <p:cNvCxnSpPr>
            <a:stCxn id="44" idx="0"/>
            <a:endCxn id="44" idx="0"/>
          </p:cNvCxnSpPr>
          <p:nvPr/>
        </p:nvCxnSpPr>
        <p:spPr>
          <a:xfrm>
            <a:off x="4365360" y="1412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2852640"/>
            <a:ext cx="4681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0303"/>
                </a:solidFill>
                <a:latin typeface="Times New Roman"/>
                <a:ea typeface="Times New Roman"/>
              </a:rPr>
              <a:t>однозначные       многознач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0303"/>
                </a:solidFill>
                <a:latin typeface="Times New Roman"/>
                <a:ea typeface="Times New Roman"/>
              </a:rPr>
              <a:t>одно лекс.         два и более 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0303"/>
                </a:solidFill>
                <a:latin typeface="Times New Roman"/>
                <a:ea typeface="Times New Roman"/>
              </a:rPr>
              <a:t>значение           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133720"/>
            <a:ext cx="215640" cy="790560"/>
          </a:xfrm>
          <a:prstGeom prst="downArrow">
            <a:avLst>
              <a:gd name="adj1" fmla="val 50000"/>
              <a:gd name="adj2" fmla="val 916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лова  быв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рямое и переносное значение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32360" y="169992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мы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золото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ая голова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мы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е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порятся ее дела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апа маму называет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ы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наш золотой!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чка только вот вздыхает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дь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 метал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й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чко, правда, есть на пальце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руки вовсе не блестят, 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 лице у глаз морщинки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олотые – штучек пять…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т на сердце золотого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… так оно внутри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 груди у мамы бьется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 пробу разгляди!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в тему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тановка учебной проблем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916280"/>
            <a:ext cx="4038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Какое слово повторяется в данном стихотвор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4bf3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4bf3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000" spc="-1" strike="noStrike">
                <a:solidFill>
                  <a:srgbClr val="574bf3"/>
                </a:solidFill>
                <a:latin typeface="Times New Roman"/>
                <a:ea typeface="Times New Roman"/>
              </a:rPr>
              <a:t>слово «золото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74bf3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223eb4"/>
                </a:solidFill>
                <a:latin typeface="Times New Roman"/>
                <a:ea typeface="Times New Roman"/>
              </a:rPr>
              <a:t>Проанализируйте сколько раз встречается слово золотой в тексте.</a:t>
            </a:r>
            <a:r>
              <a:rPr b="1" lang="en-US" sz="2800" spc="-1" strike="noStrike">
                <a:solidFill>
                  <a:srgbClr val="223eb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2852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22100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50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1484280"/>
            <a:ext cx="5975280" cy="1295280"/>
          </a:xfrm>
          <a:prstGeom prst="flowChartAlternateProcess">
            <a:avLst/>
          </a:prstGeom>
          <a:solidFill>
            <a:srgbClr val="fb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4bf3"/>
                </a:solidFill>
                <a:latin typeface="Arial"/>
              </a:rPr>
              <a:t>Зо́лотой см.з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74bf3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574bf3"/>
                </a:solidFill>
                <a:latin typeface="Arial"/>
              </a:rPr>
              <a:t>Один из благородных металлов желтого ц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4bf3"/>
                </a:solidFill>
                <a:latin typeface="Arial"/>
              </a:rPr>
              <a:t>отличающийся мягкостью и пластич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46200" y="3546360"/>
            <a:ext cx="6697800" cy="3311640"/>
          </a:xfrm>
          <a:prstGeom prst="flowChartProcess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зо́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2. То, что цветом напоминает блеск такого мет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Изделия из такого мет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3. разг. Золотая медаль или золотые мед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как высшая награда за выдаю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e19f"/>
                </a:solidFill>
                <a:latin typeface="Arial"/>
              </a:rPr>
              <a:t>успехи в спортивных соревнованиях, на конкурсе и 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бота со словар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300720" y="1915920"/>
            <a:ext cx="1584360" cy="14414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be19f"/>
              </a:gs>
              <a:gs pos="100000">
                <a:srgbClr val="223e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84360" y="3357720"/>
            <a:ext cx="4248360" cy="2808000"/>
          </a:xfrm>
          <a:prstGeom prst="flowChartPreparation">
            <a:avLst/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d805"/>
                </a:solidFill>
                <a:latin typeface="Times New Roman"/>
                <a:ea typeface="Times New Roman"/>
              </a:rPr>
              <a:t>«Золот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331"/>
                </a:solidFill>
                <a:latin typeface="Arial"/>
              </a:rPr>
              <a:t>Многозна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331"/>
                </a:solidFill>
                <a:latin typeface="Arial"/>
              </a:rPr>
              <a:t>прямое    перенос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378936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260280"/>
            <a:ext cx="5185080" cy="12970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d805"/>
                </a:solidFill>
                <a:latin typeface="Times New Roman"/>
                <a:ea typeface="Times New Roman"/>
              </a:rPr>
              <a:t>Делаем вывод</a:t>
            </a:r>
            <a:r>
              <a:rPr b="0" lang="en-US" sz="1800" spc="-1" strike="noStrike">
                <a:solidFill>
                  <a:srgbClr val="f5d805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1844640"/>
            <a:ext cx="576000" cy="1295280"/>
          </a:xfrm>
          <a:prstGeom prst="downArrow">
            <a:avLst>
              <a:gd name="adj1" fmla="val 50000"/>
              <a:gd name="adj2" fmla="val 5621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140360" y="4653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653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нового зн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1700280"/>
            <a:ext cx="5508720" cy="180000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dbb3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7595640" y="2349360"/>
            <a:ext cx="1441440" cy="10098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09800"/>
              <a:gd name="textAreaBottom" fmla="*/ 101016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be1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789360"/>
            <a:ext cx="23763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b3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94fc"/>
                </a:solidFill>
                <a:latin typeface="Arial"/>
              </a:rPr>
              <a:t>Прямое- главн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94fc"/>
                </a:solidFill>
                <a:latin typeface="Arial"/>
              </a:rPr>
              <a:t>основное зна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94fc"/>
                </a:solidFill>
                <a:latin typeface="Arial"/>
              </a:rPr>
              <a:t>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3860640"/>
            <a:ext cx="3384720" cy="1197000"/>
          </a:xfrm>
          <a:prstGeom prst="rect">
            <a:avLst/>
          </a:prstGeom>
          <a:gradFill rotWithShape="0">
            <a:gsLst>
              <a:gs pos="0">
                <a:srgbClr val="dbb33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00"/>
                </a:solidFill>
                <a:latin typeface="Arial"/>
              </a:rPr>
              <a:t>Переносное - знач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00"/>
                </a:solidFill>
                <a:latin typeface="Arial"/>
              </a:rPr>
              <a:t>перенесенное по сходст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0000"/>
                </a:solidFill>
                <a:latin typeface="Arial"/>
              </a:rPr>
              <a:t>с другим предмето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684360" y="2205000"/>
            <a:ext cx="1295280" cy="1440000"/>
          </a:xfrm>
          <a:custGeom>
            <a:avLst/>
            <a:gdLst>
              <a:gd name="textAreaLeft" fmla="*/ 431640 w 1295280"/>
              <a:gd name="textAreaRight" fmla="*/ 1109520 w 129528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6156360" cy="5229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значение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нож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628640"/>
            <a:ext cx="2808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4c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в ка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«ножк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прямое знач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м перенос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4581360"/>
            <a:ext cx="2700360" cy="11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4cd"/>
              </a:gs>
              <a:gs pos="100000">
                <a:srgbClr val="7569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80000"/>
                </a:solidFill>
                <a:latin typeface="Times New Roman"/>
                <a:ea typeface="Times New Roman"/>
              </a:rPr>
              <a:t>Что общего есть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8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b80000"/>
                </a:solidFill>
                <a:latin typeface="Times New Roman"/>
                <a:ea typeface="Times New Roman"/>
              </a:rPr>
              <a:t>разных знач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80000"/>
                </a:solidFill>
                <a:latin typeface="Times New Roman"/>
                <a:ea typeface="Times New Roman"/>
              </a:rPr>
              <a:t>слова «ножка»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2708280"/>
            <a:ext cx="11527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1989000"/>
            <a:ext cx="1152360" cy="935280"/>
          </a:xfrm>
          <a:custGeom>
            <a:avLst/>
            <a:gdLst>
              <a:gd name="textAreaLeft" fmla="*/ 253440 w 1152360"/>
              <a:gd name="textAreaRight" fmla="*/ 898920 w 1152360"/>
              <a:gd name="textAreaTop" fmla="*/ 205560 h 935280"/>
              <a:gd name="textAreaBottom" fmla="*/ 72972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0303"/>
                </a:solidFill>
                <a:latin typeface="Arial"/>
              </a:rPr>
              <a:t>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5084640"/>
            <a:ext cx="1297080" cy="107964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645000"/>
            <a:ext cx="1224000" cy="1152360"/>
          </a:xfrm>
          <a:prstGeom prst="hexagon">
            <a:avLst>
              <a:gd name="adj" fmla="val 26554"/>
              <a:gd name="vf" fmla="val 11547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ебно-языковых и  речевых ум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95280" y="1699920"/>
            <a:ext cx="6948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ьте словосочетания с прямым и переносным значением со словом                «холодн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а, сердце, утро, взгляд, комна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50920" y="4797360"/>
            <a:ext cx="2916000" cy="719280"/>
          </a:xfrm>
          <a:prstGeom prst="rect">
            <a:avLst/>
          </a:prstGeom>
          <a:gradFill rotWithShape="0">
            <a:gsLst>
              <a:gs pos="0">
                <a:srgbClr val="d4dbbd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ая 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348000" y="4797360"/>
            <a:ext cx="2916360" cy="719280"/>
          </a:xfrm>
          <a:prstGeom prst="rect">
            <a:avLst/>
          </a:prstGeom>
          <a:gradFill rotWithShape="0">
            <a:gsLst>
              <a:gs pos="0">
                <a:srgbClr val="d4dbbd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ое у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6516720" y="4797360"/>
            <a:ext cx="2484360" cy="712800"/>
          </a:xfrm>
          <a:prstGeom prst="rect">
            <a:avLst/>
          </a:prstGeom>
          <a:gradFill rotWithShape="0">
            <a:gsLst>
              <a:gs pos="0">
                <a:srgbClr val="d4dbbd"/>
              </a:gs>
              <a:gs pos="100000">
                <a:srgbClr val="dbb33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ая ком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395280" y="5634000"/>
            <a:ext cx="266400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d4db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ое серд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"/>
          <p:cNvSpPr/>
          <p:nvPr/>
        </p:nvSpPr>
        <p:spPr>
          <a:xfrm>
            <a:off x="3492360" y="5634000"/>
            <a:ext cx="266400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d4db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ый взгл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6480000" y="5634000"/>
            <a:ext cx="266400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d4db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лодные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16:47:22Z</dcterms:created>
  <dc:creator>Masha</dc:creator>
  <dc:description/>
  <dc:language>en-US</dc:language>
  <cp:lastModifiedBy>Masha</cp:lastModifiedBy>
  <dcterms:modified xsi:type="dcterms:W3CDTF">2014-10-29T14:02:29Z</dcterms:modified>
  <cp:revision>6</cp:revision>
  <dc:subject/>
  <dc:title>Прямое и переносное значение слова</dc:title>
</cp:coreProperties>
</file>