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0.wmf" ContentType="image/x-wmf"/>
  <Override PartName="/ppt/media/image12.jpeg" ContentType="image/jpeg"/>
  <Override PartName="/ppt/media/image8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326-89B4-4096-8B0D-703513E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423-D731-47C7-87D7-54CE68A7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4E2-3F61-4743-8670-AE6A42BA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03F-373A-4CE0-B037-F26E6A64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E389-5B27-48A0-956A-61B8AAB3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D98-EFC6-45B5-B189-55F9DB59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5A57-6BE9-426F-8DD0-685E112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49B-2C0A-42DC-BEE0-8450D07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29F3-76BD-4B8D-8A62-9DB85E81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C96-7530-4B3F-A174-1E4E6BD9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61F-BE39-4DA3-A2E0-8FADC76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02B-9F28-414B-B613-03C98EC8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117F-FAA4-4723-9DC5-6279FB84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A944-9100-46EF-A320-260B714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36D8-9B65-49D2-A363-EE6F168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F395-83C4-402F-B8BE-4EA24490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082-0DA0-4F30-ABD7-9BD746ED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017-0CE8-4AE6-8811-980AD34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64A-B05D-4C85-B081-4B25708F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44C-1239-4B6D-98B3-8CC4E104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7AD-5A01-4E0B-8CA5-3872FC57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65F-91CF-4648-BB16-263B18D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472-FE46-4F70-83C1-3BD6DCC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1A7-CE41-4269-A30E-FBF9BF0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50D-82FA-4434-91EC-5D381D5AC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E17-0F93-49CB-9B6B-1C3140B6A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hyperlink" Target="http://www.alhimik.ru/fun/fun36.html#36.5" TargetMode="External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1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3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ма:  «Обобщение и систематизация знаний по теме: «Основные классы  неорганических соединений».</a:t>
            </a: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Эпиграф к уроку:</a:t>
            </a: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Химия – супер, химия – класс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                      Наука для умных, наука для нас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соли мы быстро составим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И все элементы на место поставим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Девиз урока: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« Ни одна наука не нуждается в эксперименте в такой степени, как химия.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Ее основные законы, теории и выводы опираются на факты.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Поэтому постоянный контроль опытом необходим»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                                      Майкл Фарадей.</a:t>
            </a:r>
            <a:br>
              <a:rPr sz="18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Цель урока:</a:t>
            </a:r>
            <a:r>
              <a:rPr b="1" i="1" lang="ru-RU" sz="1600" spc="-1" strike="noStrike">
                <a:solidFill>
                  <a:srgbClr val="ffffb7"/>
                </a:solidFill>
                <a:latin typeface="Times New Roman"/>
              </a:rPr>
              <a:t> Используя знания, полученные в курсе изучения темы: «Основные классы неорганических соединений», решить схемы превращений, указав генетическую связь между основными классами неорганических соединений, рассмотрев их основные химические свойства, а так же способы их получения. Решая расчетную задачу,  необходимо нетолько составить алгоритм решения задачи, используя основные формулы расчета физических и химических величин,  но и методом электронного баланса правильно расставить коэффициенты в окислительно-восстановительной реакции. Дать общую характеристику химическим элементам, на основании положения их в Периодической системе Д.И. Менделеева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C:\Documents and Settings\см\Рабочий стол\миг картинки\a015.gif"/>
          <p:cNvPicPr/>
          <p:nvPr/>
        </p:nvPicPr>
        <p:blipFill>
          <a:blip r:embed="rId1"/>
          <a:stretch/>
        </p:blipFill>
        <p:spPr>
          <a:xfrm rot="19792800">
            <a:off x="323640" y="580500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см\Рабочий стол\миг картинки\a015.gif"/>
          <p:cNvPicPr/>
          <p:nvPr/>
        </p:nvPicPr>
        <p:blipFill>
          <a:blip r:embed="rId2"/>
          <a:stretch/>
        </p:blipFill>
        <p:spPr>
          <a:xfrm rot="19792800">
            <a:off x="6588000" y="5516280"/>
            <a:ext cx="922320" cy="79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971640" y="5661000"/>
            <a:ext cx="154764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7164360" y="587700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3564000" y="69228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2050920" y="13413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анимашки\звери\ccea56b19e1753e1c2480ee024bc96d4.gif"/>
          <p:cNvPicPr/>
          <p:nvPr/>
        </p:nvPicPr>
        <p:blipFill>
          <a:blip r:embed="rId7"/>
          <a:stretch/>
        </p:blipFill>
        <p:spPr>
          <a:xfrm>
            <a:off x="2771640" y="5084640"/>
            <a:ext cx="181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9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3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524720" y="4869000"/>
            <a:ext cx="1619280" cy="1989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216000" y="5589720"/>
            <a:ext cx="107928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667640" y="76500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7308720" y="0"/>
            <a:ext cx="1368720" cy="93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2819520" y="382896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4419720" y="4379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990720" y="3046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898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5.  Расчетная за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ерная кислота с массовой долей 60 % и плотностью, равной 1,2 г/мл, взаимодействует с раствором хлорида бария, массой 110 г и массовой долей 40 %. В результате реакции образуется осадок. Вычислите массу полученного осадка и объём раствора серной кисл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о:                                                       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42960"/>
            <a:ext cx="586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 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60% (0,6)             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Н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1,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-р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(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)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10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165400"/>
            <a:ext cx="2484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)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40%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333880"/>
            <a:ext cx="15476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 (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557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21000"/>
            <a:ext cx="16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908000" y="1989000"/>
            <a:ext cx="505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6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836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620120" y="55627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7956360" y="515736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207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179280" y="5562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179280" y="0"/>
            <a:ext cx="1224000" cy="765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84360" y="57340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684360" y="59212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D:\анимашки\птицы\0004.gif"/>
          <p:cNvPicPr/>
          <p:nvPr/>
        </p:nvPicPr>
        <p:blipFill>
          <a:blip r:embed="rId9"/>
          <a:stretch/>
        </p:blipFill>
        <p:spPr>
          <a:xfrm>
            <a:off x="324000" y="5445000"/>
            <a:ext cx="1428480" cy="1209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0600" y="48024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6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истика химических элементов на основании положения их в Периодической системе Д.И.Менделее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 47, 77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DSC02765" descr=""/>
          <p:cNvPicPr/>
          <p:nvPr/>
        </p:nvPicPr>
        <p:blipFill>
          <a:blip r:embed="rId10"/>
          <a:stretch/>
        </p:blipFill>
        <p:spPr>
          <a:xfrm>
            <a:off x="395280" y="1413000"/>
            <a:ext cx="4572000" cy="2809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5560" y="48182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1924560"/>
            <a:ext cx="39956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III. РЕФЛЕКСИВНО-ОЦЕНОЧНЫЙ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1 Первичное закрепление изученного матери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Итоговый контроль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2. ЗАКЛЮЧИТЕЛЬНАЯ ЧА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улировка вывода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в природе взаимосвязано, поэтому и в химии все вещества взаимосвязаны друг с другом и из одних можно получить други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1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81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971640" y="55627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178920" y="566064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47800" y="32760"/>
            <a:ext cx="74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             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59488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620640"/>
            <a:ext cx="88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4356000" y="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7740720" y="47628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11280" y="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332000" y="623520"/>
            <a:ext cx="64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3. ДОМАШНЕЕ ЗАДАНИЕ: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торить тему: «Основные классы неорганических соединений», решить схему превращ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35786_html_45b32461" descr=""/>
          <p:cNvPicPr/>
          <p:nvPr/>
        </p:nvPicPr>
        <p:blipFill>
          <a:blip r:embed="rId8"/>
          <a:stretch/>
        </p:blipFill>
        <p:spPr>
          <a:xfrm>
            <a:off x="539640" y="1484280"/>
            <a:ext cx="7632720" cy="86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84360" y="2697120"/>
            <a:ext cx="59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4 РЕФЛЕКСИ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меть, насколько хорошо ты усвоил новый материал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Усвоил полностью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В основном усвоил, но требуется ещё разобрать дом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 Не понял т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3635280" y="4076640"/>
            <a:ext cx="5329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-25776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Обучающи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систематизировать знания учащихся о составе и свойствах основных классов неорганических веществ.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Развивающи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развивать умения ставить проблемы, формулировать гипотезы и проводить их опытную проверку; совершенствовать умения работать с лабораторным оборудованием и реактивами; развивать предметные компетентности и способность к адекватному само- и взаимоконтролю.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Воспитательны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продолжить формирование научного мировоззрения обучающихся; воспитывать наблюдательность, внимание, инициативу.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Методы 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проблемный, исследовательский , словесный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ы работы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групповая , индивидуальная работа ,самопроверка, взаимопроверка результатов самостоятельной работы в группе, выставление отметок.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борудование и реактивы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штатив с пробирками,  держатель,  спиртовка, тигельные щипцы, спички, сульфат железа, (II), гидроксид натрия, соляная  кислота, оксид меди, раствор серной кисл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:\Documents and Settings\см\Рабочий стол\миг картинки\a015.gif"/>
          <p:cNvPicPr/>
          <p:nvPr/>
        </p:nvPicPr>
        <p:blipFill>
          <a:blip r:embed="rId1"/>
          <a:stretch/>
        </p:blipFill>
        <p:spPr>
          <a:xfrm rot="19792800">
            <a:off x="3492000" y="515736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см\Рабочий стол\миг картинки\f81.gif"/>
          <p:cNvPicPr/>
          <p:nvPr/>
        </p:nvPicPr>
        <p:blipFill>
          <a:blip r:embed="rId2"/>
          <a:stretch/>
        </p:blipFill>
        <p:spPr>
          <a:xfrm>
            <a:off x="395280" y="522936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093080" y="5300640"/>
            <a:ext cx="180000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анимашки\птицы\40.gif"/>
          <p:cNvPicPr/>
          <p:nvPr/>
        </p:nvPicPr>
        <p:blipFill>
          <a:blip r:embed="rId4"/>
          <a:stretch/>
        </p:blipFill>
        <p:spPr>
          <a:xfrm>
            <a:off x="3635280" y="4076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236000" y="12682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7715160" y="1989000"/>
            <a:ext cx="14288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см\Рабочий стол\миг картинки\a015.gif"/>
          <p:cNvPicPr/>
          <p:nvPr/>
        </p:nvPicPr>
        <p:blipFill>
          <a:blip r:embed="rId3"/>
          <a:stretch/>
        </p:blipFill>
        <p:spPr>
          <a:xfrm rot="19792800">
            <a:off x="3634920" y="306828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222840"/>
            <a:ext cx="88930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Ход уро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.ОРГАНИЗАЦИОННО - МОТИВАЦИОННЫЙ ЭТАП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1 Организацион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2 Актуализация знаний: Разм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3. Загад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Тот элемент в печной труб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аходим в виде саж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И в простом карандаш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го встречаем даже.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Углерод)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гости с космоса пришел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воде приют себе наш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Водород)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Ослепительным пламенем ярки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Как звездочка, вспыхнув, гор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еталл тот и белый, и лег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двенадцатой клетке сто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Магн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еталл в солях – опора многи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А нас без него не носили бы но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Кальц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коварный поджига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ы огня хотите – нате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всесильный окислитель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сли только дров дади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Кислоро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4472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7956720" y="5229000"/>
            <a:ext cx="922320" cy="79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8064360" y="537372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539640" y="333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588000" y="1341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558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694836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6156360" y="5084640"/>
            <a:ext cx="2987640" cy="162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8520" y="-921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66840"/>
            <a:ext cx="88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1042560" y="458100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5508720" y="5562720"/>
            <a:ext cx="79056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1835280" y="314172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250920" y="3429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59000"/>
            <a:ext cx="91440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му не страшно окисление, Он безжизненным зоветс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жизнь без него не создается. </a:t>
            </a: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Азо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По прозванью – инвалид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крепок в деле и на вид. (Хро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Из глины я обыкновенной,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я на редкость современный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не боюсь электротока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Бесстрашно в воздухе лечу;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Служу на кухне я без срока -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не все задачи по плечу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Горжусь своим я именем: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Зовусь я 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Times New Roman"/>
                <a:hlinkClick r:id="rId8"/>
              </a:rPr>
              <a:t>...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imes New Roman"/>
              </a:rPr>
              <a:t> (Алюминием</a:t>
            </a: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ластичностью непревзойден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кислоте без растворен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аходиться может 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(Золот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е страшны кислоты мн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аже очень силь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о в растворах щелоч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тановлюсь малино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Ярче сока всех мал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Кто я? </a:t>
            </a:r>
            <a:r>
              <a:rPr b="1" i="1" lang="en-US" sz="1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Фенолфталеин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х, что же я поделаю с собой -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едь в щелочи я сине-голубой.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 в кислоте быть синим, я не смею: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кислотах я немедленно краснею. (Лакмус)</a:t>
            </a:r>
            <a:r>
              <a:rPr b="1" i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Эта желтая бумажка все укажет без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синеет – в колбе щелочь, покраснеет – кис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Коль нейтральная среда – не изменит цвет тог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Мы за эти указания как зовем её? (Универсальна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:\Documents and Settings\см\Рабочий стол\миг картинки\a015.gif"/>
          <p:cNvPicPr/>
          <p:nvPr/>
        </p:nvPicPr>
        <p:blipFill>
          <a:blip r:embed="rId9"/>
          <a:stretch/>
        </p:blipFill>
        <p:spPr>
          <a:xfrm rot="19792800">
            <a:off x="6084720" y="4365360"/>
            <a:ext cx="9226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694836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5796000" y="5445000"/>
            <a:ext cx="1584360" cy="1197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4859280" y="5950080"/>
            <a:ext cx="865080" cy="64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7380000" y="537336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812600"/>
            <a:ext cx="89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C:\Documents and Settings\см\Рабочий стол\миг картинки\f81.gif"/>
          <p:cNvPicPr/>
          <p:nvPr/>
        </p:nvPicPr>
        <p:blipFill>
          <a:blip r:embed="rId6"/>
          <a:stretch/>
        </p:blipFill>
        <p:spPr>
          <a:xfrm>
            <a:off x="7451640" y="5805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ocuments and Settings\см\Рабочий стол\миг картинки\a015.gif"/>
          <p:cNvPicPr/>
          <p:nvPr/>
        </p:nvPicPr>
        <p:blipFill>
          <a:blip r:embed="rId7"/>
          <a:stretch/>
        </p:blipFill>
        <p:spPr>
          <a:xfrm rot="19792800">
            <a:off x="7799400" y="4327560"/>
            <a:ext cx="922320" cy="601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5076720" y="62064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анимашки\птицы\40.gif"/>
          <p:cNvPicPr/>
          <p:nvPr/>
        </p:nvPicPr>
        <p:blipFill>
          <a:blip r:embed="rId9"/>
          <a:stretch/>
        </p:blipFill>
        <p:spPr>
          <a:xfrm>
            <a:off x="6732720" y="1341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393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4. Дайте название каждому из них и определите класс веществ.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360" y="692280"/>
          <a:ext cx="8018280" cy="432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360" y="692280"/>
                    <a:ext cx="80182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4274280"/>
            <a:ext cx="880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тветы: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Со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ульфит кальция,  нитрат алюми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Оксиды: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Кислоты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: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Осн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серы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V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оляная кислота              гидроксид меди 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I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алюминия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ерная кислота                гидроксид натр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фосфора 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.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 азотистая кис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81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6156360" y="5445000"/>
            <a:ext cx="1511280" cy="119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7632720" y="5445000"/>
            <a:ext cx="1511280" cy="12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58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7956360" y="429228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5435640" y="2602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:\анимашки\птицы\0004.gif"/>
          <p:cNvPicPr/>
          <p:nvPr/>
        </p:nvPicPr>
        <p:blipFill>
          <a:blip r:embed="rId7"/>
          <a:stretch/>
        </p:blipFill>
        <p:spPr>
          <a:xfrm>
            <a:off x="7715160" y="2637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468360" y="177336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:\анимашки\птицы\40.gif"/>
          <p:cNvPicPr/>
          <p:nvPr/>
        </p:nvPicPr>
        <p:blipFill>
          <a:blip r:embed="rId9"/>
          <a:stretch/>
        </p:blipFill>
        <p:spPr>
          <a:xfrm>
            <a:off x="7775640" y="1557360"/>
            <a:ext cx="1368360" cy="936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78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I. ОПЕРАЦИОННО - ИСПОЛНИТЕЛЬСКИЙ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1. “Генетическая связь между основными классами неорганических веществ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765000"/>
          <a:ext cx="9143640" cy="2710800"/>
        </p:xfrm>
        <a:graphic>
          <a:graphicData uri="http://schemas.openxmlformats.org/drawingml/2006/table">
            <a:tbl>
              <a:tblPr/>
              <a:tblGrid>
                <a:gridCol w="1555200"/>
                <a:gridCol w="758844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ические формулы веще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a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BaO, H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Fe(OH)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Ba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, BaCl2, Ba(OH)2 , H2, HBr.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iO2, K2O, Mg(OH)2, Si, NaOH, H2SiO3, Na, AgCl, K2SiO3, Al2O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uO, H3PO4, C, H2CO3, CO2, Ca(OH)2, K2CO3, CuSO4, Fe(OH)2 , N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727560" y="2837880"/>
            <a:ext cx="6593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просы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1.Распределите вещества по классам, дайте наз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.Составьте генетический ряд для данного простого ве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3.Выберите формулы двухосновных кисло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4.Выберите формулу основного окси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5.Выберите формулы нерастворимых основа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6.Выберите формулы кислородсодержащих кисло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.Выберите формулу безкислородной кисло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8.Выберите формулу растворимого осн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052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3348000" y="5661000"/>
            <a:ext cx="1871640" cy="119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6803640" y="544464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05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3634920" y="494136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684360" y="33336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7093080" y="40464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468360" y="1341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:\анимашки\птицы\0004.gif"/>
          <p:cNvPicPr/>
          <p:nvPr/>
        </p:nvPicPr>
        <p:blipFill>
          <a:blip r:embed="rId9"/>
          <a:stretch/>
        </p:blipFill>
        <p:spPr>
          <a:xfrm>
            <a:off x="7380360" y="119700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69000"/>
            <a:ext cx="8964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Задание №2. «Третий лишний».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а) CaO, NaCl, CO2 а) CO2, K2SO3, SO2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б) K2CO3, HCl, H2SO4 б) BaSO4, NaCl, CaCO3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) Na2SO4, HNO3, BaCl2 в) RbOH, ZnCl2, LiOH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г) NaOH, CO2, Ca(OH)2 г) Fe(OH)2, KOH, Cu(OH)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Задание №3. Определение по формуле класс веществ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А) Распределите по группам: оксиды, основания, кислоты, соли из следующего перечня веществ: SO3, Al2O3, MnO2, HNO2, H2CO3, HCl, LiOH, Pb(OH)2, Co(OH)3, Na2SO4, FeSiO3, Cr(NO3)3, MgO, FeO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Б) Составь названия соедин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KOH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H2SO3 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N2O5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Na3PO4 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Cu(OH)2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4 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4 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D:\анимашки\звери\ccea56b19e1753e1c2480ee024bc96d4.gif"/>
          <p:cNvPicPr/>
          <p:nvPr/>
        </p:nvPicPr>
        <p:blipFill>
          <a:blip r:embed="rId10"/>
          <a:stretch/>
        </p:blipFill>
        <p:spPr>
          <a:xfrm>
            <a:off x="395280" y="4797360"/>
            <a:ext cx="181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см\Рабочий стол\миг картинки\a015.gif"/>
          <p:cNvPicPr/>
          <p:nvPr/>
        </p:nvPicPr>
        <p:blipFill>
          <a:blip r:embed="rId11"/>
          <a:stretch/>
        </p:blipFill>
        <p:spPr>
          <a:xfrm rot="19792800">
            <a:off x="2268360" y="5516280"/>
            <a:ext cx="9226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12220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112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-54144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D:\анимашки\птицы\0004.gif"/>
          <p:cNvPicPr/>
          <p:nvPr/>
        </p:nvPicPr>
        <p:blipFill>
          <a:blip r:embed="rId3"/>
          <a:stretch/>
        </p:blipFill>
        <p:spPr>
          <a:xfrm>
            <a:off x="6588000" y="14842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D:\анимашки\птицы\0004.gif"/>
          <p:cNvPicPr/>
          <p:nvPr/>
        </p:nvPicPr>
        <p:blipFill>
          <a:blip r:embed="rId4"/>
          <a:stretch/>
        </p:blipFill>
        <p:spPr>
          <a:xfrm>
            <a:off x="6877080" y="189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740720" y="141300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5508720" y="83664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4000" y="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) Решите схему превращ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CO3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SO4        FeSO4       Fe(OH)2              F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CO3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                        FeS         Fe(NO3)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 (HSO4)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7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404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419640" y="549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47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924360" y="62028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843280" y="549000"/>
            <a:ext cx="288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4936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700000" y="1052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1197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62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35280" y="620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62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00000" y="620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86920" y="47628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5040000" cy="219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3871800"/>
            <a:ext cx="8964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Задание №4.Стимул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В природе все взаимосвязано и все вещества имеют родственные (генетические) связи. Докажите это опытным путем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Задачная формулировка №1. : Используя общие схемы генетических рядов, составьте генетическую цепь, представленную сульфатом железа (II) и подтвердите ее экспериментально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Инструкция 1.(Соблюдайте технику безопасности!)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1.Налейте в пробирку 3мл сульфата железа (II) и добавьте 2мл гидроксида натрия. Что наблюдаете? Составьте молекулярные, полные и сокращенные  ионные уравнения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2. Подождите 2-3 минуты. Что наблюдаете? Составьте молекулярное уравнение и электронный баланс к нему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3. К полученному осадку прилейте 3мл соляной кислоты. Что наблюдаете? Составьте молекулярные, полные и сокращенные ионные уравнения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4. Составьте генетический ряд 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Отчет составьте в виде табли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76500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492000" y="836280"/>
            <a:ext cx="287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90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7308720" y="5300640"/>
            <a:ext cx="1657440" cy="1341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анимашки\птицы\40.gif"/>
          <p:cNvPicPr/>
          <p:nvPr/>
        </p:nvPicPr>
        <p:blipFill>
          <a:blip r:embed="rId4"/>
          <a:stretch/>
        </p:blipFill>
        <p:spPr>
          <a:xfrm>
            <a:off x="5148360" y="328464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451640" y="333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165960"/>
            <a:ext cx="871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Задачная формулировка№2.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спользуя общие схемы генетических рядов, составьте генетическую цепь, представленную оксидом элемента, атом, которого содержит 29 протонов и подтвердите ее экспериментально.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Инструкция 1.(Соблюдайте технику безопасности!)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В пробирку с оксидом меди(II) добавьте 8 мл серной кислоты. Пробирку закрепите в держателе и нагрейте в пламени спиртовки. Что наблюдаете? Запишите в таблицу , составьте уравнения молекулярные, полные и сокращенные ионные уравнения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К полученному раствору добавьте 3 мл гидроксида натрия. Что наблюдаете? Запишите в таблицу , составьте уравнения молекулярные, полные и сокращенные ионные уравнения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Немного полученного осадка капните на предметное стекло, закрепите его в держателе и нагревайте до тех пор, пока вода не испариться. Что наблюдаете? Запишите в таблицу , составьте молекулярное уравнение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 Составьте генетический ряд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250920" y="357336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7164360" y="299736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C:\Documents and Settings\см\Рабочий стол\миг картинки\f81.gif"/>
          <p:cNvPicPr/>
          <p:nvPr/>
        </p:nvPicPr>
        <p:blipFill>
          <a:blip r:embed="rId8"/>
          <a:stretch/>
        </p:blipFill>
        <p:spPr>
          <a:xfrm>
            <a:off x="6084720" y="4869000"/>
            <a:ext cx="1619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5:00:33Z</dcterms:created>
  <dc:creator>SamLab.ws</dc:creator>
  <dc:description/>
  <dc:language>en-US</dc:language>
  <cp:lastModifiedBy>SamLab.ws</cp:lastModifiedBy>
  <dcterms:modified xsi:type="dcterms:W3CDTF">2014-11-10T08:49:15Z</dcterms:modified>
  <cp:revision>21</cp:revision>
  <dc:subject/>
  <dc:title>Слайд 1</dc:title>
</cp:coreProperties>
</file>