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10.wmf" ContentType="image/x-wmf"/>
  <Override PartName="/ppt/media/image12.jpeg" ContentType="image/jpeg"/>
  <Override PartName="/ppt/media/image8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1E2-17E2-45FB-9DC1-C2C7439A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FB8-8FB7-42C9-BF84-11748A93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32F-91D1-4981-AD63-82C4317E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741-C1CA-4E51-B6A2-75F900D3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ADB9-6E70-47CE-B2B0-60D3397F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AFA1-BE98-459D-A831-6D7C2A5D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B2F5-1D2C-43C6-BB30-4DB64A7F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4FE8-B514-4394-AAE4-7475BFD2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B25F-A6E0-41F7-9883-294D34E6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E613-8CDA-43A3-977E-7C7D8926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E7A8-F68D-45FB-961B-CA44C20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48A-8577-44FA-9853-98B299E7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4D35-2C63-44FF-812B-92FC9A3D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4576-2632-431D-98D7-01F5B88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FC4-4184-48E1-928F-85600D1C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41DA-F91C-4CA8-84A5-72EB4C45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2205-CD75-44E8-A619-6EF37645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3BD-3ADC-4288-82D8-EB1C4910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5DE-5E12-45D4-8BF3-9FE4F4D0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B1F-B784-4CC2-A8FD-5388D9CE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34A-2FE5-4FB5-9EC3-1A534ED2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EBF-EEC5-48C6-90EF-DB412DAE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CCD-8D1B-4AE2-A674-6DCACE3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F70-842E-4A61-81CE-590AC9A7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7781-8F56-42F9-8BFE-ED6D91E10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E70F-7511-44B0-BB0A-E792FA113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hyperlink" Target="http://www.alhimik.ru/fun/fun36.html#36.5" TargetMode="External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image" Target="../media/image1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9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2.jpeg"/><Relationship Id="rId7" Type="http://schemas.openxmlformats.org/officeDocument/2006/relationships/image" Target="../media/image3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ма:  «Обобщение и систематизация знаний по теме: «Основные классы  неорганических соединений».</a:t>
            </a:r>
            <a:r>
              <a:rPr b="1" lang="ru-RU" sz="1800" spc="-1" strike="noStrike">
                <a:solidFill>
                  <a:srgbClr val="ffffb7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Эпиграф к уроку:</a:t>
            </a:r>
            <a:r>
              <a:rPr b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Химия – супер, химия – класс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                                                          Наука для умных, наука для нас.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соли мы быстро составим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И все элементы на место поставим.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Девиз урока: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« Ни одна наука не нуждается в эксперименте в такой степени, как химия.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Ее основные законы, теории и выводы опираются на факты. 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Поэтому постоянный контроль опытом необходим».</a:t>
            </a:r>
            <a:br>
              <a:rPr sz="1800"/>
            </a:br>
            <a:r>
              <a:rPr b="1" i="1" lang="ru-RU" sz="1800" spc="-1" strike="noStrike">
                <a:solidFill>
                  <a:srgbClr val="ffffb7"/>
                </a:solidFill>
                <a:latin typeface="Times New Roman"/>
              </a:rPr>
              <a:t>                                                                                                        Майкл Фарадей.</a:t>
            </a:r>
            <a:br>
              <a:rPr sz="1800"/>
            </a:b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Цель урока:</a:t>
            </a:r>
            <a:r>
              <a:rPr b="1" i="1" lang="ru-RU" sz="1600" spc="-1" strike="noStrike">
                <a:solidFill>
                  <a:srgbClr val="ffffb7"/>
                </a:solidFill>
                <a:latin typeface="Times New Roman"/>
              </a:rPr>
              <a:t> Используя знания, полученные в курсе изучения темы: «Основные классы неорганических соединений», решить схемы превращений, указав генетическую связь между основными классами неорганических соединений, рассмотрев их основные химические свойства, а так же способы их получения. Решая расчетную задачу,  необходимо нетолько составить алгоритм решения задачи, используя основные формулы расчета физических и химических величин,  но и методом электронного баланса правильно расставить коэффициенты в окислительно-восстановительной реакции. Дать общую характеристику химическим элементам, на основании положения их в Периодической системе Д.И. Менделеева.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C:\Documents and Settings\см\Рабочий стол\миг картинки\a015.gif"/>
          <p:cNvPicPr/>
          <p:nvPr/>
        </p:nvPicPr>
        <p:blipFill>
          <a:blip r:embed="rId1"/>
          <a:stretch/>
        </p:blipFill>
        <p:spPr>
          <a:xfrm rot="19792800">
            <a:off x="323640" y="580500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см\Рабочий стол\миг картинки\a015.gif"/>
          <p:cNvPicPr/>
          <p:nvPr/>
        </p:nvPicPr>
        <p:blipFill>
          <a:blip r:embed="rId2"/>
          <a:stretch/>
        </p:blipFill>
        <p:spPr>
          <a:xfrm rot="19792800">
            <a:off x="6588000" y="5516280"/>
            <a:ext cx="922320" cy="79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971640" y="5661000"/>
            <a:ext cx="1547640" cy="119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Documents and Settings\см\Рабочий стол\миг картинки\f81.gif"/>
          <p:cNvPicPr/>
          <p:nvPr/>
        </p:nvPicPr>
        <p:blipFill>
          <a:blip r:embed="rId4"/>
          <a:stretch/>
        </p:blipFill>
        <p:spPr>
          <a:xfrm>
            <a:off x="7164360" y="587700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3564000" y="69228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:\анимашки\птицы\0004.gif"/>
          <p:cNvPicPr/>
          <p:nvPr/>
        </p:nvPicPr>
        <p:blipFill>
          <a:blip r:embed="rId6"/>
          <a:stretch/>
        </p:blipFill>
        <p:spPr>
          <a:xfrm>
            <a:off x="2050920" y="134136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анимашки\звери\ccea56b19e1753e1c2480ee024bc96d4.gif"/>
          <p:cNvPicPr/>
          <p:nvPr/>
        </p:nvPicPr>
        <p:blipFill>
          <a:blip r:embed="rId7"/>
          <a:stretch/>
        </p:blipFill>
        <p:spPr>
          <a:xfrm>
            <a:off x="2771640" y="5084640"/>
            <a:ext cx="1818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9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83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7524720" y="4869000"/>
            <a:ext cx="1619280" cy="1989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Documents and Settings\см\Рабочий стол\миг картинки\f81.gif"/>
          <p:cNvPicPr/>
          <p:nvPr/>
        </p:nvPicPr>
        <p:blipFill>
          <a:blip r:embed="rId4"/>
          <a:stretch/>
        </p:blipFill>
        <p:spPr>
          <a:xfrm>
            <a:off x="216000" y="5589720"/>
            <a:ext cx="107928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7667640" y="76500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7308720" y="0"/>
            <a:ext cx="1368720" cy="93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2819520" y="382896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4419720" y="43797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990720" y="304632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2898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 №5.  Расчетная задач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ерная кислота с массовой долей 60 % и плотностью, равной 1,2 г/мл, взаимодействует с раствором хлорида бария, массой 110 г и массовой долей 40 %. В результате реакции образуется осадок. Вычислите массу полученного осадка и объём раствора серной кисл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Дано:                                                       Реш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542960"/>
            <a:ext cx="5867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w (H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= 60% (0,6)             H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+ 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Н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(H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= 1,2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г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/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р-р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(Ва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)=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10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165400"/>
            <a:ext cx="2484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w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ВаС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)=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40%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333880"/>
            <a:ext cx="15476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р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ru-RU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р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H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=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 (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4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=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557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21000"/>
            <a:ext cx="16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1908000" y="1989000"/>
            <a:ext cx="505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6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7812000" y="0"/>
            <a:ext cx="1332000" cy="836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7620120" y="556272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7956360" y="515736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2079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C:\Documents and Settings\см\Рабочий стол\миг картинки\f81.gif"/>
          <p:cNvPicPr/>
          <p:nvPr/>
        </p:nvPicPr>
        <p:blipFill>
          <a:blip r:embed="rId5"/>
          <a:stretch/>
        </p:blipFill>
        <p:spPr>
          <a:xfrm>
            <a:off x="179280" y="55627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179280" y="0"/>
            <a:ext cx="1224000" cy="765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684360" y="5734080"/>
            <a:ext cx="1223640" cy="9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D:\анимашки\птицы\40.gif"/>
          <p:cNvPicPr/>
          <p:nvPr/>
        </p:nvPicPr>
        <p:blipFill>
          <a:blip r:embed="rId8"/>
          <a:stretch/>
        </p:blipFill>
        <p:spPr>
          <a:xfrm>
            <a:off x="684360" y="5921280"/>
            <a:ext cx="1223640" cy="936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D:\анимашки\птицы\0004.gif"/>
          <p:cNvPicPr/>
          <p:nvPr/>
        </p:nvPicPr>
        <p:blipFill>
          <a:blip r:embed="rId9"/>
          <a:stretch/>
        </p:blipFill>
        <p:spPr>
          <a:xfrm>
            <a:off x="324000" y="5445000"/>
            <a:ext cx="1428480" cy="1209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20600" y="480240"/>
            <a:ext cx="890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 №6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Характеристика химических элементов на основании положения их в Периодической системе Д.И.Менделее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 47, 77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DSC02765" descr=""/>
          <p:cNvPicPr/>
          <p:nvPr/>
        </p:nvPicPr>
        <p:blipFill>
          <a:blip r:embed="rId10"/>
          <a:stretch/>
        </p:blipFill>
        <p:spPr>
          <a:xfrm>
            <a:off x="395280" y="1413000"/>
            <a:ext cx="4572000" cy="2809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15560" y="481824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1924560"/>
            <a:ext cx="39956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III. РЕФЛЕКСИВНО-ОЦЕНОЧНЫЙ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1 Первичное закрепление изученного материал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Итоговый контроль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2. ЗАКЛЮЧИТЕЛЬНАЯ ЧА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улировка вывода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в природе взаимосвязано, поэтому и в химии все вещества взаимосвязаны друг с другом и из одних можно получить други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1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81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971640" y="556272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178920" y="566064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847800" y="32760"/>
            <a:ext cx="74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              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59488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620640"/>
            <a:ext cx="88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4356000" y="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7740720" y="47628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611280" y="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332000" y="623520"/>
            <a:ext cx="64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3.3. ДОМАШНЕЕ ЗАДАНИЕ: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вторить тему: «Основные классы неорганических соединений», решить схему превращен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35786_html_45b32461" descr=""/>
          <p:cNvPicPr/>
          <p:nvPr/>
        </p:nvPicPr>
        <p:blipFill>
          <a:blip r:embed="rId8"/>
          <a:stretch/>
        </p:blipFill>
        <p:spPr>
          <a:xfrm>
            <a:off x="539640" y="1484280"/>
            <a:ext cx="7632720" cy="86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84360" y="2697120"/>
            <a:ext cx="59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4 РЕФЛЕКСИЯ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тметь, насколько хорошо ты усвоил новый материал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 Усвоил полностью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В основном усвоил, но требуется ещё разобрать дом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 Не понял т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9"/>
          <a:stretch/>
        </p:blipFill>
        <p:spPr>
          <a:xfrm>
            <a:off x="3635280" y="4076640"/>
            <a:ext cx="5329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-257760"/>
            <a:ext cx="8893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Обучающие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систематизировать знания учащихся о составе и свойствах основных классов неорганических веществ.</a:t>
            </a: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Развивающие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развивать умения ставить проблемы, формулировать гипотезы и проводить их опытную проверку; совершенствовать умения работать с лабораторным оборудованием и реактивами; развивать предметные компетентности и способность к адекватному само- и взаимоконтролю.</a:t>
            </a:r>
            <a:br>
              <a:rPr sz="1600"/>
            </a:b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Воспитательные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продолжить формирование научного мировоззрения обучающихся; воспитывать наблюдательность, внимание, инициативу.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Методы 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проблемный, исследовательский , словесный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Формы работы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групповая , индивидуальная работа ,самопроверка, взаимопроверка результатов самостоятельной работы в группе, выставление отметок.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борудование и реактивы: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штатив с пробирками,  держатель,  спиртовка, тигельные щипцы, спички, сульфат железа, (II), гидроксид натрия, соляная  кислота, оксид меди, раствор серной кисл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C:\Documents and Settings\см\Рабочий стол\миг картинки\a015.gif"/>
          <p:cNvPicPr/>
          <p:nvPr/>
        </p:nvPicPr>
        <p:blipFill>
          <a:blip r:embed="rId1"/>
          <a:stretch/>
        </p:blipFill>
        <p:spPr>
          <a:xfrm rot="19792800">
            <a:off x="3492000" y="515736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Documents and Settings\см\Рабочий стол\миг картинки\f81.gif"/>
          <p:cNvPicPr/>
          <p:nvPr/>
        </p:nvPicPr>
        <p:blipFill>
          <a:blip r:embed="rId2"/>
          <a:stretch/>
        </p:blipFill>
        <p:spPr>
          <a:xfrm>
            <a:off x="395280" y="5229360"/>
            <a:ext cx="1584360" cy="162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7093080" y="5300640"/>
            <a:ext cx="1800000" cy="155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:\анимашки\птицы\40.gif"/>
          <p:cNvPicPr/>
          <p:nvPr/>
        </p:nvPicPr>
        <p:blipFill>
          <a:blip r:embed="rId4"/>
          <a:stretch/>
        </p:blipFill>
        <p:spPr>
          <a:xfrm>
            <a:off x="3635280" y="407664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7236000" y="1268280"/>
            <a:ext cx="1223640" cy="93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D:\анимашки\птицы\0004.gif"/>
          <p:cNvPicPr/>
          <p:nvPr/>
        </p:nvPicPr>
        <p:blipFill>
          <a:blip r:embed="rId6"/>
          <a:stretch/>
        </p:blipFill>
        <p:spPr>
          <a:xfrm>
            <a:off x="7715160" y="1989000"/>
            <a:ext cx="142884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07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Documents and Settings\см\Рабочий стол\миг картинки\a015.gif"/>
          <p:cNvPicPr/>
          <p:nvPr/>
        </p:nvPicPr>
        <p:blipFill>
          <a:blip r:embed="rId3"/>
          <a:stretch/>
        </p:blipFill>
        <p:spPr>
          <a:xfrm rot="19792800">
            <a:off x="3634920" y="306828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222840"/>
            <a:ext cx="8893080" cy="59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Ход уро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.ОРГАНИЗАЦИОННО - МОТИВАЦИОННЫЙ ЭТАП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1 Организационны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2 Актуализация знаний: Разм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3. Загад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Тот элемент в печной труб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Находим в виде саж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И в простом карандаш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Его встречаем даже.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Углерод)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В гости с космоса пришел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В воде приют себе наш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Водород)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Ослепительным пламенем ярким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Как звездочка, вспыхнув, гори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Металл тот и белый, и лег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В двенадцатой клетке стои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Магни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Металл в солях – опора многих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А нас без него не носили бы ног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Кальций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Я коварный поджига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Вы огня хотите – нате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Я всесильный окислитель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Если только дров дади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(Кислород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04472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7956720" y="5229000"/>
            <a:ext cx="922320" cy="796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см\Рабочий стол\миг картинки\f81.gif"/>
          <p:cNvPicPr/>
          <p:nvPr/>
        </p:nvPicPr>
        <p:blipFill>
          <a:blip r:embed="rId5"/>
          <a:stretch/>
        </p:blipFill>
        <p:spPr>
          <a:xfrm>
            <a:off x="8064360" y="5373720"/>
            <a:ext cx="107964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539640" y="33336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6588000" y="134136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3564000" y="3789360"/>
            <a:ext cx="5580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6948360" y="0"/>
            <a:ext cx="1584360" cy="1413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C:\Documents and Settings\см\Рабочий стол\миг картинки\people072.gif"/>
          <p:cNvPicPr/>
          <p:nvPr/>
        </p:nvPicPr>
        <p:blipFill>
          <a:blip r:embed="rId3"/>
          <a:stretch/>
        </p:blipFill>
        <p:spPr>
          <a:xfrm>
            <a:off x="6156360" y="5084640"/>
            <a:ext cx="2987640" cy="1629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8520" y="-921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66840"/>
            <a:ext cx="88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1042560" y="458100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:\Documents and Settings\см\Рабочий стол\миг картинки\f81.gif"/>
          <p:cNvPicPr/>
          <p:nvPr/>
        </p:nvPicPr>
        <p:blipFill>
          <a:blip r:embed="rId5"/>
          <a:stretch/>
        </p:blipFill>
        <p:spPr>
          <a:xfrm>
            <a:off x="5508720" y="5562720"/>
            <a:ext cx="790560" cy="129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1835280" y="314172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250920" y="342900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459000"/>
            <a:ext cx="9144000" cy="61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Ему не страшно окисление, Он безжизненным зоветс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Но жизнь без него не создается. </a:t>
            </a: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Азот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По прозванью – инвалид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Но крепок в деле и на вид. (Хро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Из глины я обыкновенной,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Но я на редкость современный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Я не боюсь электротока,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Бесстрашно в воздухе лечу;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Служу на кухне я без срока -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Мне все задачи по плечу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Горжусь своим я именем: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Зовусь я 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Times New Roman"/>
                <a:hlinkClick r:id="rId8"/>
              </a:rPr>
              <a:t>...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Times New Roman"/>
              </a:rPr>
              <a:t> (Алюминием</a:t>
            </a: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ластичностью непревзойден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 кислоте без растворен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аходиться может 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(Золот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е страшны кислоты мне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Даже очень сильн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Но в растворах щелоч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Становлюсь малинов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Ярче сока всех мал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Кто я? </a:t>
            </a:r>
            <a:r>
              <a:rPr b="1" i="1" lang="en-US" sz="1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Фенолфталеин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х, что же я поделаю с собой - 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едь в щелочи я сине-голубой.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А в кислоте быть синим, я не смею: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В кислотах я немедленно краснею. (Лакмус)</a:t>
            </a:r>
            <a:r>
              <a:rPr b="1" i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Эта желтая бумажка все укажет без тр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Посинеет – в колбе щелочь, покраснеет – кисло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Коль нейтральная среда – не изменит цвет тог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Мы за эти указания как зовем её? (Универсальна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:\Documents and Settings\см\Рабочий стол\миг картинки\a015.gif"/>
          <p:cNvPicPr/>
          <p:nvPr/>
        </p:nvPicPr>
        <p:blipFill>
          <a:blip r:embed="rId9"/>
          <a:stretch/>
        </p:blipFill>
        <p:spPr>
          <a:xfrm rot="19792800">
            <a:off x="6084720" y="4365360"/>
            <a:ext cx="92268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6948360" y="0"/>
            <a:ext cx="1584360" cy="1413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C:\Documents and Settings\см\Рабочий стол\миг картинки\people072.gif"/>
          <p:cNvPicPr/>
          <p:nvPr/>
        </p:nvPicPr>
        <p:blipFill>
          <a:blip r:embed="rId3"/>
          <a:stretch/>
        </p:blipFill>
        <p:spPr>
          <a:xfrm>
            <a:off x="5796000" y="5445000"/>
            <a:ext cx="1584360" cy="1197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Documents and Settings\см\Рабочий стол\миг картинки\f81.gif"/>
          <p:cNvPicPr/>
          <p:nvPr/>
        </p:nvPicPr>
        <p:blipFill>
          <a:blip r:embed="rId4"/>
          <a:stretch/>
        </p:blipFill>
        <p:spPr>
          <a:xfrm>
            <a:off x="4859280" y="5950080"/>
            <a:ext cx="865080" cy="645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см\Рабочий стол\миг картинки\a015.gif"/>
          <p:cNvPicPr/>
          <p:nvPr/>
        </p:nvPicPr>
        <p:blipFill>
          <a:blip r:embed="rId5"/>
          <a:stretch/>
        </p:blipFill>
        <p:spPr>
          <a:xfrm rot="19792800">
            <a:off x="7380000" y="537336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1812600"/>
            <a:ext cx="896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" descr="C:\Documents and Settings\см\Рабочий стол\миг картинки\f81.gif"/>
          <p:cNvPicPr/>
          <p:nvPr/>
        </p:nvPicPr>
        <p:blipFill>
          <a:blip r:embed="rId6"/>
          <a:stretch/>
        </p:blipFill>
        <p:spPr>
          <a:xfrm>
            <a:off x="7451640" y="5805360"/>
            <a:ext cx="1008000" cy="719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Documents and Settings\см\Рабочий стол\миг картинки\a015.gif"/>
          <p:cNvPicPr/>
          <p:nvPr/>
        </p:nvPicPr>
        <p:blipFill>
          <a:blip r:embed="rId7"/>
          <a:stretch/>
        </p:blipFill>
        <p:spPr>
          <a:xfrm rot="19792800">
            <a:off x="7799400" y="4327560"/>
            <a:ext cx="922320" cy="601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D:\анимашки\птицы\40.gif"/>
          <p:cNvPicPr/>
          <p:nvPr/>
        </p:nvPicPr>
        <p:blipFill>
          <a:blip r:embed="rId8"/>
          <a:stretch/>
        </p:blipFill>
        <p:spPr>
          <a:xfrm>
            <a:off x="5076720" y="620640"/>
            <a:ext cx="1368360" cy="93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D:\анимашки\птицы\40.gif"/>
          <p:cNvPicPr/>
          <p:nvPr/>
        </p:nvPicPr>
        <p:blipFill>
          <a:blip r:embed="rId9"/>
          <a:stretch/>
        </p:blipFill>
        <p:spPr>
          <a:xfrm>
            <a:off x="6732720" y="134136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1393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4. Дайте название каждому из них и определите класс веществ.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1360" y="692280"/>
          <a:ext cx="8018280" cy="4321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1360" y="692280"/>
                    <a:ext cx="80182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0" y="4274280"/>
            <a:ext cx="880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Ответы: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                                              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Со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сульфит кальция,  нитрат алюми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Оксиды: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Кислоты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:                        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Осн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оксид серы(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IV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соляная кислота              гидроксид меди (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II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оксид алюминия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серная кислота                гидроксид натр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оксид фосфора (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).             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 азотистая кисло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81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C:\Documents and Settings\см\Рабочий стол\миг картинки\people072.gif"/>
          <p:cNvPicPr/>
          <p:nvPr/>
        </p:nvPicPr>
        <p:blipFill>
          <a:blip r:embed="rId3"/>
          <a:stretch/>
        </p:blipFill>
        <p:spPr>
          <a:xfrm>
            <a:off x="6156360" y="5445000"/>
            <a:ext cx="1511280" cy="1197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Documents and Settings\см\Рабочий стол\миг картинки\f81.gif"/>
          <p:cNvPicPr/>
          <p:nvPr/>
        </p:nvPicPr>
        <p:blipFill>
          <a:blip r:embed="rId4"/>
          <a:stretch/>
        </p:blipFill>
        <p:spPr>
          <a:xfrm>
            <a:off x="7632720" y="5445000"/>
            <a:ext cx="1511280" cy="1268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258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C:\Documents and Settings\см\Рабочий стол\миг картинки\a015.gif"/>
          <p:cNvPicPr/>
          <p:nvPr/>
        </p:nvPicPr>
        <p:blipFill>
          <a:blip r:embed="rId5"/>
          <a:stretch/>
        </p:blipFill>
        <p:spPr>
          <a:xfrm rot="19792800">
            <a:off x="7956360" y="429228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D:\анимашки\птицы\0004.gif"/>
          <p:cNvPicPr/>
          <p:nvPr/>
        </p:nvPicPr>
        <p:blipFill>
          <a:blip r:embed="rId6"/>
          <a:stretch/>
        </p:blipFill>
        <p:spPr>
          <a:xfrm>
            <a:off x="5435640" y="2602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:\анимашки\птицы\0004.gif"/>
          <p:cNvPicPr/>
          <p:nvPr/>
        </p:nvPicPr>
        <p:blipFill>
          <a:blip r:embed="rId7"/>
          <a:stretch/>
        </p:blipFill>
        <p:spPr>
          <a:xfrm>
            <a:off x="7715160" y="2637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D:\анимашки\птицы\40.gif"/>
          <p:cNvPicPr/>
          <p:nvPr/>
        </p:nvPicPr>
        <p:blipFill>
          <a:blip r:embed="rId8"/>
          <a:stretch/>
        </p:blipFill>
        <p:spPr>
          <a:xfrm>
            <a:off x="468360" y="1773360"/>
            <a:ext cx="1368360" cy="93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D:\анимашки\птицы\40.gif"/>
          <p:cNvPicPr/>
          <p:nvPr/>
        </p:nvPicPr>
        <p:blipFill>
          <a:blip r:embed="rId9"/>
          <a:stretch/>
        </p:blipFill>
        <p:spPr>
          <a:xfrm>
            <a:off x="7775640" y="1557360"/>
            <a:ext cx="1368360" cy="936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378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I. ОПЕРАЦИОННО - ИСПОЛНИТЕЛЬСКИЙ ЭТА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ние №1. “Генетическая связь между основными классами неорганических веществ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765000"/>
          <a:ext cx="9143640" cy="2710800"/>
        </p:xfrm>
        <a:graphic>
          <a:graphicData uri="http://schemas.openxmlformats.org/drawingml/2006/table">
            <a:tbl>
              <a:tblPr/>
              <a:tblGrid>
                <a:gridCol w="1555200"/>
                <a:gridCol w="758844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ариан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имические формулы вещес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aSO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BaO, H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Fe(OH)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, BaSO</a:t>
                      </a:r>
                      <a:r>
                        <a:rPr b="1" lang="en-US" sz="1600" spc="-1" strike="noStrike" baseline="-30000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, BaCl2, Ba(OH)2 , H2, HBr.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iO2, K2O, Mg(OH)2, Si, NaOH, H2SiO3, Na, AgCl, K2SiO3, Al2O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uO, H3PO4, C, H2CO3, CO2, Ca(OH)2, K2CO3, CuSO4, Fe(OH)2 , N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727560" y="2837880"/>
            <a:ext cx="6593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опросы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1.Распределите вещества по классам, дайте назва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2.Составьте генетический ряд для данного простого ве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3.Выберите формулы двухосновных кисло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4.Выберите формулу основного окси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5.Выберите формулы нерастворимых основа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6.Выберите формулы кислородсодержащих кисло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7.Выберите формулу безкислородной кисло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8.Выберите формулу растворимого осн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052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:\Documents and Settings\см\Рабочий стол\миг картинки\f81.gif"/>
          <p:cNvPicPr/>
          <p:nvPr/>
        </p:nvPicPr>
        <p:blipFill>
          <a:blip r:embed="rId3"/>
          <a:stretch/>
        </p:blipFill>
        <p:spPr>
          <a:xfrm>
            <a:off x="3348000" y="5661000"/>
            <a:ext cx="1871640" cy="119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см\Рабочий стол\миг картинки\a015.gif"/>
          <p:cNvPicPr/>
          <p:nvPr/>
        </p:nvPicPr>
        <p:blipFill>
          <a:blip r:embed="rId4"/>
          <a:stretch/>
        </p:blipFill>
        <p:spPr>
          <a:xfrm rot="19792800">
            <a:off x="6803640" y="5444640"/>
            <a:ext cx="922320" cy="797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2056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4" descr="C:\Documents and Settings\см\Рабочий стол\миг картинки\a015.gif"/>
          <p:cNvPicPr/>
          <p:nvPr/>
        </p:nvPicPr>
        <p:blipFill>
          <a:blip r:embed="rId5"/>
          <a:stretch/>
        </p:blipFill>
        <p:spPr>
          <a:xfrm rot="19792800">
            <a:off x="3634920" y="4941360"/>
            <a:ext cx="922320" cy="797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684360" y="333360"/>
            <a:ext cx="1223640" cy="93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7093080" y="40464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D:\анимашки\птицы\40.gif"/>
          <p:cNvPicPr/>
          <p:nvPr/>
        </p:nvPicPr>
        <p:blipFill>
          <a:blip r:embed="rId8"/>
          <a:stretch/>
        </p:blipFill>
        <p:spPr>
          <a:xfrm>
            <a:off x="468360" y="134136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D:\анимашки\птицы\0004.gif"/>
          <p:cNvPicPr/>
          <p:nvPr/>
        </p:nvPicPr>
        <p:blipFill>
          <a:blip r:embed="rId9"/>
          <a:stretch/>
        </p:blipFill>
        <p:spPr>
          <a:xfrm>
            <a:off x="7380360" y="1197000"/>
            <a:ext cx="1428840" cy="1209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369000"/>
            <a:ext cx="8964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Задание №2. «Третий лишний».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а) CaO, NaCl, CO2 а) CO2, K2SO3, SO2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б) K2CO3, HCl, H2SO4 б) BaSO4, NaCl, CaCO3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в) Na2SO4, HNO3, BaCl2 в) RbOH, ZnCl2, LiOH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г) NaOH, CO2, Ca(OH)2 г) Fe(OH)2, KOH, Cu(OH)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Задание №3. Определение по формуле класс веществ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А) Распределите по группам: оксиды, основания, кислоты, соли из следующего перечня веществ: SO3, Al2O3, MnO2, HNO2, H2CO3, HCl, LiOH, Pb(OH)2, Co(OH)3, Na2SO4, FeSiO3, Cr(NO3)3, MgO, FeO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Б) Составь названия соединен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KOH _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H2SO3 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N2O5 _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Na3PO4 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-   Cu(OH)2 _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-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SO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4 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-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 __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-  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4 __________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D:\анимашки\звери\ccea56b19e1753e1c2480ee024bc96d4.gif"/>
          <p:cNvPicPr/>
          <p:nvPr/>
        </p:nvPicPr>
        <p:blipFill>
          <a:blip r:embed="rId10"/>
          <a:stretch/>
        </p:blipFill>
        <p:spPr>
          <a:xfrm>
            <a:off x="395280" y="4797360"/>
            <a:ext cx="1817640" cy="1924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Documents and Settings\см\Рабочий стол\миг картинки\a015.gif"/>
          <p:cNvPicPr/>
          <p:nvPr/>
        </p:nvPicPr>
        <p:blipFill>
          <a:blip r:embed="rId11"/>
          <a:stretch/>
        </p:blipFill>
        <p:spPr>
          <a:xfrm rot="19792800">
            <a:off x="2268360" y="5516280"/>
            <a:ext cx="922680" cy="79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12220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112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-54144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D:\анимашки\птицы\0004.gif"/>
          <p:cNvPicPr/>
          <p:nvPr/>
        </p:nvPicPr>
        <p:blipFill>
          <a:blip r:embed="rId3"/>
          <a:stretch/>
        </p:blipFill>
        <p:spPr>
          <a:xfrm>
            <a:off x="6588000" y="148428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D:\анимашки\птицы\0004.gif"/>
          <p:cNvPicPr/>
          <p:nvPr/>
        </p:nvPicPr>
        <p:blipFill>
          <a:blip r:embed="rId4"/>
          <a:stretch/>
        </p:blipFill>
        <p:spPr>
          <a:xfrm>
            <a:off x="6877080" y="189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7740720" y="141300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D:\анимашки\птицы\40.gif"/>
          <p:cNvPicPr/>
          <p:nvPr/>
        </p:nvPicPr>
        <p:blipFill>
          <a:blip r:embed="rId6"/>
          <a:stretch/>
        </p:blipFill>
        <p:spPr>
          <a:xfrm>
            <a:off x="5508720" y="83664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4000" y="0"/>
            <a:ext cx="88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) Решите схему превращ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CO3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SO4        FeSO4       Fe(OH)2              F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eCO3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O                        FeS         Fe(NO3)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 (HSO4)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47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7628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360" y="404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419640" y="549360"/>
            <a:ext cx="28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47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924360" y="620280"/>
            <a:ext cx="1368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843280" y="549000"/>
            <a:ext cx="28872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549360"/>
            <a:ext cx="358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700000" y="105264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11970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620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835280" y="620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62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00000" y="62064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86920" y="476280"/>
            <a:ext cx="71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5040000" cy="2198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3871800"/>
            <a:ext cx="8964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Задание №4.Стимул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В природе все взаимосвязано и все вещества имеют родственные (генетические) связи. Докажите это опытным путем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Задачная формулировка №1. : Используя общие схемы генетических рядов, составьте генетическую цепь, представленную сульфатом железа (II) и подтвердите ее экспериментально.</a:t>
            </a:r>
            <a:br>
              <a:rPr sz="1400"/>
            </a:b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Инструкция 1.(Соблюдайте технику безопасности!)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1.Налейте в пробирку 3мл сульфата железа (II) и добавьте 2мл гидроксида натрия. Что наблюдаете? Составьте молекулярные, полные и сокращенные  ионные уравнения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2. Подождите 2-3 минуты. Что наблюдаете? Составьте молекулярное уравнение и электронный баланс к нему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3. К полученному осадку прилейте 3мл соляной кислоты. Что наблюдаете? Составьте молекулярные, полные и сокращенные ионные уравнения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4. Составьте генетический ряд .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 Отчет составьте в виде таблиц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76500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492000" y="836280"/>
            <a:ext cx="28764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9" name="Picture 2" descr="C:\Documents and Settings\см\Рабочий стол\миг картинки\backgrounds_00045.gif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Documents and Settings\см\Рабочий стол\миг картинки\Копия 19.gif"/>
          <p:cNvPicPr/>
          <p:nvPr/>
        </p:nvPicPr>
        <p:blipFill>
          <a:blip r:embed="rId2"/>
          <a:stretch/>
        </p:blipFill>
        <p:spPr>
          <a:xfrm>
            <a:off x="8101080" y="0"/>
            <a:ext cx="1042920" cy="90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C:\Documents and Settings\см\Рабочий стол\миг картинки\people072.gif"/>
          <p:cNvPicPr/>
          <p:nvPr/>
        </p:nvPicPr>
        <p:blipFill>
          <a:blip r:embed="rId3"/>
          <a:stretch/>
        </p:blipFill>
        <p:spPr>
          <a:xfrm>
            <a:off x="7308720" y="5300640"/>
            <a:ext cx="1657440" cy="1341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D:\анимашки\птицы\40.gif"/>
          <p:cNvPicPr/>
          <p:nvPr/>
        </p:nvPicPr>
        <p:blipFill>
          <a:blip r:embed="rId4"/>
          <a:stretch/>
        </p:blipFill>
        <p:spPr>
          <a:xfrm>
            <a:off x="5148360" y="328464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D:\анимашки\птицы\40.gif"/>
          <p:cNvPicPr/>
          <p:nvPr/>
        </p:nvPicPr>
        <p:blipFill>
          <a:blip r:embed="rId5"/>
          <a:stretch/>
        </p:blipFill>
        <p:spPr>
          <a:xfrm>
            <a:off x="7451640" y="33336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165960"/>
            <a:ext cx="871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Задачная формулировка№2.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Используя общие схемы генетических рядов, составьте генетическую цепь, представленную оксидом элемента, атом, которого содержит 29 протонов и подтвердите ее экспериментально.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Инструкция 1.(Соблюдайте технику безопасности!)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.В пробирку с оксидом меди(II) добавьте 8 мл серной кислоты. Пробирку закрепите в держателе и нагрейте в пламени спиртовки. Что наблюдаете? Запишите в таблицу , составьте уравнения молекулярные, полные и сокращенные ионные уравнения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 К полученному раствору добавьте 3 мл гидроксида натрия. Что наблюдаете? Запишите в таблицу , составьте уравнения молекулярные, полные и сокращенные ионные уравнения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 Немного полученного осадка капните на предметное стекло, закрепите его в держателе и нагревайте до тех пор, пока вода не испариться. Что наблюдаете? Запишите в таблицу , составьте молекулярное уравнение.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. Составьте генетический ряд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250920" y="3573360"/>
            <a:ext cx="4572000" cy="328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D:\анимашки\птицы\40.gif"/>
          <p:cNvPicPr/>
          <p:nvPr/>
        </p:nvPicPr>
        <p:blipFill>
          <a:blip r:embed="rId7"/>
          <a:stretch/>
        </p:blipFill>
        <p:spPr>
          <a:xfrm>
            <a:off x="7164360" y="2997360"/>
            <a:ext cx="1224000" cy="93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C:\Documents and Settings\см\Рабочий стол\миг картинки\f81.gif"/>
          <p:cNvPicPr/>
          <p:nvPr/>
        </p:nvPicPr>
        <p:blipFill>
          <a:blip r:embed="rId8"/>
          <a:stretch/>
        </p:blipFill>
        <p:spPr>
          <a:xfrm>
            <a:off x="6084720" y="4869000"/>
            <a:ext cx="1619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5:00:33Z</dcterms:created>
  <dc:creator>SamLab.ws</dc:creator>
  <dc:description/>
  <dc:language>en-US</dc:language>
  <cp:lastModifiedBy>SamLab.ws</cp:lastModifiedBy>
  <dcterms:modified xsi:type="dcterms:W3CDTF">2014-11-10T08:49:15Z</dcterms:modified>
  <cp:revision>21</cp:revision>
  <dc:subject/>
  <dc:title>Слайд 1</dc:title>
</cp:coreProperties>
</file>