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012C-E181-483F-A58C-A0619B6D4A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7599-B202-414B-A2CF-81CB834323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5FFA-ED4D-436D-BFA0-EBA4A8B44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D8ED-365D-4B64-83BD-5C37A597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0298-C0B1-457A-8AFF-C30277535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497E-3EA3-4594-B876-02EAA719F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77A8-5AAD-4C9D-982F-B84ECF3FF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0C81-88EA-41F5-B20B-1412B6BF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C08F-E3D9-459C-B9E0-BB7BB6EA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A220-6249-464B-94F7-78E95A0A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187D-DCD0-4661-8DE6-6BE53BFB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55EC-1AE5-43C3-913D-440DE6F5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B2647-8F60-421B-AD9B-3E0F99C7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27A0-59DA-4761-BF14-E2063DC6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2EE8-26F6-4262-AFC8-00BA49D0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D492-35E6-4CF9-9E75-C905696D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02BD-1432-405B-B9F7-BB1C2F0D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8CC1A-52EA-4049-8701-99DA54998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7D43C-E164-4861-A3BA-F619723AB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F4964-11BE-4609-B3AF-5ED4FF18E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7674D-C39D-4554-ADB7-429BF20D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C9393-A905-40DB-9000-460EB4CA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B54FF-88D7-4E7D-9739-E37AEC21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1EB5B-2C09-43CE-94E5-C8F798EF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5C31-A73C-4C29-BD96-B1323667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B7CE8-8166-48A5-9B47-33E17582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A5F28-79AC-41C6-BA8B-3CF7509B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A0019-6B05-416A-925C-88C35240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5CFCC-5882-4CD3-8BE5-57BF1598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015C7-7381-4805-AB1A-251B6C1D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D31E8-0BEA-47F7-9BA8-E25A85BE4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45B8C-FC63-4487-9881-10D83E9E6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7F502-937F-4EA3-AB81-DED5C1C5A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FF8A6-5A55-49C1-9EAB-D6BAFE76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8F844-A040-45C8-B095-2474CE21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02CD-5383-4F51-8832-EFBBCA48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D6FE1-6446-43F6-B733-A1BA4EE0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7900C-79E8-45A2-9C50-DDF43F30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C2263-54B1-417A-8CAA-2E874166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C6888-645F-4C36-9BDD-6F9BACB0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9D8BE-EEA0-4B0A-AD85-2C5CDD70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F70CE-34A0-4E94-8722-61B3AF2C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66F54-503C-4253-9B36-693BE555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93987-A95A-4FF1-BA87-F5C8BB894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E6F34-E3C9-44FC-868C-0292AC254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D1DB-BB34-49CB-98D3-96484CFE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8419-D10E-4F16-A448-DBDD570D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4FEB-042A-4C7B-9EEF-FCAC4D3C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2538-B29E-4CA8-A5D1-F739F6B9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7ADC-22AD-46C9-8B57-61580100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F4FF-FE2F-41AC-94AC-1C517FCEC720}" type="slidenum">
              <a:rPr b="1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49AD-15D2-43B3-B77C-6BC02A08F7DE}" type="slidenum">
              <a:rPr b="1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9ABF-F1B5-4A1E-82A6-F486C503BB1F}" type="slidenum">
              <a:rPr b="1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F770-A77E-4FF3-BCFE-0C4ACF1FE5D3}" type="slidenum">
              <a:rPr b="1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2" descr=""/>
          <p:cNvPicPr/>
          <p:nvPr/>
        </p:nvPicPr>
        <p:blipFill>
          <a:blip r:embed="rId1"/>
          <a:stretch/>
        </p:blipFill>
        <p:spPr>
          <a:xfrm>
            <a:off x="1792440" y="4267080"/>
            <a:ext cx="6516360" cy="1249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1087560" y="124920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0066"/>
                </a:solidFill>
                <a:latin typeface="Arial Black"/>
                <a:ea typeface="Arial"/>
              </a:rPr>
              <a:t> 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 algn="ctr">
              <a:lnSpc>
                <a:spcPct val="140000"/>
              </a:lnSpc>
              <a:spcBef>
                <a:spcPts val="8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ff"/>
                </a:solidFill>
                <a:latin typeface="Times New Roman"/>
                <a:ea typeface="Arial"/>
              </a:rPr>
              <a:t>Родительское собрание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 algn="ctr">
              <a:lnSpc>
                <a:spcPct val="140000"/>
              </a:lnSpc>
              <a:spcBef>
                <a:spcPts val="8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ff"/>
                </a:solidFill>
                <a:latin typeface="Times New Roman"/>
                <a:ea typeface="Arial"/>
              </a:rPr>
              <a:t>«Современные здоровьесберегающие 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 algn="ctr">
              <a:lnSpc>
                <a:spcPct val="140000"/>
              </a:lnSpc>
              <a:spcBef>
                <a:spcPts val="8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ff"/>
                </a:solidFill>
                <a:latin typeface="Times New Roman"/>
                <a:ea typeface="Arial"/>
              </a:rPr>
              <a:t>технологии в детском саду»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324000" y="458136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езентацию подготовила воспита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улатова Светлана С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"/>
          <p:cNvSpPr/>
          <p:nvPr/>
        </p:nvSpPr>
        <p:spPr>
          <a:xfrm>
            <a:off x="1206360" y="511200"/>
            <a:ext cx="713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дошкольное 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тский сад № 43 р.п. Заветы Ильич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ветско-Гаванского района Хабаров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Rectangle 2" descr=""/>
          <p:cNvPicPr/>
          <p:nvPr/>
        </p:nvPicPr>
        <p:blipFill>
          <a:blip r:embed="rId1"/>
          <a:stretch/>
        </p:blipFill>
        <p:spPr>
          <a:xfrm>
            <a:off x="901800" y="725400"/>
            <a:ext cx="7858080" cy="1170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1547280" y="1934640"/>
            <a:ext cx="75963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12745"/>
                </a:solidFill>
                <a:latin typeface="Times New Roman"/>
              </a:rPr>
              <a:t> </a:t>
            </a:r>
            <a:r>
              <a:rPr b="1" i="1" lang="ru-RU" sz="2200" spc="-1" strike="noStrike">
                <a:solidFill>
                  <a:srgbClr val="212745"/>
                </a:solidFill>
                <a:latin typeface="Times New Roman"/>
              </a:rPr>
              <a:t>Улучшает циркуляцию крови и внутриглазной жидкости глаз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12745"/>
                </a:solidFill>
                <a:latin typeface="Times New Roman"/>
              </a:rPr>
              <a:t> </a:t>
            </a:r>
            <a:r>
              <a:rPr b="1" i="1" lang="ru-RU" sz="2200" spc="-1" strike="noStrike">
                <a:solidFill>
                  <a:srgbClr val="212745"/>
                </a:solidFill>
                <a:latin typeface="Times New Roman"/>
              </a:rPr>
              <a:t>Укрепляет мышцы глаз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12745"/>
                </a:solidFill>
                <a:latin typeface="Times New Roman"/>
              </a:rPr>
              <a:t> </a:t>
            </a:r>
            <a:r>
              <a:rPr b="1" i="1" lang="ru-RU" sz="2200" spc="-1" strike="noStrike">
                <a:solidFill>
                  <a:srgbClr val="212745"/>
                </a:solidFill>
                <a:latin typeface="Times New Roman"/>
              </a:rPr>
              <a:t>Улучшает аккомодацию (это способность глаза человека к хорошему качеству зрения на разных расстояниях)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 advTm="2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Rectangle 2" descr=""/>
          <p:cNvPicPr/>
          <p:nvPr/>
        </p:nvPicPr>
        <p:blipFill>
          <a:blip r:embed="rId1"/>
          <a:stretch/>
        </p:blipFill>
        <p:spPr>
          <a:xfrm>
            <a:off x="609480" y="792000"/>
            <a:ext cx="8077320" cy="12448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900000" y="1988640"/>
            <a:ext cx="89647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12745"/>
                </a:solidFill>
                <a:latin typeface="Times New Roman"/>
              </a:rPr>
              <a:t>Повышает иммунитет детей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12745"/>
                </a:solidFill>
                <a:latin typeface="Times New Roman"/>
              </a:rPr>
              <a:t>Снимает напряжение и раздражительность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12745"/>
                </a:solidFill>
                <a:latin typeface="Times New Roman"/>
              </a:rPr>
              <a:t>Снимает головную боль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12745"/>
                </a:solidFill>
                <a:latin typeface="Times New Roman"/>
              </a:rPr>
              <a:t>Восстанавливает спокойное дыхание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 advTm="2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Rectangle 2" descr=""/>
          <p:cNvPicPr/>
          <p:nvPr/>
        </p:nvPicPr>
        <p:blipFill>
          <a:blip r:embed="rId1"/>
          <a:stretch/>
        </p:blipFill>
        <p:spPr>
          <a:xfrm>
            <a:off x="60480" y="152280"/>
            <a:ext cx="9138960" cy="63039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рямоугольник 2"/>
          <p:cNvSpPr/>
          <p:nvPr/>
        </p:nvSpPr>
        <p:spPr>
          <a:xfrm>
            <a:off x="1523880" y="260280"/>
            <a:ext cx="58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</a:rPr>
              <a:t>Десять золотых прав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</a:rPr>
              <a:t>здоровьесбере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3"/>
          <p:cNvSpPr/>
          <p:nvPr/>
        </p:nvSpPr>
        <p:spPr>
          <a:xfrm>
            <a:off x="971640" y="1268280"/>
            <a:ext cx="828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блюдайте режим дн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ращайте больше внимания на пит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льше двигайтес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ите в прохладной комна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гасите в себе гнев, дайте вырваться ему наруж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стоянно занимайтесь интеллектуальной деятельностью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ните прочь уныние и хандр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декватно реагируйте на все проявления своего организм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райтесь получать как можно больше положительных эмоци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елайте себе и окружающим только добр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Rectangle 2" descr=""/>
          <p:cNvPicPr/>
          <p:nvPr/>
        </p:nvPicPr>
        <p:blipFill>
          <a:blip r:embed="rId1"/>
          <a:stretch/>
        </p:blipFill>
        <p:spPr>
          <a:xfrm>
            <a:off x="426960" y="115920"/>
            <a:ext cx="8594640" cy="489420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3" descr="0_8cee6_95955ac5_orig.png"/>
          <p:cNvPicPr/>
          <p:nvPr/>
        </p:nvPicPr>
        <p:blipFill>
          <a:blip r:embed="rId2"/>
          <a:stretch/>
        </p:blipFill>
        <p:spPr>
          <a:xfrm>
            <a:off x="2050920" y="3538440"/>
            <a:ext cx="4681800" cy="29401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Заголовок 4"/>
          <p:cNvSpPr/>
          <p:nvPr/>
        </p:nvSpPr>
        <p:spPr>
          <a:xfrm>
            <a:off x="206280" y="163440"/>
            <a:ext cx="8937720" cy="63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«Прежде чем сделать ребенка умным,  сделай его здоровым и крепким»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                                                                             Жан-Жак Русс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755640" y="-18000"/>
            <a:ext cx="77724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180360" algn="ctr">
              <a:lnSpc>
                <a:spcPct val="100000"/>
              </a:lnSpc>
              <a:spcBef>
                <a:spcPts val="13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 algn="ctr">
              <a:lnSpc>
                <a:spcPct val="100000"/>
              </a:lnSpc>
              <a:spcBef>
                <a:spcPts val="22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Здоровьесберегающая технология </a:t>
            </a: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 algn="ctr">
              <a:lnSpc>
                <a:spcPct val="100000"/>
              </a:lnSpc>
              <a:spcBef>
                <a:spcPts val="22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 algn="ctr">
              <a:lnSpc>
                <a:spcPct val="100000"/>
              </a:lnSpc>
              <a:spcBef>
                <a:spcPts val="22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404040"/>
                </a:solidFill>
                <a:latin typeface="Times New Roman"/>
              </a:rPr>
              <a:t>это система мер, включающая взаимосвязь и взаимодействие всех факторов образовательной среды, направленных на сохранение здоровья ребенка на всех этапах его обучения и развития.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 advTm="2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Rectangle 2" descr=""/>
          <p:cNvPicPr/>
          <p:nvPr/>
        </p:nvPicPr>
        <p:blipFill>
          <a:blip r:embed="rId1"/>
          <a:stretch/>
        </p:blipFill>
        <p:spPr>
          <a:xfrm>
            <a:off x="1006560" y="426960"/>
            <a:ext cx="7991280" cy="1420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887400" y="18824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imes New Roman"/>
              </a:rPr>
              <a:t>сохранение здоровья детей и повышение двигательной активности и умственной работоспособности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imes New Roman"/>
              </a:rPr>
              <a:t>создание адекватных условий для развития, обучения, оздоровления детей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imes New Roman"/>
              </a:rPr>
              <a:t>создание положительного эмоционального настроя и снятие психоэмоционального напряжения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 advTm="2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103320" y="30240"/>
            <a:ext cx="8467560" cy="72612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3371760" y="3114720"/>
            <a:ext cx="2889360" cy="787320"/>
          </a:xfrm>
          <a:prstGeom prst="rect">
            <a:avLst/>
          </a:prstGeom>
          <a:ln w="0">
            <a:noFill/>
          </a:ln>
        </p:spPr>
      </p:pic>
      <p:sp>
        <p:nvSpPr>
          <p:cNvPr id="231" name="Овал 2"/>
          <p:cNvSpPr/>
          <p:nvPr/>
        </p:nvSpPr>
        <p:spPr>
          <a:xfrm>
            <a:off x="539640" y="2666880"/>
            <a:ext cx="2106720" cy="161928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Trebuchet MS"/>
              </a:rPr>
              <a:t>Бодрящая гимнас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Овал 3"/>
          <p:cNvSpPr/>
          <p:nvPr/>
        </p:nvSpPr>
        <p:spPr>
          <a:xfrm>
            <a:off x="6786720" y="2797200"/>
            <a:ext cx="2124000" cy="1652400"/>
          </a:xfrm>
          <a:prstGeom prst="ellipse">
            <a:avLst/>
          </a:prstGeom>
          <a:solidFill>
            <a:srgbClr val="00b05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rebuchet MS"/>
              </a:rPr>
              <a:t>Гимнастика для  гла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Овал 4"/>
          <p:cNvSpPr/>
          <p:nvPr/>
        </p:nvSpPr>
        <p:spPr>
          <a:xfrm>
            <a:off x="5148360" y="4506840"/>
            <a:ext cx="2125440" cy="1636920"/>
          </a:xfrm>
          <a:prstGeom prst="ellipse">
            <a:avLst/>
          </a:prstGeom>
          <a:solidFill>
            <a:srgbClr val="9ee0f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12745"/>
                </a:solidFill>
                <a:latin typeface="Trebuchet MS"/>
              </a:rPr>
              <a:t>Дыхательная гимнаст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Овал 5"/>
          <p:cNvSpPr/>
          <p:nvPr/>
        </p:nvSpPr>
        <p:spPr>
          <a:xfrm>
            <a:off x="2292480" y="4449600"/>
            <a:ext cx="2158920" cy="166716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20"/>
          <p:cNvSpPr/>
          <p:nvPr/>
        </p:nvSpPr>
        <p:spPr>
          <a:xfrm>
            <a:off x="2592360" y="4910040"/>
            <a:ext cx="31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альчиковая гимна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Овал 14"/>
          <p:cNvSpPr/>
          <p:nvPr/>
        </p:nvSpPr>
        <p:spPr>
          <a:xfrm>
            <a:off x="4932360" y="984240"/>
            <a:ext cx="2122560" cy="165276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12745"/>
                </a:solidFill>
                <a:latin typeface="Trebuchet MS"/>
              </a:rPr>
              <a:t>Су-Дж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Овал 15"/>
          <p:cNvSpPr/>
          <p:nvPr/>
        </p:nvSpPr>
        <p:spPr>
          <a:xfrm>
            <a:off x="2371680" y="988920"/>
            <a:ext cx="2079720" cy="1652760"/>
          </a:xfrm>
          <a:prstGeom prst="ellipse">
            <a:avLst/>
          </a:prstGeom>
          <a:solidFill>
            <a:srgbClr val="f78d7c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12745"/>
                </a:solidFill>
                <a:latin typeface="Trebuchet MS"/>
              </a:rPr>
              <a:t>Музыкотера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Rectangle 5" descr=""/>
          <p:cNvPicPr/>
          <p:nvPr/>
        </p:nvPicPr>
        <p:blipFill>
          <a:blip r:embed="rId1"/>
          <a:stretch/>
        </p:blipFill>
        <p:spPr>
          <a:xfrm>
            <a:off x="1042920" y="281160"/>
            <a:ext cx="6516720" cy="19983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1187280" y="2060280"/>
            <a:ext cx="6778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12745"/>
                </a:solidFill>
                <a:latin typeface="Times New Roman"/>
              </a:rPr>
              <a:t>Способствует овладению навыкам мелкой моторик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12745"/>
                </a:solidFill>
                <a:latin typeface="Times New Roman"/>
              </a:rPr>
              <a:t>Помогает развивать речь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12745"/>
                </a:solidFill>
                <a:latin typeface="Times New Roman"/>
              </a:rPr>
              <a:t>Повышает работоспособность коры головного мозг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12745"/>
                </a:solidFill>
                <a:latin typeface="Times New Roman"/>
              </a:rPr>
              <a:t>Развивает психические способности: мышление, память, воображени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12745"/>
                </a:solidFill>
                <a:latin typeface="Times New Roman"/>
              </a:rPr>
              <a:t>Снимает тревожность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 advTm="2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Rectangle 2" descr=""/>
          <p:cNvPicPr/>
          <p:nvPr/>
        </p:nvPicPr>
        <p:blipFill>
          <a:blip r:embed="rId1"/>
          <a:stretch/>
        </p:blipFill>
        <p:spPr>
          <a:xfrm>
            <a:off x="1262160" y="212760"/>
            <a:ext cx="6510240" cy="19940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611280" y="1906200"/>
            <a:ext cx="807408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12745"/>
                </a:solidFill>
                <a:latin typeface="Times New Roman"/>
              </a:rPr>
              <a:t>Положительно влияет на обменные процессы, играющие важную роль в кровоснабжении, в том числе и легочной ткани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12745"/>
                </a:solidFill>
                <a:latin typeface="Times New Roman"/>
              </a:rPr>
              <a:t> </a:t>
            </a:r>
            <a:r>
              <a:rPr b="1" i="1" lang="ru-RU" sz="2200" spc="-1" strike="noStrike">
                <a:solidFill>
                  <a:srgbClr val="212745"/>
                </a:solidFill>
                <a:latin typeface="Times New Roman"/>
              </a:rPr>
              <a:t>Улучшает дренажную функцию бронхов; - восстанавливает нарушенное носовое дыхание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12745"/>
                </a:solidFill>
                <a:latin typeface="Times New Roman"/>
              </a:rPr>
              <a:t>Способствует восстановлению нормального крово - и лимфоснабжения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12745"/>
                </a:solidFill>
                <a:latin typeface="Times New Roman"/>
              </a:rPr>
              <a:t> </a:t>
            </a:r>
            <a:r>
              <a:rPr b="1" i="1" lang="ru-RU" sz="2200" spc="-1" strike="noStrike">
                <a:solidFill>
                  <a:srgbClr val="212745"/>
                </a:solidFill>
                <a:latin typeface="Times New Roman"/>
              </a:rPr>
              <a:t>Повышает общую сопротивляемость организма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 advTm="2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2" descr=""/>
          <p:cNvPicPr/>
          <p:nvPr/>
        </p:nvPicPr>
        <p:blipFill>
          <a:blip r:embed="rId1"/>
          <a:stretch/>
        </p:blipFill>
        <p:spPr>
          <a:xfrm>
            <a:off x="828720" y="219240"/>
            <a:ext cx="7705800" cy="12380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539280" y="1699920"/>
            <a:ext cx="850428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12745"/>
                </a:solidFill>
                <a:latin typeface="Times New Roman"/>
              </a:rPr>
              <a:t>Воздействует на биологически активные точки организма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12745"/>
                </a:solidFill>
                <a:latin typeface="Times New Roman"/>
              </a:rPr>
              <a:t>Стимулирует речевые зоны коры головного мозга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12745"/>
                </a:solidFill>
                <a:latin typeface="Times New Roman"/>
              </a:rPr>
              <a:t>Способствует лечению внутренних органов, нормализует работу организма в целом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12745"/>
                </a:solidFill>
                <a:latin typeface="Times New Roman"/>
              </a:rPr>
              <a:t>Развивает мелкую моторику рук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12745"/>
                </a:solidFill>
                <a:latin typeface="Times New Roman"/>
              </a:rPr>
              <a:t>Развивает память, внимание, связную речь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 advTm="2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0:20:44Z</dcterms:created>
  <dc:creator>side</dc:creator>
  <dc:description/>
  <dc:language>en-US</dc:language>
  <cp:lastModifiedBy>Tasha</cp:lastModifiedBy>
  <dcterms:modified xsi:type="dcterms:W3CDTF">2023-07-10T05:23:19Z</dcterms:modified>
  <cp:revision>53</cp:revision>
  <dc:subject/>
  <dc:title>Your Title Here…</dc:title>
</cp:coreProperties>
</file>