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455-7B9C-426D-AA6B-0575138BB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08F9-FEF4-4356-9720-6A521FCE1D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38E-FC9E-43AF-8ADD-3CF1FB98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7C7-379A-4137-ABB4-08B14F8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B14-C007-40CA-875D-C9C45E37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011-275D-4ED7-97D2-2A2AF6F1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BA79-5906-4E71-952D-BFB7945C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7FD-51DC-417D-AB06-AEEF7E18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6CFB-B55F-4E97-A715-CCD4A027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3F9-38D4-4F57-805D-D650E915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EA5F-02D2-487F-B5BD-A65859F5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75F-84F6-4EAA-9D99-6ED05AAC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4408-06C7-4E1D-8118-4F85A11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55E-4306-4C48-86D6-F3689E5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2697-E301-448F-9F30-927420F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E28A-5F55-4A12-90C8-F640DD3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F9F-0E9E-4B79-AE6E-7F649550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795-8956-427E-BBD5-BFF3A1BC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A961-4ECA-4821-A3DB-E48F24BD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5091-C6F7-467D-B61A-5DACD985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54CA-48CB-4243-847C-AB8F236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5A80-0067-4C5C-993D-4FDEA600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E8D4-F73C-4C42-9AEA-5AA24D00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DBBB-2791-4DAA-BD10-98A8D877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0D2-A172-4974-A09F-4B2D9315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041C-608B-4497-A339-A23B7E7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529D-B309-40DF-89EA-018D57E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7861-D3A9-40CD-8EC1-DB22FFE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6E602-FBB6-43BD-952A-33D84BF0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A281-A2AF-4D48-9B9C-8AB6630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BAC0-CDDB-44AD-8EC9-34724EC4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F4037-4992-4B88-B3C4-C5DB5E73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3084-38F1-432E-933E-4591DAD5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161D-3475-464E-A701-764FD591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5136F-9CC6-4C0B-8C5E-DA2214E5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B90-5A9E-491C-B434-DF7AD5F1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3459-BE0C-483C-8944-FD603DE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4E5C-1995-42E5-89E1-1BE75470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30669-70A4-4395-96DA-CD30F854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06B1-7F99-49CE-8BDB-C606E1FC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A472E-95E3-4647-B627-5B1CA4DF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10A1-6335-4190-BC99-7B39D04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25D7-6E40-4FD9-8712-73A28E29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3EEF-9B22-48A4-8967-7334D85A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AF246-E25A-40D9-A712-694E05CE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88F-508E-47DB-AC60-92CE27C6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941-9B6F-4BD9-98F8-8C3899F3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355-977A-4C78-B92B-CDB1ACE9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52E-0676-43EA-8C87-DFC2E21C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DBD-B4B6-41B1-A753-1A591670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8692-36C8-4922-96DE-13D80484792A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B78-E540-464D-AF1E-30D26D39AAB8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630F-1013-4C14-8943-EBB204225547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8E2-055D-47B4-96DA-52829E7C474E}" type="slidenum">
              <a:rPr b="1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1792440" y="4267080"/>
            <a:ext cx="6516360" cy="1249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1087560" y="1249200"/>
            <a:ext cx="770400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Родительское собрание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«Современные здоровьесберегающие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 algn="ctr">
              <a:lnSpc>
                <a:spcPct val="140000"/>
              </a:lnSpc>
              <a:spcBef>
                <a:spcPts val="8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 в детском саду»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24000" y="4581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зентацию подготовила 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лат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206360" y="511200"/>
            <a:ext cx="713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ский сад № 43 р.п. Заветы Ильи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о-Гаванского района Хабаров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901800" y="725400"/>
            <a:ext cx="7858080" cy="1170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547280" y="1934640"/>
            <a:ext cx="7596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крепляет мышцы глаз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609480" y="792000"/>
            <a:ext cx="8077320" cy="1244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900000" y="1988640"/>
            <a:ext cx="8964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138960" cy="6303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2"/>
          <p:cNvSpPr/>
          <p:nvPr/>
        </p:nvSpPr>
        <p:spPr>
          <a:xfrm>
            <a:off x="1523880" y="2602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Десять золотых прав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здоровьесбере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71640" y="1268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людайте режим дн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щайте больше внимания на пит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льше двигайте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те в прохладной комна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гасите в себе гнев, дайте вырваться ему нару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оянно занимайтесь интеллектуальной деятельность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ните прочь уныние и хандр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екватно реагируйте на все проявления своего организ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райтесь получать как можно больше положительных эмоц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лайте себе и окружающим только доб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594640" cy="48942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3" descr="0_8cee6_95955ac5_orig.png"/>
          <p:cNvPicPr/>
          <p:nvPr/>
        </p:nvPicPr>
        <p:blipFill>
          <a:blip r:embed="rId2"/>
          <a:stretch/>
        </p:blipFill>
        <p:spPr>
          <a:xfrm>
            <a:off x="2050920" y="3538440"/>
            <a:ext cx="4681800" cy="2940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4"/>
          <p:cNvSpPr/>
          <p:nvPr/>
        </p:nvSpPr>
        <p:spPr>
          <a:xfrm>
            <a:off x="206280" y="163440"/>
            <a:ext cx="893772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«Прежде чем сделать ребенка умным,  сделай его здоровым и крепким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Жан-Жак Рус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640" y="-1800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 algn="ctr">
              <a:lnSpc>
                <a:spcPct val="100000"/>
              </a:lnSpc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сберегающая технология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 algn="ctr">
              <a:lnSpc>
                <a:spcPct val="100000"/>
              </a:lnSpc>
              <a:spcBef>
                <a:spcPts val="22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0404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006560" y="426960"/>
            <a:ext cx="7991280" cy="142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87400" y="1882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103320" y="30240"/>
            <a:ext cx="8467560" cy="7261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371760" y="3114720"/>
            <a:ext cx="2889360" cy="787320"/>
          </a:xfrm>
          <a:prstGeom prst="rect">
            <a:avLst/>
          </a:prstGeom>
          <a:ln w="0">
            <a:noFill/>
          </a:ln>
        </p:spPr>
      </p:pic>
      <p:sp>
        <p:nvSpPr>
          <p:cNvPr id="231" name="Овал 2"/>
          <p:cNvSpPr/>
          <p:nvPr/>
        </p:nvSpPr>
        <p:spPr>
          <a:xfrm>
            <a:off x="539640" y="2666880"/>
            <a:ext cx="2106720" cy="161928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rebuchet MS"/>
              </a:rPr>
              <a:t>Бодряща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3"/>
          <p:cNvSpPr/>
          <p:nvPr/>
        </p:nvSpPr>
        <p:spPr>
          <a:xfrm>
            <a:off x="6786720" y="2797200"/>
            <a:ext cx="2124000" cy="1652400"/>
          </a:xfrm>
          <a:prstGeom prst="ellipse">
            <a:avLst/>
          </a:prstGeom>
          <a:solidFill>
            <a:srgbClr val="00b05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rebuchet MS"/>
              </a:rPr>
              <a:t>Гимнастика для  г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4"/>
          <p:cNvSpPr/>
          <p:nvPr/>
        </p:nvSpPr>
        <p:spPr>
          <a:xfrm>
            <a:off x="5148360" y="4506840"/>
            <a:ext cx="2125440" cy="1636920"/>
          </a:xfrm>
          <a:prstGeom prst="ellipse">
            <a:avLst/>
          </a:prstGeom>
          <a:solidFill>
            <a:srgbClr val="9ee0f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12745"/>
                </a:solidFill>
                <a:latin typeface="Trebuchet MS"/>
              </a:rPr>
              <a:t>Дыхательная гимна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5"/>
          <p:cNvSpPr/>
          <p:nvPr/>
        </p:nvSpPr>
        <p:spPr>
          <a:xfrm>
            <a:off x="2292480" y="4449600"/>
            <a:ext cx="2158920" cy="16671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2592360" y="491004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14"/>
          <p:cNvSpPr/>
          <p:nvPr/>
        </p:nvSpPr>
        <p:spPr>
          <a:xfrm>
            <a:off x="4932360" y="984240"/>
            <a:ext cx="2122560" cy="165276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rebuchet MS"/>
              </a:rPr>
              <a:t>Су-Д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15"/>
          <p:cNvSpPr/>
          <p:nvPr/>
        </p:nvSpPr>
        <p:spPr>
          <a:xfrm>
            <a:off x="2371680" y="988920"/>
            <a:ext cx="2079720" cy="1652760"/>
          </a:xfrm>
          <a:prstGeom prst="ellipse">
            <a:avLst/>
          </a:prstGeom>
          <a:solidFill>
            <a:srgbClr val="f78d7c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2745"/>
                </a:solidFill>
                <a:latin typeface="Trebuchet MS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5" descr=""/>
          <p:cNvPicPr/>
          <p:nvPr/>
        </p:nvPicPr>
        <p:blipFill>
          <a:blip r:embed="rId1"/>
          <a:stretch/>
        </p:blipFill>
        <p:spPr>
          <a:xfrm>
            <a:off x="1042920" y="281160"/>
            <a:ext cx="6516720" cy="1998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87280" y="2060280"/>
            <a:ext cx="6778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12745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1262160" y="212760"/>
            <a:ext cx="6510240" cy="1994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611280" y="1906200"/>
            <a:ext cx="80740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7705800" cy="1238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9280" y="1699920"/>
            <a:ext cx="85042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12745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 advTm="2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Tasha</cp:lastModifiedBy>
  <dcterms:modified xsi:type="dcterms:W3CDTF">2023-07-10T05:23:19Z</dcterms:modified>
  <cp:revision>53</cp:revision>
  <dc:subject/>
  <dc:title>Your Title Here…</dc:title>
</cp:coreProperties>
</file>