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A13-7F12-4495-820A-E09B7903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50D-CEBA-4FBD-B1D9-788F983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A9182-D639-4289-B2E1-EEE9C48E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C06F0-41EC-4DDB-967E-2AFCE69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12CBE-8F8D-4B7F-9790-90EC135C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3781-A7A3-424C-8777-0CEAE12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4E21-92F8-452C-B64C-D8E2F91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C1660-656D-49A4-99B4-1BF598C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8962-479D-4266-B28D-C189F2B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2A52A-C259-453E-A2CA-9F6402D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01E94-89B1-4593-B165-ABBB4C42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440-CA4F-4E1A-A4F4-4A0DABC3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FF1-9127-492A-BDFB-15E8A9AF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AB978-3444-46F4-B3B1-72388046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A8D2-4CE4-4C71-A715-2BCC8FA5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1BBA3-82A6-4D49-BFBA-F7BCBB4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BC57-8BE6-47FF-AE92-C1B9EDC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49BCF-50A2-413F-AAE7-DEB6686F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0D230-0353-4EF5-83B5-195BF08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E80F-0589-429C-981F-368FFEF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B47-87C6-4380-9438-B2518EF6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A8A5-1204-4018-BCCF-6D6A35E0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C424-CC1E-491B-B29D-5EF6864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F45B-F0CD-4CB2-927E-90E2991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B2005-8709-4F77-A717-E8A97BDD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DAEA2-9FE8-4698-A5F3-210AF44E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189E6-DDA4-428C-8A12-FEFB187C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DAF80-8350-4C64-B2C5-60B577DE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88D46-D798-481B-B9DE-1E6FBC7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BDFEB-210C-441E-B1AE-5399CC1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5E024-33BE-47C6-8640-BEAF2790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B8D-B53D-4A25-8EF2-39E619C7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F7B59-4ED3-4789-BBF9-15BD9D3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ED0BA-79B3-4D6F-ABC6-B2908E7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8B451-798F-49F2-AA71-57539853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D49A4-A1C0-44C1-AF0D-7587E44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6CCE7-DA3F-41C8-BF04-C3E03BF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3F6CF-B8FC-4906-9DD7-5EFD441E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12D93-A6D1-41BF-A485-8B627ACF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3589-C8FA-4A99-8993-4589915B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B9CF-8372-4773-B1A2-69FBFEB4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1C9B-26B7-4BD1-A72F-8765471B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0C1-E17D-4CAE-8DB8-93293818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CD10-DDF6-4F74-B4BC-6084E79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9EF8-F963-460E-B783-711C3BF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CCC0-D247-46EC-AA06-15DAC2F0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0800-9A49-4B88-A091-3C30A72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464E-20AB-433F-9D02-0CCEDAB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28A1-EA27-4914-A58D-C65B3DE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066E-D209-4C4D-B59D-C7E642C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CB12-7976-4FC1-B946-48569D8E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C58E-57BF-431E-B39C-9A8B90A7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E563-CB27-49A4-8249-6232473B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6EA-D620-4447-B810-9B28C27D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E665-4702-4D68-B55F-E7205D5E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1B49-40FE-4F19-8500-31E1D08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573F-41F8-4535-BE31-0AA2ABC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C4F2-6CB9-41C3-8337-08AB32B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5516C-2BB3-4A4D-9410-5196AF8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BA82-A1C4-4142-8CB8-4FB7984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BF48-6654-4E9F-A8D7-69B2EB7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A0FC-316D-4EE2-BA98-12F9985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A84B-24F7-4368-BCDB-0ED6DAB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D683-E283-4E90-A442-FC36079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901-1403-41D5-BA0B-8BF7C21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5C32-AA9A-4940-AD65-008855D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953B-7A16-4E89-B793-7962C20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3EF7-73C9-41E7-9C6A-EC735D01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4C41-D3D4-4A21-B2F3-778A41C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18F8-9407-4EB0-B73F-783F1F8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8BF97-6B69-45FD-85C6-4C6EDED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F125-A929-4F9D-90C8-6C316BD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1AF7-74DA-41FE-8566-B0F84C9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FB43-79DE-4447-B5A5-E4257CE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B9D8-DD1F-40B8-B23A-91262ED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3F6-D65E-4AFB-B9E3-05F9272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99AB-4BC6-4670-AFE4-194D609D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2E44F-34AD-42B8-BC4C-115F05EE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4D54-37F8-4AA4-BF12-34005D35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2B0F-0369-4F42-A290-B825BFD9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1FDD-9CEF-48E5-B76B-2DCD556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E18D5-0E6E-4733-B7DD-C253320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7F9A-70B0-4774-8A2A-1E1B7C3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2EB6-DBB1-4220-AB18-F33CB2B3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F9C81-82C0-4E01-9302-C43BF7C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8B93-9DEE-4122-8FC1-530A0ED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BDA-9749-41D2-9F2E-95249B7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F13D-0D5C-4EFE-B51A-5A22E20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8FA7-906F-462C-8F4F-87E04FA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DC4C-3EB9-4031-8145-E69EA34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C48E-EFA5-4397-8464-160FBEC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C2F6-4469-4EF8-9426-9B659DEE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E103-37CE-4851-939C-DEC6989E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9C66-5036-4E6F-B622-3E57CCC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FE01-27D7-4DF0-8633-6D75085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26A0-80EF-45D4-8F10-D181036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F016-3EC2-46CC-89D5-4EA79532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95E-9881-44A1-93F7-DB41DAE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B799-042F-4BD5-B87D-F67388D8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2E269-3168-4830-A007-12306C50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3530-D613-4BD0-AB82-705F7B0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3B78-9679-4153-85C7-9CD4CB7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B19F-3ADF-4022-BE93-D72D5B1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E2AC6-DAB9-445D-AFE5-9A10F78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83E3-6D75-43D7-882B-5F9580F0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497AA-0364-4BA4-9D3F-C2343619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44AA2-BA8A-4A2D-8471-4ECFE71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D9E7-1D57-45C8-B251-63454FB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485-8DAA-41BD-A00D-F1C53915BE4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8A0-0B45-4CF8-A1DB-857544BDC8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A3F-1562-4861-BF69-BCB8B67FB6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6C6-5AC6-4914-BFEE-7B80ECE8A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420-EBEE-432A-9663-4F49AEC6F0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469-E769-4AD9-9D05-29B2D698E4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28F7-200A-4FE0-BF11-F89B039345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D16-E2E9-4654-8A5A-A59ED64351A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5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6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F560-8DB5-4F8B-9985-DC63C28C88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я числительное как часть реч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льянова Е.В., учитель русского языка и литературы МАОУ СОШ №45 г. Златоус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179280" y="3290760"/>
            <a:ext cx="382752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часть речи любят взросл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8280" y="1341000"/>
            <a:ext cx="5938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Взрослые очень        любят цифры.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0"/>
          <p:cNvPicPr/>
          <p:nvPr/>
        </p:nvPicPr>
        <p:blipFill>
          <a:blip r:embed="rId1"/>
          <a:stretch/>
        </p:blipFill>
        <p:spPr>
          <a:xfrm>
            <a:off x="4356000" y="2349360"/>
            <a:ext cx="4440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изучения темы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,Имя числительное,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Грамматическое значение.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орфолог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постоя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непостоянные(изменяемость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интаксическая 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сочетаем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член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отребление в реч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cuments"/>
          <p:cNvSpPr/>
          <p:nvPr/>
        </p:nvSpPr>
        <p:spPr>
          <a:xfrm>
            <a:off x="4500720" y="3789360"/>
            <a:ext cx="3844800" cy="2489040"/>
          </a:xfrm>
          <a:custGeom>
            <a:avLst/>
            <a:gdLst>
              <a:gd name="textAreaLeft" fmla="*/ 292680 w 3844800"/>
              <a:gd name="textAreaRight" fmla="*/ 2940840 w 3844800"/>
              <a:gd name="textAreaTop" fmla="*/ 480600 h 2489040"/>
              <a:gd name="textAreaBottom" fmla="*/ 1995120 h 24890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148360" y="458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шите в тетра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частоте употребления в речи числительное занимает 8 – 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всего употребляются числительные: один, два, три, четыре, пять, шесть, семь, десять. От них образовано много слов други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ай имена числительные от других слов, связанных с понятием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ис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 пята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щ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ис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тро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WordArt 4"/>
          <p:cNvSpPr txBox="1"/>
          <p:nvPr/>
        </p:nvSpPr>
        <p:spPr>
          <a:xfrm>
            <a:off x="6948360" y="4221000"/>
            <a:ext cx="172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!!!</a:t>
            </a:r>
            <a:endParaRPr b="1" i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539640" y="4508640"/>
            <a:ext cx="16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894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84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мя числительно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часть речи, которая обозначает отвлечённое число (5, 13), количество предметов (пять книг), их порядок при счёте (первый ученик) и отвечает на вопросы сколько? Какой? Котор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мена числитель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тыреста одиннадц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? который? седьм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ухсот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ыреста одиннадца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 flipH="1">
            <a:off x="2484360" y="119700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>
            <a:off x="3995640" y="1197000"/>
            <a:ext cx="180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Picture 11" descr="AG00021_"/>
          <p:cNvPicPr/>
          <p:nvPr/>
        </p:nvPicPr>
        <p:blipFill>
          <a:blip r:embed="rId1"/>
          <a:stretch/>
        </p:blipFill>
        <p:spPr>
          <a:xfrm>
            <a:off x="1547640" y="4941720"/>
            <a:ext cx="1257480" cy="1729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AG00174_"/>
          <p:cNvPicPr/>
          <p:nvPr/>
        </p:nvPicPr>
        <p:blipFill>
          <a:blip r:embed="rId2"/>
          <a:stretch/>
        </p:blipFill>
        <p:spPr>
          <a:xfrm>
            <a:off x="615636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зменяютс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д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ё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ё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ebf25a"/>
          </a:solidFill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д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м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ар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7"/>
          <p:cNvSpPr/>
          <p:nvPr/>
        </p:nvSpPr>
        <p:spPr>
          <a:xfrm flipH="1">
            <a:off x="2916000" y="1125360"/>
            <a:ext cx="115092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4572000" y="1125360"/>
            <a:ext cx="2087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таксическая ро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Дважды_Два_-_Четыре.mp3" descr=""/>
          <p:cNvPicPr/>
          <p:nvPr/>
        </p:nvPicPr>
        <p:blipFill>
          <a:blip r:embed="rId1"/>
          <a:stretch/>
        </p:blipFill>
        <p:spPr>
          <a:xfrm>
            <a:off x="6967440" y="928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250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Два брат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тдыхали в дере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ых 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двух брать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 удачным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05520" y="2565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вернули после </a:t>
            </a:r>
            <a:r>
              <a:rPr b="0" lang="ru-RU" sz="2800" spc="-1" strike="noStrike">
                <a:solidFill>
                  <a:srgbClr val="cccce6"/>
                </a:solidFill>
                <a:latin typeface="Arial"/>
              </a:rPr>
              <a:t>треть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"/>
          <p:cNvSpPr/>
          <p:nvPr/>
        </p:nvSpPr>
        <p:spPr>
          <a:xfrm flipH="1">
            <a:off x="2771280" y="105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4643280" y="1125360"/>
            <a:ext cx="1297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250920" y="184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ahoma"/>
              </a:rPr>
              <a:t>любой член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4643280" y="184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Picture 14" descr="BD00173_"/>
          <p:cNvPicPr/>
          <p:nvPr/>
        </p:nvPicPr>
        <p:blipFill>
          <a:blip r:embed="rId2"/>
          <a:stretch/>
        </p:blipFill>
        <p:spPr>
          <a:xfrm>
            <a:off x="4067280" y="4365720"/>
            <a:ext cx="1800000" cy="2276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852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75444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обойтись бы без 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ка точная мог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т во всяком деле ну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ы и с числительным будь друж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WordArt 5"/>
          <p:cNvSpPr txBox="1"/>
          <p:nvPr/>
        </p:nvSpPr>
        <p:spPr>
          <a:xfrm rot="19873200">
            <a:off x="468360" y="3500280"/>
            <a:ext cx="431964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345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6:40:38Z</dcterms:created>
  <dc:creator>Teacher</dc:creator>
  <dc:description/>
  <dc:language>en-US</dc:language>
  <cp:lastModifiedBy>Book</cp:lastModifiedBy>
  <dcterms:modified xsi:type="dcterms:W3CDTF">2023-07-10T18:19:22Z</dcterms:modified>
  <cp:revision>9</cp:revision>
  <dc:subject/>
  <dc:title>“Взрослые очень любят цифры.”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