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5.wmf" ContentType="image/x-wm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5FA1-AC8C-4B91-A068-C89D6C37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869-180B-4BA3-9DE7-2CF1A0C6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EBD06-3FC2-4611-953B-21238F9D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23500-09B6-4B0E-AA31-9945E895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6A855-08D4-4B86-A0A3-8F73E856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D8199-FC58-47A3-9234-E7A16157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62E2F-CA04-4A73-91FA-8F44A2AD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D6E90-CEEC-4E2E-8564-90F319B7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2B7E7-737F-4FEF-AEBF-A2271B66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F9FB7-6D24-4400-B9B0-46DA77E8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C448A-3685-4C76-9BDF-1F446A26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13D1-9529-476E-B026-18EB5006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852E-99EC-4349-BD42-039D8281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48115-C69F-4A8E-B5EF-FC6B8E80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9BB55-7543-4FBA-9B0B-CF0D43E1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FB7BB-5386-4FD8-82E3-32349067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3D853-0784-4D70-8D6E-70A80D16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41730-E3B3-4557-B8C5-1568D3C9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2F6AC-31F5-4703-AC37-274BF2F9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C5077-F495-4FDC-9645-0067F459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C8C-6545-4A28-BD9B-0066A0F3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5B51E-18AC-48FA-98E3-8F9E377C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A80A4-4DEE-40A5-9742-D3472659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38AE9-DBF3-484C-8800-423063DF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9E3A2-4BAF-4414-8200-33EF49FF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14494-3E1F-4CB0-A972-80CB4D1E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CFDAA-4E19-48BB-A8D2-8D82CA59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B22B2-F6CC-40D4-91A3-2BCDAF23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05DF4-81AC-4422-B97B-7EB15508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960AC-E3CF-419A-B98E-F4FEE19C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36A9F8-EE84-49E8-9CD6-C483355E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7399-37D3-48BE-94AD-49A3775D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12648-2A26-44FC-A76F-6E47E6CB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82B99F-6D8C-4391-AA82-70868C90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224DE-CB79-4A6B-8ED4-AAEFCED7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F2541-25F8-40D0-BCA4-474556FE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5C315-69D8-4BFD-ACEF-01F48D91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30381-B9AE-4854-BCF0-5A7A1B90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0F8EA-7CEB-48C1-95E6-24E58D28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46197-695A-493E-92B8-0CB27667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F4B70-7D85-47BE-AC56-71E7C0EA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67455-BE9B-4704-96AB-87DB2E17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D18E-4CDB-44CB-9042-07E8F5F7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058B7-3350-4C82-9042-98793660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2A79D-EFC2-4879-8BA8-4BFADF42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276ED-E4CF-4BC2-8E49-CF8DF800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34FF7-2B9A-4424-9843-146E4701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040B5-4A00-4167-B31E-2F1CACF5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5DB64-CFB8-471C-AD9C-09C1E557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CCAB7-0490-4BC9-B523-0446B116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CCAC3-B211-40BB-8F07-15D15DE9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3DF79-9D7C-4BB4-963D-F3F01E26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11BC5-8FDE-4223-BBF0-CECC812D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BE5-0C5A-450F-8D1D-F68D8217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0ECB2-59A9-4B28-8AAB-171E0608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E4BB4-4CEF-4C1B-88AD-502DACE8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B9FBD-C73C-4E05-BFA4-7B72CDB2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9497B-2CCD-45FB-8AEC-DFBCC84C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BCF5A-619F-40D2-AE4A-91CD9CE7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197B6-2794-4F89-B07F-779D9D6E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7BF32-3655-425C-9E8A-6C3350B8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81865-27CA-4613-B19F-D56559E5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25403-949B-463A-A093-579715E2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AD3D8-30E9-41AE-A108-EAAAFCBD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8FC-E752-4F66-9EC4-CC29CD7C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917AC-D124-49D4-A59B-6AC475EA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38F5E-D9F8-4002-B1E2-67021AF9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86275-5B82-49DE-BDD4-1AAFF38C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46AFD-1577-4863-B3CB-934D5EFE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D8817-5E79-4D95-82CC-66451A3B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3F769-6FC5-4D21-A0B2-9350139A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709A7-2917-4111-9E38-7EC90E72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68C88-068C-4CCB-BDDA-A653CFD7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A27FA-741B-4ABD-A5DA-3BDC7CEE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58A5B-3D07-42CF-A16D-D412D4F8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F39-B73F-4275-AC1A-16546DD5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4470B-3545-4B30-BC05-5EA1DEE3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C083A-0FA4-45F3-9EF4-B8342844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99CEE-52A4-4C25-8BCC-1DECD576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3013C-BF74-4010-9C65-A9103D73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B5B94-3CEC-401D-9023-9CA2FBAE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36146-B077-40AC-85B1-75321743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8A970-F205-4091-8AEB-34699C22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F584F-7E72-4965-9C02-A31472F7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97878-7BF6-422A-B870-9E4FAE1E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7CF1F-3713-45F3-8F17-A88E5536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823-28BB-4E8C-A5A4-621012F2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175DB-DDAD-47E0-8952-1E97658B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8EDCC-EE42-4005-ADCB-DA0C8CC3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A7DB5-0D0D-4AD4-9D98-892C577B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DD94C-E609-4D7F-9F6E-7A727DAB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03810-6C42-4378-93D0-D4FBA366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A29D9-D1FE-491A-91A3-467874A3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5D015-6047-4ADC-A428-0138EA29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5DAAC-F5B2-4EDE-8E02-CD832488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AA642-C161-46E3-BD5F-C4ED31C5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F3E7F-E7BE-467E-9893-5DFDE84A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BE5-B3CB-443E-80FA-DD566337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77B1A-13D9-4F72-86E5-E9F40F27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50479-B8CE-4C15-8DFB-90CF83CA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805FF-DD30-4941-A335-05196BA0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890FE-1F64-465F-A0F5-2D7074CC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95C48-3740-4FAD-9C2F-0F8008B6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2F896-D525-47E2-8290-A7005459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339C8-9E88-4195-9A61-1E7FA1D7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D6767-0E61-441C-87AF-C373DBD6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5B0D0-D8F8-4D7F-A62A-BC219A97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01CEA-28CC-425C-8AC5-0DDD54B4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3533-70AE-401E-9F4D-800FC21A1E3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4186-D1AB-4700-96EC-5E14FE2E67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3FC4-DCB4-4AC5-99BE-42D279A668E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9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5861-5089-40A9-B784-FC2CEAE1D0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EA6F-0BB7-4F24-8ED7-AA061BC65A7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A7CA-899F-4DD1-BA05-2DD3FE6209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1165-B5C4-4D58-A232-FECF733C05B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6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9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D442-9986-4113-98C8-B0CDB03E788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5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6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8BF9-F978-4384-BCCE-DBC7C14983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Имя числительное как часть реч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Ульянова Е.В., учитель русского языка и литературы МАОУ СОШ №45 г. Златоуст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179280" y="3290760"/>
            <a:ext cx="382752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ую часть речи любят взрослы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-8280" y="1341000"/>
            <a:ext cx="59389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5500" spc="-1" strike="noStrike">
                <a:solidFill>
                  <a:srgbClr val="000000"/>
                </a:solidFill>
                <a:latin typeface="Arial"/>
              </a:rPr>
              <a:t>Взрослые очень        любят цифры.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блемный </a:t>
            </a: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опро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4" descr="0"/>
          <p:cNvPicPr/>
          <p:nvPr/>
        </p:nvPicPr>
        <p:blipFill>
          <a:blip r:embed="rId1"/>
          <a:stretch/>
        </p:blipFill>
        <p:spPr>
          <a:xfrm>
            <a:off x="4356000" y="2349360"/>
            <a:ext cx="444024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 изучения темы 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,Имя числительное,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Грамматическое значение. Воп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Морфологические 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постоян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непостоянные(изменяемость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Синтаксическая функ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сочетаем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член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Образ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Правопис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Употребление в реч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Documents"/>
          <p:cNvSpPr/>
          <p:nvPr/>
        </p:nvSpPr>
        <p:spPr>
          <a:xfrm>
            <a:off x="4500720" y="3789360"/>
            <a:ext cx="3844800" cy="2489040"/>
          </a:xfrm>
          <a:custGeom>
            <a:avLst/>
            <a:gdLst>
              <a:gd name="textAreaLeft" fmla="*/ 292680 w 3844800"/>
              <a:gd name="textAreaRight" fmla="*/ 2940840 w 3844800"/>
              <a:gd name="textAreaTop" fmla="*/ 480600 h 2489040"/>
              <a:gd name="textAreaBottom" fmla="*/ 1995120 h 248904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5148360" y="4581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ишите в тетрад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0" y="188640"/>
            <a:ext cx="8820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частоте употребления в речи числительное занимает 8 – е ме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ще всего употребляются числительные: один, два, три, четыре, пять, шесть, семь, десять. От них образовано много слов других частей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ичай имена числительные от других слов, связанных с понятием чис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числ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-  пята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ущ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т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числ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утрои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WordArt 4"/>
          <p:cNvSpPr txBox="1"/>
          <p:nvPr/>
        </p:nvSpPr>
        <p:spPr>
          <a:xfrm>
            <a:off x="6948360" y="4221000"/>
            <a:ext cx="1727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!!!</a:t>
            </a:r>
            <a:endParaRPr b="1" i="1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0" name="WordArt 5"/>
          <p:cNvSpPr txBox="1"/>
          <p:nvPr/>
        </p:nvSpPr>
        <p:spPr>
          <a:xfrm>
            <a:off x="539640" y="4508640"/>
            <a:ext cx="1629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894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84836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мя числительно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часть речи, которая обозначает отвлечённое число (5, 13), количество предметов (пять книг), их порядок при счёте (первый ученик) и отвечает на вопросы сколько? Какой? Которы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мена числительн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м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в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тыреста одиннадц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ядков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? который? седьм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вухсот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ыреста одиннадцат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7"/>
          <p:cNvSpPr/>
          <p:nvPr/>
        </p:nvSpPr>
        <p:spPr>
          <a:xfrm flipH="1">
            <a:off x="2484360" y="1197000"/>
            <a:ext cx="1440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Line 8"/>
          <p:cNvSpPr/>
          <p:nvPr/>
        </p:nvSpPr>
        <p:spPr>
          <a:xfrm>
            <a:off x="3995640" y="1197000"/>
            <a:ext cx="1800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7" name="Picture 11" descr="AG00021_"/>
          <p:cNvPicPr/>
          <p:nvPr/>
        </p:nvPicPr>
        <p:blipFill>
          <a:blip r:embed="rId1"/>
          <a:stretch/>
        </p:blipFill>
        <p:spPr>
          <a:xfrm>
            <a:off x="1547640" y="4941720"/>
            <a:ext cx="1257480" cy="17290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2" descr="AG00174_"/>
          <p:cNvPicPr/>
          <p:nvPr/>
        </p:nvPicPr>
        <p:blipFill>
          <a:blip r:embed="rId2"/>
          <a:stretch/>
        </p:blipFill>
        <p:spPr>
          <a:xfrm>
            <a:off x="6156360" y="4581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Изменяютс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038480" cy="4530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де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етрад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ёх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етрад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ём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тетрадя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solidFill>
            <a:srgbClr val="ebf25a"/>
          </a:solidFill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де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ис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ть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ес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ть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его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с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ть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ему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ст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т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и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г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ть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ар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ть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ес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Line 7"/>
          <p:cNvSpPr/>
          <p:nvPr/>
        </p:nvSpPr>
        <p:spPr>
          <a:xfrm flipH="1">
            <a:off x="2916000" y="1125360"/>
            <a:ext cx="115092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Line 8"/>
          <p:cNvSpPr/>
          <p:nvPr/>
        </p:nvSpPr>
        <p:spPr>
          <a:xfrm>
            <a:off x="4572000" y="1125360"/>
            <a:ext cx="208764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таксическая рол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Дважды_Два_-_Четыре.mp3" descr=""/>
          <p:cNvPicPr/>
          <p:nvPr/>
        </p:nvPicPr>
        <p:blipFill>
          <a:blip r:embed="rId1"/>
          <a:stretch/>
        </p:blipFill>
        <p:spPr>
          <a:xfrm>
            <a:off x="6967440" y="9288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 txBox="1"/>
          <p:nvPr/>
        </p:nvSpPr>
        <p:spPr>
          <a:xfrm>
            <a:off x="2509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Два брат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отдыхали в дерев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ых </a:t>
            </a: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двух братье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ыл удачным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105520" y="2565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вернули после </a:t>
            </a:r>
            <a:r>
              <a:rPr b="0" lang="ru-RU" sz="2800" spc="-1" strike="noStrike">
                <a:solidFill>
                  <a:srgbClr val="cccce6"/>
                </a:solidFill>
                <a:latin typeface="Arial"/>
              </a:rPr>
              <a:t>третье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вор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5"/>
          <p:cNvSpPr/>
          <p:nvPr/>
        </p:nvSpPr>
        <p:spPr>
          <a:xfrm flipH="1">
            <a:off x="2771280" y="105264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Line 6"/>
          <p:cNvSpPr/>
          <p:nvPr/>
        </p:nvSpPr>
        <p:spPr>
          <a:xfrm>
            <a:off x="4643280" y="1125360"/>
            <a:ext cx="12970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250920" y="184464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Tahoma"/>
              </a:rPr>
              <a:t>любой член предло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Text Box 13"/>
          <p:cNvSpPr/>
          <p:nvPr/>
        </p:nvSpPr>
        <p:spPr>
          <a:xfrm>
            <a:off x="4643280" y="1844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Tahoma"/>
              </a:rPr>
              <a:t>определ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2" name="Picture 14" descr="BD00173_"/>
          <p:cNvPicPr/>
          <p:nvPr/>
        </p:nvPicPr>
        <p:blipFill>
          <a:blip r:embed="rId2"/>
          <a:stretch/>
        </p:blipFill>
        <p:spPr>
          <a:xfrm>
            <a:off x="4067280" y="4365720"/>
            <a:ext cx="1800000" cy="2276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78521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148000" y="1557360"/>
            <a:ext cx="3754440" cy="55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обойтись бы без чис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ука точная могл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чёт во всяком деле нуже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ы и с числительным будь друже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WordArt 5"/>
          <p:cNvSpPr txBox="1"/>
          <p:nvPr/>
        </p:nvSpPr>
        <p:spPr>
          <a:xfrm rot="19873200">
            <a:off x="468360" y="3500280"/>
            <a:ext cx="4319640" cy="194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345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6:40:38Z</dcterms:created>
  <dc:creator>Teacher</dc:creator>
  <dc:description/>
  <dc:language>en-US</dc:language>
  <cp:lastModifiedBy>Book</cp:lastModifiedBy>
  <dcterms:modified xsi:type="dcterms:W3CDTF">2023-07-10T18:19:22Z</dcterms:modified>
  <cp:revision>9</cp:revision>
  <dc:subject/>
  <dc:title>“Взрослые очень любят цифры.”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