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922A-54BC-46CD-9159-CA316D0C8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73B-BB56-4852-B483-A4951E974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21F-E69D-4A46-8959-3B874EBC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EFA-CD28-4C67-A38F-55968130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944-BA30-42ED-AD63-A101CA53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DE0-3E53-4722-8A21-CC932A76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BEE-3141-4CF3-9139-715627A3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7BA3-30E7-435D-BB6C-F765FCD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762-2CDE-499F-AF12-1F17290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626E-B35B-4F5A-BBBC-4CD8B8E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58FD-670E-4C83-9454-0B313096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9A26-DAFC-4088-A91E-25E4084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B27-93BE-4114-8044-9A7C745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376-06D4-4482-8A1D-A5ABB13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CDFE-90B6-42F4-9154-AD3EF8D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2782-3E5B-48DC-B314-737A9CB8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5B68-BDAA-4D12-8E8F-48B069B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A9F6-7D7E-425A-BC29-9EA77874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6EA7-9A6A-4572-BDBA-FB9C0E1F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9CD31-6A93-4CC6-9D34-220373FF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12817-6152-4B9B-9FF3-FAE3EDC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8148-E55E-4AD4-BDBA-A7C61128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F2A8F-4342-4D33-82B0-8E7F2B0E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E5558-CBD9-49D3-BC68-A17245EB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CF4-F1ED-4D8F-AABB-5AFFF18C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A30B-A5AB-40D3-8462-5543588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A20C-16F3-4AAA-892F-4B686B38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6B599-BCEE-4962-B54F-483B7DF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BB8BC-26D0-4CF4-95DD-56CB158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1E31D-2367-413C-A739-799810E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45A7-AD94-4B3D-B04F-80725736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64F86-B429-4350-91BD-117EB552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51D88-3142-4627-9275-C08CCE4E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10B63-C58B-445F-B52B-A4D9531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DA3E-69FC-4B62-9619-893F12F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9A3-D5A5-46C0-9906-496704F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D3E3A-0A0F-43BC-83BD-C1A3CC7A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FCA6-EC82-4B23-BDE3-41A65D9E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C8959-D975-4726-9837-7EFAE610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4A82-E4DE-4C3C-99B2-366C1D8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A324-AFC8-4317-B4DC-DA56869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5461-853C-46A0-BBA7-A680EEF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BA91-E74E-4349-812F-805ADF31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C953-41FE-4D95-A367-7F9517C7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11AA-CAD8-4607-8CDC-5A8D9B48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063-7C1E-4C25-8AF2-7F31031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356-82EE-43F7-899F-3BE5082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494-B608-4DA7-A4D8-1478F56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E8C-9F1B-4505-B0D7-4867DA1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801-F13D-4D1B-BB72-54BA8A4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4E3-9F0C-4440-A4E4-BC8A622CBB0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DF5C-C2A3-4093-A6A6-1ADF916C210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E95-21C6-4AFF-9D01-4D1A64A5D0E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590-7E39-48D9-B8EB-63B1B60A15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23920"/>
            <a:ext cx="6707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«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Использование здоровьесберегающих технологий в разных формах организации образовательного процесса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284720" y="443700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езентацию подготовила 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импу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http://player.myshared.ru/907614/data/images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1" descr="http://i48.fastpic.ru/big/2012/1202/ee/6daed3ba63b409ce3828678a912bdaee.jpg"/>
          <p:cNvPicPr/>
          <p:nvPr/>
        </p:nvPicPr>
        <p:blipFill>
          <a:blip r:embed="rId3"/>
          <a:srcRect l="0" t="3124" r="14003" b="6248"/>
          <a:stretch/>
        </p:blipFill>
        <p:spPr>
          <a:xfrm>
            <a:off x="755640" y="1844640"/>
            <a:ext cx="309564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538800" cy="4408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http://detsad199.ru/wp-content/uploads/510.jpg"/>
          <p:cNvPicPr/>
          <p:nvPr/>
        </p:nvPicPr>
        <p:blipFill>
          <a:blip r:embed="rId3"/>
          <a:stretch/>
        </p:blipFill>
        <p:spPr>
          <a:xfrm>
            <a:off x="5219640" y="1268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ttp://www.fondolove.com/bulkupload/wall-infantles3/Infantiles/Peque%20Arcoiris_800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151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41264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http://www.ahtubinsk-today.ru/media/k2/items/cache/db3d107162b44c7db7083361a15a2f1d_XL.jpg"/>
          <p:cNvPicPr/>
          <p:nvPr/>
        </p:nvPicPr>
        <p:blipFill>
          <a:blip r:embed="rId3"/>
          <a:stretch/>
        </p:blipFill>
        <p:spPr>
          <a:xfrm>
            <a:off x="4427640" y="1341360"/>
            <a:ext cx="4537080" cy="42483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http://player.myshared.ru/972863/data/images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9" descr="http://college.vzmakh.ru/lfk/21.jpg"/>
          <p:cNvPicPr/>
          <p:nvPr/>
        </p:nvPicPr>
        <p:blipFill>
          <a:blip r:embed="rId3"/>
          <a:srcRect l="5661" t="8328" r="7548" b="0"/>
          <a:stretch/>
        </p:blipFill>
        <p:spPr>
          <a:xfrm>
            <a:off x="1042920" y="2060640"/>
            <a:ext cx="331308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4038480" cy="4389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9" descr="http://d.mujer.hvimg.com/imagenes/salud/20120902121816.jpg"/>
          <p:cNvPicPr/>
          <p:nvPr/>
        </p:nvPicPr>
        <p:blipFill>
          <a:blip r:embed="rId3"/>
          <a:srcRect l="8912" t="18837" r="5375" b="2906"/>
          <a:stretch/>
        </p:blipFill>
        <p:spPr>
          <a:xfrm>
            <a:off x="826920" y="2276640"/>
            <a:ext cx="3457800" cy="3889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62828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http://vmest.ru/nuda/doshkolenij-vozrast-schastlivaya-pora-eto-vozrast-kotorij-hara/4.jpg"/>
          <p:cNvPicPr/>
          <p:nvPr/>
        </p:nvPicPr>
        <p:blipFill>
          <a:blip r:embed="rId3"/>
          <a:stretch/>
        </p:blipFill>
        <p:spPr>
          <a:xfrm>
            <a:off x="4643280" y="1125360"/>
            <a:ext cx="4176720" cy="5183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0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8920" y="53820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4280" y="1784160"/>
            <a:ext cx="35560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http://detsad25.dou21.ru/sites/detsad25.dou21.ru/files/u5/_dsc4429.jpg"/>
          <p:cNvPicPr/>
          <p:nvPr/>
        </p:nvPicPr>
        <p:blipFill>
          <a:blip r:embed="rId3"/>
          <a:srcRect l="0" t="4613" r="6154" b="0"/>
          <a:stretch/>
        </p:blipFill>
        <p:spPr>
          <a:xfrm>
            <a:off x="4284720" y="1844640"/>
            <a:ext cx="439092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0280" y="-603720"/>
            <a:ext cx="864252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62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ребенка превыше всего,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Богатство земли не заменит его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Здоровье не купишь, никто не продаст.</a:t>
            </a:r>
            <a:br>
              <a:rPr sz="4000"/>
            </a:br>
            <a:r>
              <a:rPr b="1" i="1" lang="ru-RU" sz="4000" spc="-1" strike="noStrike">
                <a:solidFill>
                  <a:srgbClr val="ff33cc"/>
                </a:solidFill>
                <a:latin typeface="Times New Roman"/>
              </a:rPr>
              <a:t>Его берегите, как сердце, как глаз!!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1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http://player.myshared.ru/450514/data/images/img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75564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33"/>
                </a:solidFill>
                <a:latin typeface="Times New Roman"/>
              </a:rPr>
              <a:t>«Детям совершенно так же, как и взрослым, хочется быть здоровыми и сильными, только дети не знают, что для этого надо делать. Объясни им, и они будут беречься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Times New Roman"/>
              </a:rPr>
              <a:t>Януш Корча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http://img-fotki.yandex.ru/get/6421/87902893.16/0_13c4c3_36f4594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img1.gtsstatic.com/wallpapers/645dd21fac99f63ddb5bffb37fbf4cc5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7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http://knu.znate.ru/pars_docs/refs/533/532694/532694_html_m63213bd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Бодрящ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8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st3.flashrolls.net/wallpaper/9d6/e972c725c58b051fbfb7b5261903763b_800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61560" y="1916280"/>
            <a:ext cx="8075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анятия в бассейн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fullsizeMedia" descr=" photo asd16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7240" y="1512360"/>
            <a:ext cx="82188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Цвет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Вознесенье</cp:lastModifiedBy>
  <dcterms:modified xsi:type="dcterms:W3CDTF">2021-11-23T16:56:26Z</dcterms:modified>
  <cp:revision>64</cp:revision>
  <dc:subject/>
  <dc:title>Your Title Here…</dc:title>
</cp:coreProperties>
</file>