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20.png" ContentType="image/png"/>
  <Override PartName="/ppt/media/image28.jpeg" ContentType="image/jpeg"/>
  <Override PartName="/ppt/media/image2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DDB-35F8-4D5E-854B-DA1B3EEA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3B1F-2A4E-4C99-84A0-C66E531A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BA7D-E1C8-4D68-B7ED-10B14281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106-62AD-4FF5-BB5F-4FDBD04D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10FD-757B-45DA-A113-17AC41B1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DFCA-90E1-4E37-B0F9-23D0F09A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2223-AA01-40CB-AA6D-30B741E1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911F-0750-4C22-91E4-49588B7B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CD0F-47CA-4C05-BEA7-D56F8913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5F67-E7DE-449D-BDDB-2584FF31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E5B5-EF64-4F58-92DE-4B91CCE5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6B6E-EADD-4A5F-A138-EF076F46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FACC-9073-4F36-A227-AB9E693A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D058-9727-48E1-878B-0CEEFDA5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F380-BC1A-430F-8D16-B3387C0C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8A0E-B164-4383-BD01-FBF8445D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5D51-4362-46A6-8EDC-9A84E243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6CBE-2B12-4BF7-A584-C77C57FD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DCEC-E52A-4BA9-AB3B-A4E25C52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8BC4-5DB9-49C5-AF4A-7770B356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6D2-1A0B-4940-B5FC-FBCCCE4E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4AA0-0DC0-4CFC-B4D2-5BDF0114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E5B5-5DA6-46A6-B779-0C89D90F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163-0C0E-4983-A0CA-A45FB483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3313-3F30-4328-941A-CE74A9DD503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EB07-AD20-494B-BD8A-494DE6DC57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Взгляды и гипотезы  о происхождении жизни на Земле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Picture 6" descr="tvorenie"/>
          <p:cNvPicPr/>
          <p:nvPr/>
        </p:nvPicPr>
        <p:blipFill>
          <a:blip r:embed="rId1"/>
          <a:stretch/>
        </p:blipFill>
        <p:spPr>
          <a:xfrm>
            <a:off x="228600" y="2819520"/>
            <a:ext cx="419112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ранческо Ред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1626–1697г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1668 г. Реди провел опыт 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судами, в которые были помеще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мершие змеи, на которых появилис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ичинки мух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ывод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что жизн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жет возникну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лько и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шествующей жиз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74214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4572000" y="3809880"/>
            <a:ext cx="4267080" cy="2819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3"/>
          <a:stretch/>
        </p:blipFill>
        <p:spPr>
          <a:xfrm>
            <a:off x="6705720" y="1143000"/>
            <a:ext cx="190188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304920" y="122400"/>
            <a:ext cx="7573680" cy="12952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971440" y="159984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нтони ван Левенгу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1632–1723г.) рассмотрел под микроскопом простейш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ывод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крошечные организмы, или «анималькулы», происходят от себе подобн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адзаро Спалланцан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1729–1799г.) опыты со стерилизованным мясным бульона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возможность самопроизвольного зарождения микроорганизм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2"/>
          <a:stretch/>
        </p:blipFill>
        <p:spPr>
          <a:xfrm>
            <a:off x="304920" y="0"/>
            <a:ext cx="2438280" cy="3429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3"/>
          <a:stretch/>
        </p:blipFill>
        <p:spPr>
          <a:xfrm>
            <a:off x="304920" y="3448080"/>
            <a:ext cx="250488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579600" y="122400"/>
            <a:ext cx="7299000" cy="12952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886200" y="1719360"/>
            <a:ext cx="5029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уи Пасте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1822–1895г) французский микробиоло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ыт Пастера с колбами с изогнутым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образно горлышк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ывод: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живые организмы происходят только от других живых организм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"/>
          <p:cNvPicPr/>
          <p:nvPr/>
        </p:nvPicPr>
        <p:blipFill>
          <a:blip r:embed="rId2"/>
          <a:stretch/>
        </p:blipFill>
        <p:spPr>
          <a:xfrm>
            <a:off x="533520" y="5029200"/>
            <a:ext cx="5333760" cy="1600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3"/>
          <a:stretch/>
        </p:blipFill>
        <p:spPr>
          <a:xfrm>
            <a:off x="685800" y="1523880"/>
            <a:ext cx="3211560" cy="3138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4"/>
          <a:stretch/>
        </p:blipFill>
        <p:spPr>
          <a:xfrm>
            <a:off x="6324480" y="5105520"/>
            <a:ext cx="20955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мецкий ученый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. Рихтер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1865 г. высказал идею о космическом (внеземном) происхождении жизн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380880" y="122400"/>
            <a:ext cx="7497720" cy="1295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2"/>
          <a:stretch/>
        </p:blipFill>
        <p:spPr>
          <a:xfrm>
            <a:off x="685800" y="3352680"/>
            <a:ext cx="7696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380880" y="122400"/>
            <a:ext cx="7497720" cy="1295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304560" y="1719360"/>
            <a:ext cx="80010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ы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ж.Томсон и Г.Гельмголь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сказывают  мнение о том, что споры бактерий и других организмов могли быть занесены на Землю с метеорит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495741"/>
          <p:cNvPicPr/>
          <p:nvPr/>
        </p:nvPicPr>
        <p:blipFill>
          <a:blip r:embed="rId2"/>
          <a:stretch/>
        </p:blipFill>
        <p:spPr>
          <a:xfrm>
            <a:off x="685800" y="3473280"/>
            <a:ext cx="73915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ауреат Нобелевской премии английский биофизик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. Кри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считает, что жизнь на Землю занесена случайно или преднамеренно космическими телами или пришельца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7421400" cy="1295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4648320" cy="2590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00037928"/>
          <p:cNvPicPr/>
          <p:nvPr/>
        </p:nvPicPr>
        <p:blipFill>
          <a:blip r:embed="rId3"/>
          <a:stretch/>
        </p:blipFill>
        <p:spPr>
          <a:xfrm>
            <a:off x="5257800" y="3657600"/>
            <a:ext cx="3352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иохимическая эволюц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6156360" y="1628640"/>
            <a:ext cx="2214360" cy="295272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4"/>
          <p:cNvSpPr/>
          <p:nvPr/>
        </p:nvSpPr>
        <p:spPr>
          <a:xfrm>
            <a:off x="6691320" y="47401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Опа́рин А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(1894–19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5"/>
          <p:cNvSpPr/>
          <p:nvPr/>
        </p:nvSpPr>
        <p:spPr>
          <a:xfrm>
            <a:off x="468360" y="1413000"/>
            <a:ext cx="5543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24 г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а́рин Александр Иванович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русский биолог и биохимик, создавший теорию возникновения жизни на Земле из абиотических компонентов высказал предположение, что при мощных электрических разрядах в первичной земной атмосфере, которая 4–4,5 млрд. лет назад состояла из аммиака, метана, углекислого газа и паров воды, могли возникнуть простейшие органические соединения, необходимые для возникновения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5943600" y="457200"/>
            <a:ext cx="1944720" cy="291636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2"/>
          <p:cNvSpPr/>
          <p:nvPr/>
        </p:nvSpPr>
        <p:spPr>
          <a:xfrm>
            <a:off x="5943600" y="3733920"/>
            <a:ext cx="22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. Холд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92–19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457200" y="487440"/>
            <a:ext cx="5334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29 г. к подобному заключению, независимо от Опарина А.И., пришел и английский ученый-естествоиспытатель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жон Холдей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нглийский биолог (генетик, эволюционист, физиолог, биохимик, биометрист), популяризатор и философ нау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из основоположников современной популяционной, математической, молекулярной и биохимической генетики, а также синтетической теории э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Гипотеза Опарина - Холдейна утверждает, жизнь на Земле возникла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абиогенным путем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(«живое от неживого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7421400" cy="1295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00044148"/>
          <p:cNvPicPr/>
          <p:nvPr/>
        </p:nvPicPr>
        <p:blipFill>
          <a:blip r:embed="rId2"/>
          <a:stretch/>
        </p:blipFill>
        <p:spPr>
          <a:xfrm>
            <a:off x="457200" y="3276720"/>
            <a:ext cx="5562720" cy="3352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00041493"/>
          <p:cNvPicPr/>
          <p:nvPr/>
        </p:nvPicPr>
        <p:blipFill>
          <a:blip r:embed="rId3"/>
          <a:stretch/>
        </p:blipFill>
        <p:spPr>
          <a:xfrm>
            <a:off x="6248520" y="2743200"/>
            <a:ext cx="2514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Этапы процесса возникновения жизни на Земле  по Опарину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Возникновение органических вещест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Образование из простых органических веществ     биополимеров (белков, нуклеиновых кислот, полисахаридов, липидов и др.). Так же  образование коацерватных капель 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уктур типа гел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Образованию полинуклеотидов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НК и РНК и включение их в коацерват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зникают примитивные самовоспроизводящиеся организм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7421400" cy="1295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00040677"/>
          <p:cNvPicPr/>
          <p:nvPr/>
        </p:nvPicPr>
        <p:blipFill>
          <a:blip r:embed="rId2"/>
          <a:stretch/>
        </p:blipFill>
        <p:spPr>
          <a:xfrm>
            <a:off x="7010280" y="3962520"/>
            <a:ext cx="190512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14400" y="1719360"/>
            <a:ext cx="77724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О, решите мне загадку жизни, мучительную древнюю загадку, над которой билось уже столько голов,— головы в шапках, расписанных иероглифами, головы в тюрбанах и черных беретах, головы в париках и тысячи других бедных  человеческих голов...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. Гейн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80880" y="122400"/>
            <a:ext cx="7497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560" y="1523880"/>
            <a:ext cx="5638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53 году на установке биолог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энли Милл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ыли проведены опыты, в результате которых были получены первичные клетки и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ацерват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вязкая, гелеобразная капля. Коацерваты  способны поглощать из внешней среды различные органические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228600" y="122400"/>
            <a:ext cx="7650000" cy="1295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5943600" y="2133720"/>
            <a:ext cx="2973240" cy="281916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5"/>
          <p:cNvSpPr/>
          <p:nvPr/>
        </p:nvSpPr>
        <p:spPr>
          <a:xfrm>
            <a:off x="5715000" y="53341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Л. Миллер( 1930 —  2007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емля возникла около 5 млрд. лет наза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разовалась земная кора, зате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тмосфера и мировой океан. В «первично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ульоне» мирово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кеана зародилас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жизн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7543800" cy="1295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Сияние"/>
          <p:cNvPicPr/>
          <p:nvPr/>
        </p:nvPicPr>
        <p:blipFill>
          <a:blip r:embed="rId2"/>
          <a:stretch/>
        </p:blipFill>
        <p:spPr>
          <a:xfrm>
            <a:off x="4267080" y="327672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В настоящее время жив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происходит только от жив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биогенное происхождени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«живое из живого»)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00041146"/>
          <p:cNvPicPr/>
          <p:nvPr/>
        </p:nvPicPr>
        <p:blipFill>
          <a:blip r:embed="rId1"/>
          <a:stretch/>
        </p:blipFill>
        <p:spPr>
          <a:xfrm>
            <a:off x="609480" y="152280"/>
            <a:ext cx="2667240" cy="1600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00041132"/>
          <p:cNvPicPr/>
          <p:nvPr/>
        </p:nvPicPr>
        <p:blipFill>
          <a:blip r:embed="rId2"/>
          <a:stretch/>
        </p:blipFill>
        <p:spPr>
          <a:xfrm>
            <a:off x="3200400" y="3962520"/>
            <a:ext cx="5486400" cy="2743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00041806"/>
          <p:cNvPicPr/>
          <p:nvPr/>
        </p:nvPicPr>
        <p:blipFill>
          <a:blip r:embed="rId3"/>
          <a:stretch/>
        </p:blipFill>
        <p:spPr>
          <a:xfrm>
            <a:off x="762120" y="3886200"/>
            <a:ext cx="2057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Гипотезы происхождения жизн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" y="1981080"/>
          <a:ext cx="8686800" cy="4343400"/>
        </p:xfrm>
        <a:graphic>
          <a:graphicData uri="http://schemas.openxmlformats.org/drawingml/2006/table">
            <a:tbl>
              <a:tblPr/>
              <a:tblGrid>
                <a:gridCol w="568440"/>
                <a:gridCol w="2778120"/>
                <a:gridCol w="2073240"/>
                <a:gridCol w="3267000"/>
              </a:tblGrid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гипоте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ронники гипоте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ения о возникновении жиз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ационизм – Божественное сотворение ми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ационизм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лат. слово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io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сотвор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Гипотезы происхождения жизн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28600" y="1752480"/>
          <a:ext cx="8686800" cy="4946760"/>
        </p:xfrm>
        <a:graphic>
          <a:graphicData uri="http://schemas.openxmlformats.org/drawingml/2006/table">
            <a:tbl>
              <a:tblPr/>
              <a:tblGrid>
                <a:gridCol w="457200"/>
                <a:gridCol w="2889360"/>
                <a:gridCol w="2073240"/>
                <a:gridCol w="3267000"/>
              </a:tblGrid>
              <a:tr h="127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гипотез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ронники гипотез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ения о возникновении жизн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потеза самопроизвольного зарождение жизн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Гипотезы происхождения жизн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28600" y="1752480"/>
          <a:ext cx="8686800" cy="4523040"/>
        </p:xfrm>
        <a:graphic>
          <a:graphicData uri="http://schemas.openxmlformats.org/drawingml/2006/table">
            <a:tbl>
              <a:tblPr/>
              <a:tblGrid>
                <a:gridCol w="568440"/>
                <a:gridCol w="2778120"/>
                <a:gridCol w="2073240"/>
                <a:gridCol w="326700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гипоте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ронники гипоте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ения о возникновении жиз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потеза стационарного состоя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потеза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ернизма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т лат. eternus — вечный)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Гипотезы происхождения жизн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28600" y="1752480"/>
          <a:ext cx="8686800" cy="4751640"/>
        </p:xfrm>
        <a:graphic>
          <a:graphicData uri="http://schemas.openxmlformats.org/drawingml/2006/table">
            <a:tbl>
              <a:tblPr/>
              <a:tblGrid>
                <a:gridCol w="568440"/>
                <a:gridCol w="2778120"/>
                <a:gridCol w="2073240"/>
                <a:gridCol w="3267000"/>
              </a:tblGrid>
              <a:tr h="84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гипоте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ронники гипоте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ения о возникновении жиз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потеза панспермии – космическое происхождение жиз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нспермия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(от греч. pan — весь, всякий и sperma — семя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Гипотезы происхождения жизн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28600" y="1752480"/>
          <a:ext cx="8686800" cy="4523040"/>
        </p:xfrm>
        <a:graphic>
          <a:graphicData uri="http://schemas.openxmlformats.org/drawingml/2006/table">
            <a:tbl>
              <a:tblPr/>
              <a:tblGrid>
                <a:gridCol w="568440"/>
                <a:gridCol w="2778120"/>
                <a:gridCol w="2073240"/>
                <a:gridCol w="326700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гипоте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ронники гипоте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ения о возникновении жиз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потеза биохимической эволюции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оацерватная гипотеза»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Вывод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0010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ществует 5 основных гипотез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зникнов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жизни на Земле . Наиболее убедитель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ипотеза биохимической эволюции Опарина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олдейна. Каждая из гипотез имеет сво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ильные и слабые стороны, но ни одна н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ает точног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вета на вопрос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 происхожден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жизн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ap_earth_mars1_580x326_1244710452"/>
          <p:cNvPicPr/>
          <p:nvPr/>
        </p:nvPicPr>
        <p:blipFill>
          <a:blip r:embed="rId1"/>
          <a:stretch/>
        </p:blipFill>
        <p:spPr>
          <a:xfrm>
            <a:off x="3124080" y="3352680"/>
            <a:ext cx="5257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7421400" cy="1295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00038071"/>
          <p:cNvPicPr/>
          <p:nvPr/>
        </p:nvPicPr>
        <p:blipFill>
          <a:blip r:embed="rId2"/>
          <a:stretch/>
        </p:blipFill>
        <p:spPr>
          <a:xfrm>
            <a:off x="380880" y="2514600"/>
            <a:ext cx="3581640" cy="3886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00041546"/>
          <p:cNvPicPr/>
          <p:nvPr/>
        </p:nvPicPr>
        <p:blipFill>
          <a:blip r:embed="rId3"/>
          <a:stretch/>
        </p:blipFill>
        <p:spPr>
          <a:xfrm>
            <a:off x="4191120" y="2514600"/>
            <a:ext cx="4647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н Гельмон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«Положи в горшок зерна, заткни его грязной рубашкой и жди. Что случится? Через двадцать один день появятся мыши: они зародятся из испарений слежавшегося зерна и грязной рубашк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3352680" y="4191120"/>
            <a:ext cx="4991400" cy="2514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304920" y="122400"/>
            <a:ext cx="7573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Проблемные вопрос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возникла жизнь на Земле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ие существуют взгляды и гипотезы о происхождении жизни на Земле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ая из них наиболее убедительн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895480" y="3733920"/>
            <a:ext cx="35816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Что такое жизнь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а живог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особность к движению, способность к росту и развитию, обмен веществ, дыхание, питание, раздражимость, размножение, клеточное стро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1719360"/>
            <a:ext cx="87631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Жизнь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— это процесс существования сложных систем, состоящих из больших органических молекул и неорганических веществ и способных самовоспроизводиться, саморазвиваться и поддерживать свое существование в результате обмена энергией и веществом с окружающей сред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2133720" y="152280"/>
            <a:ext cx="22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редположение, имеющее недостаточное доказательств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еор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взгляды, имеющие твердые доказательств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0120" cy="1295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456840" y="1719360"/>
            <a:ext cx="6194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384–322 до н.э.)  писал, что лягушки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секомые заводятс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ырой почв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латон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ворил 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мозарождении жив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ществ из земли 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е гни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5715000" y="2057400"/>
            <a:ext cx="30337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7772400" cy="17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редние века «удавалось» наблюдать зарождение  живых существ, таких как насекомые, черви, угри, мыши, в разлагающихся или гниющих остатках организмов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719000"/>
            <a:ext cx="40323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Самозарождение ягн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228600" y="1898640"/>
            <a:ext cx="4091040" cy="3968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4261680" y="5562360"/>
            <a:ext cx="50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Самопроизвольное заро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Бернакельских гусей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Анастасия Викулина</cp:lastModifiedBy>
  <dcterms:modified xsi:type="dcterms:W3CDTF">2023-04-28T04:47:57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