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4B2-6C49-43F7-8279-0E21A245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D95-7F21-47C8-B500-F3FE0A54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8C0-B465-4CA7-9A22-8AE183C7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584-67AE-49D8-967A-5922F4F7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7C41-665A-49B6-AD13-79C6153C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76F6-9BE8-4561-8194-6C2185D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6A45-88DB-4A87-A65A-982F4D37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611B-429D-41ED-B013-4FE91A20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F607-8830-40A0-A830-EE51C17D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4677-F7E0-47EC-9670-F50D9844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57FB-025B-4B8F-A0B4-E3A4413F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001-8319-4655-9603-BC69DBA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F646-78FA-43B5-A71F-9264EDA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12C1-9D4A-4FF3-9997-626C4504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8E1B-C65B-48D9-9835-0590545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D516-329F-42CE-AF58-0760DE88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DB34-DEC2-4FB7-8072-172F9229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738-9BA8-4B80-A440-5882F379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B2B-8351-4909-8ED8-97F7E70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179-327F-4497-A60B-E10D3EAA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43E-91BC-45B8-85E8-9FE05CA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F21-136A-4534-8BB2-095799C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AD1-4F4D-45EF-8517-C1A7B00D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46C-5494-47FB-895E-C91F1DC4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383F-8403-4973-972A-29C039F7F0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B299-D9AE-48B5-ACD4-9BB4D38F71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ы и гипотезы  о происхождении жизни на Земле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6" descr="tvorenie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ранческо Ред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626–1697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1668 г. Реди провел опыт 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судами, в которые были помеще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мершие змеи, на которых появилис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чинки мух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что жизн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ожет возникну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лько и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шествующей жиз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901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304920" y="122400"/>
            <a:ext cx="7573680" cy="1295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9714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нтони ван Левенгук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632–1723г.) рассмотрел под микроскопом простейш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 крошечные организмы, или «анималькулы», происходят от себе подоб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адзаро Спалланца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729–1799г.) опыты со стерилизованным мясным бульон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сть самопроизвольного зарождения микроорганизм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304920" y="0"/>
            <a:ext cx="2438280" cy="342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04920" y="3448080"/>
            <a:ext cx="25048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7299000" cy="1295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86200" y="1719360"/>
            <a:ext cx="5029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уи Пасте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822–1895г) французский микробиоло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ыт Пастера с колбами с изогнутым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образно горлыш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ывод: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вые организмы происходят только от других живых организм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533376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3211560" cy="3138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4"/>
          <a:stretch/>
        </p:blipFill>
        <p:spPr>
          <a:xfrm>
            <a:off x="6324480" y="5105520"/>
            <a:ext cx="20955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. Рихте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1865 г. высказал идею о космическом (внеземном) происхождении жизн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80880" y="122400"/>
            <a:ext cx="749772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685800" y="3352680"/>
            <a:ext cx="769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380880" y="122400"/>
            <a:ext cx="7497720" cy="1295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304560" y="171936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ы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ж.Томсон и Г.Гельмголь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сказывают  мнение о том, что споры бактерий и других организмов могли быть занесены на Землю с метеори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495741"/>
          <p:cNvPicPr/>
          <p:nvPr/>
        </p:nvPicPr>
        <p:blipFill>
          <a:blip r:embed="rId2"/>
          <a:stretch/>
        </p:blipFill>
        <p:spPr>
          <a:xfrm>
            <a:off x="685800" y="3473280"/>
            <a:ext cx="73915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ауреат Нобелевской премии английский биофизик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. Кр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считает, что жизнь на Землю занесена случайно или преднамеренно космическими телами или пришельца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4648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00037928"/>
          <p:cNvPicPr/>
          <p:nvPr/>
        </p:nvPicPr>
        <p:blipFill>
          <a:blip r:embed="rId3"/>
          <a:stretch/>
        </p:blipFill>
        <p:spPr>
          <a:xfrm>
            <a:off x="5257800" y="3657600"/>
            <a:ext cx="3352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иохимическая эволюц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214360" cy="295272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6691320" y="47401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Опа́рин А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(1894–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468360" y="1413000"/>
            <a:ext cx="554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4 г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́рин Александр Иванови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русский биолог и биохимик, создавший теорию возникновения жизни на Земле из абиотических компонентов высказал предположение, что при мощных электрических разрядах в первичной земной атмосфере, которая 4–4,5 млрд. лет назад состояла из аммиака, метана, углекислого газа и паров воды, могли возникнуть простейшие органические соединения, необходимые для возникновения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1944720" cy="291636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5943600" y="3733920"/>
            <a:ext cx="22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. Холд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92–19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57200" y="487440"/>
            <a:ext cx="5334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29 г. к подобному заключению, независимо от Опарина А.И., пришел и английский ученый-естествоиспытатель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н Холде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нглийский биолог (генетик, эволюционист, физиолог, биохимик, биометрист), популяризатор и философ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основоположников современной популяционной, математической, молекулярной и биохимической генетики, а также синтетической теории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Гипотеза Опарина - Холдейна утверждает, жизнь на Земле возникла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абиогенным путем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(«живое от неживого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00044148"/>
          <p:cNvPicPr/>
          <p:nvPr/>
        </p:nvPicPr>
        <p:blipFill>
          <a:blip r:embed="rId2"/>
          <a:stretch/>
        </p:blipFill>
        <p:spPr>
          <a:xfrm>
            <a:off x="457200" y="3276720"/>
            <a:ext cx="556272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00041493"/>
          <p:cNvPicPr/>
          <p:nvPr/>
        </p:nvPicPr>
        <p:blipFill>
          <a:blip r:embed="rId3"/>
          <a:stretch/>
        </p:blipFill>
        <p:spPr>
          <a:xfrm>
            <a:off x="6248520" y="274320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Этапы процесса возникновения жизни на Земле  по Опарин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зникновение органических вещест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Образование из простых органических веществ     биополимеров (белков, нуклеиновых кислот, полисахаридов, липидов и др.). Так же  образование коацерватных капель 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 типа гел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Образованию полинуклеотидов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К и РНК и включение их в коацерва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никают примитивные самовоспроизводящиеся организ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0040677"/>
          <p:cNvPicPr/>
          <p:nvPr/>
        </p:nvPicPr>
        <p:blipFill>
          <a:blip r:embed="rId2"/>
          <a:stretch/>
        </p:blipFill>
        <p:spPr>
          <a:xfrm>
            <a:off x="7010280" y="3962520"/>
            <a:ext cx="19051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1719360"/>
            <a:ext cx="7772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О, решите мне загадку жизни, мучительную древнюю загадку, над которой билось уже столько голов,— головы в шапках, расписанных иероглифами, головы в тюрбанах и черных беретах, головы в париках и тысячи других бедных  человеческих голов...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. Гей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122400"/>
            <a:ext cx="7497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53 году на установке биолог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энли Милл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и проведены опыты, в результате которых были получены первичные клетки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ацерва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язкая, гелеобразная капля. Коацерваты  способны поглощать из внешней среды различные органическ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28600" y="122400"/>
            <a:ext cx="7650000" cy="1295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973240" cy="28191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5715000" y="5334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Л. Миллер( 1930 —  200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мля возникла около 5 млрд. лет наза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разовалась земная кора, зате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тмосфера и мировой океан. В «первичн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ульоне» миров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кеана зародилас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изн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543800" cy="1295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Сияние"/>
          <p:cNvPicPr/>
          <p:nvPr/>
        </p:nvPicPr>
        <p:blipFill>
          <a:blip r:embed="rId2"/>
          <a:stretch/>
        </p:blipFill>
        <p:spPr>
          <a:xfrm>
            <a:off x="4267080" y="32767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настоящее время жи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оисходит только от жи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биогенное происхождени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«живое из живого»)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00041146"/>
          <p:cNvPicPr/>
          <p:nvPr/>
        </p:nvPicPr>
        <p:blipFill>
          <a:blip r:embed="rId1"/>
          <a:stretch/>
        </p:blipFill>
        <p:spPr>
          <a:xfrm>
            <a:off x="609480" y="152280"/>
            <a:ext cx="2667240" cy="1600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00041132"/>
          <p:cNvPicPr/>
          <p:nvPr/>
        </p:nvPicPr>
        <p:blipFill>
          <a:blip r:embed="rId2"/>
          <a:stretch/>
        </p:blipFill>
        <p:spPr>
          <a:xfrm>
            <a:off x="3200400" y="3962520"/>
            <a:ext cx="5486400" cy="2743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00041806"/>
          <p:cNvPicPr/>
          <p:nvPr/>
        </p:nvPicPr>
        <p:blipFill>
          <a:blip r:embed="rId3"/>
          <a:stretch/>
        </p:blipFill>
        <p:spPr>
          <a:xfrm>
            <a:off x="762120" y="388620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981080"/>
          <a:ext cx="8686800" cy="434340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ционизм – Божественное сотворение м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ционизм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лат. слово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сотвор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8600" y="1752480"/>
          <a:ext cx="8686800" cy="4946760"/>
        </p:xfrm>
        <a:graphic>
          <a:graphicData uri="http://schemas.openxmlformats.org/drawingml/2006/table">
            <a:tbl>
              <a:tblPr/>
              <a:tblGrid>
                <a:gridCol w="457200"/>
                <a:gridCol w="2889360"/>
                <a:gridCol w="2073240"/>
                <a:gridCol w="3267000"/>
              </a:tblGrid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самопроизвольного зарождение жизн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8600" y="1752480"/>
          <a:ext cx="8686800" cy="452304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стационарного состоя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ернизма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лат. eternus — вечный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1752480"/>
          <a:ext cx="8686800" cy="475164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8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панспермии – космическое происхождение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спермия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от греч. pan — весь, всякий и sperma — семя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отезы происхождения жизн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752480"/>
          <a:ext cx="8686800" cy="4523040"/>
        </p:xfrm>
        <a:graphic>
          <a:graphicData uri="http://schemas.openxmlformats.org/drawingml/2006/table">
            <a:tbl>
              <a:tblPr/>
              <a:tblGrid>
                <a:gridCol w="568440"/>
                <a:gridCol w="2778120"/>
                <a:gridCol w="2073240"/>
                <a:gridCol w="32670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ники гипоте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я о возникновении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отеза биохимической эволюци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ацерватная гипотеза»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Вывод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010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ществует 5 основных гипоте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никнов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зни на Земле . Наиболее убедитель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ипотеза биохимической эволюции Опарина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олдейна. Каждая из гипотез имеет сво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ильные и слабые стороны, но ни одна 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ет точн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а на вопро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 происхожд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жи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p_earth_mars1_580x326_1244710452"/>
          <p:cNvPicPr/>
          <p:nvPr/>
        </p:nvPicPr>
        <p:blipFill>
          <a:blip r:embed="rId1"/>
          <a:stretch/>
        </p:blipFill>
        <p:spPr>
          <a:xfrm>
            <a:off x="3124080" y="335268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742140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00038071"/>
          <p:cNvPicPr/>
          <p:nvPr/>
        </p:nvPicPr>
        <p:blipFill>
          <a:blip r:embed="rId2"/>
          <a:stretch/>
        </p:blipFill>
        <p:spPr>
          <a:xfrm>
            <a:off x="380880" y="2514600"/>
            <a:ext cx="3581640" cy="3886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00041546"/>
          <p:cNvPicPr/>
          <p:nvPr/>
        </p:nvPicPr>
        <p:blipFill>
          <a:blip r:embed="rId3"/>
          <a:stretch/>
        </p:blipFill>
        <p:spPr>
          <a:xfrm>
            <a:off x="4191120" y="2514600"/>
            <a:ext cx="464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н Гельмо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«Положи в горшок зерна, заткни его грязной рубашкой и жди. Что случится? Через двадцать один день появятся мыши: они зародятся из испарений слежавшегося зерна и грязной рубаш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3352680" y="4191120"/>
            <a:ext cx="499140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7573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Проблемные вопрос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озникла жизнь на Земл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существуют взгляды и гипотезы о происхождении жизни на Земл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ая из них наиболее убедитель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58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то такое жизнь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живо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ность к движению, способность к росту и развитию, обмен веществ, дыхание, питание, раздражимость, размножение,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1719360"/>
            <a:ext cx="87631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Жизнь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это процесс существования сложных систем, состоящих из больших органических молекул и неорганических веществ и способных самовоспроизводиться, саморазвиваться и поддерживать свое существование в результате обмена энергией и веществом с окружающей сред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22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положение, имеющее недостаточное доказатель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ор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згляды, имеющие твердые доказатель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0120" cy="12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6840" y="1719360"/>
            <a:ext cx="6194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384–322 до н.э.)  писал, что лягушки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секомые заводят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ырой почв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лато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ворил 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озарождении жив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ществ из земли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е гни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5715000" y="2057400"/>
            <a:ext cx="3033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редние века «удавалось» наблюдать зарождение  живых существ, таких как насекомые, черви, угри, мыши, в разлагающихся или гниющих остатках организм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719000"/>
            <a:ext cx="40323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амозарождение ягн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28600" y="1898640"/>
            <a:ext cx="4091040" cy="3968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4261680" y="556236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амопроизвольное зар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Бернакельских гусе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Анастасия Викулина</cp:lastModifiedBy>
  <dcterms:modified xsi:type="dcterms:W3CDTF">2023-04-28T04:47:5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