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27.jpeg" ContentType="image/jpeg"/>
  <Override PartName="/ppt/media/image26.jpeg" ContentType="image/jpeg"/>
  <Override PartName="/ppt/media/image25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10.jpeg" ContentType="image/jpeg"/>
  <Override PartName="/ppt/media/image29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32.jpeg" ContentType="image/jpeg"/>
  <Override PartName="/ppt/media/image5.png" ContentType="image/png"/>
  <Override PartName="/ppt/media/image43.jpeg" ContentType="image/jpeg"/>
  <Override PartName="/ppt/media/image35.png" ContentType="image/png"/>
  <Override PartName="/ppt/media/image8.jpeg" ContentType="image/jpeg"/>
  <Override PartName="/ppt/media/image39.jpeg" ContentType="image/jpeg"/>
  <Override PartName="/ppt/media/image33.jpeg" ContentType="image/jpeg"/>
  <Override PartName="/ppt/media/image28.jpeg" ContentType="image/jpeg"/>
  <Override PartName="/ppt/media/image34.jpeg" ContentType="image/jpeg"/>
  <Override PartName="/ppt/media/image37.png" ContentType="image/png"/>
  <Override PartName="/ppt/media/image44.jpeg" ContentType="image/jpeg"/>
  <Override PartName="/ppt/media/image7.jpeg" ContentType="image/jpeg"/>
  <Override PartName="/ppt/media/image38.jpeg" ContentType="image/jpeg"/>
  <Override PartName="/ppt/media/image36.png" ContentType="image/png"/>
  <Override PartName="/ppt/media/image6.png" ContentType="image/png"/>
  <Override PartName="/ppt/media/image40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2.jpeg" ContentType="image/jpeg"/>
  <Override PartName="/ppt/media/image2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939338" cy="684053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EA702-26BC-4CE4-A721-15C791B3FC3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Img"/>
          </p:nvPr>
        </p:nvSpPr>
        <p:spPr>
          <a:xfrm>
            <a:off x="939960" y="685440"/>
            <a:ext cx="497808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98720"/>
                <a:tab algn="l" pos="2197080"/>
                <a:tab algn="l" pos="3295800"/>
                <a:tab algn="l" pos="4394160"/>
                <a:tab algn="l" pos="5492880"/>
                <a:tab algn="l" pos="6591240"/>
                <a:tab algn="l" pos="7689960"/>
                <a:tab algn="l" pos="8788320"/>
                <a:tab algn="l" pos="98870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939960" y="685800"/>
            <a:ext cx="497808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DB363-2ABA-4E4C-96DD-F47D2069020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939960" y="685800"/>
            <a:ext cx="497808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98720"/>
                <a:tab algn="l" pos="2197080"/>
                <a:tab algn="l" pos="3295800"/>
                <a:tab algn="l" pos="4394160"/>
                <a:tab algn="l" pos="5492880"/>
                <a:tab algn="l" pos="6591240"/>
                <a:tab algn="l" pos="7689960"/>
                <a:tab algn="l" pos="8788320"/>
                <a:tab algn="l" pos="9887040"/>
              </a:tabLst>
            </a:pPr>
            <a:endParaRPr b="0" lang="ru-RU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144F7-E001-4330-8469-BB8768FD79B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2FBE0-7E60-40F6-B7A6-C199060B0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6440" y="274680"/>
            <a:ext cx="89442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6440" y="1595160"/>
            <a:ext cx="89442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6440" y="3953520"/>
            <a:ext cx="89442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07277-3708-416B-9811-1E5BB35FA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6440" y="274680"/>
            <a:ext cx="89442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6440" y="1595160"/>
            <a:ext cx="43646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79600" y="1595160"/>
            <a:ext cx="43646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6440" y="3953520"/>
            <a:ext cx="43646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79600" y="3953520"/>
            <a:ext cx="43646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359A8-0D4D-4E99-8200-19B1B2C2B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6440" y="274680"/>
            <a:ext cx="89442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6440" y="1595160"/>
            <a:ext cx="28796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20440" y="1595160"/>
            <a:ext cx="28796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44440" y="1595160"/>
            <a:ext cx="28796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6440" y="3953520"/>
            <a:ext cx="28796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20440" y="3953520"/>
            <a:ext cx="28796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44440" y="3953520"/>
            <a:ext cx="28796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4CF60-F813-45B4-AFDE-DF6620223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6440" y="274680"/>
            <a:ext cx="89442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6440" y="1595160"/>
            <a:ext cx="894420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38F2E-44F5-4EA0-B4AD-853060192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6440" y="274680"/>
            <a:ext cx="89442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6440" y="1595160"/>
            <a:ext cx="89442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54E2C-1734-43B0-B799-CCCF4D1DA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6440" y="274680"/>
            <a:ext cx="89442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6440" y="1595160"/>
            <a:ext cx="436464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79600" y="1595160"/>
            <a:ext cx="436464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320C3-D1A2-4F46-BE0C-432F216AE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6440" y="274680"/>
            <a:ext cx="89442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FA39F-68B0-4D57-B0EA-2CBC87054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6440" y="274680"/>
            <a:ext cx="89442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684E4-A917-4767-806E-4B9E393EE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6440" y="274680"/>
            <a:ext cx="89442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6440" y="1595160"/>
            <a:ext cx="43646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79600" y="1595160"/>
            <a:ext cx="436464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6440" y="3953520"/>
            <a:ext cx="43646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51543-6F56-401E-A60B-B888953BA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6440" y="274680"/>
            <a:ext cx="89442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6440" y="1595160"/>
            <a:ext cx="436464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79600" y="1595160"/>
            <a:ext cx="43646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79600" y="3953520"/>
            <a:ext cx="43646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C3DC8-839A-4170-AB8F-A680AE564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6440" y="274680"/>
            <a:ext cx="89442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6440" y="1595160"/>
            <a:ext cx="43646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79600" y="1595160"/>
            <a:ext cx="43646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6440" y="3953520"/>
            <a:ext cx="89442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AB27F-C061-4FB4-80AB-837ECF205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6440" y="274680"/>
            <a:ext cx="89442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6440" y="1595160"/>
            <a:ext cx="89442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6440" y="6340320"/>
            <a:ext cx="231948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57643-A52E-4A7E-AC40-3F41AD73B720}" type="datetime">
              <a:rPr b="0" lang="ru-RU" sz="1200" spc="-1" strike="noStrike">
                <a:solidFill>
                  <a:srgbClr val="898989"/>
                </a:solidFill>
                <a:latin typeface="Arial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95520" y="6340320"/>
            <a:ext cx="314640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121160" y="6340320"/>
            <a:ext cx="231948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014AA-5DBC-4EF8-8F08-A8ABF1ADBC08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image" Target="../media/image14.jpeg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image" Target="../media/image22.jpeg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image" Target="../media/image28.jpeg"/><Relationship Id="rId7" Type="http://schemas.openxmlformats.org/officeDocument/2006/relationships/image" Target="../media/image29.jpeg"/><Relationship Id="rId8" Type="http://schemas.openxmlformats.org/officeDocument/2006/relationships/image" Target="../media/image30.jpeg"/><Relationship Id="rId9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slovari.yandex.ru/dict/bse/article/00028/99500.htm" TargetMode="External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image" Target="../media/image44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44120" y="2125800"/>
            <a:ext cx="8448840" cy="14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nstantia"/>
              </a:rPr>
              <a:t>Популяция – структурная единица вида; основная единица эволюци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90760" y="3876480"/>
            <a:ext cx="7478640" cy="174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Биология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96440" y="274680"/>
            <a:ext cx="89442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6600"/>
                </a:solidFill>
                <a:latin typeface="Calibri"/>
              </a:rPr>
              <a:t>Элементарные факторы эволюци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96440" y="1595160"/>
            <a:ext cx="8944200" cy="451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6600"/>
                </a:solidFill>
                <a:latin typeface="Calibri"/>
              </a:rPr>
              <a:t>Изоляц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6600"/>
                </a:solidFill>
                <a:latin typeface="Calibri"/>
              </a:rPr>
              <a:t>Популяционные волн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6600"/>
                </a:solidFill>
                <a:latin typeface="Calibri"/>
              </a:rPr>
              <a:t>Дрейф ген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96440" y="274680"/>
            <a:ext cx="89442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Изоляц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96440" y="1595160"/>
            <a:ext cx="8944200" cy="451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фактор эволюции, который приводит к расхождению признаков особей в пределах одного вида и предотвращает скрещивание особей разных видов между собо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96440" y="274680"/>
            <a:ext cx="89442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Изоляц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-360" y="1265400"/>
            <a:ext cx="9937800" cy="51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Географическая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– разрыв единого ареала на не сообщающиеся между собой части (образование гор, рек, проливов…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Экологическая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– разные места обитания организмов и скрещивание в строго определенное время год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Биологическая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– существование механизмов, препятствующих скрещиванию (различия в поведении, разные сроки скрещивания…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2562120" y="323640"/>
            <a:ext cx="2795760" cy="65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мы пространственно изолированных популяций могут развиваться различными путями.      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соби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ных популяций могут потерять возможность скрещиваться по причине возникших различий в сроках брачных периодов, в инстинктах сооружения гнезд и нор, в поведении в период спаривания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C:\Documents and Settings\Admin\Мои документы\Мои рисунки\5-02.jpg"/>
          <p:cNvPicPr/>
          <p:nvPr/>
        </p:nvPicPr>
        <p:blipFill>
          <a:blip r:embed="rId1"/>
          <a:stretch/>
        </p:blipFill>
        <p:spPr>
          <a:xfrm>
            <a:off x="5589720" y="0"/>
            <a:ext cx="4114800" cy="37767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C:\Documents and Settings\Admin\Мои документы\Мои рисунки\man014.jpg"/>
          <p:cNvPicPr/>
          <p:nvPr/>
        </p:nvPicPr>
        <p:blipFill>
          <a:blip r:embed="rId2"/>
          <a:stretch/>
        </p:blipFill>
        <p:spPr>
          <a:xfrm>
            <a:off x="7996320" y="4417920"/>
            <a:ext cx="1760400" cy="12160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4" descr="C:\Documents and Settings\Admin\Мои документы\Мои рисунки\bfbg.jpg"/>
          <p:cNvPicPr/>
          <p:nvPr/>
        </p:nvPicPr>
        <p:blipFill>
          <a:blip r:embed="rId3"/>
          <a:stretch/>
        </p:blipFill>
        <p:spPr>
          <a:xfrm>
            <a:off x="5589720" y="3848040"/>
            <a:ext cx="1984320" cy="13654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5" descr="C:\Documents and Settings\Admin\Мои документы\Мои рисунки\images.jpg"/>
          <p:cNvPicPr/>
          <p:nvPr/>
        </p:nvPicPr>
        <p:blipFill>
          <a:blip r:embed="rId4"/>
          <a:stretch/>
        </p:blipFill>
        <p:spPr>
          <a:xfrm>
            <a:off x="6288120" y="5343480"/>
            <a:ext cx="1409760" cy="11556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6" descr="C:\Documents and Settings\Admin\Мои документы\Мои рисунки\цкр.jpg"/>
          <p:cNvPicPr/>
          <p:nvPr/>
        </p:nvPicPr>
        <p:blipFill>
          <a:blip r:embed="rId5"/>
          <a:stretch/>
        </p:blipFill>
        <p:spPr>
          <a:xfrm>
            <a:off x="182520" y="204840"/>
            <a:ext cx="1128600" cy="12636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7" descr="C:\Documents and Settings\Admin\Мои документы\Мои рисунки\2380-3.jpg"/>
          <p:cNvPicPr/>
          <p:nvPr/>
        </p:nvPicPr>
        <p:blipFill>
          <a:blip r:embed="rId6"/>
          <a:stretch/>
        </p:blipFill>
        <p:spPr>
          <a:xfrm>
            <a:off x="550800" y="1781280"/>
            <a:ext cx="1521000" cy="13777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8" descr="C:\Documents and Settings\Admin\Мои документы\Мои рисунки\remez02.jpg"/>
          <p:cNvPicPr/>
          <p:nvPr/>
        </p:nvPicPr>
        <p:blipFill>
          <a:blip r:embed="rId7"/>
          <a:stretch/>
        </p:blipFill>
        <p:spPr>
          <a:xfrm>
            <a:off x="233280" y="3278160"/>
            <a:ext cx="2451240" cy="27446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9" descr="C:\Documents and Settings\Admin\Мои документы\Мои рисунки\ывчпи.jpg"/>
          <p:cNvPicPr/>
          <p:nvPr/>
        </p:nvPicPr>
        <p:blipFill>
          <a:blip r:embed="rId8"/>
          <a:stretch/>
        </p:blipFill>
        <p:spPr>
          <a:xfrm>
            <a:off x="1203480" y="569880"/>
            <a:ext cx="1481040" cy="10159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96440" y="274680"/>
            <a:ext cx="89442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м более изолированной оказывается популяция вида, тем более специфичной становится она по своим генетическим особенностя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96440" y="1595160"/>
            <a:ext cx="5946840" cy="451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происходит потому, что в связи с изоляцией сокращается встречаемость и скрещивание особей одной популяции с особями других популяций вида.   Такие события часто происходят в природе в связи с изменением географических или экологических условий на территории ареал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2" descr="C:\Documents and Settings\Admin\Мои документы\Мои рисунки\15_3.jpg"/>
          <p:cNvPicPr/>
          <p:nvPr/>
        </p:nvPicPr>
        <p:blipFill>
          <a:blip r:embed="rId1"/>
          <a:stretch/>
        </p:blipFill>
        <p:spPr>
          <a:xfrm>
            <a:off x="6443640" y="2779560"/>
            <a:ext cx="3224160" cy="284976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C:\Documents and Settings\Admin\Мои документы\Мои рисунки\ипвуирфу.jpg"/>
          <p:cNvPicPr/>
          <p:nvPr/>
        </p:nvPicPr>
        <p:blipFill>
          <a:blip r:embed="rId1"/>
          <a:stretch/>
        </p:blipFill>
        <p:spPr>
          <a:xfrm>
            <a:off x="2019240" y="1995480"/>
            <a:ext cx="1552680" cy="13017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3" descr="C:\Documents and Settings\Admin\Мои документы\Мои рисунки\беляк америк.jpg"/>
          <p:cNvPicPr/>
          <p:nvPr/>
        </p:nvPicPr>
        <p:blipFill>
          <a:blip r:embed="rId2"/>
          <a:stretch/>
        </p:blipFill>
        <p:spPr>
          <a:xfrm>
            <a:off x="7142040" y="1709640"/>
            <a:ext cx="1822680" cy="1568520"/>
          </a:xfrm>
          <a:prstGeom prst="rect">
            <a:avLst/>
          </a:prstGeom>
          <a:ln w="0">
            <a:noFill/>
          </a:ln>
        </p:spPr>
      </p:pic>
      <p:sp>
        <p:nvSpPr>
          <p:cNvPr id="87" name="TextBox 5"/>
          <p:cNvSpPr/>
          <p:nvPr/>
        </p:nvSpPr>
        <p:spPr>
          <a:xfrm>
            <a:off x="6988320" y="3278160"/>
            <a:ext cx="1939680" cy="38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160" rIns="110160" tIns="55080" bIns="55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мерикан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Прямоугольник 6"/>
          <p:cNvSpPr/>
          <p:nvPr/>
        </p:nvSpPr>
        <p:spPr>
          <a:xfrm>
            <a:off x="1897200" y="1496880"/>
            <a:ext cx="1857240" cy="65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160" rIns="110160" tIns="55080" bIns="55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яц – беля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C:\Documents and Settings\Admin\Мои документы\Мои рисунки\забайкальский з б.jpg"/>
          <p:cNvPicPr/>
          <p:nvPr/>
        </p:nvPicPr>
        <p:blipFill>
          <a:blip r:embed="rId3"/>
          <a:stretch/>
        </p:blipFill>
        <p:spPr>
          <a:xfrm>
            <a:off x="3727440" y="2494080"/>
            <a:ext cx="2587680" cy="2119320"/>
          </a:xfrm>
          <a:prstGeom prst="rect">
            <a:avLst/>
          </a:prstGeom>
          <a:ln w="0">
            <a:noFill/>
          </a:ln>
        </p:spPr>
      </p:pic>
      <p:sp>
        <p:nvSpPr>
          <p:cNvPr id="90" name="TextBox 8"/>
          <p:cNvSpPr/>
          <p:nvPr/>
        </p:nvSpPr>
        <p:spPr>
          <a:xfrm>
            <a:off x="4192560" y="4632480"/>
            <a:ext cx="2095560" cy="38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160" rIns="110160" tIns="55080" bIns="55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байкаль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5" descr="C:\Documents and Settings\Admin\Мои документы\Мои рисунки\чернох амер.jpg"/>
          <p:cNvPicPr/>
          <p:nvPr/>
        </p:nvPicPr>
        <p:blipFill>
          <a:blip r:embed="rId4"/>
          <a:stretch/>
        </p:blipFill>
        <p:spPr>
          <a:xfrm>
            <a:off x="7918560" y="3990960"/>
            <a:ext cx="1476360" cy="2030400"/>
          </a:xfrm>
          <a:prstGeom prst="rect">
            <a:avLst/>
          </a:prstGeom>
          <a:ln w="0">
            <a:noFill/>
          </a:ln>
        </p:spPr>
      </p:pic>
      <p:sp>
        <p:nvSpPr>
          <p:cNvPr id="92" name="TextBox 10"/>
          <p:cNvSpPr/>
          <p:nvPr/>
        </p:nvSpPr>
        <p:spPr>
          <a:xfrm>
            <a:off x="7219800" y="5913360"/>
            <a:ext cx="3183120" cy="65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160" rIns="110160" tIns="55080" bIns="55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рноух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мерикан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6" descr="C:\Documents and Settings\Admin\Мои документы\Мои рисунки\тибетский.jpg"/>
          <p:cNvPicPr/>
          <p:nvPr/>
        </p:nvPicPr>
        <p:blipFill>
          <a:blip r:embed="rId5"/>
          <a:stretch/>
        </p:blipFill>
        <p:spPr>
          <a:xfrm>
            <a:off x="233280" y="2494080"/>
            <a:ext cx="1379520" cy="1780920"/>
          </a:xfrm>
          <a:prstGeom prst="rect">
            <a:avLst/>
          </a:prstGeom>
          <a:ln w="0">
            <a:noFill/>
          </a:ln>
        </p:spPr>
      </p:pic>
      <p:sp>
        <p:nvSpPr>
          <p:cNvPr id="94" name="TextBox 12"/>
          <p:cNvSpPr/>
          <p:nvPr/>
        </p:nvSpPr>
        <p:spPr>
          <a:xfrm>
            <a:off x="620640" y="4203720"/>
            <a:ext cx="1974960" cy="38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160" rIns="110160" tIns="55080" bIns="55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бет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7" descr="C:\Documents and Settings\Admin\Мои документы\Мои рисунки\толай азия.jpg"/>
          <p:cNvPicPr/>
          <p:nvPr/>
        </p:nvPicPr>
        <p:blipFill>
          <a:blip r:embed="rId6"/>
          <a:stretch/>
        </p:blipFill>
        <p:spPr>
          <a:xfrm>
            <a:off x="4114800" y="5273640"/>
            <a:ext cx="2097000" cy="1422360"/>
          </a:xfrm>
          <a:prstGeom prst="rect">
            <a:avLst/>
          </a:prstGeom>
          <a:ln w="0">
            <a:noFill/>
          </a:ln>
        </p:spPr>
      </p:pic>
      <p:sp>
        <p:nvSpPr>
          <p:cNvPr id="96" name="TextBox 14"/>
          <p:cNvSpPr/>
          <p:nvPr/>
        </p:nvSpPr>
        <p:spPr>
          <a:xfrm>
            <a:off x="6288120" y="5486400"/>
            <a:ext cx="2609640" cy="38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160" rIns="110160" tIns="55080" bIns="55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лай (Азия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8" descr="C:\Documents and Settings\Admin\Мои документы\Мои рисунки\русак.jpg"/>
          <p:cNvPicPr/>
          <p:nvPr/>
        </p:nvPicPr>
        <p:blipFill>
          <a:blip r:embed="rId7"/>
          <a:stretch/>
        </p:blipFill>
        <p:spPr>
          <a:xfrm>
            <a:off x="311040" y="4632480"/>
            <a:ext cx="2981520" cy="1787400"/>
          </a:xfrm>
          <a:prstGeom prst="rect">
            <a:avLst/>
          </a:prstGeom>
          <a:ln w="0">
            <a:noFill/>
          </a:ln>
        </p:spPr>
      </p:pic>
      <p:sp>
        <p:nvSpPr>
          <p:cNvPr id="98" name="TextBox 16"/>
          <p:cNvSpPr/>
          <p:nvPr/>
        </p:nvSpPr>
        <p:spPr>
          <a:xfrm>
            <a:off x="1173240" y="6342120"/>
            <a:ext cx="803160" cy="38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0160" rIns="110160" tIns="55080" bIns="55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уса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оугольник 17"/>
          <p:cNvSpPr/>
          <p:nvPr/>
        </p:nvSpPr>
        <p:spPr>
          <a:xfrm>
            <a:off x="754200" y="204840"/>
            <a:ext cx="8501040" cy="87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160" rIns="110160" tIns="55080" bIns="55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огообразие видов и подвидов зайцев – результат географической и экологической изоляции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388440" y="213840"/>
            <a:ext cx="5356440" cy="270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411120">
              <a:lnSpc>
                <a:spcPct val="8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9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 особей может измениться брачная окраска (рыбы, птицы), брачные песни (птицы, земноводные, насекомые) или брачные танцы (птицы, рыбы, членистоногие). </a:t>
            </a:r>
            <a:r>
              <a:rPr b="0" lang="en-US" sz="29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3" descr="C:\Documents and Settings\Admin\Мои документы\Мои рисунки\CA450JQD.jpg"/>
          <p:cNvPicPr/>
          <p:nvPr/>
        </p:nvPicPr>
        <p:blipFill>
          <a:blip r:embed="rId1"/>
          <a:stretch/>
        </p:blipFill>
        <p:spPr>
          <a:xfrm rot="265800">
            <a:off x="182520" y="3276360"/>
            <a:ext cx="1397160" cy="14335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C:\Documents and Settings\Admin\Мои документы\Мои рисунки\CAUZHVUL.jpg"/>
          <p:cNvPicPr/>
          <p:nvPr/>
        </p:nvPicPr>
        <p:blipFill>
          <a:blip r:embed="rId2"/>
          <a:stretch/>
        </p:blipFill>
        <p:spPr>
          <a:xfrm>
            <a:off x="6910560" y="4916520"/>
            <a:ext cx="2727000" cy="15588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3" descr="C:\Documents and Settings\Admin\Мои документы\Мои рисунки\CA1KZCCF.jpg"/>
          <p:cNvPicPr/>
          <p:nvPr/>
        </p:nvPicPr>
        <p:blipFill>
          <a:blip r:embed="rId3"/>
          <a:stretch/>
        </p:blipFill>
        <p:spPr>
          <a:xfrm rot="21176400">
            <a:off x="2182680" y="3348000"/>
            <a:ext cx="1789200" cy="10828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4" descr="C:\Documents and Settings\Admin\Мои документы\Мои рисунки\CA8LHPXQ.jpg"/>
          <p:cNvPicPr/>
          <p:nvPr/>
        </p:nvPicPr>
        <p:blipFill>
          <a:blip r:embed="rId4"/>
          <a:stretch/>
        </p:blipFill>
        <p:spPr>
          <a:xfrm rot="169200">
            <a:off x="4114440" y="4795920"/>
            <a:ext cx="2251080" cy="13842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5" descr="C:\Documents and Settings\Admin\Мои документы\Мои рисунки\A_fuligula_pair.jpg"/>
          <p:cNvPicPr/>
          <p:nvPr/>
        </p:nvPicPr>
        <p:blipFill>
          <a:blip r:embed="rId5"/>
          <a:stretch/>
        </p:blipFill>
        <p:spPr>
          <a:xfrm>
            <a:off x="6203880" y="919080"/>
            <a:ext cx="3436920" cy="23590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6" descr="C:\Documents and Settings\Admin\Мои документы\Мои рисунки\a45.jpg"/>
          <p:cNvPicPr/>
          <p:nvPr/>
        </p:nvPicPr>
        <p:blipFill>
          <a:blip r:embed="rId6"/>
          <a:stretch/>
        </p:blipFill>
        <p:spPr>
          <a:xfrm rot="21396000">
            <a:off x="4269960" y="3108240"/>
            <a:ext cx="2406600" cy="15033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7" descr="C:\Documents and Settings\Admin\Мои документы\Мои рисунки\nerest_boytsovoi_rybki.jpg"/>
          <p:cNvPicPr/>
          <p:nvPr/>
        </p:nvPicPr>
        <p:blipFill>
          <a:blip r:embed="rId7"/>
          <a:stretch/>
        </p:blipFill>
        <p:spPr>
          <a:xfrm rot="21353400">
            <a:off x="1552680" y="4595760"/>
            <a:ext cx="2328840" cy="22446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8" descr="C:\Documents and Settings\Admin\Мои документы\Мои рисунки\CAAR8P2N.jpg"/>
          <p:cNvPicPr/>
          <p:nvPr/>
        </p:nvPicPr>
        <p:blipFill>
          <a:blip r:embed="rId8"/>
          <a:stretch/>
        </p:blipFill>
        <p:spPr>
          <a:xfrm>
            <a:off x="7608960" y="3562200"/>
            <a:ext cx="1630440" cy="128916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504720" y="484200"/>
            <a:ext cx="4786560" cy="33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стения разных популяций могут иметь различные периоды цветения, разные взаимоотношения с опыляющими насекомым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3" descr="C:\Documents and Settings\Admin\Мои документы\Мои рисунки\1260128386_pchela001.jpg"/>
          <p:cNvPicPr/>
          <p:nvPr/>
        </p:nvPicPr>
        <p:blipFill>
          <a:blip r:embed="rId1"/>
          <a:stretch/>
        </p:blipFill>
        <p:spPr>
          <a:xfrm>
            <a:off x="1913040" y="4278240"/>
            <a:ext cx="2879640" cy="21178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" descr="C:\Documents and Settings\Admin\Мои документы\Мои рисунки\nectarinia_famosa_male_on_babiana_ringens_300.jpg"/>
          <p:cNvPicPr/>
          <p:nvPr/>
        </p:nvPicPr>
        <p:blipFill>
          <a:blip r:embed="rId2"/>
          <a:stretch/>
        </p:blipFill>
        <p:spPr>
          <a:xfrm>
            <a:off x="6443640" y="2921040"/>
            <a:ext cx="2695680" cy="37339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5" descr="C:\Documents and Settings\Admin\Мои документы\Мои рисунки\Р‘СѓРґР»РµСЏ Р”Р°РІРёРґР°_05.JPG"/>
          <p:cNvPicPr/>
          <p:nvPr/>
        </p:nvPicPr>
        <p:blipFill>
          <a:blip r:embed="rId3"/>
          <a:stretch/>
        </p:blipFill>
        <p:spPr>
          <a:xfrm>
            <a:off x="5900760" y="498600"/>
            <a:ext cx="3313080" cy="204300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0280" y="142560"/>
            <a:ext cx="8944200" cy="72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Популяционные волн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144000" y="1260360"/>
            <a:ext cx="9626760" cy="570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исленность популяций постоянно изменяется под влиянием биотических и абиотических факторов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ост численности популяции идет не беспредельно. Сначала он ускоряется, затем замедляется и постепенно прекращается. Колебания численности растительной пищи, травоядных животных и хищников связаны друг с другом. Изменение численности хищников запаздывает за жертвой примерно на год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Рисунок 3" descr="3.jpg"/>
          <p:cNvPicPr/>
          <p:nvPr/>
        </p:nvPicPr>
        <p:blipFill>
          <a:blip r:embed="rId1"/>
          <a:stretch/>
        </p:blipFill>
        <p:spPr>
          <a:xfrm>
            <a:off x="0" y="0"/>
            <a:ext cx="9937800" cy="684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144360" y="394920"/>
            <a:ext cx="9793440" cy="451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Термин «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популяция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» происходит от латинского слова "</a:t>
            </a:r>
            <a:r>
              <a:rPr b="1" i="1" lang="en-US" sz="3200" spc="-1" strike="noStrike">
                <a:solidFill>
                  <a:srgbClr val="000000"/>
                </a:solidFill>
                <a:latin typeface="Verdana"/>
              </a:rPr>
              <a:t>populus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" (народ, население) и заимствован из демографии. Термин ввел в экологию в 1903 г. датский биолог   В.Л. Иогансен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пуляция - группа свободно скрещивающихся особей одного вида, существующая продолжительное время на определенной территории, относительно обособленных от других совокупностей особей того же вид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96440" y="274680"/>
            <a:ext cx="89442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ДРЕЙФ  ГЕНОВ -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96440" y="1331640"/>
            <a:ext cx="8944200" cy="47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лучайные ненаправленные изменения частоты аллелей в популяции, в результате чего мутационный ген полностью вытесняет нормальны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ткрыли: Н.П. Дубинин, Д.Д.Ромашов,   С.Райт, Р.Фишер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96440" y="274680"/>
            <a:ext cx="89442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ДРЕЙФ  ГЕН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96440" y="1595160"/>
            <a:ext cx="8944200" cy="451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сается малочисленных популяций с генофондом, ограниченным небольшим количеством генотипов в популяци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енофонд таких популяций в силу различных процессов, через несколько поколений может резко изменитьс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96440" y="188640"/>
            <a:ext cx="8944200" cy="100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Результат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95120" y="1338120"/>
            <a:ext cx="9547200" cy="474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озрастание генетической однородности популяции, возрастание гомозиготнос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держание аллели, снижающей жизнеспособность популяции (дрейф генов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ыстрое и резкое возрастание концентрации редких аллеле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ывод: эволюционные преобразования генотипической структуры популяц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360" y="-15840"/>
            <a:ext cx="89442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Дивергенц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289080" y="1115640"/>
            <a:ext cx="9151920" cy="499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вергенция –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цесс расхождения признаков у родственных организмо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чиной дивергенции при географической изоляции является как приспособление существ к разным условиям среды, так и различие в исходных генофондах (в новые популяции разные аллели генов попадают в разных соотношениях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360" y="204840"/>
            <a:ext cx="8943840" cy="105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100"/>
            </a:br>
            <a:br>
              <a:rPr sz="3100"/>
            </a:br>
            <a:br>
              <a:rPr sz="3100"/>
            </a:br>
            <a:br>
              <a:rPr sz="3100"/>
            </a:br>
            <a:r>
              <a:rPr b="1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ВЕРГЕНЦИЯ</a:t>
            </a:r>
            <a:br>
              <a:rPr sz="3100"/>
            </a:br>
            <a:br>
              <a:rPr sz="3100"/>
            </a:b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вергенция животных в связи с приспособлением к различным условиям среды:</a:t>
            </a:r>
            <a:br>
              <a:rPr sz="2600"/>
            </a:b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– заяц-русак; 2 – белка-летяга; 3 – тушканчик; 4 – большая песчанка; 5 – слепыш; 6 – бобр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Picture 2" descr="C:\Documents and Settings\Admin\Мои документы\Мои рисунки\6.gif"/>
          <p:cNvPicPr/>
          <p:nvPr/>
        </p:nvPicPr>
        <p:blipFill>
          <a:blip r:embed="rId1"/>
          <a:stretch/>
        </p:blipFill>
        <p:spPr>
          <a:xfrm>
            <a:off x="2089080" y="3564000"/>
            <a:ext cx="6059520" cy="30780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96440" y="274680"/>
            <a:ext cx="89442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тыре вида лютиков, произрастающих на одной территории в средней полосе России: 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– кашубский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– ползучий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– едкий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– прыщинец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Picture 2" descr="C:\Documents and Settings\Admin\Мои документы\Мои рисунки\7.gif"/>
          <p:cNvPicPr/>
          <p:nvPr/>
        </p:nvPicPr>
        <p:blipFill>
          <a:blip r:embed="rId1"/>
          <a:stretch/>
        </p:blipFill>
        <p:spPr>
          <a:xfrm>
            <a:off x="6183360" y="1704960"/>
            <a:ext cx="3228840" cy="4438800"/>
          </a:xfrm>
          <a:prstGeom prst="rect">
            <a:avLst/>
          </a:prstGeom>
          <a:ln w="0">
            <a:noFill/>
          </a:ln>
        </p:spPr>
      </p:pic>
      <p:sp>
        <p:nvSpPr>
          <p:cNvPr id="128" name="Прямоугольник 3"/>
          <p:cNvSpPr/>
          <p:nvPr/>
        </p:nvSpPr>
        <p:spPr>
          <a:xfrm>
            <a:off x="647640" y="4284720"/>
            <a:ext cx="5046840" cy="163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160" rIns="110160" tIns="55080" bIns="55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ее 20 видов лютиков имеют предком один вид. Причиной их расхождения явилась географическая специализация: одни виды живут на болотах, другие – на лугах, третьи – в лесу и т.п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2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111640" y="142560"/>
            <a:ext cx="4572000" cy="577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гда в изолированной популяции накапливаются мутации, контролируемые естественным отбором, в ней начинается процесс </a:t>
            </a:r>
            <a:r>
              <a:rPr b="1" lang="ru-RU" sz="21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икроэволюции.</a:t>
            </a:r>
            <a:br>
              <a:rPr sz="2100"/>
            </a:br>
            <a:r>
              <a:rPr b="1" lang="ru-RU" sz="2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икроэволюция - </a:t>
            </a:r>
            <a:r>
              <a:rPr b="1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совокупность эволюционных событий, которые, происходя в популяциях, приводят к изменению генофонда популяции внутри вида и, следовательно, к образованию новых видов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Picture 2" descr="C:\Documents and Settings\Admin\Мои документы\Мои рисунки\Bio150_0083.png"/>
          <p:cNvPicPr/>
          <p:nvPr/>
        </p:nvPicPr>
        <p:blipFill>
          <a:blip r:embed="rId1"/>
          <a:stretch/>
        </p:blipFill>
        <p:spPr>
          <a:xfrm>
            <a:off x="144360" y="468360"/>
            <a:ext cx="4915080" cy="579600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96440" y="291600"/>
            <a:ext cx="8944200" cy="83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6600"/>
                </a:solidFill>
                <a:latin typeface="Calibri"/>
              </a:rPr>
              <a:t>Этапы эволюции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96440" y="1265040"/>
            <a:ext cx="8944200" cy="47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996600"/>
                </a:solidFill>
                <a:uFillTx/>
                <a:latin typeface="Calibri"/>
              </a:rPr>
              <a:t>Микроэволюция</a:t>
            </a:r>
            <a:r>
              <a:rPr b="0" lang="ru-RU" sz="3200" spc="-1" strike="noStrike">
                <a:solidFill>
                  <a:srgbClr val="996600"/>
                </a:solidFill>
                <a:latin typeface="Calibri"/>
              </a:rPr>
              <a:t> - все эволюционные процессы внутри популяции, приводящих к образованию новых видов  (популяция – подвид – вид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996600"/>
                </a:solidFill>
                <a:uFillTx/>
                <a:latin typeface="Calibri"/>
              </a:rPr>
              <a:t>Макроэволюция</a:t>
            </a:r>
            <a:r>
              <a:rPr b="0" lang="ru-RU" sz="3200" spc="-1" strike="noStrike">
                <a:solidFill>
                  <a:srgbClr val="996600"/>
                </a:solidFill>
                <a:latin typeface="Calibri"/>
              </a:rPr>
              <a:t> - эволюционные процессы, происходящие в надвидовых систематических группах. В результате макроэволюции формируются новые роды, семейства, отряды, классы, типы (отделы), подцарства, царства, 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388440" y="142920"/>
            <a:ext cx="9315720" cy="619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41112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роцессе микроэволюции, популяции представляют собой генетически открытые системы, а вид, как система популяций, является наименьшей природной генетически закрытой системой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11120" indent="-41112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пуляция – элементарная эволюционная единица, </a:t>
            </a:r>
            <a:r>
              <a:rPr b="1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вид – результат микроэволюции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11120" indent="-41112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енно в популяции наблюдается элементарное эволюционное явление - </a:t>
            </a:r>
            <a:r>
              <a:rPr b="0" i="1" lang="ru-RU" sz="3200" spc="-1" strike="noStrike" u="sng">
                <a:solidFill>
                  <a:srgbClr val="632523"/>
                </a:solidFill>
                <a:uFillTx/>
                <a:latin typeface="Times New Roman"/>
                <a:ea typeface="Times New Roman"/>
              </a:rPr>
              <a:t>изменение ее генетического состава.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11120" indent="-41112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авленность мутационным изменениям придает естественный отбор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plit dir="in" orient="horz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96440" y="291600"/>
            <a:ext cx="8944200" cy="83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6600"/>
                </a:solidFill>
                <a:latin typeface="Calibri"/>
              </a:rPr>
              <a:t>Связь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96440" y="1265040"/>
            <a:ext cx="8944200" cy="47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6600"/>
                </a:solidFill>
                <a:latin typeface="Calibri"/>
              </a:rPr>
              <a:t>Макро- и микроэволюция взаимосвязаны и являются этапами эволюционного процесс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6600"/>
                </a:solidFill>
                <a:latin typeface="Calibri"/>
              </a:rPr>
              <a:t>Макроэволюция протекает на основе микроэволюционных процессов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9"/>
          <p:cNvSpPr/>
          <p:nvPr/>
        </p:nvSpPr>
        <p:spPr>
          <a:xfrm>
            <a:off x="272880" y="1638360"/>
            <a:ext cx="943164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пуляция, с одной стороны, является биологической системой. С другой стороны - элементом системы более высокого уровня организации – экологической, или экосистем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08000" y="0"/>
            <a:ext cx="8307360" cy="118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46c0a"/>
                </a:solidFill>
                <a:latin typeface="Verdana"/>
              </a:rPr>
              <a:t>ПОПУЛЯЦ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96440" y="274320"/>
            <a:ext cx="8944200" cy="271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500"/>
            </a:br>
            <a:br>
              <a:rPr sz="3500"/>
            </a:br>
            <a:r>
              <a:rPr b="0" lang="ru-RU" sz="3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кроэволюционные события - например, выход позвоночных на сушу - происходят на протяжении сотни тысяч или миллионов лет и сопровождаются значительными изменениями облика животного.</a:t>
            </a:r>
            <a:br>
              <a:rPr sz="3500"/>
            </a:b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Picture 2" descr="C:\Documents and Settings\Admin\Мои документы\Мои рисунки\ихтиостега.jpg"/>
          <p:cNvPicPr/>
          <p:nvPr/>
        </p:nvPicPr>
        <p:blipFill>
          <a:blip r:embed="rId1"/>
          <a:stretch/>
        </p:blipFill>
        <p:spPr>
          <a:xfrm>
            <a:off x="4270320" y="3421080"/>
            <a:ext cx="5154840" cy="27828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4" descr="C:\Documents and Settings\Admin\Мои документы\Мои рисунки\мрлрд..jpg"/>
          <p:cNvPicPr/>
          <p:nvPr/>
        </p:nvPicPr>
        <p:blipFill>
          <a:blip r:embed="rId2"/>
          <a:stretch/>
        </p:blipFill>
        <p:spPr>
          <a:xfrm>
            <a:off x="853920" y="3562200"/>
            <a:ext cx="3200400" cy="2033640"/>
          </a:xfrm>
          <a:prstGeom prst="rect">
            <a:avLst/>
          </a:prstGeom>
          <a:ln w="0">
            <a:noFill/>
          </a:ln>
        </p:spPr>
      </p:pic>
      <p:sp>
        <p:nvSpPr>
          <p:cNvPr id="139" name="TextBox 4"/>
          <p:cNvSpPr/>
          <p:nvPr/>
        </p:nvSpPr>
        <p:spPr>
          <a:xfrm>
            <a:off x="1169280" y="5913360"/>
            <a:ext cx="1345680" cy="38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0160" rIns="110160" tIns="55080" bIns="55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атимер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5"/>
          <p:cNvSpPr/>
          <p:nvPr/>
        </p:nvSpPr>
        <p:spPr>
          <a:xfrm>
            <a:off x="5357880" y="6199200"/>
            <a:ext cx="3647880" cy="38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160" rIns="110160" tIns="55080" bIns="55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хтиосте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233280" y="355680"/>
            <a:ext cx="4270320" cy="627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икроэволюция с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вершается в течение геологически более короткого времени по сравнению с макроэволюцией, которая требует очень длительных периодов времени – десятки, сотни миллионов лет. </a:t>
            </a: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и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м все процессы макроэволюции осуществляются только по средствам микроэволюции. Процессы микроэволюции в популяциях происходят постоянно, что позволяет адаптировать виды к постоянно меняющимся условиям  среды. Поэтому вид называют </a:t>
            </a:r>
            <a:r>
              <a:rPr b="1" i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ачественным этапом эволюционного процесса</a:t>
            </a:r>
            <a:r>
              <a:rPr b="1" i="1" lang="ru-RU" sz="25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2" name="Picture 3" descr="C:\Documents and Settings\Admin\Мои документы\Мои рисунки\faces.jpg"/>
          <p:cNvPicPr/>
          <p:nvPr/>
        </p:nvPicPr>
        <p:blipFill>
          <a:blip r:embed="rId1"/>
          <a:stretch/>
        </p:blipFill>
        <p:spPr>
          <a:xfrm>
            <a:off x="4657680" y="355680"/>
            <a:ext cx="4876920" cy="630216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96440" y="274680"/>
            <a:ext cx="89442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465120" y="426960"/>
          <a:ext cx="9317160" cy="6151680"/>
        </p:xfrm>
        <a:graphic>
          <a:graphicData uri="http://schemas.openxmlformats.org/drawingml/2006/table">
            <a:tbl>
              <a:tblPr/>
              <a:tblGrid>
                <a:gridCol w="1941480"/>
                <a:gridCol w="3719520"/>
                <a:gridCol w="3656160"/>
              </a:tblGrid>
              <a:tr h="426960">
                <a:tc>
                  <a:txBody>
                    <a:bodyPr lIns="99360" rIns="99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роцессы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9360" marR="9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9360" rIns="99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Микроэволюция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9360" marR="9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9360" rIns="99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Макроэволюция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9360" marR="9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2097000">
                <a:tc>
                  <a:txBody>
                    <a:bodyPr lIns="99360" rIns="99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e1008"/>
                          </a:solidFill>
                          <a:latin typeface="Calibri"/>
                        </a:rPr>
                        <a:t>Понятие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9360" marR="9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9360" rIns="99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e1008"/>
                          </a:solidFill>
                          <a:latin typeface="Calibri"/>
                        </a:rPr>
                        <a:t>Все эволюционные процессы внутри популяции, приводящих к образованию новых видов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9360" marR="9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9360" rIns="99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e1008"/>
                          </a:solidFill>
                          <a:latin typeface="Calibri"/>
                        </a:rPr>
                        <a:t>Эволюционные процессы, происходящие в надвидовых систематических группах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9360" marR="9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62120">
                <a:tc>
                  <a:txBody>
                    <a:bodyPr lIns="99360" rIns="99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e1008"/>
                          </a:solidFill>
                          <a:latin typeface="Calibri"/>
                        </a:rPr>
                        <a:t>Временные рамки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9360" marR="9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9360" rIns="99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e1008"/>
                          </a:solidFill>
                          <a:latin typeface="Calibri"/>
                        </a:rPr>
                        <a:t>Сотни, тысячи лет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9360" marR="9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9360" rIns="99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e1008"/>
                          </a:solidFill>
                          <a:latin typeface="Calibri"/>
                        </a:rPr>
                        <a:t>Геологические эпохи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e1008"/>
                          </a:solidFill>
                          <a:latin typeface="Calibri"/>
                        </a:rPr>
                        <a:t>(млн. лет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9360" marR="9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433520">
                <a:tc>
                  <a:txBody>
                    <a:bodyPr lIns="99360" rIns="99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e1008"/>
                          </a:solidFill>
                          <a:latin typeface="Calibri"/>
                        </a:rPr>
                        <a:t>Факторы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9360" marR="9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9360" rIns="99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e1008"/>
                          </a:solidFill>
                          <a:latin typeface="Calibri"/>
                        </a:rPr>
                        <a:t>Изменчивость, борьба за существование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e1008"/>
                          </a:solidFill>
                          <a:latin typeface="Calibri"/>
                        </a:rPr>
                        <a:t>естественный отбор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9360" marR="9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9360" rIns="99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e1008"/>
                          </a:solidFill>
                          <a:latin typeface="Calibri"/>
                        </a:rPr>
                        <a:t>Изменчивость, борьба за существование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e1008"/>
                          </a:solidFill>
                          <a:latin typeface="Calibri"/>
                        </a:rPr>
                        <a:t>естественный отбор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9360" marR="9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432440">
                <a:tc>
                  <a:txBody>
                    <a:bodyPr lIns="99360" rIns="99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e1008"/>
                          </a:solidFill>
                          <a:latin typeface="Calibri"/>
                        </a:rPr>
                        <a:t>Результат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9360" marR="9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9360" rIns="99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e1008"/>
                          </a:solidFill>
                          <a:latin typeface="Calibri"/>
                        </a:rPr>
                        <a:t>Новые подвиды и виды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9360" marR="9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9360" rIns="99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e1008"/>
                          </a:solidFill>
                          <a:latin typeface="Calibri"/>
                        </a:rPr>
                        <a:t>Новые роды, семейства, отряды, классы, типы (отделы), подцарства, царства, …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9360" marR="9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96440" y="274680"/>
            <a:ext cx="89442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едствием и результатом микроэволюции является макроэволюция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96440" y="1595160"/>
            <a:ext cx="8944200" cy="451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85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акроэволюция,</a:t>
            </a: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овокупность процессов эволюции живых форм, протекающих на надвидовом уровне, то есть после установления практически полной межвидовой </a:t>
            </a:r>
            <a:r>
              <a:rPr b="0" lang="ru-RU" sz="3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"/>
              </a:rPr>
              <a:t>изоляции</a:t>
            </a: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прекращения нивелировки достигнутых различий путём скрещиваний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акроэволюция </a:t>
            </a: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исходит на основе процессов микроэволюции.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amond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96440" y="274680"/>
            <a:ext cx="89442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волюция необратима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25440" y="1704600"/>
            <a:ext cx="4929120" cy="47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</a:t>
            </a:r>
            <a:r>
              <a:rPr b="1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чит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что исчезнувшие виды никогда не появятся внов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репление результатов эволюции оказывается возможным благодаря устойчивости видов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тойчивость видов – историческая реальность. Эволюционные процессы всегда начинались внутри вида в той или иной его популяции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9" name="Picture 6" descr="C:\Documents and Settings\Admin\Мои документы\Мои рисунки\186241199.jpg"/>
          <p:cNvPicPr/>
          <p:nvPr/>
        </p:nvPicPr>
        <p:blipFill>
          <a:blip r:embed="rId1"/>
          <a:stretch/>
        </p:blipFill>
        <p:spPr>
          <a:xfrm>
            <a:off x="7686720" y="2066760"/>
            <a:ext cx="2087640" cy="13417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7" descr="C:\Documents and Settings\Admin\Мои документы\Мои рисунки\пйк.jpg"/>
          <p:cNvPicPr/>
          <p:nvPr/>
        </p:nvPicPr>
        <p:blipFill>
          <a:blip r:embed="rId2"/>
          <a:stretch/>
        </p:blipFill>
        <p:spPr>
          <a:xfrm>
            <a:off x="7297560" y="4417920"/>
            <a:ext cx="1971720" cy="15796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8" descr="C:\Documents and Settings\Admin\Мои документы\Мои рисунки\jirafa-7294.jpg"/>
          <p:cNvPicPr/>
          <p:nvPr/>
        </p:nvPicPr>
        <p:blipFill>
          <a:blip r:embed="rId3"/>
          <a:stretch/>
        </p:blipFill>
        <p:spPr>
          <a:xfrm>
            <a:off x="5969160" y="3205080"/>
            <a:ext cx="1630080" cy="2111400"/>
          </a:xfrm>
          <a:prstGeom prst="rect">
            <a:avLst/>
          </a:prstGeom>
          <a:ln w="0">
            <a:noFill/>
          </a:ln>
        </p:spPr>
      </p:pic>
      <p:sp>
        <p:nvSpPr>
          <p:cNvPr id="152" name="TextBox 13"/>
          <p:cNvSpPr/>
          <p:nvPr/>
        </p:nvSpPr>
        <p:spPr>
          <a:xfrm>
            <a:off x="5978520" y="6199200"/>
            <a:ext cx="4214880" cy="38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160" rIns="110160" tIns="55080" bIns="55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апи – лесной жираф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9" descr="C:\Documents and Settings\Admin\Мои документы\Мои рисунки\иар.jpg"/>
          <p:cNvPicPr/>
          <p:nvPr/>
        </p:nvPicPr>
        <p:blipFill>
          <a:blip r:embed="rId4"/>
          <a:stretch/>
        </p:blipFill>
        <p:spPr>
          <a:xfrm>
            <a:off x="5978520" y="1176480"/>
            <a:ext cx="2189160" cy="12459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233280" y="285840"/>
            <a:ext cx="7878960" cy="507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411120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ы существуют в природе в виде популяций, которые обладают особым генофондом. 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411120" indent="-411120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нофонд</a:t>
            </a:r>
            <a:r>
              <a:rPr b="0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совокупность всех генотипов особей в популяции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411120" indent="-41112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ако все популяции у каждого вида характеризуются генетическим разнообразием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11120" indent="-41112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11120" indent="-41112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нетическое разнообразие </a:t>
            </a: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пуляций</a:t>
            </a:r>
            <a:r>
              <a:rPr b="0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11120" indent="-41112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примере цветков различной окраск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C:\Documents and Settings\Admin\Мои документы\Мои рисунки\11030101.jpg"/>
          <p:cNvPicPr/>
          <p:nvPr/>
        </p:nvPicPr>
        <p:blipFill>
          <a:blip r:embed="rId1"/>
          <a:stretch/>
        </p:blipFill>
        <p:spPr>
          <a:xfrm>
            <a:off x="6769080" y="2844720"/>
            <a:ext cx="3024360" cy="410364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4360" y="-15840"/>
            <a:ext cx="89442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Сходство особей в популяции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96440" y="1115640"/>
            <a:ext cx="8944200" cy="499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трое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анмикс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ерритор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стор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Отличия особей в популяции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исленност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остав (возрастной, половой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спределе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-360" y="1595160"/>
            <a:ext cx="4389480" cy="451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122" descr="Raspr_3"/>
          <p:cNvPicPr/>
          <p:nvPr/>
        </p:nvPicPr>
        <p:blipFill>
          <a:blip r:embed="rId1"/>
          <a:stretch/>
        </p:blipFill>
        <p:spPr>
          <a:xfrm>
            <a:off x="698400" y="3206880"/>
            <a:ext cx="8307360" cy="32464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59" name="Text Box 12"/>
          <p:cNvSpPr/>
          <p:nvPr/>
        </p:nvSpPr>
        <p:spPr>
          <a:xfrm>
            <a:off x="155520" y="971640"/>
            <a:ext cx="9626760" cy="173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Типы распределения особей в популяции: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лучайное </a:t>
            </a:r>
            <a:r>
              <a:rPr b="0" i="1" lang="ru-RU" sz="1800" spc="-1" strike="noStrike">
                <a:solidFill>
                  <a:srgbClr val="000000"/>
                </a:solidFill>
                <a:latin typeface="Verdana"/>
              </a:rPr>
              <a:t>(а), </a:t>
            </a: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равномерное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), </a:t>
            </a: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агрегированное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ри котором особи образуют    отдельные группы (с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ыделенные три типа размещения организмов в природных популяциях редко встречаются в "чистом" вид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Прямоугольник 6" descr=""/>
          <p:cNvPicPr/>
          <p:nvPr/>
        </p:nvPicPr>
        <p:blipFill>
          <a:blip r:embed="rId2"/>
          <a:stretch/>
        </p:blipFill>
        <p:spPr>
          <a:xfrm>
            <a:off x="152280" y="0"/>
            <a:ext cx="9783720" cy="64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10"/>
          <p:cNvSpPr/>
          <p:nvPr/>
        </p:nvSpPr>
        <p:spPr>
          <a:xfrm>
            <a:off x="311040" y="1638360"/>
            <a:ext cx="9312480" cy="40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Статические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оказатели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характеризуют состояние популяции в какой-то определенный момент времени</a:t>
            </a: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К статическим показателям относятся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общая численность и плотность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(число особей, приходящееся на единицу пространства) популяции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биомасса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(суммарная масса особей на единице пространства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озрастная, размерная, половая структуры популяц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Прямоугольник 3" descr=""/>
          <p:cNvPicPr/>
          <p:nvPr/>
        </p:nvPicPr>
        <p:blipFill>
          <a:blip r:embed="rId1"/>
          <a:stretch/>
        </p:blipFill>
        <p:spPr>
          <a:xfrm>
            <a:off x="1079640" y="249120"/>
            <a:ext cx="8308800" cy="768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10"/>
          <p:cNvSpPr/>
          <p:nvPr/>
        </p:nvSpPr>
        <p:spPr>
          <a:xfrm>
            <a:off x="576360" y="1638360"/>
            <a:ext cx="866772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Динамические показатели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характеризуют процессы, протекающие в популяции за некоторый промежуток времени. Динамические показатели отражают изменение статических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изменение плотности, биомассы, продукция популяции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)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Прямоугольник 3" descr=""/>
          <p:cNvPicPr/>
          <p:nvPr/>
        </p:nvPicPr>
        <p:blipFill>
          <a:blip r:embed="rId1"/>
          <a:stretch/>
        </p:blipFill>
        <p:spPr>
          <a:xfrm>
            <a:off x="938160" y="249120"/>
            <a:ext cx="8302680" cy="768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96440" y="274680"/>
            <a:ext cx="89442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6600"/>
                </a:solidFill>
                <a:latin typeface="Calibri"/>
              </a:rPr>
              <a:t>Главные понятия современной теории эволюции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96440" y="2123640"/>
            <a:ext cx="8944200" cy="39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6600"/>
                </a:solidFill>
                <a:latin typeface="Calibri"/>
              </a:rPr>
              <a:t>Элементарная </a:t>
            </a:r>
            <a:r>
              <a:rPr b="1" lang="ru-RU" sz="3200" spc="-1" strike="noStrike">
                <a:solidFill>
                  <a:srgbClr val="996600"/>
                </a:solidFill>
                <a:latin typeface="Calibri"/>
              </a:rPr>
              <a:t>единица</a:t>
            </a:r>
            <a:r>
              <a:rPr b="0" lang="ru-RU" sz="3200" spc="-1" strike="noStrike">
                <a:solidFill>
                  <a:srgbClr val="996600"/>
                </a:solidFill>
                <a:latin typeface="Calibri"/>
              </a:rPr>
              <a:t> эволюц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6600"/>
                </a:solidFill>
                <a:latin typeface="Calibri"/>
              </a:rPr>
              <a:t>Элементарные </a:t>
            </a:r>
            <a:r>
              <a:rPr b="1" lang="ru-RU" sz="3200" spc="-1" strike="noStrike">
                <a:solidFill>
                  <a:srgbClr val="996600"/>
                </a:solidFill>
                <a:latin typeface="Calibri"/>
              </a:rPr>
              <a:t>явления</a:t>
            </a:r>
            <a:r>
              <a:rPr b="0" lang="ru-RU" sz="3200" spc="-1" strike="noStrike">
                <a:solidFill>
                  <a:srgbClr val="996600"/>
                </a:solidFill>
                <a:latin typeface="Calibri"/>
              </a:rPr>
              <a:t> эволюц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6600"/>
                </a:solidFill>
                <a:latin typeface="Calibri"/>
              </a:rPr>
              <a:t>Элементарный </a:t>
            </a:r>
            <a:r>
              <a:rPr b="1" lang="ru-RU" sz="3200" spc="-1" strike="noStrike">
                <a:solidFill>
                  <a:srgbClr val="996600"/>
                </a:solidFill>
                <a:latin typeface="Calibri"/>
              </a:rPr>
              <a:t>материал</a:t>
            </a:r>
            <a:r>
              <a:rPr b="0" lang="ru-RU" sz="3200" spc="-1" strike="noStrike">
                <a:solidFill>
                  <a:srgbClr val="996600"/>
                </a:solidFill>
                <a:latin typeface="Calibri"/>
              </a:rPr>
              <a:t> эволюц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6T15:06:17Z</dcterms:created>
  <dc:creator>User</dc:creator>
  <dc:description/>
  <dc:language>en-US</dc:language>
  <cp:lastModifiedBy>User</cp:lastModifiedBy>
  <dcterms:modified xsi:type="dcterms:W3CDTF">2020-03-30T09:58:35Z</dcterms:modified>
  <cp:revision>111</cp:revision>
  <dc:subject/>
  <dc:title>Популяция как основная единица эволюции</dc:title>
</cp:coreProperties>
</file>