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9393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B0CA-4EF9-43F0-ACF7-7BFA0A1A5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939960" y="685440"/>
            <a:ext cx="49780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685800"/>
            <a:ext cx="49780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A08E-424A-43E3-84A4-80D90A595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685800"/>
            <a:ext cx="49780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C26A-1276-4061-B27E-1F9060A0C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95E-3A87-45A6-AE5B-E1F71907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440" y="3953520"/>
            <a:ext cx="89442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2D3-094A-4621-A02D-E4F1DBFF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644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9A7-0EE3-46E5-9FBD-381A0AD9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0440" y="159516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159516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6440" y="395352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0440" y="395352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395352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70D-038A-430B-AD40-F889AE9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976-5E66-4117-8DED-090CB68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0A0-C91A-4841-B9AA-2C12108A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5D6-5F01-4335-9DC1-8A8FF49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20D-70F7-4718-90F6-00B52478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6440" y="274680"/>
            <a:ext cx="89442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5A8-A5EE-4542-8333-10B8C42A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644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564-74A3-46C8-8C53-073649D0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960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5D7-EE2A-4307-BBC4-083BA32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440" y="3953520"/>
            <a:ext cx="89442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EB8-BC35-4C0A-B617-BB9E521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440" y="6340320"/>
            <a:ext cx="2319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37E-0750-492E-A103-E81936BAF64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95520" y="6340320"/>
            <a:ext cx="3146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1160" y="6340320"/>
            <a:ext cx="2319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7EC-6750-4424-A12C-DF4B28801C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28/99500.htm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4120" y="2125800"/>
            <a:ext cx="844884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опуляция – структурная единица вида; основная единица эволю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90760" y="3876480"/>
            <a:ext cx="747864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и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Элементарные факторы эволю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Изоля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Популяционные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Дрейф ге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эволюции, который приводит к расхождению признаков особей в пределах одного вида и предотвращает скрещивание особей разных видов между со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65400"/>
            <a:ext cx="9937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ографическ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азрыв единого ареала на не сообщающиеся между собой части (образование гор, рек, проливов…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Экологическ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азные места обитания организмов и скрещивание в строго определенное время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иологическа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уществование механизмов, препятствующих скрещиванию (различия в поведении, разные сроки скрещивания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62120" y="323640"/>
            <a:ext cx="2795760" cy="65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ы пространственно изолированных популяций могут развиваться различными путями.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популяций могут потерять возможность скрещиваться по причине возникших различий в сроках брачных периодов, в инстинктах сооружения гнезд и нор, в поведении в период спари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Admin\Мои документы\Мои рисунки\5-02.jpg"/>
          <p:cNvPicPr/>
          <p:nvPr/>
        </p:nvPicPr>
        <p:blipFill>
          <a:blip r:embed="rId1"/>
          <a:stretch/>
        </p:blipFill>
        <p:spPr>
          <a:xfrm>
            <a:off x="5589720" y="0"/>
            <a:ext cx="4114800" cy="3776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Admin\Мои документы\Мои рисунки\man014.jpg"/>
          <p:cNvPicPr/>
          <p:nvPr/>
        </p:nvPicPr>
        <p:blipFill>
          <a:blip r:embed="rId2"/>
          <a:stretch/>
        </p:blipFill>
        <p:spPr>
          <a:xfrm>
            <a:off x="7996320" y="4417920"/>
            <a:ext cx="1760400" cy="121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Admin\Мои документы\Мои рисунки\bfbg.jpg"/>
          <p:cNvPicPr/>
          <p:nvPr/>
        </p:nvPicPr>
        <p:blipFill>
          <a:blip r:embed="rId3"/>
          <a:stretch/>
        </p:blipFill>
        <p:spPr>
          <a:xfrm>
            <a:off x="5589720" y="3848040"/>
            <a:ext cx="1984320" cy="136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Admin\Мои документы\Мои рисунки\images.jpg"/>
          <p:cNvPicPr/>
          <p:nvPr/>
        </p:nvPicPr>
        <p:blipFill>
          <a:blip r:embed="rId4"/>
          <a:stretch/>
        </p:blipFill>
        <p:spPr>
          <a:xfrm>
            <a:off x="6288120" y="5343480"/>
            <a:ext cx="1409760" cy="115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Admin\Мои документы\Мои рисунки\цкр.jpg"/>
          <p:cNvPicPr/>
          <p:nvPr/>
        </p:nvPicPr>
        <p:blipFill>
          <a:blip r:embed="rId5"/>
          <a:stretch/>
        </p:blipFill>
        <p:spPr>
          <a:xfrm>
            <a:off x="182520" y="204840"/>
            <a:ext cx="1128600" cy="126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Admin\Мои документы\Мои рисунки\2380-3.jpg"/>
          <p:cNvPicPr/>
          <p:nvPr/>
        </p:nvPicPr>
        <p:blipFill>
          <a:blip r:embed="rId6"/>
          <a:stretch/>
        </p:blipFill>
        <p:spPr>
          <a:xfrm>
            <a:off x="550800" y="1781280"/>
            <a:ext cx="1521000" cy="1377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Documents and Settings\Admin\Мои документы\Мои рисунки\remez02.jpg"/>
          <p:cNvPicPr/>
          <p:nvPr/>
        </p:nvPicPr>
        <p:blipFill>
          <a:blip r:embed="rId7"/>
          <a:stretch/>
        </p:blipFill>
        <p:spPr>
          <a:xfrm>
            <a:off x="233280" y="3278160"/>
            <a:ext cx="2451240" cy="274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Documents and Settings\Admin\Мои документы\Мои рисунки\ывчпи.jpg"/>
          <p:cNvPicPr/>
          <p:nvPr/>
        </p:nvPicPr>
        <p:blipFill>
          <a:blip r:embed="rId8"/>
          <a:stretch/>
        </p:blipFill>
        <p:spPr>
          <a:xfrm>
            <a:off x="1203480" y="569880"/>
            <a:ext cx="1481040" cy="101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ее изолированной оказывается популяция вида, тем более специфичной становится она по своим генетическим особеннос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6440" y="1595160"/>
            <a:ext cx="59468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исходит потому, что в связи с изоляцией сокращается встречаемость и скрещивание особей одной популяции с особями других популяций вида.   Такие события часто происходят в природе в связи с изменением географических или экологических условий на территории аре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Мои рисунки\15_3.jpg"/>
          <p:cNvPicPr/>
          <p:nvPr/>
        </p:nvPicPr>
        <p:blipFill>
          <a:blip r:embed="rId1"/>
          <a:stretch/>
        </p:blipFill>
        <p:spPr>
          <a:xfrm>
            <a:off x="6443640" y="2779560"/>
            <a:ext cx="3224160" cy="2849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Мои документы\Мои рисунки\ипвуирфу.jpg"/>
          <p:cNvPicPr/>
          <p:nvPr/>
        </p:nvPicPr>
        <p:blipFill>
          <a:blip r:embed="rId1"/>
          <a:stretch/>
        </p:blipFill>
        <p:spPr>
          <a:xfrm>
            <a:off x="2019240" y="1995480"/>
            <a:ext cx="1552680" cy="1301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Мои документы\Мои рисунки\беляк америк.jpg"/>
          <p:cNvPicPr/>
          <p:nvPr/>
        </p:nvPicPr>
        <p:blipFill>
          <a:blip r:embed="rId2"/>
          <a:stretch/>
        </p:blipFill>
        <p:spPr>
          <a:xfrm>
            <a:off x="7142040" y="1709640"/>
            <a:ext cx="1822680" cy="1568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6988320" y="3278160"/>
            <a:ext cx="1939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1897200" y="1496880"/>
            <a:ext cx="18572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 – бел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Documents and Settings\Admin\Мои документы\Мои рисунки\забайкальский з б.jpg"/>
          <p:cNvPicPr/>
          <p:nvPr/>
        </p:nvPicPr>
        <p:blipFill>
          <a:blip r:embed="rId3"/>
          <a:stretch/>
        </p:blipFill>
        <p:spPr>
          <a:xfrm>
            <a:off x="3727440" y="2494080"/>
            <a:ext cx="2587680" cy="2119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4192560" y="4632480"/>
            <a:ext cx="20955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йка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Admin\Мои документы\Мои рисунки\чернох амер.jpg"/>
          <p:cNvPicPr/>
          <p:nvPr/>
        </p:nvPicPr>
        <p:blipFill>
          <a:blip r:embed="rId4"/>
          <a:stretch/>
        </p:blipFill>
        <p:spPr>
          <a:xfrm>
            <a:off x="7918560" y="3990960"/>
            <a:ext cx="1476360" cy="2030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7219800" y="5913360"/>
            <a:ext cx="31831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ух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Documents and Settings\Admin\Мои документы\Мои рисунки\тибетский.jpg"/>
          <p:cNvPicPr/>
          <p:nvPr/>
        </p:nvPicPr>
        <p:blipFill>
          <a:blip r:embed="rId5"/>
          <a:stretch/>
        </p:blipFill>
        <p:spPr>
          <a:xfrm>
            <a:off x="233280" y="2494080"/>
            <a:ext cx="1379520" cy="1780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620640" y="4203720"/>
            <a:ext cx="19749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б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Documents and Settings\Admin\Мои документы\Мои рисунки\толай азия.jpg"/>
          <p:cNvPicPr/>
          <p:nvPr/>
        </p:nvPicPr>
        <p:blipFill>
          <a:blip r:embed="rId6"/>
          <a:stretch/>
        </p:blipFill>
        <p:spPr>
          <a:xfrm>
            <a:off x="4114800" y="5273640"/>
            <a:ext cx="2097000" cy="142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6288120" y="5486400"/>
            <a:ext cx="260964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ай (Аз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:\Documents and Settings\Admin\Мои документы\Мои рисунки\русак.jpg"/>
          <p:cNvPicPr/>
          <p:nvPr/>
        </p:nvPicPr>
        <p:blipFill>
          <a:blip r:embed="rId7"/>
          <a:stretch/>
        </p:blipFill>
        <p:spPr>
          <a:xfrm>
            <a:off x="311040" y="4632480"/>
            <a:ext cx="29815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73240" y="6342120"/>
            <a:ext cx="8031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754200" y="204840"/>
            <a:ext cx="85010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образие видов и подвидов зайцев – результат географической и экологической изоля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" y="213840"/>
            <a:ext cx="535644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особей может измениться брачная окраска (рыбы, птицы), брачные песни (птицы, земноводные, насекомые) или брачные танцы (птицы, рыбы, членистоногие). </a:t>
            </a:r>
            <a:r>
              <a:rPr b="0" lang="en-US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Documents and Settings\Admin\Мои документы\Мои рисунки\CA450JQD.jpg"/>
          <p:cNvPicPr/>
          <p:nvPr/>
        </p:nvPicPr>
        <p:blipFill>
          <a:blip r:embed="rId1"/>
          <a:stretch/>
        </p:blipFill>
        <p:spPr>
          <a:xfrm rot="265800">
            <a:off x="182520" y="3276360"/>
            <a:ext cx="1397160" cy="14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Admin\Мои документы\Мои рисунки\CAUZHVUL.jpg"/>
          <p:cNvPicPr/>
          <p:nvPr/>
        </p:nvPicPr>
        <p:blipFill>
          <a:blip r:embed="rId2"/>
          <a:stretch/>
        </p:blipFill>
        <p:spPr>
          <a:xfrm>
            <a:off x="6910560" y="4916520"/>
            <a:ext cx="2727000" cy="155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:\Documents and Settings\Admin\Мои документы\Мои рисунки\CA1KZCCF.jpg"/>
          <p:cNvPicPr/>
          <p:nvPr/>
        </p:nvPicPr>
        <p:blipFill>
          <a:blip r:embed="rId3"/>
          <a:stretch/>
        </p:blipFill>
        <p:spPr>
          <a:xfrm rot="21176400">
            <a:off x="2182680" y="3348000"/>
            <a:ext cx="1789200" cy="108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:\Documents and Settings\Admin\Мои документы\Мои рисунки\CA8LHPXQ.jpg"/>
          <p:cNvPicPr/>
          <p:nvPr/>
        </p:nvPicPr>
        <p:blipFill>
          <a:blip r:embed="rId4"/>
          <a:stretch/>
        </p:blipFill>
        <p:spPr>
          <a:xfrm rot="169200">
            <a:off x="4114440" y="4795920"/>
            <a:ext cx="2251080" cy="1384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:\Documents and Settings\Admin\Мои документы\Мои рисунки\A_fuligula_pair.jpg"/>
          <p:cNvPicPr/>
          <p:nvPr/>
        </p:nvPicPr>
        <p:blipFill>
          <a:blip r:embed="rId5"/>
          <a:stretch/>
        </p:blipFill>
        <p:spPr>
          <a:xfrm>
            <a:off x="6203880" y="919080"/>
            <a:ext cx="3436920" cy="235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:\Documents and Settings\Admin\Мои документы\Мои рисунки\a45.jpg"/>
          <p:cNvPicPr/>
          <p:nvPr/>
        </p:nvPicPr>
        <p:blipFill>
          <a:blip r:embed="rId6"/>
          <a:stretch/>
        </p:blipFill>
        <p:spPr>
          <a:xfrm rot="21396000">
            <a:off x="4269960" y="3108240"/>
            <a:ext cx="2406600" cy="1503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C:\Documents and Settings\Admin\Мои документы\Мои рисунки\nerest_boytsovoi_rybki.jpg"/>
          <p:cNvPicPr/>
          <p:nvPr/>
        </p:nvPicPr>
        <p:blipFill>
          <a:blip r:embed="rId7"/>
          <a:stretch/>
        </p:blipFill>
        <p:spPr>
          <a:xfrm rot="21353400">
            <a:off x="1552680" y="4595760"/>
            <a:ext cx="2328840" cy="224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C:\Documents and Settings\Admin\Мои документы\Мои рисунки\CAAR8P2N.jpg"/>
          <p:cNvPicPr/>
          <p:nvPr/>
        </p:nvPicPr>
        <p:blipFill>
          <a:blip r:embed="rId8"/>
          <a:stretch/>
        </p:blipFill>
        <p:spPr>
          <a:xfrm>
            <a:off x="7608960" y="3562200"/>
            <a:ext cx="1630440" cy="1289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04720" y="484200"/>
            <a:ext cx="47865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ния разных популяций могут иметь различные периоды цветения, разные взаимоотношения с опыляющими насеком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C:\Documents and Settings\Admin\Мои документы\Мои рисунки\1260128386_pchela001.jpg"/>
          <p:cNvPicPr/>
          <p:nvPr/>
        </p:nvPicPr>
        <p:blipFill>
          <a:blip r:embed="rId1"/>
          <a:stretch/>
        </p:blipFill>
        <p:spPr>
          <a:xfrm>
            <a:off x="1913040" y="4278240"/>
            <a:ext cx="2879640" cy="211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dmin\Мои документы\Мои рисунки\nectarinia_famosa_male_on_babiana_ringens_300.jpg"/>
          <p:cNvPicPr/>
          <p:nvPr/>
        </p:nvPicPr>
        <p:blipFill>
          <a:blip r:embed="rId2"/>
          <a:stretch/>
        </p:blipFill>
        <p:spPr>
          <a:xfrm>
            <a:off x="6443640" y="2921040"/>
            <a:ext cx="2695680" cy="373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dmin\Мои документы\Мои рисунки\Р‘СѓРґР»РµСЏ Р”Р°РІРёРґР°_05.JPG"/>
          <p:cNvPicPr/>
          <p:nvPr/>
        </p:nvPicPr>
        <p:blipFill>
          <a:blip r:embed="rId3"/>
          <a:stretch/>
        </p:blipFill>
        <p:spPr>
          <a:xfrm>
            <a:off x="5900760" y="498600"/>
            <a:ext cx="3313080" cy="2043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0280" y="142560"/>
            <a:ext cx="89442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пуляционные вол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4000" y="1260360"/>
            <a:ext cx="9626760" cy="57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популяций постоянно изменяется под влиянием биотических и абиотических фактор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т численности популяции идет не беспредельно. Сначала он ускоряется, затем замедляется и постепенно прекращается. Колебания численности растительной пищи, травоядных животных и хищников связаны друг с другом. Изменение численности хищников запаздывает за жертвой примерно на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3.jpg"/>
          <p:cNvPicPr/>
          <p:nvPr/>
        </p:nvPicPr>
        <p:blipFill>
          <a:blip r:embed="rId1"/>
          <a:stretch/>
        </p:blipFill>
        <p:spPr>
          <a:xfrm>
            <a:off x="0" y="0"/>
            <a:ext cx="993780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360" y="394920"/>
            <a:ext cx="97934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рмин «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пуляц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 происходит от латинского слова "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opulus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" (народ, население) и заимствован из демографии. Термин ввел в экологию в 1903 г. датский биолог   В.Л. Иоганс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пуляция - группа свободно скрещивающихся особей одного вида, существующая продолжительное время на определенной территории, относительно обособленных от других совокупностей особей того же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ЙФ  ГЕНОВ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6440" y="1331640"/>
            <a:ext cx="89442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учайные ненаправленные изменения частоты аллелей в популяции, в результате чего мутационный ген полностью вытесняет норм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ли: Н.П. Дубинин, Д.Д.Ромашов,   С.Райт, Р.Фиш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ЙФ  Г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сается малочисленных популяций с генофондом, ограниченным небольшим количеством генотипов в популя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офонд таких популяций в силу различных процессов, через несколько поколений может резко измен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6440" y="188640"/>
            <a:ext cx="89442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5120" y="1338120"/>
            <a:ext cx="95472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растание генетической однородности популяции, возрастание гомозиго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ержание аллели, снижающей жизнеспособность популяции (дрейф ген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строе и резкое возрастание концентрации редких алл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 эволюционные преобразования генотипической структуры популя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-1584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верг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9080" y="1115640"/>
            <a:ext cx="915192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ген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схождения признаков у родственных организ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дивергенции при географической изоляции является как приспособление существ к разным условиям среды, так и различие в исходных генофондах (в новые популяции разные аллели генов попадают в разных соотношения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9438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ГЕНЦИЯ</a:t>
            </a:r>
            <a:br>
              <a:rPr sz="3100"/>
            </a:br>
            <a:br>
              <a:rPr sz="31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генция животных в связи с приспособлением к различным условиям среды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заяц-русак; 2 – белка-летяга; 3 – тушканчик; 4 – большая песчанка; 5 – слепыш; 6 – боб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\Мои документы\Мои рисунки\6.gif"/>
          <p:cNvPicPr/>
          <p:nvPr/>
        </p:nvPicPr>
        <p:blipFill>
          <a:blip r:embed="rId1"/>
          <a:stretch/>
        </p:blipFill>
        <p:spPr>
          <a:xfrm>
            <a:off x="2089080" y="3564000"/>
            <a:ext cx="6059520" cy="30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вида лютиков, произрастающих на одной территории в средней полосе России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кашубск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ползуч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едк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прыщин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\Мои документы\Мои рисунки\7.gif"/>
          <p:cNvPicPr/>
          <p:nvPr/>
        </p:nvPicPr>
        <p:blipFill>
          <a:blip r:embed="rId1"/>
          <a:stretch/>
        </p:blipFill>
        <p:spPr>
          <a:xfrm>
            <a:off x="6183360" y="1704960"/>
            <a:ext cx="3228840" cy="4438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647640" y="4284720"/>
            <a:ext cx="5046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0 видов лютиков имеют предком один вид. Причиной их расхождения явилась географическая специализация: одни виды живут на болотах, другие – на лугах, третьи – в лесу и т.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11640" y="142560"/>
            <a:ext cx="4572000" cy="577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изолированной популяции накапливаются мутации, контролируемые естественным отбором, в ней начинается процесс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эволюции.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эволюция -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эволюционных событий, которые, происходя в популяциях, приводят к изменению генофонда популяции внутри вида и, следовательно, к образованию новых вид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Admin\Мои документы\Мои рисунки\Bio150_0083.png"/>
          <p:cNvPicPr/>
          <p:nvPr/>
        </p:nvPicPr>
        <p:blipFill>
          <a:blip r:embed="rId1"/>
          <a:stretch/>
        </p:blipFill>
        <p:spPr>
          <a:xfrm>
            <a:off x="144360" y="468360"/>
            <a:ext cx="4915080" cy="5796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6440" y="291600"/>
            <a:ext cx="894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Этапы эволю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6440" y="1265040"/>
            <a:ext cx="89442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Calibri"/>
              </a:rPr>
              <a:t>Микроэволюция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- все эволюционные процессы внутри популяции, приводящих к образованию новых видов  (популяция – подвид – вид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Calibri"/>
              </a:rPr>
              <a:t>Макроэволюция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- эволюционные процессы, происходящие в надвидовых систематических группах. В результате макроэволюции формируются новые роды, семейства, отряды, классы, типы (отделы), подцарства, царства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" y="142920"/>
            <a:ext cx="9315720" cy="61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микроэволюции, популяции представляют собой генетически открытые системы, а вид, как система популяций, является наименьшей природной генетически закрытой систем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уляция – элементарная эволюционная единица,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ид – результат микроэволю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популяции наблюдается элементарное эволюционное явление - </a:t>
            </a:r>
            <a:r>
              <a:rPr b="0" i="1" lang="ru-RU" sz="3200" spc="-1" strike="noStrike" u="sng">
                <a:solidFill>
                  <a:srgbClr val="632523"/>
                </a:solidFill>
                <a:uFillTx/>
                <a:latin typeface="Times New Roman"/>
                <a:ea typeface="Times New Roman"/>
              </a:rPr>
              <a:t>изменение ее генетического состава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мутационным изменениям придает естественный отбо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6440" y="291600"/>
            <a:ext cx="894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Связ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6440" y="1265040"/>
            <a:ext cx="89442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Макро- и микроэволюция взаимосвязаны и являются этапами эволюционного процес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Макроэволюция протекает на основе микроэволюционных процесс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9"/>
          <p:cNvSpPr/>
          <p:nvPr/>
        </p:nvSpPr>
        <p:spPr>
          <a:xfrm>
            <a:off x="272880" y="1638360"/>
            <a:ext cx="943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пуляция, с одной стороны, является биологической системой. С другой стороны - элементом системы более высокого уровня организации – экологической, или эко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8000" y="0"/>
            <a:ext cx="830736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Verdana"/>
              </a:rPr>
              <a:t>ПОПУЛЯ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6440" y="274320"/>
            <a:ext cx="8944200" cy="27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эволюционные события - например, выход позвоночных на сушу - происходят на протяжении сотни тысяч или миллионов лет и сопровождаются значительными изменениями облика животного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Documents and Settings\Admin\Мои документы\Мои рисунки\ихтиостега.jpg"/>
          <p:cNvPicPr/>
          <p:nvPr/>
        </p:nvPicPr>
        <p:blipFill>
          <a:blip r:embed="rId1"/>
          <a:stretch/>
        </p:blipFill>
        <p:spPr>
          <a:xfrm>
            <a:off x="4270320" y="3421080"/>
            <a:ext cx="5154840" cy="278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Admin\Мои документы\Мои рисунки\мрлрд..jpg"/>
          <p:cNvPicPr/>
          <p:nvPr/>
        </p:nvPicPr>
        <p:blipFill>
          <a:blip r:embed="rId2"/>
          <a:stretch/>
        </p:blipFill>
        <p:spPr>
          <a:xfrm>
            <a:off x="853920" y="3562200"/>
            <a:ext cx="32004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1169280" y="5913360"/>
            <a:ext cx="1345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м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357880" y="6199200"/>
            <a:ext cx="36478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тиост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80" y="355680"/>
            <a:ext cx="427032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эволюция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ршается в течение геологически более короткого времени по сравнению с макроэволюцией, которая требует очень длительных периодов времени – десятки, сотни миллионов лет.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 все процессы макроэволюции осуществляются только по средствам микроэволюции. Процессы микроэволюции в популяциях происходят постоянно, что позволяет адаптировать виды к постоянно меняющимся условиям  среды. Поэтому вид называют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ым этапом эволюционного процесса</a:t>
            </a: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C:\Documents and Settings\Admin\Мои документы\Мои рисунки\faces.jpg"/>
          <p:cNvPicPr/>
          <p:nvPr/>
        </p:nvPicPr>
        <p:blipFill>
          <a:blip r:embed="rId1"/>
          <a:stretch/>
        </p:blipFill>
        <p:spPr>
          <a:xfrm>
            <a:off x="4657680" y="355680"/>
            <a:ext cx="4876920" cy="6302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5120" y="426960"/>
          <a:ext cx="9317160" cy="6151680"/>
        </p:xfrm>
        <a:graphic>
          <a:graphicData uri="http://schemas.openxmlformats.org/drawingml/2006/table">
            <a:tbl>
              <a:tblPr/>
              <a:tblGrid>
                <a:gridCol w="1941480"/>
                <a:gridCol w="3719520"/>
                <a:gridCol w="3656160"/>
              </a:tblGrid>
              <a:tr h="426960">
                <a:tc>
                  <a:txBody>
                    <a:bodyPr lIns="99360" rIns="9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сс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кроэволю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роэволю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9700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Поня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Все эволюционные процессы внутри популяции, приводящих к образованию новых видо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Эволюционные процессы, происходящие в надвидовых систематических группах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Временные рам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Сотни, тысячи л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Геологические эпох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(млн. л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352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Фак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Изменчивость, борьба за существовани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естественный отб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Изменчивость, борьба за существовани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естественный отб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244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Новые подвиды и ви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Новые роды, семейства, отряды, классы, типы (отделы), подцарства, царства, 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м и результатом микроэволюции является макроэволюц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роэволюция,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окупность процессов эволюции живых форм, протекающих на надвидовом уровне, то есть после установления практически полной межвидовой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изоляции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кращения нивелировки достигнутых различий путём скрещивани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роэволюция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на основе процессов микроэволюции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необрати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5440" y="1704600"/>
            <a:ext cx="49291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исчезнувшие виды никогда не появятся внов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результатов эволюции оказывается возможным благодаря устойчивости ви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видов – историческая реальность. Эволюционные процессы всегда начинались внутри вида в той или иной его популя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C:\Documents and Settings\Admin\Мои документы\Мои рисунки\186241199.jpg"/>
          <p:cNvPicPr/>
          <p:nvPr/>
        </p:nvPicPr>
        <p:blipFill>
          <a:blip r:embed="rId1"/>
          <a:stretch/>
        </p:blipFill>
        <p:spPr>
          <a:xfrm>
            <a:off x="7686720" y="2066760"/>
            <a:ext cx="2087640" cy="1341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Documents and Settings\Admin\Мои документы\Мои рисунки\пйк.jpg"/>
          <p:cNvPicPr/>
          <p:nvPr/>
        </p:nvPicPr>
        <p:blipFill>
          <a:blip r:embed="rId2"/>
          <a:stretch/>
        </p:blipFill>
        <p:spPr>
          <a:xfrm>
            <a:off x="7297560" y="4417920"/>
            <a:ext cx="1971720" cy="157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Admin\Мои документы\Мои рисунки\jirafa-7294.jpg"/>
          <p:cNvPicPr/>
          <p:nvPr/>
        </p:nvPicPr>
        <p:blipFill>
          <a:blip r:embed="rId3"/>
          <a:stretch/>
        </p:blipFill>
        <p:spPr>
          <a:xfrm>
            <a:off x="5969160" y="3205080"/>
            <a:ext cx="1630080" cy="21114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3"/>
          <p:cNvSpPr/>
          <p:nvPr/>
        </p:nvSpPr>
        <p:spPr>
          <a:xfrm>
            <a:off x="5978520" y="6199200"/>
            <a:ext cx="42148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пи – лесной жира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C:\Documents and Settings\Admin\Мои документы\Мои рисунки\иар.jpg"/>
          <p:cNvPicPr/>
          <p:nvPr/>
        </p:nvPicPr>
        <p:blipFill>
          <a:blip r:embed="rId4"/>
          <a:stretch/>
        </p:blipFill>
        <p:spPr>
          <a:xfrm>
            <a:off x="5978520" y="1176480"/>
            <a:ext cx="2189160" cy="124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33280" y="285840"/>
            <a:ext cx="787896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существуют в природе в виде популяций, которые обладают особым генофондом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фонд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вокупность всех генотипов особей в популя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се популяции у каждого вида характеризуются генетическим разнообразие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ческое разнообрази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ий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е цветков различной окра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dmin\Мои документы\Мои рисунки\11030101.jpg"/>
          <p:cNvPicPr/>
          <p:nvPr/>
        </p:nvPicPr>
        <p:blipFill>
          <a:blip r:embed="rId1"/>
          <a:stretch/>
        </p:blipFill>
        <p:spPr>
          <a:xfrm>
            <a:off x="6769080" y="2844720"/>
            <a:ext cx="302436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-1584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одство особей в популя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6440" y="1115640"/>
            <a:ext cx="89442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нми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личия особей в популя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(возрастной, полово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95160"/>
            <a:ext cx="43894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2" descr="Raspr_3"/>
          <p:cNvPicPr/>
          <p:nvPr/>
        </p:nvPicPr>
        <p:blipFill>
          <a:blip r:embed="rId1"/>
          <a:stretch/>
        </p:blipFill>
        <p:spPr>
          <a:xfrm>
            <a:off x="698400" y="3206880"/>
            <a:ext cx="8307360" cy="3246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" name="Text Box 12"/>
          <p:cNvSpPr/>
          <p:nvPr/>
        </p:nvSpPr>
        <p:spPr>
          <a:xfrm>
            <a:off x="155520" y="971640"/>
            <a:ext cx="9626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пы распределения особей в популяции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учайно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а)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вномерное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грегирован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котором особи образуют    отдельные группы (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ные три типа размещения организмов в природных популяциях редко встречаются в "чистом"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152280" y="0"/>
            <a:ext cx="978372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"/>
          <p:cNvSpPr/>
          <p:nvPr/>
        </p:nvSpPr>
        <p:spPr>
          <a:xfrm>
            <a:off x="311040" y="1638360"/>
            <a:ext cx="9312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тическ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характеризуют состояние популяции в какой-то определенный момент времен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 статическим показателям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ая численность и 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число особей, приходящееся на единицу пространства) популя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омасс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уммарная масса особей на единице пространств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растная, размерная, половая структуры популя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079640" y="249120"/>
            <a:ext cx="8308800" cy="7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576360" y="1638360"/>
            <a:ext cx="8667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инамические 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характеризуют процессы, протекающие в популяции за некоторый промежуток времени. Динамические показатели отражают изменение статически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плотности, биомассы, продукция популя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938160" y="249120"/>
            <a:ext cx="8302680" cy="7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Главные понятия современной теории эволю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6440" y="2123640"/>
            <a:ext cx="894420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Элементарная </a:t>
            </a: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единица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эв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Элементарные </a:t>
            </a: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явления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эв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Элементарный </a:t>
            </a: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эв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06:17Z</dcterms:created>
  <dc:creator>User</dc:creator>
  <dc:description/>
  <dc:language>en-US</dc:language>
  <cp:lastModifiedBy>User</cp:lastModifiedBy>
  <dcterms:modified xsi:type="dcterms:W3CDTF">2020-03-30T09:58:35Z</dcterms:modified>
  <cp:revision>111</cp:revision>
  <dc:subject/>
  <dc:title>Популяция как основная единица эволюции</dc:title>
</cp:coreProperties>
</file>