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7EA1-09EE-4165-BF82-BB77BEEE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6919-C7DE-4504-B213-289167F6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3BE7-F617-4346-B3FE-3153D026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6F79-9790-41EF-A3BE-1CC8AFB2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D5B4-4D3A-46B7-85AB-C9A3F706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C5B1-EDF1-4E36-839C-854CCE06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CFA6-18B3-45CF-9595-F9DB36B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7D3B-9DEB-4A67-8332-7B05384F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6D4E-858F-49A8-8798-BD9BB667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91FE-CCBF-4794-A594-574FABB7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4A7C-2773-4A65-B490-3DEF10FF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6E6B-E415-4A58-879C-EE1B11EA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257A-E4B2-480C-8B65-C0F70C9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3E8C-BED2-4B62-AC54-C464DB9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D644-DF2E-4E75-8242-9C77F0F7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B5D5-D8C5-483A-AA5D-495F1039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1C73-E537-4C0E-BB1D-29C37CB5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3ED9-5D09-45DB-B7A0-5E600B81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CA4E-AC78-4B9F-8D5E-86BA886C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9A30-41F5-44F8-AABD-CA8AAB56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F4C5-8576-482D-A86D-E16DE28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3CA7-2ABF-49BC-A615-FC613BC2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967F-E31D-452D-B112-F458641E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1D66-EC84-4B20-AD29-B1ED4FF3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FCE-65EF-4022-A7AA-6E1E19A562D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7B92-E02F-45A5-9575-97A1215E55F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600" spc="-1" strike="noStrike">
                <a:solidFill>
                  <a:srgbClr val="ffffcc"/>
                </a:solidFill>
                <a:latin typeface="Tahoma"/>
              </a:rPr>
              <a:t>ПАТРИОТИЧЕСКОЕ ВОСПИТАНИЕ ДОШКОЛЬНИКОВ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3660480"/>
            <a:ext cx="792972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eorgia"/>
              </a:rPr>
              <a:t>ПРОЕ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eorgia"/>
              </a:rPr>
              <a:t>«Жить – Родине служить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8"/>
          <p:cNvSpPr/>
          <p:nvPr/>
        </p:nvSpPr>
        <p:spPr>
          <a:xfrm>
            <a:off x="71280" y="1285920"/>
            <a:ext cx="511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ем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«Путешеств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о родному город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ширить представление детей о родном городе, его достопримечательностях, показать красоту г. Воронежа, продолжать знакомить детей с районом на территории которого находится ДОУ. Воспитывать любовь к родному гор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https://bumper-stickers.ru/47232-thickbox_default/gerb-voronejskoy-oblasti.jpg"/>
          <p:cNvPicPr/>
          <p:nvPr/>
        </p:nvPicPr>
        <p:blipFill>
          <a:blip r:embed="rId1"/>
          <a:stretch/>
        </p:blipFill>
        <p:spPr>
          <a:xfrm>
            <a:off x="142920" y="142920"/>
            <a:ext cx="1568520" cy="1568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http://promlog.ru/promlog/static/images/regions/gorod-voronezh.jpg"/>
          <p:cNvPicPr/>
          <p:nvPr/>
        </p:nvPicPr>
        <p:blipFill>
          <a:blip r:embed="rId2"/>
          <a:stretch/>
        </p:blipFill>
        <p:spPr>
          <a:xfrm>
            <a:off x="5000760" y="214200"/>
            <a:ext cx="3666960" cy="302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http://v-kurse-voronezh.ru/wp-content/uploads/2017/05/Levobereznii-raion.jpg"/>
          <p:cNvPicPr/>
          <p:nvPr/>
        </p:nvPicPr>
        <p:blipFill>
          <a:blip r:embed="rId3"/>
          <a:stretch/>
        </p:blipFill>
        <p:spPr>
          <a:xfrm>
            <a:off x="4500720" y="3929040"/>
            <a:ext cx="43574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https://www.temavoronezh.ru/media/news/207678/d36f96f0621441884b259a90fdecda31.jpg"/>
          <p:cNvPicPr/>
          <p:nvPr/>
        </p:nvPicPr>
        <p:blipFill>
          <a:blip r:embed="rId1"/>
          <a:stretch/>
        </p:blipFill>
        <p:spPr>
          <a:xfrm>
            <a:off x="214200" y="285840"/>
            <a:ext cx="4310280" cy="292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https://img-fotki.yandex.ru/get/4710/103192442.b/0_6c308_b5f3d31e_XXL.jpg"/>
          <p:cNvPicPr/>
          <p:nvPr/>
        </p:nvPicPr>
        <p:blipFill>
          <a:blip r:embed="rId2"/>
          <a:stretch/>
        </p:blipFill>
        <p:spPr>
          <a:xfrm>
            <a:off x="4643280" y="285840"/>
            <a:ext cx="4321440" cy="2894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http://posutochno.org/voronezh/40315/kvartira_nasutki_voronezh_40315_11.jpg"/>
          <p:cNvPicPr/>
          <p:nvPr/>
        </p:nvPicPr>
        <p:blipFill>
          <a:blip r:embed="rId3"/>
          <a:stretch/>
        </p:blipFill>
        <p:spPr>
          <a:xfrm>
            <a:off x="285840" y="3286080"/>
            <a:ext cx="4259160" cy="300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http://votezde.org/img/places/ChIJ7-Sbv7UvO0ERPOSjM7z1pT8.jpg"/>
          <p:cNvPicPr/>
          <p:nvPr/>
        </p:nvPicPr>
        <p:blipFill>
          <a:blip r:embed="rId4"/>
          <a:stretch/>
        </p:blipFill>
        <p:spPr>
          <a:xfrm>
            <a:off x="4786200" y="3286080"/>
            <a:ext cx="399420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4"/>
          <p:cNvSpPr/>
          <p:nvPr/>
        </p:nvSpPr>
        <p:spPr>
          <a:xfrm>
            <a:off x="250920" y="189000"/>
            <a:ext cx="8066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ема: «Защитники Отече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: Расширять и уточнять знания детей о защитниках Отечества, об их подвигах, о героях – земляках Великой Отечественной войны 1941 – 1945г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а над словарём, защитники , отечество, добле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териал к занятию: семейное фото, иллюст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ая деятельность : рассматривание картин, чтение стихотворения «Почему ты шинель бережёшь», экскурсия в сквер к мемориалу, посещение музе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179280" y="189000"/>
            <a:ext cx="929016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комендации для родителе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«Как воспитать маленького патриот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ли в детстве ребенок испытывал чувство жалости к другому человеку, радость от хорошего поступка, гордость за своих родителей, восхищение от соприкосновения с прекрасным подвигом, он приобрел эмоциональный опыт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         Тем самым будут построены пути для ассоциаций эмоционального характера, а это является основой, фундаментом более глубоких чувств, условием полноценного развития человека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         Воспитание маленького патриота начинается с самого близкого для него - родного дома, улицы, где он живет, детского са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щайте внимание ребенка на красоту родного гор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о время прогулки расскажите, что находится на вашей улице, поговорите о значении каждого объек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айте представление о работе общественных учреждений: почты, магазина, библиотеки и т.д. Понаблюдайте за работой сотрудников этих учреждений, отметьте ценность их тру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месте с ребенком принимайте участие в труде по благоустройству и озеленению своего дво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Расширяйте собственный кругозо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Учите ребенка правильно оценивать свои поступки и поступки других люд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итайте ему книги о родине, ее героях, о традициях, культуре своего нар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оощряйте ребенка за стремление поддерживать порядок, примерное поведение в общественных мест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964720" cy="455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Человеку никак нельзя жить без Родины, как нельзя жить без сердца»</a:t>
            </a:r>
            <a:br>
              <a:rPr sz="3600"/>
            </a:br>
            <a:br>
              <a:rPr sz="3600"/>
            </a:b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                К. Паустовский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626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ffff00"/>
                </a:solidFill>
                <a:uFillTx/>
                <a:latin typeface="Tahoma"/>
              </a:rPr>
              <a:t>Проект:</a:t>
            </a: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2500" spc="-1" strike="noStrike">
                <a:solidFill>
                  <a:srgbClr val="ffffcc"/>
                </a:solidFill>
                <a:latin typeface="Tahoma"/>
              </a:rPr>
              <a:t>познавательный, групповой.</a:t>
            </a:r>
            <a:br>
              <a:rPr sz="2500"/>
            </a:br>
            <a:br>
              <a:rPr sz="2500"/>
            </a:br>
            <a:r>
              <a:rPr b="1" lang="ru-RU" sz="2500" spc="-1" strike="noStrike" u="sng">
                <a:solidFill>
                  <a:srgbClr val="ffffcc"/>
                </a:solidFill>
                <a:uFillTx/>
                <a:latin typeface="Tahoma"/>
              </a:rPr>
              <a:t>Актуальность темы:</a:t>
            </a:r>
            <a:r>
              <a:rPr b="1" lang="ru-RU" sz="25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br>
              <a:rPr sz="2500"/>
            </a:b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Родина, Отечество… В корнях этих слов близкие каждому образы: мать и отец, родители, те, кто дает жизнь новому существу. Воспитание чувства патриотизма у дошкольников- процесс сложный и длительный .Любовь к близким людям, к детскому саду, к родному городу и родной стране играют огромную роль в становлении личности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Цель проект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ние гражданина и патриота своей страны. Знакомить с историей Российской армии и ее ролью в современном обществе, воспитывать чувство гордости и уважения к нашим героическим предкам и сегодняшним защитникам Отечества, вызывать желание быть похожими на сильных и смелых российских солд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предметно-развивающей среды, способствующей патриотическому воспитанию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05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Задачи проек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77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ание любви к своей Родине- Росси, уважительного отношения к защитникам отечества, государственной символ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учить гордится воинами, защищавшими нашу Родину в разные периоды ее исто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комить с былинными и сказочными богатырями, рассказать о том, что объединяет их с людьми военных профессий, живущими в настоящее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комить с особенностями службы моряков, летчиков, танкистов, пехотинцев, пограничников, ракетчиков, связистов и их подготовки к защите Отеч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ИПОТЕЗ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риотическое воспитание должно носить комплексный характер, осуществляться в повседневной жизни на занятиях по ознакомлению с окружающим миром, экскурсиях, целевых прогулках, беседах. Наличие таких знаний, на мой взгляд ,является непременным условием полноценного патриотического воспитания, осуществляемого в системе. В противном случае знания детей останутся непол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МАТЕРИАЛЬНО-ТЕХНИЧЕСКИЕ РЕСУРСЫ ПРОЕК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ОР ИСТРИЧЕСКОЙ ЛИТЕРА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ОР ПРОИЗВЕДЕНИЙ РУССКОГО НАРОДНОГО ТВОР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ЛЮСТРАЦИИ, ФОТОГРАФИИ, ЗАРИС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КА ИЗОБРАЗИТЕЛЬНОГО МАТЕРИ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ДАКТИЧЕСКИЕ ИГ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КИ КНИГ, РИСУНКОВ, ПОДЕЛ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ЭТАПЫ РЕАЛИЗАЦИИ ПРОЕК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онно-накоп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ение интереса детей для определения целей про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бор литературы для взрослых и де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рганизационно-практический эта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экскурсий, бесед, целевых прогул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ещение памятников, мемориа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ение художественной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готовление атрибутов к сюжетно-ролевым игр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ознавательных занятий, выставок рисунков и поделок с участием р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формление альбома «Защитники Отече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езентационно-завершающий эта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рытое занятие «Жить - Родине служит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P1060623"/>
          <p:cNvPicPr/>
          <p:nvPr/>
        </p:nvPicPr>
        <p:blipFill>
          <a:blip r:embed="rId1"/>
          <a:srcRect l="27919" t="13240" r="18104" b="0"/>
          <a:stretch/>
        </p:blipFill>
        <p:spPr>
          <a:xfrm>
            <a:off x="5292720" y="333360"/>
            <a:ext cx="2971800" cy="2687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P1060626"/>
          <p:cNvPicPr/>
          <p:nvPr/>
        </p:nvPicPr>
        <p:blipFill>
          <a:blip r:embed="rId2"/>
          <a:srcRect l="51867" t="16466" r="9245" b="14425"/>
          <a:stretch/>
        </p:blipFill>
        <p:spPr>
          <a:xfrm>
            <a:off x="5435640" y="3573360"/>
            <a:ext cx="2663640" cy="2665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539640" y="189000"/>
            <a:ext cx="42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Тем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атривание репродукции картины В. Васнецова «Богатыр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комить детей с картиной «Богатыри» с именами русских богатырей Ильей Муромцем, Добрыней Никитичем, Алёшей Попович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ь детей отвечать на поставленные вопросы связанно и последовательно, описывать внешность богатырей и окружающей пейзаж, рассуждать о характерах героев и построение карти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итывать в детях гордость за своих предк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5:32:33Z</dcterms:created>
  <dc:creator>Loner-XP</dc:creator>
  <dc:description/>
  <dc:language>en-US</dc:language>
  <cp:lastModifiedBy>Ирина</cp:lastModifiedBy>
  <dcterms:modified xsi:type="dcterms:W3CDTF">2019-02-17T16:52:58Z</dcterms:modified>
  <cp:revision>20</cp:revision>
  <dc:subject/>
  <dc:title>МДОУ Эртильский детский сад №3</dc:title>
</cp:coreProperties>
</file>