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8D62-37AB-428A-B1E7-6FBBD28C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C967-2C4B-4ED7-ADA1-74D5391A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B548-4588-42CC-8229-94EFEDE8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BC28-2BD6-458F-A979-28287094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6E0E-F22A-45AC-BA4D-A5A550F9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0B98-E1DD-4069-8D40-58AC794B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DCDC-8235-441F-8502-D20BD437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746E-75A7-4512-8298-DC698BF7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5980-0B78-47D5-B4CA-E216ADFA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7096-2C41-4852-A0CB-1ACE319A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B933-34CC-4819-B538-9BE1CCFE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6F50-5AD6-465A-99D1-B188078F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0883-6EE7-4F7C-8F68-8ACAA452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01E9-97B9-43C3-914C-88D8923E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DB8A-AF86-4159-AB68-5E74805C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D18A-31F5-44E5-B1D1-EF1112D6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3068-6933-42FE-8CBD-C9CBFD40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14F7-A710-47D5-8028-B1A339AA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8AF1-9394-4ED9-A3E2-592970FC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C288-4033-4BD2-8BBD-88998B2C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F745-62E5-4762-BCD8-94E593C0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07A9-E55D-44D5-B0EF-2090A129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0642-3BF7-4FF5-83DD-FC2837AD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B81B-9BEB-42B5-A8A5-DDCB8132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1C56-7CD7-4814-A346-5B735DE4A6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06C2-FCD2-41CC-AF6A-8FC0D5CB5716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Мастер-класс «Обучение креативному письму»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едмет:немецкий язык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итель: Юсупова Л.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У «Еткульская СОШ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023 го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s hast du gemach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e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ben/ sein  + Partizi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. Etap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e geht es di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reibe mir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r deine Sch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r deine Klas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r deine Freun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r deine Freize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r deine Hobb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s ba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 g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üß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dich…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ldet 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Arial"/>
              </a:rPr>
              <a:t>ä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ze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(обратный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рядок слов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600200"/>
          <a:ext cx="8229600" cy="5122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 Ju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u Ha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 Ju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 Ferienlag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 Augu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r i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 Sportlag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ue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 Dorf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m Schwarzen Me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n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i meinen Gr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te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uletz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Mosk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6. Etap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tkul, den 29. Septemb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ebe Elke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e geht es dir?____________________________________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 g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üß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 di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in(e) Pasch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el Spass und Erfolg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Этапы работы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оздание интриги уро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Постановка задачи перед деть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. Обсуждение содержания письм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Повторение порядка слов в предложен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5. Повторение речевых клише письм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6.Правила оформления письм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7. Написание письм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Etap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ehr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Kinder, wir haben den Brief von unserer Freundin Elke bekommen. 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ö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t aufmerksam zu. Seite 25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.:1) Wer hat den Brief geschrieb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) Wie geht es Elk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) Wo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 fragt Elk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 Etap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ehr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Jetzt schreiben wir den Brief unserer Freundin Elk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gt bitte: Wo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 schreiben wir? 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 die Sommerferi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 Etap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ehrer: Lesen wir das Gedich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 Ende ist die Ferienze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 Sommer sagt 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e war es s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ö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im weiten Land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 g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n Wald, am blauen Meer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 Se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antwortet die Frag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s ist zu End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s sagt der Somm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 war es s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ö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ehrer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rinnern wir uns an die Sommerferien, wo ihr wart,  wie es dort war und wie ihr die Ferien verbracht hab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ldet 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Arial"/>
              </a:rPr>
              <a:t>ä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ze: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прямой порядок слов)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4. Etappe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5122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 Ju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u Ha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 Ju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 Ferienlag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ch w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 Augu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 Sportlag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ue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 Dor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m Schwarzen Me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n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i meinen Gr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te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uletz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Mosk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ldet 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Arial"/>
              </a:rPr>
              <a:t>ä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ze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(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ямой порядок слов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85920" y="2155680"/>
          <a:ext cx="7556400" cy="4664160"/>
        </p:xfrm>
        <a:graphic>
          <a:graphicData uri="http://schemas.openxmlformats.org/drawingml/2006/table">
            <a:tbl>
              <a:tblPr/>
              <a:tblGrid>
                <a:gridCol w="3051000"/>
                <a:gridCol w="4505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ö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unders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ö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 war d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hr g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ess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las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- la-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ngweili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ldet 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Arial"/>
              </a:rPr>
              <a:t>ä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ze (</a:t>
            </a:r>
            <a:r>
              <a:rPr b="0" lang="ru-RU" sz="3700" spc="-1" strike="noStrike">
                <a:solidFill>
                  <a:srgbClr val="333399"/>
                </a:solidFill>
                <a:latin typeface="Tahoma"/>
              </a:rPr>
              <a:t>обратный порядок слов)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82600" y="2017800"/>
          <a:ext cx="7772400" cy="4145040"/>
        </p:xfrm>
        <a:graphic>
          <a:graphicData uri="http://schemas.openxmlformats.org/drawingml/2006/table">
            <a:tbl>
              <a:tblPr/>
              <a:tblGrid>
                <a:gridCol w="2662200"/>
                <a:gridCol w="5110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ö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las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rt war 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hr g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undersc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ö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ess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ngweili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0:12:27Z</dcterms:created>
  <dc:creator>Sam</dc:creator>
  <dc:description/>
  <dc:language>en-US</dc:language>
  <cp:lastModifiedBy>User</cp:lastModifiedBy>
  <dcterms:modified xsi:type="dcterms:W3CDTF">2023-07-10T16:43:08Z</dcterms:modified>
  <cp:revision>3</cp:revision>
  <dc:subject/>
  <dc:title>Слайд 1</dc:title>
</cp:coreProperties>
</file>