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7BC-9414-47E4-9A2C-D605D73C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603-8FA2-4618-9171-4C47D67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61A-6548-4582-870B-7DB0C8BB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706-0B01-436D-8A65-77469EF6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25AE-D41E-412E-908B-CF110DEC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A3B-23C9-4825-B2CB-15D376F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B7E6-1ED3-47CB-88CE-F0B348EF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5F93-072D-48A0-B049-B55772DF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2CC4-E230-4F08-8F75-BF5CD90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0453-2F46-43B7-ABB3-6EFDDB32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1912-EBC8-49E1-B60A-36EDF21A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D10-DEFB-41FD-A2B6-6D76B73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B1A2-7DD2-4D44-91B5-4B8A656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F70F-FFAF-4D72-8280-6DAA4215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18A9-E021-4BAD-90E0-2D1046A6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A4D-A96D-46EF-B074-CBC51761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6462-FC99-43F5-8F86-412E302F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138-1504-445A-AE94-CEF5AE7C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B24-74B7-46BE-9F9B-F07DAD9C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1A2-54FB-4CBF-A686-0051BFC0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F03-F4CB-41D0-8BB0-2F66E63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103-0E52-4191-9144-DB109B1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D11-BFF7-4957-9FA6-FDA8F67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977-20DC-4E20-A5AC-42C0BC4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FDD8-D710-46BD-9A3D-CCDD8BEF4A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77DE-25B0-44EF-8EBE-105AAC22323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астер-класс «Обучение креативному письму»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:немецкий язы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: Юсупова Л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У «Еткульская СОШ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23 г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s hast du gemach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ben/ sein  + Partiz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e geht es di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reibe mi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Sch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K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Freu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Freiz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Hobb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 ba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g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dich…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(обрат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рядок слов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5122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 H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Ferien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Aug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r 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Sport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e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Dor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Schwarzen M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 meinen Gr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letz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Mosk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tkul, den 29. Septemb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ebe Elke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e geht es dir?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 g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ü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di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in(e) Pasc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l Spass und Erfol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 работ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оздание интриги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остановка задачи перед деть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Обсуждение содержания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овторение порядка слов в предлож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Повторение речевых клише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Правила оформления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. Написание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Kinder, wir haben den Brief von unserer Freundin Elke bekommen. 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 aufmerksam zu. Seite 2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.:1) Wer hat den Brief geschrieb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 Wie geht es El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ragt El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Jetzt schreiben wir den Brief unserer Freundin El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gt bitte: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schreiben wir?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die Sommerferi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: Lesen wir das Gedich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 Ende ist die Ferienz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 Sommer sagt 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e war es s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im weiten Land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n Wald, am blauen Mee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 Se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ntwortet die Frag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ist zu En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sagt der Somm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 war es s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rinnern wir uns an die Sommerferien, wo ihr wart,  wie es dort war und wie ihr die Ferien verbracht hab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ямой порядок слов)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4. Etapp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5122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 H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Ferien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h w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Aug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Sport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e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Dor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Schwarzen M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 meinen Gr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letz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Mosk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ямой порядок сло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5920" y="2155680"/>
          <a:ext cx="7556400" cy="4664160"/>
        </p:xfrm>
        <a:graphic>
          <a:graphicData uri="http://schemas.openxmlformats.org/drawingml/2006/table">
            <a:tbl>
              <a:tblPr/>
              <a:tblGrid>
                <a:gridCol w="3051000"/>
                <a:gridCol w="450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under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 war d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hr g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es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- la-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gweil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 (</a:t>
            </a:r>
            <a:r>
              <a:rPr b="0" lang="ru-RU" sz="3700" spc="-1" strike="noStrike">
                <a:solidFill>
                  <a:srgbClr val="333399"/>
                </a:solidFill>
                <a:latin typeface="Tahoma"/>
              </a:rPr>
              <a:t>обратный порядок слов)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2600" y="2017800"/>
          <a:ext cx="7772400" cy="414504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rt war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hr g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under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es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gweil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12:27Z</dcterms:created>
  <dc:creator>Sam</dc:creator>
  <dc:description/>
  <dc:language>en-US</dc:language>
  <cp:lastModifiedBy>User</cp:lastModifiedBy>
  <dcterms:modified xsi:type="dcterms:W3CDTF">2023-07-10T16:43:08Z</dcterms:modified>
  <cp:revision>3</cp:revision>
  <dc:subject/>
  <dc:title>Слайд 1</dc:title>
</cp:coreProperties>
</file>