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64B-3D43-41F9-A9CB-E444A3C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239-21EE-4E45-8DBA-C5E5CB1E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EFB-9BC3-4507-A2D2-43E81A18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EDE-A463-47E3-98EB-FA3F96D0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E85-03DE-4C20-8AB5-EEE7F536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1D59-BC22-4F3F-B5CB-BD1DC3C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D9E-62BF-435C-BAFF-D161331D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6FEF-0A34-458C-B68B-E9CF4E59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5D44-6CA6-4353-B02B-F6B15A8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DC9-79D9-466C-A4EC-E1EA576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AB09-1310-405E-99BF-6F7A6FF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A9B-A176-4CA9-A1E9-9AAB3C9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CD3B-0D90-42B6-88BC-51D2545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AC9-3EC7-4BC2-9E69-F1CAA4E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51DD-C5F6-467C-B9D0-95188587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C7F-61D2-4D2E-82BA-5C730B0F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CFD-4441-425D-902F-DA9F86F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EC2-4F8E-4134-B598-986AEA0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C9E-AE6E-463B-BF58-C2489CD7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12D-2376-487A-B845-B846D8F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C56-8EAB-45B4-85F1-657C86B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A0A-EEDF-431B-BB09-C15D420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BA7-E802-44C9-9760-781C289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B00-5DCE-4B42-8C0B-D69AD11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403-3FB3-41DF-9BB6-C58EFD6CAD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CAC-95DD-4B04-933C-46876758C9B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ок в 6 классе по теме: «Начало учебного года.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ачи: повторить и обобщить изученный материа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у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zip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rt tr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r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it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m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f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читай открытку, вставляя пропущенные слова по смыслу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be Monik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ss im neuen Schuljah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h 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che dir_____ , 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 _____   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in Kir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usaufgab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er lernen S.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S. 28-29-   lesen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set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авь глагольную форму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Er … viel… und… (tanzen, lach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Du … Tennis … (spiel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Wir … Pilze und Beeren …(sammel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Ich …im Sommer viel …(bad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бери артикль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r, die, das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ля следующих существительных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301760"/>
                <a:gridCol w="1428840"/>
                <a:gridCol w="1563840"/>
                <a:gridCol w="34779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ulja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fol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und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derse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ulf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бразуй сложное слово и выбери правильный артикл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r Anfa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Tas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s F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s Jah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Ban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r Lehr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e Insel des Lesens.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Text S.26-27 )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№1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Erg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ze die 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ze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neue Schuljahr beginnt in Deutschla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den Schulanfang freuen sich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ABC-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zen bekomm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den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 lieg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ist eine alte…in Deutschl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 :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en wir das Gedicht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tzt 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t die Schule wieder 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 langer Ferienzei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 jeder ist, so gut er kan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m Lernen auch bere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 kehren frisch und braungebran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m Wind und Sonnenschei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m Ferienlager auf dem 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Schulhaus wieder e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: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s passt zusamm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507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In den deutschen Schulen beginnt das neue Schuljahr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)… ein neues interessantes Le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Am ersten Schultag beginnt 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si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)…Bleistifte, Kulis, Bonbons, Schokola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An diesem Tag bekommen die 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r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)…nich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rall am ersten Septemb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Das sind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)…grosse Zucker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юч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rz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l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r den Schulanfang nach diesem Plan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ist zu En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Wann beginnt das neue Schuljah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reuen sich die K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gern sich die K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Was 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chen die Lehrer den Kind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Was erfahren die Sch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r in der Sch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у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zip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e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h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mel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4:25:57Z</dcterms:created>
  <dc:creator>Sam</dc:creator>
  <dc:description/>
  <dc:language>en-US</dc:language>
  <cp:lastModifiedBy>User</cp:lastModifiedBy>
  <dcterms:modified xsi:type="dcterms:W3CDTF">2023-07-10T12:25:36Z</dcterms:modified>
  <cp:revision>8</cp:revision>
  <dc:subject/>
  <dc:title>Урок-игра в 6 классе по теме: «Начало учебного года.»</dc:title>
</cp:coreProperties>
</file>