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CB6-3505-4A1D-A4C6-56617C20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EFA-24EB-4C70-9013-9B0D9EB5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937-A527-454A-8D0A-61DFBFE5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985-DEE2-4890-A9EC-2D0C4D0A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9D7E-406E-4648-8AAB-510C5BDD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97B-0AC4-4180-BFF1-A692CB5B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DA7D-007D-423F-9ACD-3F0DD1F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E6DE-FBBE-4824-BEE6-DA579A93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4BCE-0A4A-4517-94C4-ED695A5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E5DF-D1A5-4FCB-A759-28915F30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E153-5B62-4709-916C-202B235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3FC-5CE3-4264-B651-15C53102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9F3A-9C5E-4412-827F-AC0CF8DE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C29B-8AF0-4014-A73D-C0328D8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2357-15D4-45ED-A1FC-8B804650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B0A9-EFA2-4E05-8CE2-CEE45D3E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F04D-30A6-4A70-8CFB-592F8F55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4E0-0F44-46BD-9C2C-402105D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E76-FA77-4181-85F0-0E06712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FD5-188C-401B-8098-71ABD48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60E-55EA-4FCE-8D1E-0012EFFD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BC3-7763-4C10-8EEE-6F1BC982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AF3-81D9-4FE2-B0ED-F20CF1A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859-F3DB-4838-BF8E-D8C0D42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BAEE-B3A4-4001-8A5C-22056C7F62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2E55-7DE7-4F55-8FD8-F4939E1357B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рок в 6 классе по теме: «Начало учебного года.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ачи: повторить и обобщить изученный материа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разуй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zip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rt treib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reib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it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m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eib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uf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читай открытку, вставляя пропущенные слова по смыслу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be Monik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ss im neuen Schuljah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h 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sche dir_____ ,  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 _____   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in Kir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usaufgab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ter lernen S.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 S. 28-29-   lesen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set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ставь глагольную форму 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f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Er … viel… und… (tanzen, lache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Du … Tennis … (spiele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Wir … Pilze und Beeren …(sammel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Ich …im Sommer viel …(bade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бери артикль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er, die, das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для следующих существительных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1301760"/>
                <a:gridCol w="1428840"/>
                <a:gridCol w="1563840"/>
                <a:gridCol w="347796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ulja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fol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sundh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ederse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ulf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бразуй сложное слово и выбери правильный артикл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Schule    +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r Anfa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Tasch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s F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s Jah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e Ban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r Lehr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e Insel des Lesens.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Text S.26-27 )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№1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Erg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ze die 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ze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 neue Schuljahr beginnt in Deutschlan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den Schulanfang freuen sich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ABC-S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zen bekomme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den 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 liegen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 ist eine alte…in Deutschl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 :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sen wir das Gedicht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tzt 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gt die Schule wieder 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ch langer Ferienzeit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 jeder ist, so gut er kan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m Lernen auch bere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 kehren frisch und braungebran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m Wind und Sonnenschein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m Ferienlager auf dem 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Schulhaus wieder e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№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: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s passt zusamme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507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In den deutschen Schulen beginnt das neue Schuljahr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)… ein neues interessantes Leb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Am ersten Schultag beginnt f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si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)…Bleistifte, Kulis, Bonbons, Schokola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An diesem Tag bekommen die 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r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)…nich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rall am ersten Septemb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Das sind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)…grosse Zucker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юч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rz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le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er den Schulanfang nach diesem Plan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ist zu En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Wann beginnt das neue Schuljah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W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reuen sich die Kin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W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gern sich die Kin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 Was 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schen die Lehrer den Kinde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 Was erfahren die Sch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r in der Schu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разуй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izip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el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h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rn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l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z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le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mmeln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4:25:57Z</dcterms:created>
  <dc:creator>Sam</dc:creator>
  <dc:description/>
  <dc:language>en-US</dc:language>
  <cp:lastModifiedBy>User</cp:lastModifiedBy>
  <dcterms:modified xsi:type="dcterms:W3CDTF">2023-07-10T12:25:36Z</dcterms:modified>
  <cp:revision>8</cp:revision>
  <dc:subject/>
  <dc:title>Урок-игра в 6 классе по теме: «Начало учебного года.»</dc:title>
</cp:coreProperties>
</file>