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8957-0EB4-4120-B4BE-F0AF1195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CC96-C3DC-46DE-BE2A-CC7CB5AF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ACD2-0D90-4F5F-AE76-CF446487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8A07-628B-40E3-B8F5-26293ADC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F143-E1DF-48B8-A647-1B0CCD46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7687-31CE-4F24-85A3-3A49A678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6EAA-E6CD-4754-BABD-8ED1BD93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D051-59EA-47A2-947B-0EF65033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C31C-2D0A-4733-861B-9AF7A580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F8FE-CD46-4B25-85DB-0F806B2B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17B7-E66B-4785-8734-48F51BDE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6DAA-176B-450F-9A5E-5A802097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14C0-E2E8-481E-B3D2-05972AA6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02C9-0CC5-432C-84DB-01B4BC08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2178-E109-4E01-84F5-18FD705E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14F1-AD9B-4000-B01B-8D4A34F1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9761-2D05-464E-9E0D-8001FEC0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3C997-759D-4F2C-888A-7C1E2DD6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797C7-F1A8-4DBA-99B3-5DAD9B07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13E1D-3692-41F7-AE6C-FCF7EDA6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B5619-8E75-4B89-AC79-E98AA023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E5E8D-1E51-4F7E-9C98-ED9099F0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5247-6126-424B-9334-5AA90BD7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2D14B-36A8-42AA-9BB5-A02D28F5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F90D4-F763-48B0-98F6-15C889E1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86F7F-2E9B-42B9-B190-256B3235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11A82-BB4B-4253-91BD-B7DD8C02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15E62-F81E-4DA3-8D86-6293CC07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02DF7-1384-408D-B543-A5F161D2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5495F-7020-419C-B442-80DCF0BC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9126B-773C-4A04-BFFC-BF2815A5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AB4A3-52D8-4D2B-B682-CEB4E655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5BDE9-4AC6-4AE4-9D5C-5D46CC31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A42E-A294-4F9B-B237-E55606B7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D5326-55F8-467E-95BB-B87B70DF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13386-1174-4348-989E-5B120A66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08D0A-DBD9-4789-AF4E-B187C538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3E1AA-7D4A-457F-809F-6AF21EC0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61E03-7596-4DE6-B179-4D13F8CC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F58F8-3F6B-4A50-B033-8A5793E4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CCE0A-060F-4156-BEAC-4D493D74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445E5-5001-4F8F-A9B0-F2A16E8D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290C9-7D5F-45F8-81BF-5DC26535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FB6C-4F64-4E09-A14D-AC513B8C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93DB-D81A-4F7A-96AF-D8D9403C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963D-A7CB-441C-914F-2D216DB2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FC07-FC84-4462-B941-02892AA3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D94-44BE-4A99-8A74-8E74EBD5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FBEE-DF05-47DB-8985-E6C07B0B6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8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0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2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1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9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7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4C77-1C94-4496-AD43-35E2FC4C2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5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8720-5672-4822-A1F4-BEE9CD405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1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6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7052-AE46-49AB-B8D8-3D3B3F01E5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ccecff"/>
                </a:solidFill>
                <a:latin typeface="Arial"/>
              </a:rPr>
              <a:t>Эмоциональные нарушения у детей-</a:t>
            </a:r>
            <a:br>
              <a:rPr sz="3600"/>
            </a:br>
            <a:r>
              <a:rPr b="0" sz="3600" spc="-1" strike="noStrike">
                <a:solidFill>
                  <a:srgbClr val="ccecff"/>
                </a:solidFill>
                <a:latin typeface="Arial"/>
              </a:rPr>
              <a:t>дошкольников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sz="1600" spc="-1" strike="noStrike">
                <a:solidFill>
                  <a:srgbClr val="ffffff"/>
                </a:solidFill>
                <a:latin typeface="Arial"/>
              </a:rPr>
              <a:t>Выполнила :воспитатель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Абдуллаева И. Ф.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22" name="Picture 13" descr="images"/>
          <p:cNvPicPr/>
          <p:nvPr/>
        </p:nvPicPr>
        <p:blipFill>
          <a:blip r:embed="rId1"/>
          <a:stretch/>
        </p:blipFill>
        <p:spPr>
          <a:xfrm>
            <a:off x="2428920" y="1857240"/>
            <a:ext cx="435780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5713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3640" indent="35784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II</a:t>
            </a:r>
            <a:r>
              <a:rPr b="0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)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.</a:t>
            </a:r>
            <a:r>
              <a:rPr b="0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К нарушениям психомоторики относят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40" indent="35784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. Амимию отсутствие выразительности лицевой мускулатуры, наблюдающееся при некоторых заболеваниях центральной или периферической нервной системы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40" indent="35784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2. Гипомимию легкое понижение выразительности мимик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40" indent="35784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3. Маловыразительную пантомими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40" indent="35784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Условием социально-эмоционального развития ребенка выступает его «способность «прочитывать» эмоциональное состояние окружающих людей, сопереживать и, соответственно, активно на это откликаться». Поэтому к нарушениям в эмоциональном развитии дошкольника можно отнести и трудности в адекватном определении эмоциональных состояний людей, так как в практике обучения и воспитания детей задача формирования эмоциональности решается лишь фрагментарно, а преимущественное внимание уделяется развитию мыслительных процес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40" indent="35784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40" indent="35784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40" indent="35784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40" indent="35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Биологически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Генетическ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депресс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родителе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том у детей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Соматическ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лабленность из-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астых болезн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Picture 4" descr="4565937_f520"/>
          <p:cNvPicPr/>
          <p:nvPr/>
        </p:nvPicPr>
        <p:blipFill>
          <a:blip r:embed="rId1"/>
          <a:stretch/>
        </p:blipFill>
        <p:spPr>
          <a:xfrm>
            <a:off x="4684680" y="0"/>
            <a:ext cx="445932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. Психологическ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тип нервной системы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аруш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декват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агирова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воздейств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вн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доразвит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оконтро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Picture 4" descr="16624"/>
          <p:cNvPicPr/>
          <p:nvPr/>
        </p:nvPicPr>
        <p:blipFill>
          <a:blip r:embed="rId1"/>
          <a:stretch/>
        </p:blipFill>
        <p:spPr>
          <a:xfrm>
            <a:off x="3857760" y="2214720"/>
            <a:ext cx="470052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3. Социально – психологические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исгармоничный стиль воспитания: внутрисемейные проблемы, конфлик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Отнош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воспитател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учите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 Отнош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окружающ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5" descr="ссорятся родители"/>
          <p:cNvPicPr/>
          <p:nvPr/>
        </p:nvPicPr>
        <p:blipFill>
          <a:blip r:embed="rId1"/>
          <a:stretch/>
        </p:blipFill>
        <p:spPr>
          <a:xfrm>
            <a:off x="3643200" y="2643120"/>
            <a:ext cx="48578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.И.Захаров выделил  виды свойств личности, предрасположенных к невроз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эмоциональная чувствительность и раним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наив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выраженность чувства «я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постепенное раскрытие возможностей личности(латентность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 противоречивость развит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) внутренний тип переработки эмоций(импрессивность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) неравномерность психического разви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394920" y="285840"/>
            <a:ext cx="837396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моциональное неблагополучие, как отклонение в развитии личности, возникает при потере согласия со своими чувствами, и невозможностью самореализоват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4" descr="3932_big"/>
          <p:cNvPicPr/>
          <p:nvPr/>
        </p:nvPicPr>
        <p:blipFill>
          <a:blip r:embed="rId1"/>
          <a:stretch/>
        </p:blipFill>
        <p:spPr>
          <a:xfrm>
            <a:off x="2143080" y="3000240"/>
            <a:ext cx="493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68360" y="285480"/>
            <a:ext cx="82296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ще одной из причин эмоциональных расстройств являются неадекватные поощрения и наказания взросл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Picture 4" descr="y7lag4e17f4e13fl"/>
          <p:cNvPicPr/>
          <p:nvPr/>
        </p:nvPicPr>
        <p:blipFill>
          <a:blip r:embed="rId1"/>
          <a:stretch/>
        </p:blipFill>
        <p:spPr>
          <a:xfrm>
            <a:off x="1979640" y="2276640"/>
            <a:ext cx="54291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324000" y="35676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ой невроза является ПТ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сихотравма, это внешний раздражител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казывающий патологическое, болезненное воздействие на индиви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Т бывают двух видов: 1) ситуацион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пролонгирован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4" descr="8279687763"/>
          <p:cNvPicPr/>
          <p:nvPr/>
        </p:nvPicPr>
        <p:blipFill>
          <a:blip r:embed="rId1"/>
          <a:stretch/>
        </p:blipFill>
        <p:spPr>
          <a:xfrm>
            <a:off x="2071800" y="3763800"/>
            <a:ext cx="564336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395280" y="356760"/>
            <a:ext cx="829152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ое опасное влияние на личность ребенка оказывают пролонгирован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сихотравмы как в школе, так и в семь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2" name="Picture 4" descr="64e560fd41c0f3c391be3554bee1d586"/>
          <p:cNvPicPr/>
          <p:nvPr/>
        </p:nvPicPr>
        <p:blipFill>
          <a:blip r:embed="rId1"/>
          <a:stretch/>
        </p:blipFill>
        <p:spPr>
          <a:xfrm>
            <a:off x="468360" y="2565360"/>
            <a:ext cx="3959280" cy="35276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alg_spanking"/>
          <p:cNvPicPr/>
          <p:nvPr/>
        </p:nvPicPr>
        <p:blipFill>
          <a:blip r:embed="rId2"/>
          <a:stretch/>
        </p:blipFill>
        <p:spPr>
          <a:xfrm>
            <a:off x="4716360" y="2565360"/>
            <a:ext cx="40323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395280" y="285480"/>
            <a:ext cx="82296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Внутренние конфликты, их создает подсознательное, содержащее инстинкты и аффекты противоречивого рода: любовь и ненависть, активность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ассив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4" descr="74048984_3649429_media_php"/>
          <p:cNvPicPr/>
          <p:nvPr/>
        </p:nvPicPr>
        <p:blipFill>
          <a:blip r:embed="rId1"/>
          <a:stretch/>
        </p:blipFill>
        <p:spPr>
          <a:xfrm>
            <a:off x="5292720" y="2997360"/>
            <a:ext cx="3095640" cy="32191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5" descr="x_e315fd64"/>
          <p:cNvPicPr/>
          <p:nvPr/>
        </p:nvPicPr>
        <p:blipFill>
          <a:blip r:embed="rId2"/>
          <a:stretch/>
        </p:blipFill>
        <p:spPr>
          <a:xfrm>
            <a:off x="324000" y="2997360"/>
            <a:ext cx="39607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323640" y="785880"/>
            <a:ext cx="83199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Коррекция нарушений в развити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эмоционально-личностной сферы ребенка-дошкольни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5" descr="небо"/>
          <p:cNvPicPr/>
          <p:nvPr/>
        </p:nvPicPr>
        <p:blipFill>
          <a:blip r:embed="rId1"/>
          <a:stretch/>
        </p:blipFill>
        <p:spPr>
          <a:xfrm>
            <a:off x="785880" y="2571840"/>
            <a:ext cx="7535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468000" y="285480"/>
            <a:ext cx="821844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 u="sng">
                <a:solidFill>
                  <a:srgbClr val="ffffff"/>
                </a:solidFill>
                <a:uFillTx/>
                <a:latin typeface="Arial"/>
              </a:rPr>
              <a:t>Основными направлениями корре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 u="sng">
                <a:solidFill>
                  <a:srgbClr val="ffffff"/>
                </a:solidFill>
                <a:uFillTx/>
                <a:latin typeface="Arial"/>
              </a:rPr>
              <a:t>эмоциональных нарушений являю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200" spc="-1" strike="noStrike">
                <a:solidFill>
                  <a:srgbClr val="ffffff"/>
                </a:solidFill>
                <a:latin typeface="Arial"/>
              </a:rPr>
              <a:t>смягчение эмоционального дискомфорта у дете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200" spc="-1" strike="noStrike">
                <a:solidFill>
                  <a:srgbClr val="ffffff"/>
                </a:solidFill>
                <a:latin typeface="Arial"/>
              </a:rPr>
              <a:t>повышение их активности и самостоятельно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ffffff"/>
                </a:solidFill>
                <a:latin typeface="Arial"/>
              </a:rPr>
              <a:t>коррекция самооценки, уровня самосознания, формирова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sz="2200" spc="-1" strike="noStrike">
                <a:solidFill>
                  <a:srgbClr val="ffffff"/>
                </a:solidFill>
                <a:latin typeface="Arial"/>
              </a:rPr>
              <a:t>эмоциональной устойчивости 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sz="2200" spc="-1" strike="noStrike">
                <a:solidFill>
                  <a:srgbClr val="ffffff"/>
                </a:solidFill>
                <a:latin typeface="Arial"/>
              </a:rPr>
              <a:t>аморегуляции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Рисунок 2" descr="http://www.intex-press.by/get_img?ImageWidth=628&amp;ImageId=19811"/>
          <p:cNvPicPr/>
          <p:nvPr/>
        </p:nvPicPr>
        <p:blipFill>
          <a:blip r:embed="rId1"/>
          <a:stretch/>
        </p:blipFill>
        <p:spPr>
          <a:xfrm>
            <a:off x="2500200" y="4000680"/>
            <a:ext cx="45007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блема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эмоционального самочувствия детей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в семье и дошкольном учреждении является одной из самых актуальных, так как положительное эмоциональное состояние относится к числу важнейших условий развития личнос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Высокая эмоциональность ребенка, которая окрашивает его психическую жизнь и практический опыт, составляет характерную особенность дошкольного детства.  Внутренним, субъективным отношением ребенка к миру, к людям, к самому факту собственного существования является эмоциональное мироощущение.  В одних случаях – это радость, полнота жизни, согласие с миром и самим собой, отсутствие аффективности и уходов в себя; в других – чрезмерная напряженность взаимодействия, состояние подавленности, сниженное настроение или, наоборот, выраженная агресс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0"/>
            <a:ext cx="8229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2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Таким образом, эмоциональное мироощущение дошкольника – это «выражение субъективного переживания, его интенсивности и глубины, зрелости эмоций и чувств в целом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2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Эмоциональный опыт ребенка, то есть опыт его переживаний, может иметь как позитивную, так и негативную окрашенность, что оказывает непосредственное влияние на его актуальное самочувствие. Современные научные данные убедительно показывают, что результат положительно-направленного детского опыта: доверие к миру, открытость, готовность к сотрудничеству обеспечивает основу для позитивной самореализации растущей лич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2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Для психического здоровья детей необходима сбалансированность положительных и отрицательных эмоций, обеспечивающая поддержание душевного равновесия и жизнеутверждающего поведения. Нарушение эмоционального баланса способствует возникновению эмоциональных расстройств, приводящих к отклонению в развитии личности ребенка, к нарушению у него социальных контак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2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2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Arial"/>
                <a:ea typeface="Arial"/>
              </a:rPr>
              <a:t>Термин «</a:t>
            </a:r>
            <a:r>
              <a:rPr b="0" sz="3600" spc="-1" strike="noStrike">
                <a:solidFill>
                  <a:srgbClr val="ffffff"/>
                </a:solidFill>
                <a:latin typeface="Arial"/>
                <a:ea typeface="Arial"/>
              </a:rPr>
              <a:t>эмоции</a:t>
            </a:r>
            <a:r>
              <a:rPr b="0" sz="3200" spc="-1" strike="noStrike">
                <a:solidFill>
                  <a:srgbClr val="ffffff"/>
                </a:solidFill>
                <a:latin typeface="Arial"/>
                <a:ea typeface="Arial"/>
              </a:rPr>
              <a:t>» происходит от латинского глагол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emover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 Black"/>
                <a:ea typeface="Arial"/>
              </a:rPr>
              <a:t>двига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 Black"/>
                <a:ea typeface="Arial"/>
              </a:rPr>
              <a:t>возбужда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 Black"/>
                <a:ea typeface="Arial"/>
              </a:rPr>
              <a:t>волнов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0d2ff"/>
                </a:solidFill>
                <a:latin typeface="Arial"/>
                <a:ea typeface="Arial"/>
              </a:rPr>
              <a:t>В эмоциях имеются три составные част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АФФЕКТ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эмоциональное напряжение, возбуждени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КОГНИ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осознание своего состояния, обозначение его словом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ЭКСПРЕСС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внешнее выражение в телесной моторике или поведени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Различаю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первичные</a:t>
            </a:r>
            <a:r>
              <a:rPr b="0" lang="en-US" sz="3200" spc="-1" strike="noStrike">
                <a:solidFill>
                  <a:srgbClr val="41577e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основные) эмоции: радость, печаль, тревога, гнев, отвращение, стыд, удивл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вторичные</a:t>
            </a:r>
            <a:r>
              <a:rPr b="0" lang="en-US" sz="3200" spc="-1" strike="noStrike">
                <a:solidFill>
                  <a:srgbClr val="004d4d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сложные): смещение первичных эмоций, а также эмоций и их узких интерпрета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Факторы риска эмоциональных нарушен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Picture 4" descr="f_289"/>
          <p:cNvPicPr/>
          <p:nvPr/>
        </p:nvPicPr>
        <p:blipFill>
          <a:blip r:embed="rId1"/>
          <a:stretch/>
        </p:blipFill>
        <p:spPr>
          <a:xfrm>
            <a:off x="0" y="1552680"/>
            <a:ext cx="914400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руппы нарушений в развитии эмоциональной сфе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1840" indent="34632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840" indent="34632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Выделяются </a:t>
            </a:r>
            <a:r>
              <a:rPr b="1" i="1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три группы </a:t>
            </a:r>
            <a:r>
              <a:rPr b="0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арушений в развитии эмоциональной сферы дошкольника: – расстройства настроения; – расстройства поведения; – нарушения психомотор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840" indent="34632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</a:t>
            </a:r>
            <a:r>
              <a:rPr b="0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.</a:t>
            </a:r>
            <a:r>
              <a:rPr b="0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Расстройства настроения </a:t>
            </a:r>
            <a:r>
              <a:rPr b="0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можно условно разделить на 2 вида: с усилением эмоциональности и ее понижением. К 1-й группе относятся такие состояния, как эйфория, дисфория, депрессия, тревожный синдром, страхи. Ко 2-й группе относятся апатия, эмоциональная тупость, паратим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840" indent="34632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I</a:t>
            </a:r>
            <a:r>
              <a:rPr b="0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К </a:t>
            </a:r>
            <a:r>
              <a:rPr b="0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расстройствам повед</a:t>
            </a:r>
            <a:r>
              <a:rPr b="0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ения можно отнести гиперактивность и агрессивное поведение: нормативно-инструментальную агрессию, пассивно – агрессивное поведение, инфантильную агрессивность, защитную агрессию, демонстративную агрессию, целенаправленно враждебную агресс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840" indent="34632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840" indent="34632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840" indent="34632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840" indent="34632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840" indent="34632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840" indent="34632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30T16:12:41Z</dcterms:created>
  <dc:creator>Admin</dc:creator>
  <dc:description/>
  <dc:language>en-US</dc:language>
  <cp:lastModifiedBy>Ира</cp:lastModifiedBy>
  <dcterms:modified xsi:type="dcterms:W3CDTF">2023-07-10T08:08:00Z</dcterms:modified>
  <cp:revision>81</cp:revision>
  <dc:subject/>
  <dc:title>Эмоциональные расстройства у детей</dc:title>
</cp:coreProperties>
</file>