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C044-A3A7-4688-AD0C-71DB4617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A3B1-C17E-4F06-8DA0-3B73C7BC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03CB-7B73-4468-B5A8-4077F4FB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B130-A10F-42A3-A8C6-6928E9D2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59E8-5BA7-48A6-BE15-FCECA8EA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992B-307D-4E2C-BFCA-A76DBB10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49FE-84D0-492B-8D21-FC39E7F5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9940-254A-40E6-B280-BDE5009D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E955-C0FB-40CB-80E5-14EA76F9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8EDF-A3F8-43D4-BF4D-531B674A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C3DF-9A9D-4424-ADE5-0B1E9509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838-C6D6-42BB-8DB7-2BC42EFD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01A8-E4C8-4C11-A923-59F246D4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67E0-14A6-476A-B2AF-48AD3AB2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53D7-9FF7-45A3-9BFA-07A7FA81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4E81-7945-4920-8DEE-A9A0E45F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245C-1755-4803-BDF8-FC4E9A10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4CEB2-0CE2-40CF-AEAB-04F367C5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5CD4E-9F40-41AF-8281-B7DE03F0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2FDEB-92EB-4197-95EC-AC777067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F0483-ABB1-4CF9-848D-527EE69D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E4CFE-1D9C-4FD6-81D2-38E99026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6AAA-A3F0-4D8C-9C7E-C509A358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A59B5-741A-427F-9172-F34E6E07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13402-5513-4FA5-9E58-FB3B4CE1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95D81-E8F3-4566-81E2-91E28241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F7988-2971-4D29-B4AA-D10F4F67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53E11-4491-4778-BD10-4D20D770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E2D08-F19D-497D-AA53-0435AFA7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9B0AE-B0A2-4467-A704-EA309A17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1F865-1256-4F96-8F97-56B2595D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8AF5D-0968-4E5F-A3FA-D7A7E737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AD251-3DEE-407E-9F90-FEA122A5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4B0B-C8BE-434D-9EB5-2E4C2E33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31F77-897D-45CF-8690-8B06BBCF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A434A-8483-4224-A9FD-766A8A44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A9AF5-6FAE-4EA9-9BD7-8A7255D1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51DF6-46D8-4B48-8F10-EB89C955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1DE59-A56B-4900-9085-902FDE95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38D8E-5F59-419A-8286-D5BF0ED5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C578F-2DAD-4E24-80EA-8C1205DC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FEA14-2FCF-452D-8839-5BE6093D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03115-AFCE-46B7-B5A5-A5912027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ED0F-4E4A-4B52-B624-680B94B7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9BE5-6C03-4902-B191-ED3F0AB9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DEC-9AF7-40C9-A762-9B5810BD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000E-A928-4B3A-9106-3F3BD3FE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C363-7A71-4A11-81A7-CE5385E5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4F09-962E-4B83-9E30-942F3B645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8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0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2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9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7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8CF2-0186-4E83-804A-0CC6CF0AC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5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F26C-4506-424F-8C38-783258955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1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6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DA92-CC93-454C-8B68-CADA73265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ccecff"/>
                </a:solidFill>
                <a:latin typeface="Arial"/>
              </a:rPr>
              <a:t>Эмоциональные нарушения у детей-</a:t>
            </a:r>
            <a:br>
              <a:rPr sz="3600"/>
            </a:br>
            <a:r>
              <a:rPr b="0" sz="3600" spc="-1" strike="noStrike">
                <a:solidFill>
                  <a:srgbClr val="ccecff"/>
                </a:solidFill>
                <a:latin typeface="Arial"/>
              </a:rPr>
              <a:t>дошкольников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sz="1600" spc="-1" strike="noStrike">
                <a:solidFill>
                  <a:srgbClr val="ffffff"/>
                </a:solidFill>
                <a:latin typeface="Arial"/>
              </a:rPr>
              <a:t>Выполнила :воспитател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Абдуллаева И. Ф.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22" name="Picture 13" descr="images"/>
          <p:cNvPicPr/>
          <p:nvPr/>
        </p:nvPicPr>
        <p:blipFill>
          <a:blip r:embed="rId1"/>
          <a:stretch/>
        </p:blipFill>
        <p:spPr>
          <a:xfrm>
            <a:off x="2428920" y="1857240"/>
            <a:ext cx="435780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5713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3640" indent="35784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II</a:t>
            </a:r>
            <a:r>
              <a:rPr b="0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)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.</a:t>
            </a:r>
            <a:r>
              <a:rPr b="0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К нарушениям психомоторики относя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40" indent="35784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. Амимию отсутствие выразительности лицевой мускулатуры, наблюдающееся при некоторых заболеваниях центральной или периферической нервной системы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40" indent="35784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2. Гипомимию легкое понижение выразительности мимик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40" indent="35784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3. Маловыразительную пантомими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40" indent="35784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Условием социально-эмоционального развития ребенка выступает его «способность «прочитывать» эмоциональное состояние окружающих людей, сопереживать и, соответственно, активно на это откликаться». Поэтому к нарушениям в эмоциональном развитии дошкольника можно отнести и трудности в адекватном определении эмоциональных состояний людей, так как в практике обучения и воспитания детей задача формирования эмоциональности решается лишь фрагментарно, а преимущественное внимание уделяется развитию мыслительных процес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640" indent="35784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40" indent="35784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40" indent="35784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40" indent="35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иологически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Генетическ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депрес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родителе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том у детей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Соматическ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лабленность из-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астых болезн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4" descr="4565937_f520"/>
          <p:cNvPicPr/>
          <p:nvPr/>
        </p:nvPicPr>
        <p:blipFill>
          <a:blip r:embed="rId1"/>
          <a:stretch/>
        </p:blipFill>
        <p:spPr>
          <a:xfrm>
            <a:off x="4684680" y="0"/>
            <a:ext cx="445932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. Психологическ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тип нервной системы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аруш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декват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агирова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воздейств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вн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доразвит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контро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Picture 4" descr="16624"/>
          <p:cNvPicPr/>
          <p:nvPr/>
        </p:nvPicPr>
        <p:blipFill>
          <a:blip r:embed="rId1"/>
          <a:stretch/>
        </p:blipFill>
        <p:spPr>
          <a:xfrm>
            <a:off x="3857760" y="2214720"/>
            <a:ext cx="470052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3. Социально – психологические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сгармоничный стиль воспитания: внутрисемейные проблемы, конфли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Отнош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воспитател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учите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 Отнош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окружающ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5" descr="ссорятся родители"/>
          <p:cNvPicPr/>
          <p:nvPr/>
        </p:nvPicPr>
        <p:blipFill>
          <a:blip r:embed="rId1"/>
          <a:stretch/>
        </p:blipFill>
        <p:spPr>
          <a:xfrm>
            <a:off x="3643200" y="2643120"/>
            <a:ext cx="48578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.И.Захаров выделил  виды свойств личности, предрасположенных к невроз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эмоциональная чувствительность и раним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наив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выраженность чувства «я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постепенное раскрытие возможностей личности(латентность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 противоречивость развит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) внутренний тип переработки эмоций(импрессивность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) неравномерность психического разви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394920" y="285840"/>
            <a:ext cx="837396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моциональное неблагополучие, как отклонение в развитии личности, возникает при потере согласия со своими чувствами, и невозможностью самореализова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4" descr="3932_big"/>
          <p:cNvPicPr/>
          <p:nvPr/>
        </p:nvPicPr>
        <p:blipFill>
          <a:blip r:embed="rId1"/>
          <a:stretch/>
        </p:blipFill>
        <p:spPr>
          <a:xfrm>
            <a:off x="2143080" y="3000240"/>
            <a:ext cx="49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68360" y="285480"/>
            <a:ext cx="82296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ще одной из причин эмоциональных расстройств являются неадекватные поощрения и наказания взросл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4" descr="y7lag4e17f4e13fl"/>
          <p:cNvPicPr/>
          <p:nvPr/>
        </p:nvPicPr>
        <p:blipFill>
          <a:blip r:embed="rId1"/>
          <a:stretch/>
        </p:blipFill>
        <p:spPr>
          <a:xfrm>
            <a:off x="1979640" y="2276640"/>
            <a:ext cx="54291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324000" y="35676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ой невроза является ПТ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сихотравма, это внешний раздражител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казывающий патологическое, болезненное воздействие на индиви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Т бывают двух видов: 1) ситуацион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пролонгирован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4" descr="8279687763"/>
          <p:cNvPicPr/>
          <p:nvPr/>
        </p:nvPicPr>
        <p:blipFill>
          <a:blip r:embed="rId1"/>
          <a:stretch/>
        </p:blipFill>
        <p:spPr>
          <a:xfrm>
            <a:off x="2071800" y="3763800"/>
            <a:ext cx="564336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395280" y="356760"/>
            <a:ext cx="82915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е опасное влияние на личность ребенка оказывают пролонгирован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сихотравмы как в школе, так и в сем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Picture 4" descr="64e560fd41c0f3c391be3554bee1d586"/>
          <p:cNvPicPr/>
          <p:nvPr/>
        </p:nvPicPr>
        <p:blipFill>
          <a:blip r:embed="rId1"/>
          <a:stretch/>
        </p:blipFill>
        <p:spPr>
          <a:xfrm>
            <a:off x="468360" y="2565360"/>
            <a:ext cx="3959280" cy="35276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alg_spanking"/>
          <p:cNvPicPr/>
          <p:nvPr/>
        </p:nvPicPr>
        <p:blipFill>
          <a:blip r:embed="rId2"/>
          <a:stretch/>
        </p:blipFill>
        <p:spPr>
          <a:xfrm>
            <a:off x="4716360" y="2565360"/>
            <a:ext cx="40323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395280" y="28548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Внутренние конфликты, их создает подсознательное, содержащее инстинкты и аффекты противоречивого рода: любовь и ненависть, активность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ссив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4" descr="74048984_3649429_media_php"/>
          <p:cNvPicPr/>
          <p:nvPr/>
        </p:nvPicPr>
        <p:blipFill>
          <a:blip r:embed="rId1"/>
          <a:stretch/>
        </p:blipFill>
        <p:spPr>
          <a:xfrm>
            <a:off x="5292720" y="2997360"/>
            <a:ext cx="3095640" cy="32191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5" descr="x_e315fd64"/>
          <p:cNvPicPr/>
          <p:nvPr/>
        </p:nvPicPr>
        <p:blipFill>
          <a:blip r:embed="rId2"/>
          <a:stretch/>
        </p:blipFill>
        <p:spPr>
          <a:xfrm>
            <a:off x="324000" y="2997360"/>
            <a:ext cx="39607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323640" y="785880"/>
            <a:ext cx="83199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Коррекция нарушений в развити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эмоционально-личностной сферы ребенка-дошкольни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5" descr="небо"/>
          <p:cNvPicPr/>
          <p:nvPr/>
        </p:nvPicPr>
        <p:blipFill>
          <a:blip r:embed="rId1"/>
          <a:stretch/>
        </p:blipFill>
        <p:spPr>
          <a:xfrm>
            <a:off x="785880" y="2571840"/>
            <a:ext cx="7535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468000" y="285480"/>
            <a:ext cx="82184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ffffff"/>
                </a:solidFill>
                <a:uFillTx/>
                <a:latin typeface="Arial"/>
              </a:rPr>
              <a:t>Основными направлениями корре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ffffff"/>
                </a:solidFill>
                <a:uFillTx/>
                <a:latin typeface="Arial"/>
              </a:rPr>
              <a:t>эмоциональных нарушений являю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200" spc="-1" strike="noStrike">
                <a:solidFill>
                  <a:srgbClr val="ffffff"/>
                </a:solidFill>
                <a:latin typeface="Arial"/>
              </a:rPr>
              <a:t>смягчение эмоционального дискомфорта у дете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200" spc="-1" strike="noStrike">
                <a:solidFill>
                  <a:srgbClr val="ffffff"/>
                </a:solidFill>
                <a:latin typeface="Arial"/>
              </a:rPr>
              <a:t>повышение их активности и самостоятельн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ffffff"/>
                </a:solidFill>
                <a:latin typeface="Arial"/>
              </a:rPr>
              <a:t>коррекция самооценки, уровня самосознания, формиро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sz="2200" spc="-1" strike="noStrike">
                <a:solidFill>
                  <a:srgbClr val="ffffff"/>
                </a:solidFill>
                <a:latin typeface="Arial"/>
              </a:rPr>
              <a:t>эмоциональной устойчивости 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sz="2200" spc="-1" strike="noStrike">
                <a:solidFill>
                  <a:srgbClr val="ffffff"/>
                </a:solidFill>
                <a:latin typeface="Arial"/>
              </a:rPr>
              <a:t>аморегуляции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Рисунок 2" descr="http://www.intex-press.by/get_img?ImageWidth=628&amp;ImageId=19811"/>
          <p:cNvPicPr/>
          <p:nvPr/>
        </p:nvPicPr>
        <p:blipFill>
          <a:blip r:embed="rId1"/>
          <a:stretch/>
        </p:blipFill>
        <p:spPr>
          <a:xfrm>
            <a:off x="2500200" y="4000680"/>
            <a:ext cx="45007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блема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эмоционального самочувствия детей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в семье и дошкольном учреждении является одной из самых актуальных, так как положительное эмоциональное состояние относится к числу важнейших условий развития лич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Высокая эмоциональность ребенка, которая окрашивает его психическую жизнь и практический опыт, составляет характерную особенность дошкольного детства.  Внутренним, субъективным отношением ребенка к миру, к людям, к самому факту собственного существования является эмоциональное мироощущение.  В одних случаях – это радость, полнота жизни, согласие с миром и самим собой, отсутствие аффективности и уходов в себя; в других – чрезмерная напряженность взаимодействия, состояние подавленности, сниженное настроение или, наоборот, выраженная агресс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Таким образом, эмоциональное мироощущение дошкольника – это «выражение субъективного переживания, его интенсивности и глубины, зрелости эмоций и чувств в целом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Эмоциональный опыт ребенка, то есть опыт его переживаний, может иметь как позитивную, так и негативную окрашенность, что оказывает непосредственное влияние на его актуальное самочувствие. Современные научные данные убедительно показывают, что результат положительно-направленного детского опыта: доверие к миру, открытость, готовность к сотрудничеству обеспечивает основу для позитивной самореализации растущей лич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Для психического здоровья детей необходима сбалансированность положительных и отрицательных эмоций, обеспечивающая поддержание душевного равновесия и жизнеутверждающего поведения. Нарушение эмоционального баланса способствует возникновению эмоциональных расстройств, приводящих к отклонению в развитии личности ребенка, к нарушению у него социальных контак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ff"/>
                </a:solidFill>
                <a:latin typeface="Arial"/>
                <a:ea typeface="Arial"/>
              </a:rPr>
              <a:t>Термин «</a:t>
            </a:r>
            <a:r>
              <a:rPr b="0" sz="3600" spc="-1" strike="noStrike">
                <a:solidFill>
                  <a:srgbClr val="ffffff"/>
                </a:solidFill>
                <a:latin typeface="Arial"/>
                <a:ea typeface="Arial"/>
              </a:rPr>
              <a:t>эмоции</a:t>
            </a:r>
            <a:r>
              <a:rPr b="0" sz="3200" spc="-1" strike="noStrike">
                <a:solidFill>
                  <a:srgbClr val="ffffff"/>
                </a:solidFill>
                <a:latin typeface="Arial"/>
                <a:ea typeface="Arial"/>
              </a:rPr>
              <a:t>» происходит от латинского глагол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emover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 Black"/>
                <a:ea typeface="Arial"/>
              </a:rPr>
              <a:t>двиг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 Black"/>
                <a:ea typeface="Arial"/>
              </a:rPr>
              <a:t>возбужд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ffff"/>
                </a:solidFill>
                <a:latin typeface="Arial Black"/>
                <a:ea typeface="Arial"/>
              </a:rPr>
              <a:t>волнов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0d2ff"/>
                </a:solidFill>
                <a:latin typeface="Arial"/>
                <a:ea typeface="Arial"/>
              </a:rPr>
              <a:t>В эмоциях имеются три составные част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АФФЕК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эмоциональное напряжение, возбуждени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КОГНИ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осознание своего состояния, обозначение его словом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ЭКСПРЕСС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внешнее выражение в телесной моторике или поведени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Различаю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первичные</a:t>
            </a:r>
            <a:r>
              <a:rPr b="0" lang="en-US" sz="3200" spc="-1" strike="noStrike">
                <a:solidFill>
                  <a:srgbClr val="41577e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основные) эмоции: радость, печаль, тревога, гнев, отвращение, стыд, удивл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вторичные</a:t>
            </a:r>
            <a:r>
              <a:rPr b="0" lang="en-US" sz="3200" spc="-1" strike="noStrike">
                <a:solidFill>
                  <a:srgbClr val="004d4d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сложные): смещение первичных эмоций, а также эмоций и их узких интерпрета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Факторы риска эмоциональных нарушен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4" descr="f_289"/>
          <p:cNvPicPr/>
          <p:nvPr/>
        </p:nvPicPr>
        <p:blipFill>
          <a:blip r:embed="rId1"/>
          <a:stretch/>
        </p:blipFill>
        <p:spPr>
          <a:xfrm>
            <a:off x="0" y="1552680"/>
            <a:ext cx="914400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руппы нарушений в развитии эмоциональной сфе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Выделяются </a:t>
            </a:r>
            <a:r>
              <a:rPr b="1" i="1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три группы </a:t>
            </a:r>
            <a:r>
              <a:rPr b="0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арушений в развитии эмоциональной сферы дошкольника: – расстройства настроения; – расстройства поведения; – нарушения психомотор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</a:t>
            </a:r>
            <a:r>
              <a:rPr b="0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.</a:t>
            </a:r>
            <a:r>
              <a:rPr b="0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Расстройства настроения </a:t>
            </a:r>
            <a:r>
              <a:rPr b="0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можно условно разделить на 2 вида: с усилением эмоциональности и ее понижением. К 1-й группе относятся такие состояния, как эйфория, дисфория, депрессия, тревожный синдром, страхи. Ко 2-й группе относятся апатия, эмоциональная тупость, паратим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I</a:t>
            </a:r>
            <a:r>
              <a:rPr b="0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К </a:t>
            </a:r>
            <a:r>
              <a:rPr b="0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расстройствам повед</a:t>
            </a:r>
            <a:r>
              <a:rPr b="0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ения можно отнести гиперактивность и агрессивное поведение: нормативно-инструментальную агрессию, пассивно – агрессивное поведение, инфантильную агрессивность, защитную агрессию, демонстративную агрессию, целенаправленно враждебную агресс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00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30T16:12:41Z</dcterms:created>
  <dc:creator>Admin</dc:creator>
  <dc:description/>
  <dc:language>en-US</dc:language>
  <cp:lastModifiedBy>Ира</cp:lastModifiedBy>
  <dcterms:modified xsi:type="dcterms:W3CDTF">2023-07-10T08:08:00Z</dcterms:modified>
  <cp:revision>81</cp:revision>
  <dc:subject/>
  <dc:title>Эмоциональные расстройства у детей</dc:title>
</cp:coreProperties>
</file>