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268-577A-4311-943B-C62BCDC5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DE2-B875-419D-A213-B2302DD7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169-43AC-4853-8A1F-3618C0EE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514-E10D-4B1D-8E13-B1E822CB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6545-DD89-4D3F-ACA9-F9B4C1C3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B3BB-48AE-4772-828C-09F60115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E3C2-4798-4DA8-B725-312B6D5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304D-4B3A-41A5-8110-ECCA3BDF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53E5-E4A0-4459-820F-782000A8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43C-B730-49B6-A53D-D2655238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7C08-3501-4323-AFD0-DF138776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E32-7FC5-4ECE-8211-82022F16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64D7-F0C3-42C4-8D04-4C04FCD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8944-4809-4446-855F-AA0D86C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8C4D-FC70-48DA-802F-5B62C21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AACB-C6CB-45CD-8B7B-57293C1E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2363-0539-424A-B2A8-D09AD8CF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D54-73D8-4FF0-B14A-8FC4A1F9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623-956D-4E25-B01A-0C026ED6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9D5-09F1-4081-8BAB-0C219CC3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4F9-33E5-4EDD-830C-A281E682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DC0-C43D-46FD-AC50-20BAF6F7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420-70C5-4F79-BB42-0C66F8FB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1BA-E4B8-47AE-B13E-4CA91625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534-E6BC-43F0-824C-790A5FFF9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EA1-7D25-46BC-9199-0334D20DE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Степень окисл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Урок химии в 8 класс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Элементы с переменной Э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одород в большинстве соединений +1, но в соединениях с металлами -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Все металлы побочных подгрупп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Почти все неметаллы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улево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значение С.О. имеют атомы в молекулах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ростых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веществ и атомы в свободном состоянии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олекулы всегда электронейтральны, поэтому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умм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положительных и отрицательных зарядо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авна нулю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6400800" y="5105520"/>
            <a:ext cx="304920" cy="533160"/>
          </a:xfrm>
          <a:prstGeom prst="rect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Номенклатура бинарных соедин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ервым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записывается элемент с положительным значением Э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торым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писывается элемент с отрицательным значением ЭО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звание дается в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ратном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порядк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Элемент-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д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+ элемент а  ( с.о.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37" name="Group 8"/>
          <p:cNvGrpSpPr/>
          <p:nvPr/>
        </p:nvGrpSpPr>
        <p:grpSpPr>
          <a:xfrm>
            <a:off x="3657600" y="4952520"/>
            <a:ext cx="457200" cy="228960"/>
            <a:chOff x="3657600" y="4952520"/>
            <a:chExt cx="457200" cy="228960"/>
          </a:xfrm>
        </p:grpSpPr>
        <p:sp>
          <p:nvSpPr>
            <p:cNvPr id="238" name="Line 6"/>
            <p:cNvSpPr/>
            <p:nvPr/>
          </p:nvSpPr>
          <p:spPr>
            <a:xfrm flipV="1">
              <a:off x="3657600" y="4952520"/>
              <a:ext cx="228600" cy="228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" name="Line 7"/>
            <p:cNvSpPr/>
            <p:nvPr/>
          </p:nvSpPr>
          <p:spPr>
            <a:xfrm>
              <a:off x="3886200" y="4952880"/>
              <a:ext cx="228600" cy="2286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Закрепление зн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Arial"/>
              </a:rPr>
              <a:t>Найти степени окисления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  NO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CuCl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CuCl  BaH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MgF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Al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33"/>
                </a:solidFill>
                <a:latin typeface="Arial"/>
              </a:rPr>
              <a:t>Составить формулы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ксида азот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оксида азот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V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Нитридов: калия, кальция, бор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Хлоридов: марганца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)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,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V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фосфора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V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ать понятие степени окислен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Научить рассчитывать степени окисления по формулам бинарных соединений и составлять химические формулы по степени окисления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Дать первоначальные представления о номенклатуре химических соединений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Понятие о степени окисл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Определить тип химической связи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H</a:t>
            </a:r>
            <a:r>
              <a:rPr b="1" lang="en-US" sz="3200" spc="-1" strike="noStrike" baseline="-25000">
                <a:solidFill>
                  <a:srgbClr val="333300"/>
                </a:solidFill>
                <a:latin typeface="Arial"/>
              </a:rPr>
              <a:t>2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Cl         NaCl          C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+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H  H  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ковалентная неполярная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286000" y="4038480"/>
            <a:ext cx="76320" cy="152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2895480" y="4038480"/>
            <a:ext cx="76320" cy="152640"/>
          </a:xfrm>
          <a:prstGeom prst="ellipse">
            <a:avLst/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5791320" y="3886200"/>
            <a:ext cx="75960" cy="380880"/>
            <a:chOff x="5791320" y="3886200"/>
            <a:chExt cx="75960" cy="380880"/>
          </a:xfrm>
        </p:grpSpPr>
        <p:sp>
          <p:nvSpPr>
            <p:cNvPr id="171" name="Oval 7"/>
            <p:cNvSpPr/>
            <p:nvPr/>
          </p:nvSpPr>
          <p:spPr>
            <a:xfrm>
              <a:off x="5791320" y="4114800"/>
              <a:ext cx="7596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5791320" y="3886200"/>
              <a:ext cx="7596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73" name="AutoShape 11"/>
          <p:cNvSpPr/>
          <p:nvPr/>
        </p:nvSpPr>
        <p:spPr>
          <a:xfrm>
            <a:off x="3581280" y="411480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H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4400" spc="-1" strike="noStrike" baseline="-25000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76" name="Group 59"/>
          <p:cNvGrpSpPr/>
          <p:nvPr/>
        </p:nvGrpSpPr>
        <p:grpSpPr>
          <a:xfrm>
            <a:off x="1981080" y="1447920"/>
            <a:ext cx="5333760" cy="1142640"/>
            <a:chOff x="1981080" y="1447920"/>
            <a:chExt cx="5333760" cy="1142640"/>
          </a:xfrm>
        </p:grpSpPr>
        <p:sp>
          <p:nvSpPr>
            <p:cNvPr id="177" name="Oval 4"/>
            <p:cNvSpPr/>
            <p:nvPr/>
          </p:nvSpPr>
          <p:spPr>
            <a:xfrm>
              <a:off x="1981080" y="1905120"/>
              <a:ext cx="15228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78" name="Group 32"/>
            <p:cNvGrpSpPr/>
            <p:nvPr/>
          </p:nvGrpSpPr>
          <p:grpSpPr>
            <a:xfrm>
              <a:off x="3124080" y="1447920"/>
              <a:ext cx="1066320" cy="1142280"/>
              <a:chOff x="3124080" y="1447920"/>
              <a:chExt cx="1066320" cy="1142280"/>
            </a:xfrm>
          </p:grpSpPr>
          <p:sp>
            <p:nvSpPr>
              <p:cNvPr id="179" name="Oval 13"/>
              <p:cNvSpPr/>
              <p:nvPr/>
            </p:nvSpPr>
            <p:spPr>
              <a:xfrm>
                <a:off x="3124080" y="188748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0" name="Oval 14"/>
              <p:cNvSpPr/>
              <p:nvPr/>
            </p:nvSpPr>
            <p:spPr>
              <a:xfrm>
                <a:off x="3452040" y="144792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1" name="Oval 15"/>
              <p:cNvSpPr/>
              <p:nvPr/>
            </p:nvSpPr>
            <p:spPr>
              <a:xfrm>
                <a:off x="3698280" y="144792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" name="Oval 16"/>
              <p:cNvSpPr/>
              <p:nvPr/>
            </p:nvSpPr>
            <p:spPr>
              <a:xfrm>
                <a:off x="4026600" y="179964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3" name="Oval 17"/>
              <p:cNvSpPr/>
              <p:nvPr/>
            </p:nvSpPr>
            <p:spPr>
              <a:xfrm>
                <a:off x="4026600" y="206316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4" name="Oval 18"/>
              <p:cNvSpPr/>
              <p:nvPr/>
            </p:nvSpPr>
            <p:spPr>
              <a:xfrm>
                <a:off x="3452040" y="241488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5" name="Oval 20"/>
              <p:cNvSpPr/>
              <p:nvPr/>
            </p:nvSpPr>
            <p:spPr>
              <a:xfrm>
                <a:off x="3698280" y="241488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33"/>
            <p:cNvGrpSpPr/>
            <p:nvPr/>
          </p:nvGrpSpPr>
          <p:grpSpPr>
            <a:xfrm>
              <a:off x="6248160" y="1447920"/>
              <a:ext cx="1066680" cy="1142640"/>
              <a:chOff x="6248160" y="1447920"/>
              <a:chExt cx="1066680" cy="1142640"/>
            </a:xfrm>
          </p:grpSpPr>
          <p:sp>
            <p:nvSpPr>
              <p:cNvPr id="187" name="Oval 21"/>
              <p:cNvSpPr/>
              <p:nvPr/>
            </p:nvSpPr>
            <p:spPr>
              <a:xfrm>
                <a:off x="6576120" y="144792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8" name="Oval 22"/>
              <p:cNvSpPr/>
              <p:nvPr/>
            </p:nvSpPr>
            <p:spPr>
              <a:xfrm>
                <a:off x="6822360" y="144792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9" name="Oval 23"/>
              <p:cNvSpPr/>
              <p:nvPr/>
            </p:nvSpPr>
            <p:spPr>
              <a:xfrm>
                <a:off x="7151040" y="173340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0" name="Oval 24"/>
              <p:cNvSpPr/>
              <p:nvPr/>
            </p:nvSpPr>
            <p:spPr>
              <a:xfrm>
                <a:off x="7151040" y="201924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1" name="Oval 25"/>
              <p:cNvSpPr/>
              <p:nvPr/>
            </p:nvSpPr>
            <p:spPr>
              <a:xfrm>
                <a:off x="6822360" y="240048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Oval 26"/>
              <p:cNvSpPr/>
              <p:nvPr/>
            </p:nvSpPr>
            <p:spPr>
              <a:xfrm>
                <a:off x="6576120" y="240048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3" name="Oval 27"/>
              <p:cNvSpPr/>
              <p:nvPr/>
            </p:nvSpPr>
            <p:spPr>
              <a:xfrm>
                <a:off x="6248160" y="182880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4" name="Oval 28"/>
              <p:cNvSpPr/>
              <p:nvPr/>
            </p:nvSpPr>
            <p:spPr>
              <a:xfrm>
                <a:off x="6248160" y="211464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AutoShape 35"/>
            <p:cNvSpPr/>
            <p:nvPr/>
          </p:nvSpPr>
          <p:spPr>
            <a:xfrm>
              <a:off x="2361960" y="1828800"/>
              <a:ext cx="381240" cy="380880"/>
            </a:xfrm>
            <a:prstGeom prst="plus">
              <a:avLst>
                <a:gd name="adj" fmla="val 3958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AutoShape 36"/>
            <p:cNvSpPr/>
            <p:nvPr/>
          </p:nvSpPr>
          <p:spPr>
            <a:xfrm>
              <a:off x="4572000" y="1981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97" name="Group 58"/>
          <p:cNvGrpSpPr/>
          <p:nvPr/>
        </p:nvGrpSpPr>
        <p:grpSpPr>
          <a:xfrm>
            <a:off x="2209680" y="3733920"/>
            <a:ext cx="5181480" cy="1371600"/>
            <a:chOff x="2209680" y="3733920"/>
            <a:chExt cx="5181480" cy="1371600"/>
          </a:xfrm>
        </p:grpSpPr>
        <p:sp>
          <p:nvSpPr>
            <p:cNvPr id="198" name="Oval 29"/>
            <p:cNvSpPr/>
            <p:nvPr/>
          </p:nvSpPr>
          <p:spPr>
            <a:xfrm>
              <a:off x="2209680" y="4343400"/>
              <a:ext cx="152280" cy="15228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9" name="AutoShape 37"/>
            <p:cNvSpPr/>
            <p:nvPr/>
          </p:nvSpPr>
          <p:spPr>
            <a:xfrm>
              <a:off x="2514240" y="4267080"/>
              <a:ext cx="381240" cy="381240"/>
            </a:xfrm>
            <a:prstGeom prst="plus">
              <a:avLst>
                <a:gd name="adj" fmla="val 3958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0" name="Group 38"/>
            <p:cNvGrpSpPr/>
            <p:nvPr/>
          </p:nvGrpSpPr>
          <p:grpSpPr>
            <a:xfrm>
              <a:off x="3124080" y="3809880"/>
              <a:ext cx="1066320" cy="1142280"/>
              <a:chOff x="3124080" y="3809880"/>
              <a:chExt cx="1066320" cy="1142280"/>
            </a:xfrm>
          </p:grpSpPr>
          <p:sp>
            <p:nvSpPr>
              <p:cNvPr id="201" name="Oval 39"/>
              <p:cNvSpPr/>
              <p:nvPr/>
            </p:nvSpPr>
            <p:spPr>
              <a:xfrm>
                <a:off x="3124080" y="424944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2" name="Oval 40"/>
              <p:cNvSpPr/>
              <p:nvPr/>
            </p:nvSpPr>
            <p:spPr>
              <a:xfrm>
                <a:off x="3452040" y="380988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" name="Oval 41"/>
              <p:cNvSpPr/>
              <p:nvPr/>
            </p:nvSpPr>
            <p:spPr>
              <a:xfrm>
                <a:off x="3698280" y="3809880"/>
                <a:ext cx="164160" cy="1760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Oval 42"/>
              <p:cNvSpPr/>
              <p:nvPr/>
            </p:nvSpPr>
            <p:spPr>
              <a:xfrm>
                <a:off x="4026600" y="416160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Oval 43"/>
              <p:cNvSpPr/>
              <p:nvPr/>
            </p:nvSpPr>
            <p:spPr>
              <a:xfrm>
                <a:off x="4026600" y="4425120"/>
                <a:ext cx="16380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Oval 44"/>
              <p:cNvSpPr/>
              <p:nvPr/>
            </p:nvSpPr>
            <p:spPr>
              <a:xfrm>
                <a:off x="3452040" y="477684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Oval 45"/>
              <p:cNvSpPr/>
              <p:nvPr/>
            </p:nvSpPr>
            <p:spPr>
              <a:xfrm>
                <a:off x="3698280" y="4776840"/>
                <a:ext cx="164160" cy="17532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AutoShape 46"/>
            <p:cNvSpPr/>
            <p:nvPr/>
          </p:nvSpPr>
          <p:spPr>
            <a:xfrm>
              <a:off x="4495680" y="4267080"/>
              <a:ext cx="685800" cy="152640"/>
            </a:xfrm>
            <a:prstGeom prst="rightArrow">
              <a:avLst>
                <a:gd name="adj1" fmla="val 50000"/>
                <a:gd name="adj2" fmla="val 112323"/>
              </a:avLst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9" name="Group 47"/>
            <p:cNvGrpSpPr/>
            <p:nvPr/>
          </p:nvGrpSpPr>
          <p:grpSpPr>
            <a:xfrm>
              <a:off x="6248160" y="3809880"/>
              <a:ext cx="1066320" cy="1142640"/>
              <a:chOff x="6248160" y="3809880"/>
              <a:chExt cx="1066320" cy="1142640"/>
            </a:xfrm>
          </p:grpSpPr>
          <p:sp>
            <p:nvSpPr>
              <p:cNvPr id="210" name="Oval 48"/>
              <p:cNvSpPr/>
              <p:nvPr/>
            </p:nvSpPr>
            <p:spPr>
              <a:xfrm>
                <a:off x="6576120" y="380988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1" name="Oval 49"/>
              <p:cNvSpPr/>
              <p:nvPr/>
            </p:nvSpPr>
            <p:spPr>
              <a:xfrm>
                <a:off x="6822360" y="3809880"/>
                <a:ext cx="16416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" name="Oval 50"/>
              <p:cNvSpPr/>
              <p:nvPr/>
            </p:nvSpPr>
            <p:spPr>
              <a:xfrm>
                <a:off x="7150680" y="409536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Oval 51"/>
              <p:cNvSpPr/>
              <p:nvPr/>
            </p:nvSpPr>
            <p:spPr>
              <a:xfrm>
                <a:off x="7150680" y="4381200"/>
                <a:ext cx="163800" cy="19044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4" name="Oval 52"/>
              <p:cNvSpPr/>
              <p:nvPr/>
            </p:nvSpPr>
            <p:spPr>
              <a:xfrm>
                <a:off x="6822360" y="476244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6576120" y="4762440"/>
                <a:ext cx="16416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" name="Oval 54"/>
              <p:cNvSpPr/>
              <p:nvPr/>
            </p:nvSpPr>
            <p:spPr>
              <a:xfrm>
                <a:off x="6248160" y="419076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7" name="Oval 55"/>
              <p:cNvSpPr/>
              <p:nvPr/>
            </p:nvSpPr>
            <p:spPr>
              <a:xfrm>
                <a:off x="6248160" y="4476600"/>
                <a:ext cx="163800" cy="1900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AutoShape 56"/>
            <p:cNvSpPr/>
            <p:nvPr/>
          </p:nvSpPr>
          <p:spPr>
            <a:xfrm>
              <a:off x="6171840" y="3809880"/>
              <a:ext cx="76320" cy="12956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4280 h 1295640"/>
                <a:gd name="textAreaBottom" fmla="*/ 12513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741"/>
                    <a:pt x="0" y="1482"/>
                  </a:cubicBezTo>
                  <a:lnTo>
                    <a:pt x="0" y="20118"/>
                  </a:lnTo>
                  <a:cubicBezTo>
                    <a:pt x="0" y="20859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9" name="AutoShape 57"/>
            <p:cNvSpPr/>
            <p:nvPr/>
          </p:nvSpPr>
          <p:spPr>
            <a:xfrm>
              <a:off x="7238880" y="3733920"/>
              <a:ext cx="152280" cy="137160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Электронная плотность связи смещается в сторону </a:t>
            </a:r>
            <a:r>
              <a:rPr b="1" lang="en-US" sz="3200" spc="-1" strike="noStrike">
                <a:solidFill>
                  <a:srgbClr val="999900"/>
                </a:solidFill>
                <a:latin typeface="Arial"/>
              </a:rPr>
              <a:t>более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9900"/>
                </a:solidFill>
                <a:latin typeface="Arial"/>
              </a:rPr>
              <a:t>электроотрицательного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элемента (</a:t>
            </a:r>
            <a:r>
              <a:rPr b="1" i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того, кто правее и выше</a:t>
            </a: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это </a:t>
            </a: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условный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9900"/>
                </a:solidFill>
                <a:latin typeface="Arial"/>
              </a:rPr>
              <a:t>заряд</a:t>
            </a:r>
            <a:r>
              <a:rPr b="0" lang="ru-RU" sz="3600" spc="-1" strike="noStrike">
                <a:solidFill>
                  <a:srgbClr val="333300"/>
                </a:solidFill>
                <a:latin typeface="Arial"/>
              </a:rPr>
              <a:t> атомов химического элемента в соединении, вычисленный на основе предположения, что все соединения (ионные и ковалентно-полярные) состоят только из ионов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Степень окисления может иметь положительное, отрицательное или нулевое значение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Значение степени окисления указывается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верху над символом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элемента, причем вначале пишется заряд (+ или -), а затем числ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Например: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Na</a:t>
            </a:r>
            <a:r>
              <a:rPr b="1" lang="en-US" sz="4000" spc="-1" strike="noStrike" baseline="-25000">
                <a:solidFill>
                  <a:srgbClr val="333300"/>
                </a:solidFill>
                <a:latin typeface="Arial"/>
              </a:rPr>
              <a:t>2</a:t>
            </a:r>
            <a:r>
              <a:rPr b="1" lang="en-US" sz="4000" spc="-1" strike="noStrike" baseline="50000">
                <a:solidFill>
                  <a:srgbClr val="3333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S</a:t>
            </a:r>
            <a:r>
              <a:rPr b="1" lang="en-US" sz="4000" spc="-1" strike="noStrike" baseline="50000">
                <a:solidFill>
                  <a:srgbClr val="333300"/>
                </a:solidFill>
                <a:latin typeface="Arial"/>
              </a:rPr>
              <a:t>-2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ерв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аписывается элемент с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положительн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начением Э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8b00"/>
                </a:solidFill>
                <a:latin typeface="Arial"/>
              </a:rPr>
              <a:t>Втор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аписывается элемент с </a:t>
            </a:r>
            <a:r>
              <a:rPr b="1" lang="en-US" sz="3200" spc="-1" strike="noStrike">
                <a:solidFill>
                  <a:srgbClr val="8b8b00"/>
                </a:solidFill>
                <a:latin typeface="Arial"/>
              </a:rPr>
              <a:t>отрицательным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значением ЭО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Элементы с постоянной Э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Металлы главных подгрупп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2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III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группа  +3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Элемент фтор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F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сегда -1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Элемент кислород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  <a:ea typeface="Arial"/>
              </a:rPr>
              <a:t>O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сегда -2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  <a:ea typeface="Arial"/>
              </a:rPr>
              <a:t>      ( кроме соединений с фтором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09-03-11T01:17:3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