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1C3-5A8F-4AD8-87A8-A414F063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1EF-5828-4BB1-B803-32B5492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A02-2097-4AFC-B415-55E6D5DC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7D7-0E8F-4F52-83F0-0C01B47E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F46C-205F-4E1B-9CBC-05D63FE6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C713-05FA-4231-A3F7-0CD4504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1997-412D-42D8-BB28-CD805D5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BEB-6540-4B7F-902E-DDD32BB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2235-B231-44AE-8F3F-8B276093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1848-3F47-4FBC-ACE9-A7137830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77C4-6180-40C1-AEF8-3528761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A1E-657B-4C33-A3CC-CBBBA8ED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425B-5C11-4D33-9965-C0299F8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4C89-4808-4ABD-BAFF-AE96B34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5BC7-209E-4464-A5A9-95E8A009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100B-FC78-4EF9-B32F-EC4D93C2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9BE8-4A43-41DB-979B-951BBE0E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8ECC-E934-47A5-8CC8-EEC6C0F6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1697-797C-4D92-8FA9-250ACE17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82BD-0D7D-4650-ACC0-FA6E3E5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65B7-4CB5-49C6-A09E-46C9B528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6C23-0F9A-4D1F-838C-BBA89410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6C9-EA64-44ED-A48B-61077BC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A881-848E-41E5-9358-7315B9A2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6929-48BE-40A8-B388-51D06DD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3E5E-0E6F-46BA-9EF7-059D947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F119-CD39-4365-9C5F-927D885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BB35-3591-4342-98C8-EA8CD76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B8F7-9A07-41A7-B9FB-A2EA03D8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9DD1-C1D6-49B1-A3D8-91B0D049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CE490-1A20-4847-87B1-045707B1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5968-0589-456A-B8BA-69FA56D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98CF-D7DE-4D2F-BFCA-9C4BF7C0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9AE-8CEE-4CE8-AD36-BE2EACD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570D-78AB-403B-8EB2-69C6EFD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CEEE-47FE-4B22-92BB-F81915BB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D3D2-EC62-4B4A-9BA5-23344999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9FEC-85E7-434B-98FA-5542A6A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379C-43A8-4E30-AA2C-C489845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164B-8F1D-44FA-9CE6-BBC1D5A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9F78-85B7-4AA8-885D-ABED2C23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359D-A55D-4DEB-9627-8460EEB4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7906-C6ED-4988-A202-CB475271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6E4DF-3ACF-4745-816C-67251AAA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102-68D6-403D-A85F-8E3ECCB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D88F-6935-4EC1-864D-D784C7D4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7C3B-3DE3-4EF6-8F36-F0906F9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337F-1490-4162-87C9-401C8C73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8974-FE94-4138-994C-D2EB7B7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0B93-33D9-4D0F-93C5-EAE1F368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DF578-69AA-41A8-976E-2244B954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2E1D-3570-472D-9581-C0C25171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E5925-B2B0-4956-AFEE-BC25B2B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9B5E-0BC2-4896-81E9-87E787DF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40A0-7DA9-4669-B92F-813EAD14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46F-77D1-4CFB-909D-90FA623E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7E8A-2FA4-4195-B357-5DEE2386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A1A-3903-463D-9484-A8CFDC4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969-3952-49AC-8A28-CDC01F0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1E2-3A43-4FAD-BB47-EB18482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C39A-9294-4D42-830E-DC726A20FDA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643-1A9B-4659-B1C2-7E6C820394E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475B-D062-435C-9FF7-1A0764F1A33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000-AC71-4514-B428-6833C420E90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EAB7-D1C9-495F-B76B-7BE19F9A3E1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редставление цвета в компьютер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1908000" y="2205000"/>
          <a:ext cx="37008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05000"/>
                    <a:ext cx="3700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7920" y="2997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изуальные параметры ощущения цвета характеризуются светлотой, насыщенностью и цветовым тон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ветлота – это различимость участков, сильнее или слабее отражающих св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сыщенность цвета показывает, насколько данный цвет отличается от монохроматического («чистого») излучения того же светового тон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ветовой тон позволяет различать основные цвета, такие, как красный, зеленый, си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9280" y="33336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ет и цвет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вет - поток электромагнитных во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вет – восприятие света человеческим гл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изические характеристики светового потока определяются параметрами мощности, яркости и освещ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1680" y="189000"/>
            <a:ext cx="424980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ветовые модел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195640" y="2892600"/>
            <a:ext cx="3197160" cy="3051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914400" y="973080"/>
            <a:ext cx="5745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ветовая модель – модель смешения основных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M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31640" y="657000"/>
            <a:ext cx="5688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Изображения в режиме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Trebuchet MS"/>
              </a:rPr>
              <a:t>RGB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цвет каждой точки является результатом суммирования в различных пропорциях трех основных компонентов : красный, зеленый и синий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нтенсивность каждого компонента изменяется в  диапазоне от 0 до 255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5867280" y="1263600"/>
          <a:ext cx="310536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263600"/>
                    <a:ext cx="3105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3"/>
          <p:cNvSpPr/>
          <p:nvPr/>
        </p:nvSpPr>
        <p:spPr>
          <a:xfrm>
            <a:off x="324000" y="3670200"/>
            <a:ext cx="561636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расный +синий + зеленый=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расный +зеленый=жел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еленый + синий = 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ний + красный = пурп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Shape-9"/>
          <p:cNvSpPr/>
          <p:nvPr/>
        </p:nvSpPr>
        <p:spPr>
          <a:xfrm>
            <a:off x="7588080" y="4692600"/>
            <a:ext cx="114480" cy="76320"/>
          </a:xfrm>
          <a:custGeom>
            <a:avLst/>
            <a:gdLst>
              <a:gd name="textAreaLeft" fmla="*/ 0 w 114480"/>
              <a:gd name="textAreaRight" fmla="*/ 114840 w 1144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14300" h="76200">
                <a:moveTo>
                  <a:pt x="0" y="76199"/>
                </a:moveTo>
                <a:lnTo>
                  <a:pt x="0" y="76199"/>
                </a:lnTo>
                <a:lnTo>
                  <a:pt x="45434" y="54530"/>
                </a:lnTo>
                <a:lnTo>
                  <a:pt x="88750" y="23174"/>
                </a:lnTo>
                <a:lnTo>
                  <a:pt x="114299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10920" y="493200"/>
            <a:ext cx="633708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Изображения в режиме 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rebuchet MS"/>
              </a:rPr>
              <a:t>CMY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 (субтрактивная модель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сновными в модели являются голубой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(cyan),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урпурный 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magenta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)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и желтый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(yellow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цвет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8" name="Object 6"/>
          <p:cNvGraphicFramePr/>
          <p:nvPr/>
        </p:nvGraphicFramePr>
        <p:xfrm>
          <a:off x="6162840" y="3340080"/>
          <a:ext cx="29811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2840" y="3340080"/>
                    <a:ext cx="29811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3"/>
          <p:cNvSpPr/>
          <p:nvPr/>
        </p:nvSpPr>
        <p:spPr>
          <a:xfrm>
            <a:off x="579600" y="2781360"/>
            <a:ext cx="5616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дель CMY основана на вычитании из белого цвета основ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елый – голубой=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елый –пурпурный= зе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елый – желтый = с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 Деление полноцветной картинки на составные цвета"/>
          <p:cNvPicPr/>
          <p:nvPr/>
        </p:nvPicPr>
        <p:blipFill>
          <a:blip r:embed="rId1"/>
          <a:stretch/>
        </p:blipFill>
        <p:spPr>
          <a:xfrm>
            <a:off x="1763640" y="333360"/>
            <a:ext cx="4838760" cy="1542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А вот что будет если одно и тоже изображение показать на мониторе (rgb) и на печатном оттиске (cmyk)"/>
          <p:cNvPicPr/>
          <p:nvPr/>
        </p:nvPicPr>
        <p:blipFill>
          <a:blip r:embed="rId2"/>
          <a:stretch/>
        </p:blipFill>
        <p:spPr>
          <a:xfrm>
            <a:off x="525600" y="2852640"/>
            <a:ext cx="7315200" cy="2686320"/>
          </a:xfrm>
          <a:prstGeom prst="rect">
            <a:avLst/>
          </a:prstGeom>
          <a:ln w="0">
            <a:noFill/>
          </a:ln>
        </p:spPr>
      </p:pic>
      <p:sp>
        <p:nvSpPr>
          <p:cNvPr id="283" name="SMARTInkShape-14"/>
          <p:cNvSpPr/>
          <p:nvPr/>
        </p:nvSpPr>
        <p:spPr>
          <a:xfrm>
            <a:off x="2027160" y="5554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7620" y="0"/>
                </a:moveTo>
                <a:lnTo>
                  <a:pt x="7620" y="0"/>
                </a:lnTo>
                <a:lnTo>
                  <a:pt x="0" y="762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Shape-15"/>
          <p:cNvSpPr/>
          <p:nvPr/>
        </p:nvSpPr>
        <p:spPr>
          <a:xfrm>
            <a:off x="1203480" y="32767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7620" y="7620"/>
                </a:moveTo>
                <a:lnTo>
                  <a:pt x="7620" y="762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 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ипы изображени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0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лубина цвета  — это число бит, используемых для представления каждого пикселя изображения, определяемое цветовым или тоновым диапазон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ветовой (тоновый) диапазон — это максимальное число цветов, используемых при создании изображ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уществуют типы изображений с различной глубиной цвета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ерно-белые штриховые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оттенках серого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 индексированным цветом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лноцветны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6:32:36Z</dcterms:created>
  <dc:creator>evl</dc:creator>
  <dc:description/>
  <dc:language>en-US</dc:language>
  <cp:lastModifiedBy>Елисеева Ирина Анатольевна</cp:lastModifiedBy>
  <dcterms:modified xsi:type="dcterms:W3CDTF">2023-07-10T05:26:01Z</dcterms:modified>
  <cp:revision>21</cp:revision>
  <dc:subject/>
  <dc:title>Обработка изображений</dc:title>
</cp:coreProperties>
</file>