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0EC-CFFE-4B5A-BCD3-1D84859E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8BA-0242-419D-A133-D26643AC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FE2-DDA3-48A6-B90F-2DA93750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25A-3E6A-4FAA-81D3-5BEBAA5D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F2BF-41EF-4619-AB1A-39BE1B95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8C6A-15CD-4DD7-AF15-1264DCE3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4C8E-DEFF-4DA0-A1BD-4842F8EC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B5C1-A50E-4AD5-BC24-B3674E39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DEE0-82C7-41D3-8C4F-1D978113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5AA7-C362-482D-8166-6920B192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6D6B-F7D0-4F29-93B2-FEC9DF55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C18-EA01-4100-9943-0FBCBFFD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B762-DB4C-4D64-B0D1-EA0D243E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BBDF-8A8F-4BB5-BA2D-A732E497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02D7-7B9F-414E-B61B-8A0C8D9D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3EC5-72C5-47FA-AC36-51805BAB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47B0-FE64-45EA-BEB8-98DD9309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3B1A-EA0F-4A70-9D8C-9A84899C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DAE5-8200-4415-813D-AA2DF652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83B8-DF2A-4B13-88EA-D7C1D12C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DC58D-A866-427F-B55E-5B03F7C2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698E3-89BA-4379-BAD0-0DBD4930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03D-4EE5-4B07-89C8-0C659D68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C256F-DF1F-4E4E-8950-907A5D83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31213-FCE2-4665-8BB3-24C8C8C0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015AC-4ECD-4BAB-8328-6D642E7D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356D-F6CF-4EB5-8AAB-4E05B930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8E487-A33D-4019-8C73-4BF4F464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05A4F-AE09-476F-BB82-789C0792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7FB55-5DDF-4DCE-9FAA-D8D6025A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23E46-3CD6-4C86-A732-FF6D36BC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F7285-6F6B-4460-8888-E2C945D4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E839C-FD29-4A62-9683-395BA1C9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9F7-505C-4F6A-BCAA-0492465C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8283A-131B-428F-B187-887894B2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884E7-FE56-40CF-81E5-5EDE667A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E60F0-E8A1-402F-83A2-8684873D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79A9C-08D6-4D67-80FE-D10FC6D8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3353D-4AA5-4FA2-8CA7-78EA6698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3A4A1-4A2C-406D-B86D-16E12B75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42C0E-2115-4FC7-AE15-DD02EF66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30A10-0662-483D-80DF-9333FF9A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A07C3-90C1-458F-8E0B-9B0896FF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AC107-4EFB-4222-9DDE-E4DCD128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F9C-D42E-4E3A-A0E4-FA101D96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FE0F5-F0C0-412E-AF59-59E49C34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DFB2A-CD4C-408C-878B-D2FED1FD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D6948-7DA4-4448-B38F-118336B6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67E86-0EE7-4A4E-B9E9-D72A8863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61158-5789-40F7-8C64-2763EC91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94B18-CF94-4254-8D20-FCC3C495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2C44B-3E1D-42D9-8667-9D02B54F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F0851-0B5B-43FE-B01A-F4CE8DD6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455F9-1C28-4129-B486-5EB307D9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4B287-9E26-4296-8CDE-60CA7C93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C762-CE33-4E02-A08D-001028D4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21415-C2CA-4D7A-9A45-C6B8B5EA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9E5-53A3-418D-8955-206A0E94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EB0-1C01-4F92-8532-0E5271A7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B46-C5AD-4811-9A1E-953C8196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F80A-9ED6-4C8D-BDB4-B58B0EFB329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7CC3-D2DB-493F-8231-CC1187DB20D1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BC7F-F769-4DF9-8EB8-C56A8025C423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FD5E-2EAD-4F50-A757-231FAF2840F5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C013-73B5-4AC3-B888-A640D209D66D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5759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Представление цвета в компьютер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1908000" y="2205000"/>
          <a:ext cx="370080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05000"/>
                    <a:ext cx="370080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-7920" y="2997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изуальные параметры ощущения цвета характеризуются светлотой, насыщенностью и цветовым тоно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3880" indent="-263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ветлота – это различимость участков, сильнее или слабее отражающих свет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3880" indent="-263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сыщенность цвета показывает, насколько данный цвет отличается от монохроматического («чистого») излучения того же светового тон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3880" indent="-263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Цветовой тон позволяет различать основные цвета, такие, как красный, зеленый, син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79280" y="333360"/>
            <a:ext cx="82296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ет и цвет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вет - поток электромагнитных вол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Цвет – восприятие света человеческим гла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Физические характеристики светового потока определяются параметрами мощности, яркости и освещ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1680" y="189000"/>
            <a:ext cx="424980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Цветовые модел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195640" y="2892600"/>
            <a:ext cx="3197160" cy="30510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914400" y="973080"/>
            <a:ext cx="57452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Цветовая модель – модель смешения основных ц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M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31640" y="657000"/>
            <a:ext cx="5688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Изображения в режиме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Trebuchet MS"/>
              </a:rPr>
              <a:t>RGB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цвет каждой точки является результатом суммирования в различных пропорциях трех основных компонентов : красный, зеленый и синий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нтенсивность каждого компонента изменяется в  диапазоне от 0 до 255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73" name="Object 4"/>
          <p:cNvGraphicFramePr/>
          <p:nvPr/>
        </p:nvGraphicFramePr>
        <p:xfrm>
          <a:off x="5867280" y="1263600"/>
          <a:ext cx="3105360" cy="33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263600"/>
                    <a:ext cx="3105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3"/>
          <p:cNvSpPr/>
          <p:nvPr/>
        </p:nvSpPr>
        <p:spPr>
          <a:xfrm>
            <a:off x="324000" y="3670200"/>
            <a:ext cx="561636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расный +синий + зеленый=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расный +зеленый=жел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еленый + синий = голу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иний + красный = пурп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InkShape-9"/>
          <p:cNvSpPr/>
          <p:nvPr/>
        </p:nvSpPr>
        <p:spPr>
          <a:xfrm>
            <a:off x="7588080" y="4692600"/>
            <a:ext cx="114480" cy="76320"/>
          </a:xfrm>
          <a:custGeom>
            <a:avLst/>
            <a:gdLst>
              <a:gd name="textAreaLeft" fmla="*/ 0 w 114480"/>
              <a:gd name="textAreaRight" fmla="*/ 114840 w 1144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14300" h="76200">
                <a:moveTo>
                  <a:pt x="0" y="76199"/>
                </a:moveTo>
                <a:lnTo>
                  <a:pt x="0" y="76199"/>
                </a:lnTo>
                <a:lnTo>
                  <a:pt x="45434" y="54530"/>
                </a:lnTo>
                <a:lnTo>
                  <a:pt x="88750" y="23174"/>
                </a:lnTo>
                <a:lnTo>
                  <a:pt x="114299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10920" y="493200"/>
            <a:ext cx="633708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Изображения в режиме </a:t>
            </a:r>
            <a:r>
              <a:rPr b="0" lang="en-US" sz="2800" spc="-1" strike="noStrike" u="sng">
                <a:solidFill>
                  <a:srgbClr val="404040"/>
                </a:solidFill>
                <a:uFillTx/>
                <a:latin typeface="Trebuchet MS"/>
              </a:rPr>
              <a:t>CMY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rebuchet MS"/>
              </a:rPr>
              <a:t> (субтрактивная модель)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основными в модели являются голубой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(cyan),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урпурный (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magenta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)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и желтый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(yellow)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цвет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78" name="Object 6"/>
          <p:cNvGraphicFramePr/>
          <p:nvPr/>
        </p:nvGraphicFramePr>
        <p:xfrm>
          <a:off x="6162840" y="3340080"/>
          <a:ext cx="298116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2840" y="3340080"/>
                    <a:ext cx="29811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3"/>
          <p:cNvSpPr/>
          <p:nvPr/>
        </p:nvSpPr>
        <p:spPr>
          <a:xfrm>
            <a:off x="579600" y="2781360"/>
            <a:ext cx="5616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Модель CMY основана на вычитании из белого цвета основ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Белый – голубой=кра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Белый –пурпурный= зеле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Белый – желтый = с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 Деление полноцветной картинки на составные цвета"/>
          <p:cNvPicPr/>
          <p:nvPr/>
        </p:nvPicPr>
        <p:blipFill>
          <a:blip r:embed="rId1"/>
          <a:stretch/>
        </p:blipFill>
        <p:spPr>
          <a:xfrm>
            <a:off x="1763640" y="333360"/>
            <a:ext cx="4838760" cy="1542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А вот что будет если одно и тоже изображение показать на мониторе (rgb) и на печатном оттиске (cmyk)"/>
          <p:cNvPicPr/>
          <p:nvPr/>
        </p:nvPicPr>
        <p:blipFill>
          <a:blip r:embed="rId2"/>
          <a:stretch/>
        </p:blipFill>
        <p:spPr>
          <a:xfrm>
            <a:off x="525600" y="2852640"/>
            <a:ext cx="7315200" cy="2686320"/>
          </a:xfrm>
          <a:prstGeom prst="rect">
            <a:avLst/>
          </a:prstGeom>
          <a:ln w="0">
            <a:noFill/>
          </a:ln>
        </p:spPr>
      </p:pic>
      <p:sp>
        <p:nvSpPr>
          <p:cNvPr id="283" name="SMARTInkShape-14"/>
          <p:cNvSpPr/>
          <p:nvPr/>
        </p:nvSpPr>
        <p:spPr>
          <a:xfrm>
            <a:off x="2027160" y="55548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621" h="7621">
                <a:moveTo>
                  <a:pt x="7620" y="0"/>
                </a:moveTo>
                <a:lnTo>
                  <a:pt x="7620" y="0"/>
                </a:lnTo>
                <a:lnTo>
                  <a:pt x="0" y="762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InkShape-15"/>
          <p:cNvSpPr/>
          <p:nvPr/>
        </p:nvSpPr>
        <p:spPr>
          <a:xfrm>
            <a:off x="1203480" y="32767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621" h="7621">
                <a:moveTo>
                  <a:pt x="7620" y="7620"/>
                </a:moveTo>
                <a:lnTo>
                  <a:pt x="7620" y="7620"/>
                </a:lnTo>
                <a:lnTo>
                  <a:pt x="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 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Типы изображений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0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лубина цвета  — это число бит, используемых для представления каждого пикселя изображения, определяемое цветовым или тоновым диапазоно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Цветовой (тоновый) диапазон — это максимальное число цветов, используемых при создании изображе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уществуют типы изображений с различной глубиной цвета 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ерно-белые штриховые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 оттенках серого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 индексированным цветом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лноцветны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06:32:36Z</dcterms:created>
  <dc:creator>evl</dc:creator>
  <dc:description/>
  <dc:language>en-US</dc:language>
  <cp:lastModifiedBy>Елисеева Ирина Анатольевна</cp:lastModifiedBy>
  <dcterms:modified xsi:type="dcterms:W3CDTF">2023-07-10T05:26:01Z</dcterms:modified>
  <cp:revision>21</cp:revision>
  <dc:subject/>
  <dc:title>Обработка изображений</dc:title>
</cp:coreProperties>
</file>