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3468-8936-4F2B-BDAC-D86B6B0739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DE3F-22FE-4C89-AFDD-D2B91615C9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D3A-85EC-4613-A0C7-7E65C5FB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B88-8870-4B83-84CE-4E59AFAF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5C1-2F7C-475A-8E6E-07E1AB4A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E47-7BEC-4E47-966B-14922521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6F2-2FCC-432E-B0B9-4282C92A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A75-6030-42FE-B1B9-3273BD13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E7B-4CE5-4517-8A3D-29C9D58F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039-7EC2-44CF-8235-922AD87F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C52-86D6-4E87-AD85-0CB950F4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047-9992-485D-9841-74368A35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D25-7BAC-4E80-8316-5D27DDB0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6F9-65E1-4A9A-A501-7A3B2621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2"/>
          <p:cNvSpPr/>
          <p:nvPr/>
        </p:nvSpPr>
        <p:spPr>
          <a:xfrm>
            <a:off x="228600" y="228600"/>
            <a:ext cx="8686800" cy="6477120"/>
          </a:xfrm>
          <a:prstGeom prst="roundRect">
            <a:avLst>
              <a:gd name="adj" fmla="val 8213"/>
            </a:avLst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71A6-8D4E-47CF-BD19-3A673AFF70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3" descr="223"/>
          <p:cNvPicPr/>
          <p:nvPr/>
        </p:nvPicPr>
        <p:blipFill>
          <a:blip r:embed="rId4"/>
          <a:stretch/>
        </p:blipFill>
        <p:spPr>
          <a:xfrm>
            <a:off x="152280" y="152280"/>
            <a:ext cx="1067040" cy="101916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28600" y="228600"/>
            <a:ext cx="8915400" cy="6527880"/>
            <a:chOff x="228600" y="228600"/>
            <a:chExt cx="8915400" cy="6527880"/>
          </a:xfrm>
        </p:grpSpPr>
        <p:sp>
          <p:nvSpPr>
            <p:cNvPr id="44" name="Freeform 7"/>
            <p:cNvSpPr/>
            <p:nvPr/>
          </p:nvSpPr>
          <p:spPr>
            <a:xfrm>
              <a:off x="228600" y="228600"/>
              <a:ext cx="8534520" cy="5537160"/>
            </a:xfrm>
            <a:prstGeom prst="pie">
              <a:avLst/>
            </a:prstGeom>
            <a:noFill/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57200" y="533520"/>
              <a:ext cx="8610480" cy="5537160"/>
            </a:xfrm>
            <a:prstGeom prst="pie">
              <a:avLst/>
            </a:prstGeom>
            <a:noFill/>
            <a:ln w="9360">
              <a:solidFill>
                <a:srgbClr val="9873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685800" y="1066680"/>
              <a:ext cx="8458200" cy="5308560"/>
            </a:xfrm>
            <a:prstGeom prst="pie">
              <a:avLst/>
            </a:prstGeom>
            <a:noFill/>
            <a:ln w="25560">
              <a:solidFill>
                <a:srgbClr val="9e9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066680" y="1676520"/>
              <a:ext cx="8001000" cy="5079960"/>
            </a:xfrm>
            <a:prstGeom prst="pie">
              <a:avLst/>
            </a:prstGeom>
            <a:noFill/>
            <a:ln w="25560">
              <a:solidFill>
                <a:srgbClr val="bcb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AutoShape 12"/>
          <p:cNvSpPr/>
          <p:nvPr/>
        </p:nvSpPr>
        <p:spPr>
          <a:xfrm>
            <a:off x="533520" y="1295280"/>
            <a:ext cx="8076960" cy="3353040"/>
          </a:xfrm>
          <a:prstGeom prst="roundRect">
            <a:avLst>
              <a:gd name="adj" fmla="val 9755"/>
            </a:avLst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223"/>
          <p:cNvPicPr/>
          <p:nvPr/>
        </p:nvPicPr>
        <p:blipFill>
          <a:blip r:embed="rId3"/>
          <a:stretch/>
        </p:blipFill>
        <p:spPr>
          <a:xfrm>
            <a:off x="7086600" y="4800600"/>
            <a:ext cx="1371600" cy="130968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pic>
        <p:nvPicPr>
          <p:cNvPr id="50" name="Picture 25" descr="43"/>
          <p:cNvPicPr/>
          <p:nvPr/>
        </p:nvPicPr>
        <p:blipFill>
          <a:blip r:embed="rId4"/>
          <a:stretch/>
        </p:blipFill>
        <p:spPr>
          <a:xfrm>
            <a:off x="3048120" y="3352680"/>
            <a:ext cx="2904840" cy="228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www.twirpx.com/file/209945/" TargetMode="External"/><Relationship Id="rId2" Type="http://schemas.openxmlformats.org/officeDocument/2006/relationships/hyperlink" Target="http://www.twirpx.com/file/209945/" TargetMode="External"/><Relationship Id="rId3" Type="http://schemas.openxmlformats.org/officeDocument/2006/relationships/hyperlink" Target="https://famous-scientists.ru/14326" TargetMode="External"/><Relationship Id="rId4" Type="http://schemas.openxmlformats.org/officeDocument/2006/relationships/hyperlink" Target="http://www.art-education/" TargetMode="External"/><Relationship Id="rId5" Type="http://schemas.openxmlformats.org/officeDocument/2006/relationships/hyperlink" Target="http://www.art-education/" TargetMode="External"/><Relationship Id="rId6" Type="http://schemas.openxmlformats.org/officeDocument/2006/relationships/hyperlink" Target="https://www.google.ru/url?sa=t&amp;rct=j&amp;q=&amp;esrc=s&amp;source=web&amp;cd=67&amp;ved=0ahUKEwjrlqSDpePMAhXEiSwKHa1LB_Q4PBAWCD0wBg&amp;url=http%3A%2F%2Fripo.unibel.by%2Findex.php%3Fid%3D630&amp;usg=AFQjCNHfyajZaHamIqVLrDrfYoIzyd2kAQ&amp;bvm=bv.122129774,d.bGg" TargetMode="External"/><Relationship Id="rId7" Type="http://schemas.openxmlformats.org/officeDocument/2006/relationships/hyperlink" Target="file:///C:/Users/salahova_gn/Desktop/&#160;http:/edu-teacherzv.ucoz.ru/publ/%20metodika_%20provedenija_quot_master_klass_quot/1-1-0-69" TargetMode="External"/><Relationship Id="rId8" Type="http://schemas.openxmlformats.org/officeDocument/2006/relationships/hyperlink" Target="http://dic.academic.ru/dic.nsf/es/82040/&#1052;&#1040;&#1057;&#1058;&#1045;&#1056;" TargetMode="External"/><Relationship Id="rId9" Type="http://schemas.openxmlformats.org/officeDocument/2006/relationships/hyperlink" Target="https://www.google.ru/url?sa=t&amp;rct=j&amp;q=&amp;esrc=s&amp;source=web&amp;cd=1&amp;ved=0ahUKEwiHtqmn4evRAhXJmBoKHTz0BGYQFggaMAA&amp;url=http%3A%2F%2Fkrasnogvard-nmc.spb.ru%2FZIP%2Fmaster.ppt%3FPHPSESSID%3De7aaf316c216b760ff941029443cbbc8&amp;usg=AFQjCNFEfj8KSSmBLnjWq4kAollg6Ptwlw&amp;bvm=bv.145822982,d.d2s" TargetMode="External"/><Relationship Id="rId10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s://www.science-education.ru/ru/article/view?id=5831" TargetMode="External"/><Relationship Id="rId2" Type="http://schemas.openxmlformats.org/officeDocument/2006/relationships/hyperlink" Target="https://www.science-education.ru/ru/article/view?id=5831" TargetMode="External"/><Relationship Id="rId3" Type="http://schemas.openxmlformats.org/officeDocument/2006/relationships/hyperlink" Target="https://www.science-education.ru/ru/article/view?id=5831" TargetMode="External"/><Relationship Id="rId4" Type="http://schemas.openxmlformats.org/officeDocument/2006/relationships/hyperlink" Target="https://www.science-education.ru/ru/article/view?id=5831" TargetMode="External"/><Relationship Id="rId5" Type="http://schemas.openxmlformats.org/officeDocument/2006/relationships/hyperlink" Target="https://www.science-education.ru/ru/article/view?id=5831" TargetMode="External"/><Relationship Id="rId6" Type="http://schemas.openxmlformats.org/officeDocument/2006/relationships/hyperlink" Target="https://www.science-education.ru/ru/article/view?id=5831" TargetMode="External"/><Relationship Id="rId7" Type="http://schemas.openxmlformats.org/officeDocument/2006/relationships/hyperlink" Target="https://www.science-education.ru/ru/article/view?id=5831" TargetMode="External"/><Relationship Id="rId8" Type="http://schemas.openxmlformats.org/officeDocument/2006/relationships/hyperlink" Target="https://www.science-education.ru/ru/article/view?id=5831" TargetMode="External"/><Relationship Id="rId9" Type="http://schemas.openxmlformats.org/officeDocument/2006/relationships/hyperlink" Target="https://www.science-education.ru/ru/article/view?id=5831" TargetMode="External"/><Relationship Id="rId10" Type="http://schemas.openxmlformats.org/officeDocument/2006/relationships/hyperlink" Target="https://www.science-education.ru/ru/article/view?id=5831" TargetMode="External"/><Relationship Id="rId11" Type="http://schemas.openxmlformats.org/officeDocument/2006/relationships/hyperlink" Target="https://www.science-education.ru/ru/article/view?id=5831" TargetMode="External"/><Relationship Id="rId12" Type="http://schemas.openxmlformats.org/officeDocument/2006/relationships/hyperlink" Target="https://www.science-education.ru/ru/article/view?id=5831" TargetMode="External"/><Relationship Id="rId13" Type="http://schemas.openxmlformats.org/officeDocument/2006/relationships/hyperlink" Target="https://www.science-education.ru/ru/article/view?id=5831" TargetMode="External"/><Relationship Id="rId14" Type="http://schemas.openxmlformats.org/officeDocument/2006/relationships/hyperlink" Target="https://www.science-education.ru/ru/article/view?id=5831" TargetMode="External"/><Relationship Id="rId15" Type="http://schemas.openxmlformats.org/officeDocument/2006/relationships/hyperlink" Target="https://www.science-education.ru/ru/article/view?id=5831" TargetMode="External"/><Relationship Id="rId16" Type="http://schemas.openxmlformats.org/officeDocument/2006/relationships/hyperlink" Target="https://www.science-education.ru/ru/article/view?id=5831" TargetMode="External"/><Relationship Id="rId17" Type="http://schemas.openxmlformats.org/officeDocument/2006/relationships/hyperlink" Target="https://www.science-education.ru/ru/article/view?id=5831" TargetMode="External"/><Relationship Id="rId18" Type="http://schemas.openxmlformats.org/officeDocument/2006/relationships/hyperlink" Target="https://www.science-education.ru/ru/article/view?id=5831" TargetMode="External"/><Relationship Id="rId19" Type="http://schemas.openxmlformats.org/officeDocument/2006/relationships/hyperlink" Target="https://www.science-education.ru/ru/article/view?id=5831" TargetMode="External"/><Relationship Id="rId20" Type="http://schemas.openxmlformats.org/officeDocument/2006/relationships/hyperlink" Target="http://vestnik.osu.ru/2011_11/30.pdf" TargetMode="External"/><Relationship Id="rId21" Type="http://schemas.openxmlformats.org/officeDocument/2006/relationships/hyperlink" Target="http://www.google.ru/url?url=http://journ.igni.urfu.ru/index.php/component/content/article/403&amp;rct=j&amp;frm=1&amp;q=&amp;esrc=s&amp;sa=U&amp;ei=ogzcVJmND6TnyQOFp4LgBw&amp;ved=0CEgQFjAJOBQ&amp;usg=AFQjCNHKqWE1i7P59EBfPOxIIZdFXbr11A" TargetMode="External"/><Relationship Id="rId22" Type="http://schemas.openxmlformats.org/officeDocument/2006/relationships/hyperlink" Target="http://www.google.ru/url?url=http://fulledu.ru/articles/mba/formy-obucheniya/article/817_master-klass-kak-forma-obucheniya-v-sisteme-dopoln.html&amp;rct=j&amp;frm=1&amp;q=&amp;esrc=s&amp;sa=U&amp;ved=0CCUQFjADODJqFQoTCPeV1O2t4sgCFSJ1cgodbOQNAg&amp;usg=AFQjCNHehXf_oQmikl9GtNX07LVFIRjskQ" TargetMode="External"/><Relationship Id="rId23" Type="http://schemas.openxmlformats.org/officeDocument/2006/relationships/hyperlink" Target="http://www.arhdhs1.ru/p22aa1.html" TargetMode="External"/><Relationship Id="rId24" Type="http://schemas.openxmlformats.org/officeDocument/2006/relationships/hyperlink" Target="http://www.arhdhs1.ru/p22aa1.html" TargetMode="External"/><Relationship Id="rId25" Type="http://schemas.openxmlformats.org/officeDocument/2006/relationships/hyperlink" Target="http://www.arhdhs1.ru/p22aa1.html" TargetMode="External"/><Relationship Id="rId26" Type="http://schemas.openxmlformats.org/officeDocument/2006/relationships/hyperlink" Target="http://www.arhdhs1.ru/p22aa1.html" TargetMode="External"/><Relationship Id="rId27" Type="http://schemas.openxmlformats.org/officeDocument/2006/relationships/hyperlink" Target="http://www.arhdhs1.ru/p22aa1.html" TargetMode="External"/><Relationship Id="rId28" Type="http://schemas.openxmlformats.org/officeDocument/2006/relationships/hyperlink" Target="http://www.arhdhs1.ru/p22aa1.html" TargetMode="External"/><Relationship Id="rId29" Type="http://schemas.openxmlformats.org/officeDocument/2006/relationships/hyperlink" Target="http://www.arhdhs1.ru/p22aa1.html" TargetMode="External"/><Relationship Id="rId30" Type="http://schemas.openxmlformats.org/officeDocument/2006/relationships/hyperlink" Target="http://www.arhdhs1.ru/p22aa1.html" TargetMode="External"/><Relationship Id="rId31" Type="http://schemas.openxmlformats.org/officeDocument/2006/relationships/hyperlink" Target="http://www.arhdhs1.ru/p22aa1.html" TargetMode="External"/><Relationship Id="rId32" Type="http://schemas.openxmlformats.org/officeDocument/2006/relationships/hyperlink" Target="http://www.arhdhs1.ru/p22aa1.html" TargetMode="External"/><Relationship Id="rId33" Type="http://schemas.openxmlformats.org/officeDocument/2006/relationships/hyperlink" Target="http://www.arhdhs1.ru/p22aa1.html" TargetMode="External"/><Relationship Id="rId34" Type="http://schemas.openxmlformats.org/officeDocument/2006/relationships/hyperlink" Target="http://www.arhdhs1.ru/p22aa1.html" TargetMode="External"/><Relationship Id="rId35" Type="http://schemas.openxmlformats.org/officeDocument/2006/relationships/hyperlink" Target="http://s65f738a2f469cef3.jimcontent.com/download/version/1459845909/module/12645427122/name/&#1056;&#1077;&#1082;&#1086;&#1084;&#1077;&#1085;&#1076;&#1072;&#1094;&#1080;&#1080;_&#1052;&#1072;&#1089;&#1090;&#1077;&#1088;-&#1082;&#1083;&#1072;&#1089;&#1089;.pdf" TargetMode="External"/><Relationship Id="rId36" Type="http://schemas.openxmlformats.org/officeDocument/2006/relationships/hyperlink" Target="https://www.google.ru/url?sa=t&amp;rct=j&amp;q=&amp;esrc=s&amp;source=web&amp;cd=22&amp;ved=0ahUKEwjq2b6KouPMAhXBiCwKHca5Dxs4FBAWCB8wAQ&amp;url=http%3A%2F%2Fddtufa.ru%2Findex.php%2Fbona-mente%2F12-2012-02-01-06-46-43%2F128-2014-08-06-08-22-25&amp;usg=AFQjCNFjAcd2OR526mjVPkc58Ibo5TUzmA&amp;bvm=bv.122129774,d.bGg" TargetMode="External"/><Relationship Id="rId37" Type="http://schemas.openxmlformats.org/officeDocument/2006/relationships/hyperlink" Target="https://www.google.ru/url?sa=t&amp;rct=j&amp;q=&amp;esrc=s&amp;source=web&amp;cd=22&amp;ved=0ahUKEwjq2b6KouPMAhXBiCwKHca5Dxs4FBAWCB8wAQ&amp;url=http%3A%2F%2Fddtufa.ru%2Findex.php%2Fbona-mente%2F12-2012-02-01-06-46-43%2F128-2014-08-06-08-22-25&amp;usg=AFQjCNFjAcd2OR526mjVPkc58Ibo5TUzmA&amp;bvm=bv.122129774,d.bGg" TargetMode="External"/><Relationship Id="rId38" Type="http://schemas.openxmlformats.org/officeDocument/2006/relationships/hyperlink" Target="https://www.google.ru/url?sa=t&amp;rct=j&amp;q=&amp;esrc=s&amp;source=web&amp;cd=22&amp;ved=0ahUKEwjq2b6KouPMAhXBiCwKHca5Dxs4FBAWCB8wAQ&amp;url=http%3A%2F%2Fddtufa.ru%2Findex.php%2Fbona-mente%2F12-2012-02-01-06-46-43%2F128-2014-08-06-08-22-25&amp;usg=AFQjCNFjAcd2OR526mjVPkc58Ibo5TUzmA&amp;bvm=bv.122129774,d.bGg" TargetMode="External"/><Relationship Id="rId39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chaconne.ru/viewitem.php?id=3719691" TargetMode="External"/><Relationship Id="rId2" Type="http://schemas.openxmlformats.org/officeDocument/2006/relationships/hyperlink" Target="http://www.chaconne.ru/viewitem.php?id=3719691" TargetMode="External"/><Relationship Id="rId3" Type="http://schemas.openxmlformats.org/officeDocument/2006/relationships/hyperlink" Target="http://ousib1.omr.obr55.ru/files/2013/02/opit_plot.doc" TargetMode="External"/><Relationship Id="rId4" Type="http://schemas.openxmlformats.org/officeDocument/2006/relationships/hyperlink" Target="http://www.google.ru/url?url=http://moi-universitet.ru/do/directions/attestacia/MK&amp;rct=j&amp;frm=1&amp;q=&amp;esrc=s&amp;sa=U&amp;ved=0CDAQFjAFODJqFQoTCPeV1O2t4sgCFSJ1cgodbOQNAg&amp;usg=AFQjCNFOnLZ9ItwxQbvS1T41CtyhpfQXgA" TargetMode="External"/><Relationship Id="rId5" Type="http://schemas.openxmlformats.org/officeDocument/2006/relationships/hyperlink" Target="file:///C:/Users/salahova_gn/Desktop/moi-universitet.ru/do/directions/attestacia/MK" TargetMode="External"/><Relationship Id="rId6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2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3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4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5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6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7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8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9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10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11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12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13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14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924680" cy="36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Ы ОРГАНИЗАЦИИ И ПРОВЕДЕНИЯ МАСТЕР-КЛАСС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3886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лахова Гал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рший преподав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федры безопасности жизне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халинский государственный универс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ОУ СОШ № 13 им. П. А. Леон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Южно-Сахалинс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астер-класс представляет собой систему, позволяющую презентовать новые возможности либо навы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данный в мастер-классах материал, как правило, отличается от старых, консервативных схем и взглядов, является инноваци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Таким образом, это эффективная форма обучения, направленная на достижение поставленных целей, характеризующаяся наличием мастера (специалиста, высококвалифицированного педагога) в определенной сфере деятельности, оригинальной технологией (или методикой, методом, приемом и т.д.), целевой аудиторией и созданием необходимыми для этого условиями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реализуемым цел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предмету предполагаемой деятель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составу аудитор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возрастному состав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способу и месту передачи информации, материала, опы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основной дидактической ц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количеству участ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периодичности провед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месту прове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 реализуемым целям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бучающ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емонстрационны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предмету предполагаемой деятельност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зор актуальных проблем и техн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личные аспекты и приёмы использования техн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вторские методы применения технологий на практи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онкости, нюансы при использовании технологии в конкретных задач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составу аудитори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детей (по различным видам творче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педагог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педагогов и учащихся (смешанная групп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широких слоев населения интересующихся какими-либо направлениями деятельности или твор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 возрастному составу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дновозраст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азновозраст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 способу и месту передачи информации, материала, опыта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удитор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истанцио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(с использованием современных технических средств передачи информации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 основной дидактической цели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оретическ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актическ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мбинирован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 количеству участнико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ндивидуаль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ар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групповые (микро группы - 3-7 чел., оптимальные - 10-12 чел. большие - 20-25 чел.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ассов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МАСТЕР-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астер-класс (МК) от английско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master» - искусный специалист, мастер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class» - курс обучения,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 частоте проведения (периодичность проведения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азов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ериодическ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ерийные (наиболее эффективные с точки зрения повышения квалификации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228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 месту проведения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учреждении (на уровне одного учреждения - для сотрудников одной организации; для педагогов нескольких образовательных учреждений, т.е. - на окружном, городском уровнях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не учреждения (например, в общественных местах - на стадионах, парках культуры и отдыха и т.п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АРАКТЕРНЫЕ ОСОБЕННОСТИ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ередача и обмен опыто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еятельностный подход (Активная деятельность участников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глубокое сочетание теории и практик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мена деятельност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глядност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бразност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АРАКТЕРНЫЕ ОСОБЕННОСТИ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9903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стижение через соучастие (тесное взаимодействие с участниками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лучение конечного продукта (удовлетворение от полученных результатов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т назидательност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ызывает желание сделать, как мастер, сделать лучш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остота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оступност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АРАКТЕРНЫЕ ОСОБЕННОСТИ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ворчество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нициативност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озговой штурм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сполнение различных ролей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реативная,  высокоинформативная, деятельностная обучающая форма , объединяющая неравнодушных людей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озможность получить «толчок» к творческой деятельност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флексивная деятельно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НАУЧНЫЕ ИДЕИ М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еятельностный подх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ичностно-ориентированный подх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сследовательский подх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флексивный подхо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УКТУРА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азличной направленности строится по  принципу, отражающему логику процесса позна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вод новых знаний;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своение  знаний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СТЕР-КЛАС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гут различаться по предмету предлагаемой деятельности - мастером может быть предложе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зор актуальных проблем и технолог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личные аспекты и приёмы использования технолог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вторские методы применения технологий на практ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нкости, нюансы и недокументированные возможности при использовании технологии в конкретных задач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ПЫ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 зависимости  от  целей и задач выделяются несколько типов мастер-класс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 тип - «Изучение вопрос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тип - «Погружение в проблему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 тип - «Презентация опыт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 тип - «Инсайт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ТИП МК «ИЗУЧЕНИЕ ВОПРОС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Алгоритм  проведения состоит  из  следующих  компоненто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становка вопроса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своение участниками полученных  знаний;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мецкий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 Meister, Werkmeister, Kenn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французский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 contremaître, maîtr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тальянский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 artigiano, maestro, artista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спанский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 contramaestre, maestro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усский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 мастер-класс, авторская мастерск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ТИП МК «ПОГРУЖЕНИЕ В ПРОБЛЕМУ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19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Алгоритм проведения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ыделение проблем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анел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бъединение в группы для решения проблем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абота с материало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редставление результатов работ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бсуждение и корректировк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езультатов рабо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ТИП МК «ПРЕЗЕНТАЦИЯ ОПЫТ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лгоритм проведени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зентация педагогического опыта Маст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дставление  урока (занятия), системы уроков (занятий);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 (занятие) или  имитационная игра с участниками с демонстрацией приемов эффективной  работы с учащими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одел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ТИП МК «ИНСАЙТ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труктура мастер-класса отражает его идею как способ передачи концептуальной идеи педагогической системы мастера в форме проблемных, практико-ориентированных, творческих зад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УЛА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2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пешная 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мпетентностный специа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ступность для колле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терактив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тер-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КА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ервый подход (методики нет)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астер-классы не имеет каких-то строгих и единых нор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новываются как на интуиции ведущего специалиста, так и на восприимчивости слушател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новной принцип мастер-класса: «Я знаю, как это делать. Я научу вас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КА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торой подход (методика находится в стадии развития)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нятие «методика» выражает механизм использования комплекса методов, приемов, средств и условий обучения и воспитания учащих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КА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Задачей любой методики обучения является поиск ответов на основные 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 также: кого учить и как контролировать результат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salahova_gn\Desktop\Без названия.png"/>
          <p:cNvPicPr/>
          <p:nvPr/>
        </p:nvPicPr>
        <p:blipFill>
          <a:blip r:embed="rId1"/>
          <a:stretch/>
        </p:blipFill>
        <p:spPr>
          <a:xfrm>
            <a:off x="762120" y="2362320"/>
            <a:ext cx="7967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КА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68580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гласно ФГОС определены типы и виды уроков в школе, основные требования к их структуре и проведен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 открытия новых знаний, обретения новых умений и навык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 отработки умений и рефлек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 систематизации зн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 развивающего контро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-исследование (урок творче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мбинированный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КА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соотнести все понятия, характеризующие понятие «методику обучения», то можно  методику обучения и проведения МК отнести к частной дидактике, которая отражает совокупность рекомендаций и проведения  учебного процесса на МК и в настоящее время находится в стадии развития, нуждается в систематизации и более четком ее оформлении как нау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И   МК   ДЛЯ   ПЕДАГО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главная - повышение профессионального мастерства педагогов - участников мастер-класса в процессе активного педагогического общения по освоению опыта работы педагога-мастера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а также развитие способности самостоятельно и нестандартно мыслить; интеллектуальное и эстетическое развитие педагога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12193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ким образом, во французском и испанском языке МК ассоциируется с противоположностью мастеру, либо (что вернее всего), буквально, «напротив мастера», то есть предполагает тет-а-тет обучение ремеслу мастера. Еще буквально мастер-класс можно перевести как «мастерский урок» или «урок масте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ЗАДАЧИ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228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нструирование (воссоздание) педагогом-мастером перед участниками мастер-класса своей авторской модели образовательного процесса (или иного вида педагогической деятельности) в режиме демонстрируемой педагогической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учение участников мастер-класса конкретным навыкам, составляющим основу транслируемого педагогического опыта, и способам достижения намеченных результа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ЗАДАЧИ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8377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демонстрация умения педагога-мастера проектировать успешную деятельность обучающихся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опуляризация его инновационных идей, авторских находок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оказание помощи участникам мастер-класса в определении задач их профессионального самосовершенствовани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НЫЙ ПЛАН ПРОВЕДЕНИЯ МК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6094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ступительная часть, где руководителем мастер-класса даются необходимые целевые установки, раскрывается содержание занятия в целом и его отдельных составных част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ная демонстрационная ча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омментирующая часть, где руководитель мастер-класса поясняет те элементы своей работы, которые с его точки зрения наиболее важны и носят оригинальный характе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бсуждение занятия самими участниками мастер-класса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одведение итогов руководителем мастер-клас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ПАСПОРТА   МК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066680"/>
          <a:ext cx="8458200" cy="5486400"/>
        </p:xfrm>
        <a:graphic>
          <a:graphicData uri="http://schemas.openxmlformats.org/drawingml/2006/table">
            <a:tbl>
              <a:tblPr/>
              <a:tblGrid>
                <a:gridCol w="2816280"/>
                <a:gridCol w="2222280"/>
                <a:gridCol w="3419640"/>
              </a:tblGrid>
              <a:tr h="320760"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 мастер-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652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рганизационный 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й мас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Приветственное  сл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й мас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684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Презентация «Цели  и  задачи мастер-класса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й мас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168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ходная рефлексия (анкетиров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-псих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132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Этап актуализации  зна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й мас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8276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Этап  формирования  умений и  навы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ас 10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й мас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-методи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-социальный  педаг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-инжен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-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168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Этап  подведения итогов (рефлекс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й мас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040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аса 30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КУМЕНТАЦИЯ ПО МК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6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ожение о мастер-кла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мятка для педагога для проведения мастер-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гистрационный лист участников мастер-кла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нформационная справка о мастер-кла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-конспект мастер-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равка для участника мастер-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ос-анкета для участника мастер-кла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комендуемая литература  о мастер-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ОЖЕНИЕ СОДЕР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бщие поло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цель, задачи, ожидаемые результаты мастер-класс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держание деятельности педагога-мастера во время проведения мастер-класс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рганизация мастер-класс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МЯТКА ВКЛЮЧАЕ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глашение на мастер-класс в различных форм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руктуру объявления о мастер-клас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готовку  поме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гистрацию участн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даточный материал для участников мастер-клас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лан-конспект мастер-класса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ГЛАШЕНИЕ   НА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ожет осуществляться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ерез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нтернет: объявление на сайте, электронная почт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кстовые формы: листовки, буклеты, объявления, афиш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ичные контакты: устная информация по телефону, на мероприятии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УКТУРА ОБЪЯВЛ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7621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ИО авт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едения об ав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т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мастер-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нотация мастер-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му адресован, на какой возраст  обучающихся рассчит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удитор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мерная продолжи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нтактный телефон, электронный адр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ГОТОВКА ПОМЕЩ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68580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осадочные места + столы или планшет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овер (в случае ролевых игр, спец. упражнений и т.п.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технические средства: компьютер, проектор, экран, колонки, микрофон, доска и т.п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борудование в зависимости от профиля: станки, мольберты, плита, спортивные снаряды, музыкальные инструменты и т.п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асходные материал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анцелярские принадлежности: писчая бумага, ручки, карандаши, маркеры и т.п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апитки: минеральная вода, чай, кофе и т.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стер-класс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нятие в форме семинара или в форме тренинга, которое проводит эксперт (мастер) в определённой дисциплине, для тех, кто хочет улучшить свои практические достижения в этом предмет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ИСТРАЦИЯ УЧАСТ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ист регистрации участник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тветственные за регистра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ИСТРАЦИОННЫЙ ЛИСТ (ПРИМЕР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8600" y="3200400"/>
          <a:ext cx="8683560" cy="3048120"/>
        </p:xfrm>
        <a:graphic>
          <a:graphicData uri="http://schemas.openxmlformats.org/drawingml/2006/table">
            <a:tbl>
              <a:tblPr/>
              <a:tblGrid>
                <a:gridCol w="561960"/>
                <a:gridCol w="1406520"/>
                <a:gridCol w="2030400"/>
                <a:gridCol w="1405080"/>
                <a:gridCol w="1874880"/>
                <a:gridCol w="1404720"/>
              </a:tblGrid>
              <a:tr h="2365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работы, окр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ак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 и электронный 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ж рабо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истеме Д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2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00" name="Прямоугольник 7"/>
          <p:cNvSpPr/>
          <p:nvPr/>
        </p:nvSpPr>
        <p:spPr>
          <a:xfrm>
            <a:off x="380880" y="160020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мастер-класса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.И.О. педагога-мастера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УКТУРА ПЛАНА-КОНСПЕКТА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м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цель и задачи мастер-класс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жидаемые результат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од мастер-класс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етоды и прием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идактические материал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исок литерат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ОС-АНК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91404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важаемые колле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ы обращаемся к Вам с просьбой ответить на ряд вопросов, касающихся организации, проведения и результативности мастер-класса, проведенного в  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формация, полученная от Вас, будет использована для повышения эффективности и совершенствования различных мастер-клас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ОС-АНК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Из каких источников Вы узнали об этом мастер-классе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2. Какие причины побудили Вас посетить именно этот мастер-класс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3. Что Вам понравилось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4. Что, по Вашему мнению, в данном мастер-классе требует дополнительных разъяснений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5. Чем для Вас был полезен данный мастер-класс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ОС-АНК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600" y="6858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6. Считаете ли Вы мастер-класс эффективной формой передачи знаний и умений, обмена опытом обучения и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7. Какие формы взаимодействия с педагогом-мастером после проведенного мастер-класса Вы считаете целесообразными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8. Что бы Вам хотелось еще узнать по теме проведенного мастер-класса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ОС-АНК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600" y="68544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9. Что из представленного на мастер-классе Вы будете применять в своей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0. Что Вы предложили бы изменить при проведении данного мастер-класс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1. Оцените, пожалуйста, качество раздаточного матери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2. В заключение опроса, пожалуйста, укажите некоторые сведения о себ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ол _______ Возраст 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олжность_____Место работы 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лагодарим Вас за участие в опрос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80773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ДАТОЧНЫЙ МАТЕРИАЛ ДЛЯ УЧАСТ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нформационная справка о мастер-класс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етодические рекомендации по применению представляемой технолог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идактические материалы: схемы, выкройки, чертежи, фотографии и др. материалы по усмотрению маст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ЕЦИФИКА МК В СИСТЕМЕ  Д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52280" y="76212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На мастер-классе никогда не будет лекции, доклада, разве что – их отдельные элементы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Вместо этого – масса практических примеров, рекомендаций, технических приемов работы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А самое главное – такое мероприятие не должно быть скучным, оно должно заинтересовывать, «цеплять» слушател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ЕЦИФИКА МК В СИСТЕМЕ Д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320" y="762120"/>
            <a:ext cx="8991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Мастер-классы  особенно полезны для тех педагогов, которые хотели бы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разработать свою концепцию, иметь собственную авторскую образовательную программу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освоить новую оригинальную образовательную технологию, методику, приём и т.п.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повысить свое профессиональное мастерство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дополнить портфолио. Список выполненных работ ляжет в копилку собственного опыта, поможет  в самопрезентации на любом уровн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рок, даваемый мастером - профессионалом в каком-либо виде искусства, науки или ремесла (наиболее типично - в музыке, поэзии, живописи, актерском мастерстве, балете, танцах, шахматах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ЕЦИФИКА МК В СИСТЕМЕ Д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2280" y="60912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Конечно, время и возможности мастер-класса ограничены, но зато здесь можно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узнать описание общего алгоритма рабо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существить разбор одной или нескольких конкретных работ с рассказом о том, как можно использовать подобные разборы  в своей работ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олучить обратную связь для участников: принести на мастер-класс свою работу и получить по ней развернутый комментар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ЕРИИ КАЧЕСТВА ПОДГОТОВКИ И ПРОВЕДЕНИЯ МК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596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Презентативность. Выраженность инновационной идеи, уровень ее представленности, культура презентации идеи, популярность идеи в педагогике, методике и практике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Эксклюзивность. Ярко выраженная индивидуальность (масштаб и уровень реализации идей). Выбор, полнота и оригинальность решения инновационных и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ЕРИИ КАЧЕСТВА ПОДГОТОВКИ И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2280" y="12949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Arial"/>
              </a:rPr>
              <a:t>3. Прогрессивность. Актуальность и научность содержания и приемов обучения, наличие новых идей, выходящих за рамки стандарта и соответствующих тенденциям современного образования и методике обучения предмета, способность не только к методическому, но и к научному обобщению опыт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ЕРИИ КАЧЕСТВА ПОДГОТОВКИ И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52280" y="12949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Мотивированность. Наличие приемов и условий мотивации, включения каждого в активную творческую деятельность по созданию нового продукта деятельности на занят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. Оптимальность. Достаточность используемых средств на занятии, их сочетание, связь с целью и результатом (промежуточным и конечны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ЕРИИ КАЧЕСТВА ПОДГОТОВКИ И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6. Эффективность. Результативность, полученная для каждого участника мастер-класса. Каков эффект развития? Что это дает конкретно участникам? Умение адекватно проанализировать результаты свое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ЕРИИ КАЧЕСТВА ПОДГОТОВКИ И  ПРОВЕДЕНИЯ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. Технологичность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. Четкий алгоритм занятия (фазы, этапы, процедуры), наличие оригинальных приемов актуализации, проблематизации («разрыва»), приемов поиска и открытия, удивления, озарения, рефлексии (самоанализа, самокоррекции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ЕРИИ КАЧЕСТВА ПОДГОТОВКИ И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8. Артистичность. Возвышенный стиль, педагогическая харизма, способность к импровизации, степень воздействия на аудиторию, степень готовности к распространению и популяризации своего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9. Общая культура. Эрудиция, нестандартность мышления, стиль общения, культура интерпретации свое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ЕРИИ КАЧЕСТВА ПОДГОТОВКИ И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каждому критерию определить уров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1» - низкий  (характеристики критериев оценивания выражены слаб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2» - средний (характеристики критериев оценивания выражены средн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3» - высокий (характеристики критериев оценивания выражены сильн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ЕРИИ КАЧЕСТВА ПОДГОТОВКИ И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лученные балы по всем критериям просуммировать, полученный результат сравнить со шкалой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23-27 - высокий уровень подготовки и проведения МК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18-22 - средний уровень подготовки и проведения МК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9-17 - низкий уровень подготовки и проведения МК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ОАНАЛИЗ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Проведение самоанализа позволяет педагогу выявить для себя удачные и менее удачные элементы мастер-класса, чтобы позволяет в дальнейшем внести коррективы в содержание, форму и  методы работ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Видеозаписи и аудиозаписи мастер-класса упрощают деятельность по самоанализу и могут использоваться впоследствии и как наглядное пособие для других педагогов, желающих научиться, организовывать и проводить свои мастер-класс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ая форма учебного занятия, которая основана на «практических» действиях показа и демонстрации творческого решения определенной познавательной и проблемной педагогической задач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СТОИНСТВА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59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учающимся эффективно передаётся практический опы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учение происходит в непринуждённой, свободной, интерактивной форме (в отличие от преподавателя, который «должен научить всех», мастер учит только тех, кто желает учиться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проведения мастер-классов можно привлекать специалистов, не имеющих педагогической квалифик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ДОСТАТКИ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6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в задачи мастер-классов не входит изучение теоретических аспектов осваиваемой деятельности, что ограничивает их участников в возможности расширить рамки усвоенной технологии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из-за жёсткой «привязки» к конкретной технологии (а иногда – и к конкретному мастеру) каждый мастер-класс имеет разовый, «штучный» характер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2280" y="8377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Мастер-класс в системе общего   образовании используется редк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Гораздо шире возможности мастер-классов в дополнительном образовании, где они отличаются большим разнообразием и с успехом применяются как в дополнительном образовании детей так и в системе повышение квалификации и переподготовки специалистов ( с том числе и в качестве самостоятельного вида обучающих курсов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7621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Технологию подготовки и проведения мастер-классов желательно освоить каждому педагогу, имеющему индивидуальную практику и позитивные результаты преподавательской деятельности, а также разработавшему авторские методики работы с детьми, повышающие качество основного и дополнительного образовани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6303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частие педагогических работников в проведении мастер-классов учитывается при прохождении аттест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случае если организация мастер-классов  в системе дополнительного образования детей носит серийный характер и объединена одной целью может быть организована творческая мастерс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дополнительном образовании взрослых - по окончанию всей серии занятий должны выдаваться соответствующие документы, свидетельствующие о прохождении курса повышения квалиф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2280" y="7621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зимов Э.Г., Щукин А.Н. Новый словарь методических терминов и 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[Электронный ресурс]. ‑ 2009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wirpx.com/file/209945/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та обращения 21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. Бобряшова О.В. Мастер-класс и творческая мастерская как педагогические технологии активного обучения будущих дизайнеров. Вестник ОГУ №11 (130)/ноябрь`2011, С 169-175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 Гордилова О. А., Ульянцева В. В. Мастер-класс как форма повышения квалификации современного педагога в условиях непрерывного образования электронный научный журнал «Apriori. cерия: гуманитарные науки» www.apriori-journal.ru № 3, 2015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Евплова Екатерина Викторовна ‑ Известные учены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https://famous-scientists.ru/14326 (дата обращения 15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. Лаврентьева И. А. Мастер-класс в педагогике искусства (инновации в дошкольной дидактике) [Электронный журнал] // Педагогика искусства: сетевой электронный научный журнал. - №2-2014. –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tth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 //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art-education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te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le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ourna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_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avrenttv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_ ……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……п.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Мастер-класс: сущность и отличительные особенност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ipo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unibel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=630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рганизации и проведению мастер-класса 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 :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 http://edu-teacherzv.ucoz.ru/publ/ metodika_ provedenija_quot_master_klass_quot/1-1-0-69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датаобращения: 15.10.2014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7. Мастер-класс как инструмент ... Березина И.В. Мастер-класс как современная форма методической ... [Электронный ресурс]. URL: http://festival.1september.ru/articles/531889/ (дата обращения 05.11.2015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АСТЕР-КЛАСС ‑ это... Что такое МАСТЕР-КЛАСС? - Словари и 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[Электронный ресурс]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c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ademic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c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sf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82040/МАСТЕР (дата обращения 21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Мастер-класс в образовательном процессе ДОУ (презентация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[Электронный ресурс]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rasnogvard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mc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b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PSESSID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.. (дата обращения 21.08.2015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стер-класс как метод проведения занятия 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cience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-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education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ru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ru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rticle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view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?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id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=5831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та обращения 20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Мастер класс и творческая мастерская как педагогические 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vestnik.osu.ru/2011_11/30.pdf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дата обращения 10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Мастер-классы в системе профессиональной подготовки 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journ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gni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urfu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.../403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та обращения 15.01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Мастер-класс как форма обучения в системе дополнительного 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[Электронный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fulledu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...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formy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../817_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klass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kak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forma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obucheniya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e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dopoln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та обращения 17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Методическая разработка «Методика проведения мастер-класс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www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.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arhdhs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1.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ru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/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p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22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aa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1.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m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та обращения 10.01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Методические рекомендации по организации и проведению 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[Электронный ресурс]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s65f738a2f469cef3.jimcontent.com/download/.../ Рекомендации_Мастер-класс.pdf(дата обращения 20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Методические рекомендации по подготовке и проведению  [Электронный ресурс].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URL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 : ..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ddtufa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bona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mente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12-2012-02-01-06.../128-2014-08-06-08-22-25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] (дата обращения 15.03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. Муродходжаева Н.С.Мастер-классы как форма профессионального ...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www.tsutmb.ru/master-klassyi-kak-forma-professionalnog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]. (дата обращения 10.01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8. Новый словарь иностранных слов – byEdwART. [Электронный ресурс]. – 2009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 http:// ic.academic.ru/dic.nsf/dic_fwords/26945/ ... (дата обращения 21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ИСОК 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51920" y="7621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9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актическая педагогика. 99 схем и таблиц, Наволокова, Феникс 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haconne.ru/viewitem.php?id=3719691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дата обращения 20.01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0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едставление педагогического опыта через мастер-класс ‑ МБОУ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sib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mr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br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5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le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2013/02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it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дата обращения 25.11.2015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1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одготовка и проведение мастер-класса - Образовательный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лектронный ресур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].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RL:moi-universitet.ru/do/directions/attestacia/MK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атаобращения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 15.10.2015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2. Салахова Г.Н. Организация и проведение мастер-классов по декоративно-прикладному творчеству в технологическом институте Сахалинского государственного университета. Стратегический анализ ресурсов Дальневосточного федерального округа: фундаментальная теория и повседневная практика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века: материалы к 15-летнему юбилею создания Сахалинского государственного университета (26 апреля 2013 года, Южно-Сахалинск) : сборник научных статей /сост. Н.А. Лацко. ‑ Южно-Сахалинск : изд-во СахГУ, 2013. С.113-11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3. Салахова Г.Н., Дудник Е.Ю. К вопросу об организации и проведении мастер-классов по декоративно-прикладному творчеству в Сахалинском государственном университете. Международный научный журнал «Инновационная наука»//№4/2015 (ч. 2). С. 131 ‑ 13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4. Салахова Г.Н. Мастер-класс как форма обучения в системе образования. Новая наука: теоретический и практический взгляд: Международное научное периодическое издание по итогам Международной научно-практической конференции (14 июня 2016 г. г. Нижний Новгород). /в 3 ч. Ч.2 –Стерлитамак: АМИ, 2016. С.66 ‑ 71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5. Салахова Г.Н. Мастер-класс как форма организации дополнительного образования детей и взрослых. Инновационные технологии научного развития: сборник статей Международной научно-практической конференции (15 июня 2016 г., г. Тюмень). В 3 ч. Ч. 2 /Уфа: АЭТЕРНА, 2016. С. 240 ‑ 24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ИСОК 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52280" y="837720"/>
            <a:ext cx="88394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6. Салахова Г.Н. Организация и методика проведения мастер-классов в системе образования. Инновационные подходы в науке и образовании: теория, методология, практика: монография / под. Общ.ред. Г. Ю. Гуляева – Пенза: МЦНС «Наука и Просвещение», 2017. С. 72 ‑ 88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7. Салахова Г.Н. Мастер-класс как форма организации дополнительного образования в детском оздоровительном лагере. Научное обозрение: Актуальные вопросы теории и практики: сборник статей: II Международной научно-практической конференции. – Пенза: МЦНС «Наука и Просвещение», 2022. С. 198 ‑ 20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8. Теория и методика обучения технологии – COR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ttp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k 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›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ownload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›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та обращения: 05.06.2023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9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ипы и виды уроков по ФГОС Электронный ресурс].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RL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 68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du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u https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chool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4.68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edu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ru 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› 2021/03 ›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tipy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okov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дата обращения: 05.06.2023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0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олковый словарь Даля онлайн [Электронный ресурс]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 slovardalja.net/ (дата обращения 20.05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1. Толковый словарь Ефремовой [Электронный ресурс]. - 2000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 www.efremova.info/(дата обращения 21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2. Формы внутрифирменного повышения квалификации членов ...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coedu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download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=1077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та обращения 15.04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3. Учебный мастер-класс как метод стимуляции самостоятельной ...Электронный ресурс]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moluch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ed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rchive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17/492/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та обращения 15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ффективная форма передачи знаний и умений, обмена опытом обучения и воспитания, центральным звеном которой является демонстрация оригинальных методов освоения определенного содержания при активной роли всех участников заня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4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089920" cy="5907240"/>
          </a:xfrm>
          <a:prstGeom prst="rect">
            <a:avLst/>
          </a:prstGeom>
          <a:ln w="0">
            <a:noFill/>
          </a:ln>
        </p:spPr>
      </p:pic>
      <p:sp>
        <p:nvSpPr>
          <p:cNvPr id="258" name="WordArt 5"/>
          <p:cNvSpPr txBox="1"/>
          <p:nvPr/>
        </p:nvSpPr>
        <p:spPr>
          <a:xfrm>
            <a:off x="1981080" y="914400"/>
            <a:ext cx="6324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ый жанр обобщения и распространения педагогического опыта, представляющий собой фундаментально разработанный оригинальный метод или авторскую методику, опирающийся на свои принципы и имеющий определенную структур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лахова Г.Н.</dc:creator>
  <dc:description/>
  <dc:language>en-US</dc:language>
  <cp:lastModifiedBy>salahova_gn</cp:lastModifiedBy>
  <cp:lastPrinted>2015-11-11T00:52:15Z</cp:lastPrinted>
  <dcterms:modified xsi:type="dcterms:W3CDTF">2023-07-10T06:59:36Z</dcterms:modified>
  <cp:revision>116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