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DB8C-6D9D-4E3B-AB06-F0940516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294C-D1E0-45D7-A7CE-253ED234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DB6E-63FD-47AE-ABCF-6229C8E03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4FD8-E0B1-431D-8CC7-D4D78E370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12BB-874E-4997-8FCC-707BA53F7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7C40-4A2E-4C90-9E85-362E7073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16FD-5F4F-4875-8CB0-B1DEDBBA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7EE4-29BF-4693-8AB9-2A7455B3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4FF2-C36B-4820-AE23-5E88D2FE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8A5C-C24E-460E-815D-1F1FF1BF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84DA-81FD-4D78-8306-949A1E91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0D19-9B67-4C45-BF43-E3E000BE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C432-AA1D-4258-8130-8D8087F5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1978-BFFC-4B8B-82CC-D535541E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D589-3B90-4422-B62E-2E0630A8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9B7E-5FFC-4565-9015-4C5266340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6F7E-A91A-4F46-9514-94E03E1D8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2DE5-CA0B-4AEA-B58D-BA4E4FDD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B9B7-EDC8-4F6F-AD80-3EFA2A50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C3AF-E900-4F38-9478-0F5AB0EB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4234-624C-4201-996F-590D9127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D08D-6C40-4F00-B7FF-FFCC3764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2286-48D3-448A-A28B-74A5624E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3292-5AC9-4A12-9705-7CF877F3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0311-5443-4F8F-AFF8-4992F89C14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C3B8-13B7-45D6-A842-DFFE969F1C5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u.wikipedia.org/wiki/&#1040;&#1085;&#1075;&#1083;&#1080;&#1081;&#1089;&#1082;&#1080;&#1081;_&#1103;&#1079;&#1099;&#1082;" TargetMode="External"/><Relationship Id="rId3" Type="http://schemas.openxmlformats.org/officeDocument/2006/relationships/hyperlink" Target="https://ru.wikipedia.org/wiki/&#1057;&#1087;&#1086;&#1088;&#1090;" TargetMode="External"/><Relationship Id="rId4" Type="http://schemas.openxmlformats.org/officeDocument/2006/relationships/hyperlink" Target="https://ru.wikipedia.org/wiki/&#1048;&#1075;&#1088;&#1072;" TargetMode="External"/><Relationship Id="rId5" Type="http://schemas.openxmlformats.org/officeDocument/2006/relationships/hyperlink" Target="https://ru.wikipedia.org/wiki/&#1041;&#1072;&#1089;&#1082;&#1077;&#1090;&#1073;&#1086;&#1083;&#1100;&#1085;&#1099;&#1081;_&#1084;&#1103;&#1095;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41;&#1072;&#1089;&#1082;&#1077;&#1090;&#1073;&#1086;&#1083;_&#1085;&#1072;_&#1054;&#1083;&#1080;&#1084;&#1087;&#1080;&#1081;&#1089;&#1082;&#1080;&#1093;_&#1080;&#1075;&#1088;&#1072;&#1093;" TargetMode="External"/><Relationship Id="rId2" Type="http://schemas.openxmlformats.org/officeDocument/2006/relationships/hyperlink" Target="https://ru.wikipedia.org/wiki/&#1051;&#1077;&#1090;&#1085;&#1080;&#1077;_&#1054;&#1083;&#1080;&#1084;&#1087;&#1080;&#1081;&#1089;&#1082;&#1080;&#1077;_&#1080;&#1075;&#1088;&#1099;_1936" TargetMode="External"/><Relationship Id="rId3" Type="http://schemas.openxmlformats.org/officeDocument/2006/relationships/hyperlink" Target="https://ru.wikipedia.org/wiki/&#1044;&#1078;&#1077;&#1081;&#1084;&#1089;_&#1053;&#1077;&#1081;&#1089;&#1084;&#1080;&#1090;" TargetMode="External"/><Relationship Id="rId4" Type="http://schemas.openxmlformats.org/officeDocument/2006/relationships/hyperlink" Target="https://ru.wikipedia.org/wiki/&#1063;&#1077;&#1084;&#1087;&#1080;&#1086;&#1085;&#1072;&#1090;_&#1084;&#1080;&#1088;&#1072;_&#1087;&#1086;_&#1073;&#1072;&#1089;&#1082;&#1077;&#1090;&#1073;&#1086;&#1083;&#1091;" TargetMode="External"/><Relationship Id="rId5" Type="http://schemas.openxmlformats.org/officeDocument/2006/relationships/hyperlink" Target="https://ru.wikipedia.org/wiki/&#1063;&#1077;&#1084;&#1087;&#1080;&#1086;&#1085;&#1072;&#1090;_&#1045;&#1074;&#1088;&#1086;&#1087;&#1099;_&#1087;&#1086;_&#1073;&#1072;&#1089;&#1082;&#1077;&#1090;&#1073;&#1086;&#1083;&#1091;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YMCA" TargetMode="External"/><Relationship Id="rId2" Type="http://schemas.openxmlformats.org/officeDocument/2006/relationships/hyperlink" Target="https://ru.wikipedia.org/wiki/&#1057;&#1087;&#1088;&#1080;&#1085;&#1075;&#1092;&#1080;&#1083;&#1076;_(&#1052;&#1072;&#1089;&#1089;&#1072;&#1095;&#1091;&#1089;&#1077;&#1090;&#1089;)" TargetMode="External"/><Relationship Id="rId3" Type="http://schemas.openxmlformats.org/officeDocument/2006/relationships/hyperlink" Target="https://ru.wikipedia.org/wiki/&#1052;&#1072;&#1089;&#1089;&#1072;&#1095;&#1091;&#1089;&#1077;&#1090;&#1089;" TargetMode="External"/><Relationship Id="rId4" Type="http://schemas.openxmlformats.org/officeDocument/2006/relationships/hyperlink" Target="https://ru.wikipedia.org/wiki/&#1044;&#1078;&#1077;&#1081;&#1084;&#1089;_&#1053;&#1077;&#1081;&#1089;&#1084;&#1080;&#1090;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u.wikipedia.org/wiki/&#1054;&#1074;&#1077;&#1088;&#1090;&#1072;&#1081;&#1084;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64;&#1090;&#1088;&#1072;&#1092;&#1085;&#1086;&#1081;_&#1073;&#1088;&#1086;&#1089;&#1086;&#1082;" TargetMode="External"/><Relationship Id="rId2" Type="http://schemas.openxmlformats.org/officeDocument/2006/relationships/hyperlink" Target="https://ru.wikipedia.org/wiki/&#1053;&#1041;&#1040;" TargetMode="External"/><Relationship Id="rId3" Type="http://schemas.openxmlformats.org/officeDocument/2006/relationships/hyperlink" Target="https://ru.wikipedia.org/wiki/&#1058;&#1088;&#1105;&#1093;&#1086;&#1095;&#1082;&#1086;&#1074;&#1099;&#1081;_&#1073;&#1088;&#1086;&#1089;&#1086;&#1082;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40;&#1091;&#1090;_(&#1073;&#1072;&#1089;&#1082;&#1077;&#1090;&#1073;&#1086;&#1083;)" TargetMode="External"/><Relationship Id="rId2" Type="http://schemas.openxmlformats.org/officeDocument/2006/relationships/hyperlink" Target="https://ru.wikipedia.org/wiki/&#1055;&#1088;&#1086;&#1073;&#1077;&#1078;&#1082;&#1072;_(&#1073;&#1072;&#1089;&#1082;&#1077;&#1090;&#1073;&#1086;&#1083;)" TargetMode="External"/><Relationship Id="rId3" Type="http://schemas.openxmlformats.org/officeDocument/2006/relationships/hyperlink" Target="https://ru.wikipedia.org/wiki/&#1041;&#1072;&#1089;&#1082;&#1077;&#1090;&#1073;&#1086;&#1083;#cite_note-5" TargetMode="External"/><Relationship Id="rId4" Type="http://schemas.openxmlformats.org/officeDocument/2006/relationships/hyperlink" Target="https://ru.wikipedia.org/wiki/&#1055;&#1088;&#1086;&#1085;&#1086;&#1089;_&#1084;&#1103;&#1095;&#1072;" TargetMode="External"/><Relationship Id="rId5" Type="http://schemas.openxmlformats.org/officeDocument/2006/relationships/hyperlink" Target="https://ru.wikipedia.org/wiki/&#1044;&#1074;&#1086;&#1081;&#1085;&#1086;&#1077;_&#1074;&#1077;&#1076;&#1077;&#1085;&#1080;&#1077;" TargetMode="External"/><Relationship Id="rId6" Type="http://schemas.openxmlformats.org/officeDocument/2006/relationships/hyperlink" Target="https://ru.wikipedia.org/wiki/&#1055;&#1088;&#1072;&#1074;&#1080;&#1083;&#1086;_3_&#1089;&#1077;&#1082;&#1091;&#1085;&#1076;_(&#1073;&#1072;&#1089;&#1082;&#1077;&#1090;&#1073;&#1086;&#1083;)" TargetMode="External"/><Relationship Id="rId7" Type="http://schemas.openxmlformats.org/officeDocument/2006/relationships/hyperlink" Target="https://ru.wikipedia.org/wiki/&#1041;&#1072;&#1089;&#1082;&#1077;&#1090;&#1073;&#1086;&#1083;#cite_note-6" TargetMode="External"/><Relationship Id="rId8" Type="http://schemas.openxmlformats.org/officeDocument/2006/relationships/hyperlink" Target="https://ru.wikipedia.org/w/index.php?title=&#1055;&#1088;&#1072;&#1074;&#1080;&#1083;&#1086;_&#1087;&#1083;&#1086;&#1090;&#1085;&#1086;&#1086;&#1087;&#1077;&#1082;&#1072;&#1077;&#1084;&#1086;&#1075;&#1086;_&#1080;&#1075;&#1088;&#1086;&#1082;&#1072;_(&#1073;&#1072;&#1089;&#1082;&#1077;&#1090;&#1073;&#1086;&#1083;)&amp;action=edit&amp;redlink=1" TargetMode="External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езентация по теме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аскетбол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”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авил учитель Физической культуры МОУ Новобелоярской С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лоусов Александр Борисови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4360" y="0"/>
            <a:ext cx="575640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b7"/>
                </a:solidFill>
                <a:latin typeface="Arial Black"/>
              </a:rPr>
              <a:t>Баскетбо́л</a:t>
            </a: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813744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англ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basket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«корзина» + 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ball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«мяч»)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24000" y="2060640"/>
            <a:ext cx="287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спортивна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командная 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игр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с 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мячо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в которой мяч забрасывают руками в кольцо соперни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12" descr="Slamdunk Journal :: Как правильно бросать мяч в баскетболе"/>
          <p:cNvPicPr/>
          <p:nvPr/>
        </p:nvPicPr>
        <p:blipFill>
          <a:blip r:embed="rId6"/>
          <a:stretch/>
        </p:blipFill>
        <p:spPr>
          <a:xfrm>
            <a:off x="3492360" y="1989000"/>
            <a:ext cx="48974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аскетбол в олимпийских игра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190476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808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скетбол входит в программу 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Олимпийских иг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с 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1936 год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(изобретатель игры 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Джеймс Нейсми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был там в качестве гостя). Регулярные 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чемпионаты мира по баскетбол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среди мужчин проводятся с 1950 года, среди женщин — с 1953 года, а 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чемпионаты Европ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— с 1935 го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12" descr="Баскетболисты сборной России победили Нидерланды в матче отбора чемпионата  мира"/>
          <p:cNvPicPr/>
          <p:nvPr/>
        </p:nvPicPr>
        <p:blipFill>
          <a:blip r:embed="rId6"/>
          <a:stretch/>
        </p:blipFill>
        <p:spPr>
          <a:xfrm>
            <a:off x="826920" y="1844640"/>
            <a:ext cx="3961080" cy="208908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18" descr="Баскетбол: история развития и правила игры - Статьи"/>
          <p:cNvPicPr/>
          <p:nvPr/>
        </p:nvPicPr>
        <p:blipFill>
          <a:blip r:embed="rId7"/>
          <a:stretch/>
        </p:blipFill>
        <p:spPr>
          <a:xfrm>
            <a:off x="826920" y="4076640"/>
            <a:ext cx="3961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9280" y="244440"/>
            <a:ext cx="57830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оявление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3927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имой 1891 года студентам колледжа </a:t>
            </a:r>
            <a:r>
              <a:rPr b="0" lang="ru-RU" sz="20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Молодёжной христианской ассоциа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из </a:t>
            </a:r>
            <a:r>
              <a:rPr b="0" lang="ru-RU" sz="20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Спрингфилд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штат </a:t>
            </a:r>
            <a:r>
              <a:rPr b="0" lang="ru-RU" sz="20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Массачусетс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вынужденным выполнять гимнастические упражнения, считавшиеся в то время единственным средством приобщения молодёжи к спорту, было очень скучно на занятиях физического воспитания. Однообразию таких занятий необходимо было положить конец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932360" y="1412640"/>
            <a:ext cx="3927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ход из этого положения нашёл преподаватель колледжа </a:t>
            </a:r>
            <a:r>
              <a:rPr b="0" lang="ru-RU" sz="20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Джеймс Нейсми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21 декабря 1891 года он привязал две корзины из-под персиков к перилам балкона спортивного зала и, разделив восемнадцать студентов на две команды, предложил им игру, смысл которой сводился к тому, чтобы забросить большее количество мячей в корзину соперник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43904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Правила игры в баскетбол и штрафны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6470640" cy="19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826920" y="191196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баскетбол играют две команды, обычно по десять человек, от каждой из которых на площадке одновременно присутствует пять игроков. Цель каждой команды в баскетболе — забросить мяч в корзину соперника и помешать другой команде овладеть мячом и забросить его в корзину своей коман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ячом играют только руками. Бежать с мячом, не ударяя им в пол, преднамеренно бить по нему ногой, блокировать любой частью ноги или бить по нему кулаком является нарушением. Случайное же соприкосновение или касание мяча стопой или ногой не является нарушени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бедителем в баскетболе становится команда, которая по окончании игрового времени набрала большее количество очков. При равном счёте по окончании основного времени матча назначается 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овертай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(обычно пять минут дополнительного времени), в случае, если и по его окончании счёт будет равен, назначается второй, третий овертайм и т. д., до тех пор, пока не будет выявлен победитель матч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За одно попадание мяча в кольцо может быть засчитано разное количество очков: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392724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 очко — </a:t>
            </a:r>
            <a:r>
              <a:rPr b="0" lang="ru-RU" sz="20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штрафной брос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 очка — бросок со средней или близкой дистанции (ближе трёхочковой лини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 очка — бросок из-за трёхочковой линии на расстоянии 6 м 75 см (7 м 24 см в </a:t>
            </a:r>
            <a:r>
              <a:rPr b="0" lang="ru-RU" sz="20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Национальной баскетбольной ассоциа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(</a:t>
            </a:r>
            <a:r>
              <a:rPr b="0" lang="ru-RU" sz="20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Трёхочковый бросо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был включен в официальные правила игры (ФИБА) в 1984 году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7" descr="Чем полезен баскетбол для детей, какие качества развивает? | ВКонтакте"/>
          <p:cNvPicPr/>
          <p:nvPr/>
        </p:nvPicPr>
        <p:blipFill>
          <a:blip r:embed="rId4"/>
          <a:stretch/>
        </p:blipFill>
        <p:spPr>
          <a:xfrm>
            <a:off x="4572000" y="2133720"/>
            <a:ext cx="42004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8764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Нарушения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55432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аут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 — мяч уходит за пределы игровой площадк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пробежка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 — игрок, контролирующий «живой» мяч совершает перемещение ног сверх ограничений, установленных правилами</a:t>
            </a:r>
            <a:r>
              <a:rPr b="0" lang="ru-RU" sz="12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[5]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нарушение ведения мяча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, включающее в себя </a:t>
            </a:r>
            <a:r>
              <a:rPr b="0" lang="ru-RU" sz="12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пронос мяча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, </a:t>
            </a:r>
            <a:r>
              <a:rPr b="0" lang="ru-RU" sz="12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двойное ведение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ыжок с места с мячом в руке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3 секунды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 — игрок нападения находится в «краске» (прямоугольная зона под кольцом) соперника более трёх секунд в то время, когда его команда владеет живым мячом в зоне нападе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5 секунд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 — игрок при выполнении вбрасывания не расстается с мячом в течение пяти секунд</a:t>
            </a:r>
            <a:r>
              <a:rPr b="0" lang="ru-RU" sz="12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[6]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9ff66"/>
                </a:solidFill>
                <a:uFillTx/>
                <a:latin typeface="Arial"/>
                <a:hlinkClick r:id="rId8"/>
              </a:rPr>
              <a:t>Плотноопекаемый игрок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[7] не начинает ведение, не отдает передачу и не делает бросок по кольцу в течение 5 секунд при активной защитной стойке соперника[8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8 секунд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 — команда, владеющая мячом в тыловой зоне, не вывела его в переднюю зону за восемь секунд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24 секунды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 — команда владела мячом более 24 секунд и не произвела броска по кольцу. Счётчик 24 секунд сбрасывается, если мяч коснется дужки кольца. После этого атаковавшая команда может совершить подбор в нападении и получить право на ещё одно, но уже 14-секундное владение. В случае получения фола или нарушения (за исключением выхода мяча за пределы площадки) защищающейся командой или другой остановки игры, нападающая команда получает право н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новое 24-секундное владение, если вбрасывание произойдет в зоне защиты владеющей мячом команды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родолжение отсчета времени с того же момента, если осталось 14 и более секунд владения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новое 14-секундное владение, если осталось 13 или менее секунд владения[9]. Именно поэтому, баскетбол называют быстрыми шахматами, за короткое время нужно принять ряд решений(комбинаций), чтобы мяч был заброшен в кольцо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Нарушения возвращения мяча в зону защиты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 (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зона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) — команда, владеющая мячом в зоне нападения, перевела его в зону защи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5" descr="баскетбол и чистый вектор или цветной рисунок Иллюстрация вектора -  иллюстрации насчитывающей ðºoñ€ð·ð¸ð½ñ‹, ðºoð»ñœñ†o: 160152260"/>
          <p:cNvPicPr/>
          <p:nvPr/>
        </p:nvPicPr>
        <p:blipFill>
          <a:blip r:embed="rId9"/>
          <a:stretch/>
        </p:blipFill>
        <p:spPr>
          <a:xfrm>
            <a:off x="6012000" y="1125360"/>
            <a:ext cx="2881080" cy="234324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11" descr="НАВИГАТОР ДОПОЛНИТЕЛЬНОГО ОБРАЗОВАНИЯ ДЕТЕЙ КУЗБАССА - Энергия (баскетбол)"/>
          <p:cNvPicPr/>
          <p:nvPr/>
        </p:nvPicPr>
        <p:blipFill>
          <a:blip r:embed="rId10"/>
          <a:stretch/>
        </p:blipFill>
        <p:spPr>
          <a:xfrm>
            <a:off x="6227640" y="4076640"/>
            <a:ext cx="254664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14T07:20:03Z</dcterms:created>
  <dc:creator>user6</dc:creator>
  <dc:description/>
  <dc:language>en-US</dc:language>
  <cp:lastModifiedBy>USER</cp:lastModifiedBy>
  <dcterms:modified xsi:type="dcterms:W3CDTF">2023-07-09T15:19:47Z</dcterms:modified>
  <cp:revision>3</cp:revision>
  <dc:subject/>
  <dc:title>Баскетбо́л </dc:title>
</cp:coreProperties>
</file>