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4B8-D64D-4ACF-8DC7-C0D15DBA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C25-A4A1-453E-989D-F377BDBD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94A-40CC-45B4-A3E3-0FF082B3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D00-7555-416E-911D-E96D9C63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9C8A-0EB6-44C3-8BC4-5FFE592E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A885-49F3-47F5-B7D4-4019D6C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6A70-BDCF-4E38-ABE8-3C66EDC5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AF38-3F55-4030-9856-1C659B59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C0B-E266-4E59-BB69-F5F7C693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9652-C805-40BB-92E9-F489FDE1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E12F-B25E-498A-95D2-3E5F9DC6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457-3A9F-49EB-B72B-1AB5E1A3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2749-A90D-40DC-84B1-B48BAF7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EC3C-B79F-477D-9D3F-681D77F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6BA-9ABD-4CEA-9DDA-B11C668E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B73A-F1CF-45A5-BFB9-F7910C8D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E0FC-8565-4BE2-A10B-870BD929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643-2EEB-4E09-879F-670954CC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FFB-02A0-4738-B9ED-7C2A9543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FB3-0399-47A7-B658-51F0F3F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FA3-573D-4637-9106-90323D85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07E-26ED-44DA-B137-29774590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BD0-8D20-4244-AB1E-7100DAC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D9A-2E01-40B7-9983-778C71B0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0EA1-3CB5-4A8C-B031-DEC9FFFB87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CA1-DE3F-45D3-8369-CE8158764D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40;&#1085;&#1075;&#1083;&#1080;&#1081;&#1089;&#1082;&#1080;&#1081;_&#1103;&#1079;&#1099;&#1082;" TargetMode="External"/><Relationship Id="rId3" Type="http://schemas.openxmlformats.org/officeDocument/2006/relationships/hyperlink" Target="https://ru.wikipedia.org/wiki/&#1057;&#1087;&#1086;&#1088;&#1090;" TargetMode="External"/><Relationship Id="rId4" Type="http://schemas.openxmlformats.org/officeDocument/2006/relationships/hyperlink" Target="https://ru.wikipedia.org/wiki/&#1048;&#1075;&#1088;&#1072;" TargetMode="External"/><Relationship Id="rId5" Type="http://schemas.openxmlformats.org/officeDocument/2006/relationships/hyperlink" Target="https://ru.wikipedia.org/wiki/&#1041;&#1072;&#1089;&#1082;&#1077;&#1090;&#1073;&#1086;&#1083;&#1100;&#1085;&#1099;&#1081;_&#1084;&#1103;&#1095;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1;&#1072;&#1089;&#1082;&#1077;&#1090;&#1073;&#1086;&#1083;_&#1085;&#1072;_&#1054;&#1083;&#1080;&#1084;&#1087;&#1080;&#1081;&#1089;&#1082;&#1080;&#1093;_&#1080;&#1075;&#1088;&#1072;&#1093;" TargetMode="External"/><Relationship Id="rId2" Type="http://schemas.openxmlformats.org/officeDocument/2006/relationships/hyperlink" Target="https://ru.wikipedia.org/wiki/&#1051;&#1077;&#1090;&#1085;&#1080;&#1077;_&#1054;&#1083;&#1080;&#1084;&#1087;&#1080;&#1081;&#1089;&#1082;&#1080;&#1077;_&#1080;&#1075;&#1088;&#1099;_1936" TargetMode="External"/><Relationship Id="rId3" Type="http://schemas.openxmlformats.org/officeDocument/2006/relationships/hyperlink" Target="https://ru.wikipedia.org/wiki/&#1044;&#1078;&#1077;&#1081;&#1084;&#1089;_&#1053;&#1077;&#1081;&#1089;&#1084;&#1080;&#1090;" TargetMode="External"/><Relationship Id="rId4" Type="http://schemas.openxmlformats.org/officeDocument/2006/relationships/hyperlink" Target="https://ru.wikipedia.org/wiki/&#1063;&#1077;&#1084;&#1087;&#1080;&#1086;&#1085;&#1072;&#1090;_&#1084;&#1080;&#1088;&#1072;_&#1087;&#1086;_&#1073;&#1072;&#1089;&#1082;&#1077;&#1090;&#1073;&#1086;&#1083;&#1091;" TargetMode="External"/><Relationship Id="rId5" Type="http://schemas.openxmlformats.org/officeDocument/2006/relationships/hyperlink" Target="https://ru.wikipedia.org/wiki/&#1063;&#1077;&#1084;&#1087;&#1080;&#1086;&#1085;&#1072;&#1090;_&#1045;&#1074;&#1088;&#1086;&#1087;&#1099;_&#1087;&#1086;_&#1073;&#1072;&#1089;&#1082;&#1077;&#1090;&#1073;&#1086;&#1083;&#1091;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YMCA" TargetMode="External"/><Relationship Id="rId2" Type="http://schemas.openxmlformats.org/officeDocument/2006/relationships/hyperlink" Target="https://ru.wikipedia.org/wiki/&#1057;&#1087;&#1088;&#1080;&#1085;&#1075;&#1092;&#1080;&#1083;&#1076;_(&#1052;&#1072;&#1089;&#1089;&#1072;&#1095;&#1091;&#1089;&#1077;&#1090;&#1089;)" TargetMode="External"/><Relationship Id="rId3" Type="http://schemas.openxmlformats.org/officeDocument/2006/relationships/hyperlink" Target="https://ru.wikipedia.org/wiki/&#1052;&#1072;&#1089;&#1089;&#1072;&#1095;&#1091;&#1089;&#1077;&#1090;&#1089;" TargetMode="External"/><Relationship Id="rId4" Type="http://schemas.openxmlformats.org/officeDocument/2006/relationships/hyperlink" Target="https://ru.wikipedia.org/wiki/&#1044;&#1078;&#1077;&#1081;&#1084;&#1089;_&#1053;&#1077;&#1081;&#1089;&#1084;&#1080;&#1090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54;&#1074;&#1077;&#1088;&#1090;&#1072;&#1081;&#1084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4;&#1090;&#1088;&#1072;&#1092;&#1085;&#1086;&#1081;_&#1073;&#1088;&#1086;&#1089;&#1086;&#1082;" TargetMode="External"/><Relationship Id="rId2" Type="http://schemas.openxmlformats.org/officeDocument/2006/relationships/hyperlink" Target="https://ru.wikipedia.org/wiki/&#1053;&#1041;&#1040;" TargetMode="External"/><Relationship Id="rId3" Type="http://schemas.openxmlformats.org/officeDocument/2006/relationships/hyperlink" Target="https://ru.wikipedia.org/wiki/&#1058;&#1088;&#1105;&#1093;&#1086;&#1095;&#1082;&#1086;&#1074;&#1099;&#1081;_&#1073;&#1088;&#1086;&#1089;&#1086;&#1082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91;&#1090;_(&#1073;&#1072;&#1089;&#1082;&#1077;&#1090;&#1073;&#1086;&#1083;)" TargetMode="External"/><Relationship Id="rId2" Type="http://schemas.openxmlformats.org/officeDocument/2006/relationships/hyperlink" Target="https://ru.wikipedia.org/wiki/&#1055;&#1088;&#1086;&#1073;&#1077;&#1078;&#1082;&#1072;_(&#1073;&#1072;&#1089;&#1082;&#1077;&#1090;&#1073;&#1086;&#1083;)" TargetMode="External"/><Relationship Id="rId3" Type="http://schemas.openxmlformats.org/officeDocument/2006/relationships/hyperlink" Target="https://ru.wikipedia.org/wiki/&#1041;&#1072;&#1089;&#1082;&#1077;&#1090;&#1073;&#1086;&#1083;#cite_note-5" TargetMode="External"/><Relationship Id="rId4" Type="http://schemas.openxmlformats.org/officeDocument/2006/relationships/hyperlink" Target="https://ru.wikipedia.org/wiki/&#1055;&#1088;&#1086;&#1085;&#1086;&#1089;_&#1084;&#1103;&#1095;&#1072;" TargetMode="External"/><Relationship Id="rId5" Type="http://schemas.openxmlformats.org/officeDocument/2006/relationships/hyperlink" Target="https://ru.wikipedia.org/wiki/&#1044;&#1074;&#1086;&#1081;&#1085;&#1086;&#1077;_&#1074;&#1077;&#1076;&#1077;&#1085;&#1080;&#1077;" TargetMode="External"/><Relationship Id="rId6" Type="http://schemas.openxmlformats.org/officeDocument/2006/relationships/hyperlink" Target="https://ru.wikipedia.org/wiki/&#1055;&#1088;&#1072;&#1074;&#1080;&#1083;&#1086;_3_&#1089;&#1077;&#1082;&#1091;&#1085;&#1076;_(&#1073;&#1072;&#1089;&#1082;&#1077;&#1090;&#1073;&#1086;&#1083;)" TargetMode="External"/><Relationship Id="rId7" Type="http://schemas.openxmlformats.org/officeDocument/2006/relationships/hyperlink" Target="https://ru.wikipedia.org/wiki/&#1041;&#1072;&#1089;&#1082;&#1077;&#1090;&#1073;&#1086;&#1083;#cite_note-6" TargetMode="External"/><Relationship Id="rId8" Type="http://schemas.openxmlformats.org/officeDocument/2006/relationships/hyperlink" Target="https://ru.wikipedia.org/w/index.php?title=&#1055;&#1088;&#1072;&#1074;&#1080;&#1083;&#1086;_&#1087;&#1083;&#1086;&#1090;&#1085;&#1086;&#1086;&#1087;&#1077;&#1082;&#1072;&#1077;&#1084;&#1086;&#1075;&#1086;_&#1080;&#1075;&#1088;&#1086;&#1082;&#1072;_(&#1073;&#1072;&#1089;&#1082;&#1077;&#1090;&#1073;&#1086;&#1083;)&amp;action=edit&amp;redlink=1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зентация по теме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скетбол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”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ил учитель Физической культуры МОУ Новобелоярской С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оусов Александр Борис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57564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Баскетбо́л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813744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asket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«корзина» + 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bal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«мяч»)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24000" y="2060640"/>
            <a:ext cx="28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спортивна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командная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иг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с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мяч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в которой мяч забрасывают руками в кольцо сопер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2" descr="Slamdunk Journal :: Как правильно бросать мяч в баскетболе"/>
          <p:cNvPicPr/>
          <p:nvPr/>
        </p:nvPicPr>
        <p:blipFill>
          <a:blip r:embed="rId6"/>
          <a:stretch/>
        </p:blipFill>
        <p:spPr>
          <a:xfrm>
            <a:off x="3492360" y="1989000"/>
            <a:ext cx="4897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скетбол в олимпийских игр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скетбол входит в программу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Олимпийских иг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1936 го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изобретатель игры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Джеймс Нейсм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был там в качестве гостя). Регулярные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чемпионаты мира по баскетбол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реди мужчин проводятся с 1950 года, среди женщин — с 1953 года, а </a:t>
            </a:r>
            <a:r>
              <a:rPr b="0" lang="ru-RU" sz="24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чемпионаты Евро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с 1935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2" descr="Баскетболисты сборной России победили Нидерланды в матче отбора чемпионата  мира"/>
          <p:cNvPicPr/>
          <p:nvPr/>
        </p:nvPicPr>
        <p:blipFill>
          <a:blip r:embed="rId6"/>
          <a:stretch/>
        </p:blipFill>
        <p:spPr>
          <a:xfrm>
            <a:off x="826920" y="1844640"/>
            <a:ext cx="3961080" cy="20890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8" descr="Баскетбол: история развития и правила игры - Статьи"/>
          <p:cNvPicPr/>
          <p:nvPr/>
        </p:nvPicPr>
        <p:blipFill>
          <a:blip r:embed="rId7"/>
          <a:stretch/>
        </p:blipFill>
        <p:spPr>
          <a:xfrm>
            <a:off x="826920" y="4076640"/>
            <a:ext cx="396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244440"/>
            <a:ext cx="5783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явлени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имой 1891 года студентам колледжа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Молодёжной христианской ассоци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из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Спрингфил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штат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Массачусет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вынужденным выполнять гимнастические упражнения, считавшиеся в то время единственным средством приобщения молодёжи к спорту, было очень скучно на занятиях физического воспитания. Однообразию таких занятий необходимо было положить конец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32360" y="1412640"/>
            <a:ext cx="3927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этого положения нашёл преподаватель колледжа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Джеймс Нейсми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21 декабря 1891 года он привязал две корзины из-под персиков к перилам балкона спортивного зала и, разделив восемнадцать студентов на две команды, предложил им игру, смысл которой сводился к тому, чтобы забросить большее количество мячей в корзину соперник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390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ила игры в баскетбол и штрафны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47064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920" y="19119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аскетбол играют две команды, обычно по десять человек, от каждой из которых на площадке одновременно присутствует пять игроков. Цель каждой команды в баскетболе — забросить мяч в корзину соперника и помешать другой команде овладеть мячом и забросить его в корзину своей коман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ячом играют только руками. Бежать с мячом, не ударяя им в пол, преднамеренно бить по нему ногой, блокировать любой частью ноги или бить по нему кулаком является нарушением. Случайное же соприкосновение или касание мяча стопой или ногой не является наруш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бедителем в баскетболе становится команда, которая по окончании игрового времени набрала большее количество очков. При равном счёте по окончании основного времени матча назначается </a:t>
            </a: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овертай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(обычно пять минут дополнительного времени), в случае, если и по его окончании счёт будет равен, назначается второй, третий овертайм и т. д., до тех пор, пока не будет выявлен победитель матч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За одно попадание мяча в кольцо может быть засчитано разное количество очков: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39272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очко —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штрафной брос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очка — бросок со средней или близкой дистанции (ближе трёхочковой лин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очка — бросок из-за трёхочковой линии на расстоянии 6 м 75 см (7 м 24 см в 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Национальной баскетбольной ассоци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</a:t>
            </a:r>
            <a:r>
              <a:rPr b="0" lang="ru-RU" sz="2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Трёхочковый брос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был включен в официальные правила игры (ФИБА) в 1984 году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Чем полезен баскетбол для детей, какие качества развивает? | ВКонтакте"/>
          <p:cNvPicPr/>
          <p:nvPr/>
        </p:nvPicPr>
        <p:blipFill>
          <a:blip r:embed="rId4"/>
          <a:stretch/>
        </p:blipFill>
        <p:spPr>
          <a:xfrm>
            <a:off x="4572000" y="2133720"/>
            <a:ext cx="4200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876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рушения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55432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аут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мяч уходит за пределы игровой площад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пробежк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игрок, контролирующий «живой» мяч совершает перемещение ног сверх ограничений, установленных правилами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[5]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нарушение ведения мяч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включающее в себя 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пронос мяч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двойное ведени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ыжок с места с мячом в ру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3 секунд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игрок нападения находится в «краске» (прямоугольная зона под кольцом) соперника более трёх секунд в то время, когда его команда владеет живым мячом в зоне напад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5 секун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игрок при выполнении вбрасывания не расстается с мячом в течение пяти секунд</a:t>
            </a: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[6]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Плотноопекаемый игрок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7] не начинает ведение, не отдает передачу и не делает бросок по кольцу в течение 5 секунд при активной защитной стойке соперника[8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8 секунд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команда, владеющая мячом в тыловой зоне, не вывела его в переднюю зону за восемь секунд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24 секунд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— команда владела мячом более 24 секунд и не произвела броска по кольцу. Счётчик 24 секунд сбрасывается, если мяч коснется дужки кольца. После этого атаковавшая команда может совершить подбор в нападении и получить право на ещё одно, но уже 14-секундное владение. В случае получения фола или нарушения (за исключением выхода мяча за пределы площадки) защищающейся командой или другой остановки игры, нападающая команда получает право 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овое 24-секундное владение, если вбрасывание произойдет в зоне защиты владеющей мячом команды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должение отсчета времени с того же момента, если осталось 14 и более секунд владения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овое 14-секундное владение, если осталось 13 или менее секунд владения[9]. Именно поэтому, баскетбол называют быстрыми шахматами, за короткое время нужно принять ряд решений(комбинаций), чтобы мяч был заброшен в кольцо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Нарушения возвращения мяча в зону защит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зон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 — команда, владеющая мячом в зоне нападения, перевела его в зону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баскетбол и чистый вектор или цветной рисунок Иллюстрация вектора -  иллюстрации насчитывающей ðºoñ€ð·ð¸ð½ñ‹, ðºoð»ñœñ†o: 160152260"/>
          <p:cNvPicPr/>
          <p:nvPr/>
        </p:nvPicPr>
        <p:blipFill>
          <a:blip r:embed="rId9"/>
          <a:stretch/>
        </p:blipFill>
        <p:spPr>
          <a:xfrm>
            <a:off x="6012000" y="1125360"/>
            <a:ext cx="2881080" cy="23432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НАВИГАТОР ДОПОЛНИТЕЛЬНОГО ОБРАЗОВАНИЯ ДЕТЕЙ КУЗБАССА - Энергия (баскетбол)"/>
          <p:cNvPicPr/>
          <p:nvPr/>
        </p:nvPicPr>
        <p:blipFill>
          <a:blip r:embed="rId10"/>
          <a:stretch/>
        </p:blipFill>
        <p:spPr>
          <a:xfrm>
            <a:off x="6227640" y="4076640"/>
            <a:ext cx="25466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4T07:20:03Z</dcterms:created>
  <dc:creator>user6</dc:creator>
  <dc:description/>
  <dc:language>en-US</dc:language>
  <cp:lastModifiedBy>USER</cp:lastModifiedBy>
  <dcterms:modified xsi:type="dcterms:W3CDTF">2023-07-09T15:19:47Z</dcterms:modified>
  <cp:revision>3</cp:revision>
  <dc:subject/>
  <dc:title>Баскетбо́л </dc:title>
</cp:coreProperties>
</file>