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6634-AD30-4CB3-BF93-C3A8A1C07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C2FF-FD9F-4942-BE72-9F151F424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008D-2A09-4220-B499-0F3A0C76D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9A77-3FFB-4893-A7B8-E584F0540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B17AB-923D-47B1-B3B5-6274683E0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85A0A-1E4D-493C-89DA-039FC61AC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4BE4B-0967-491F-893E-DC1EF69B1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951CC-3594-4F99-9899-ED20CB763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F0E50-3469-4BAA-B7C2-D68CFB9F0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2D915-A2F1-4AFE-AF00-925964FAA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2C1DE-E111-4783-9D6A-A433A2ED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12E4-90B9-4BE0-90A1-5BC68519A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0E3DE-0B07-4846-B8D5-73FB1ECC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CA0D5-127B-4FC7-B45F-68CD70E0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36661-D26D-499C-A475-36AAC1C43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F7841-2DBA-4406-8E7C-834C2F188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B031F-B35F-4457-B58C-9B1C32CCC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59FC-A6F4-41F4-9778-EBC5DD016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94C7-F55C-4BC9-8930-76BCF2330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2F37-8DAB-47BE-A69D-55CAAA891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FF26-DB2C-4E7B-B598-D70BBBC90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E32E-4FF1-4694-A13F-068DD984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3E5C-29CA-40DB-997C-9B690D29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9C29-A7FC-412C-9893-CB81A22E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A3E21-8323-4986-B282-8D76D480AF37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AC52B-8315-405C-8D74-2C5B0852CC4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www.europegym.ru/programms/sport-dlya-detey-11-17-let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olympteka.ru/olymp/athlets/profile/1869.html" TargetMode="External"/><Relationship Id="rId2" Type="http://schemas.openxmlformats.org/officeDocument/2006/relationships/hyperlink" Target="https://olympteka.ru/olymp/athlets/profile/3535.html" TargetMode="External"/><Relationship Id="rId3" Type="http://schemas.openxmlformats.org/officeDocument/2006/relationships/hyperlink" Target="https://olympteka.ru/olymp/athlets/profile/3386.html" TargetMode="External"/><Relationship Id="rId4" Type="http://schemas.openxmlformats.org/officeDocument/2006/relationships/hyperlink" Target="https://olympteka.ru/olymp/athlets/profile/1659.html" TargetMode="External"/><Relationship Id="rId5" Type="http://schemas.openxmlformats.org/officeDocument/2006/relationships/hyperlink" Target="https://olympteka.ru/olymp/athlets/profile/931.html" TargetMode="External"/><Relationship Id="rId6" Type="http://schemas.openxmlformats.org/officeDocument/2006/relationships/hyperlink" Target="https://olympteka.ru/olymp/athlets/profile/3532.html" TargetMode="External"/><Relationship Id="rId7" Type="http://schemas.openxmlformats.org/officeDocument/2006/relationships/hyperlink" Target="https://olympteka.ru/olymp/athlets/profile/772.html" TargetMode="External"/><Relationship Id="rId8" Type="http://schemas.openxmlformats.org/officeDocument/2006/relationships/hyperlink" Target="https://olympteka.ru/olymp/athlets/profile/1513.html" TargetMode="External"/><Relationship Id="rId9" Type="http://schemas.openxmlformats.org/officeDocument/2006/relationships/hyperlink" Target="https://olympteka.ru/olymp/athlets/profile/3534.html" TargetMode="External"/><Relationship Id="rId10" Type="http://schemas.openxmlformats.org/officeDocument/2006/relationships/hyperlink" Target="https://olympteka.ru/olymp/athlets/profile/3388.html" TargetMode="External"/><Relationship Id="rId11" Type="http://schemas.openxmlformats.org/officeDocument/2006/relationships/hyperlink" Target="https://olympteka.ru/olymp/athlets/profile/1290.html" TargetMode="External"/><Relationship Id="rId12" Type="http://schemas.openxmlformats.org/officeDocument/2006/relationships/hyperlink" Target="https://olympteka.ru/olymp/athlets/profile/3389.html" TargetMode="External"/><Relationship Id="rId13" Type="http://schemas.openxmlformats.org/officeDocument/2006/relationships/hyperlink" Target="https://olympteka.ru/olymp/athlets/profile/18.html" TargetMode="External"/><Relationship Id="rId14" Type="http://schemas.openxmlformats.org/officeDocument/2006/relationships/image" Target="../media/image3.jpeg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резентация на тему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Гимнастика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”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ставлена учителем Физической культуры МОУ Новобелоярской СШ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елоусовым Александром Борисовиче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00000" y="9075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Гимнастика как вид спорт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2997000"/>
            <a:ext cx="640080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имнастика как спорт развивается уже давно. Причем она универсальна и гармонична. Этим видом спорта могут заниматься все дети и взрослые, независимо от начального уровня подготовки, индивидуальных способностей, целей и потребностей. Гимнастика считается базовой дисциплиной. Это обусловлено ее способностью к всестороннему и равноценному развитию. В процессе занятий закладывается фундамент всех физических навыков. В дальнейшем их можно применять в других видах спорта, повседневной жизни и развитии профессиональных навыков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Польза гимнастики для детей разных возрастов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от 1 года до 3 лет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 Гимнастикой могут заниматься дети от 1 года. В возрасте до 3 лет этот вид спорта станет хорошим помощником в развитии базовых двигательных навыков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от 3 до 7 лет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 Занятия гимнастикой позволяет развивать гибкость, координацию движений и реакцию, скорректировать ортопедические нарушения и сформировать правильную осанку, укрепить мышечный корсет. Выполнение сложно-координационных упражнений положительно влияют на развитие центральной нервной системы, мозга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от 7 до 11 лет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 В этом возрасте у ребенка быстро увеличиваются пропорции тела. Учебная загруженность и нехватка физической активности может привести к ухудшению ловкости, ослаблению мышц, а также ослаблению иммунитета. Предотвратить эти негативные процессы позволят регулярные занятия в гимнастическом зале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Для подростков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 На этот возраст приходится пик физического развития. Ко времени окончания школы у девушек и юношей завершается рост, полностью заканчивается формирование пропорций тела и окостенение скелета. При регулярных тренировках достигается максимум мышечной силы. Именно для подростков очень важны уверенность в себе, ловкость движений и красивая фигура. Все это можно получить на занятиях гимнастикой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186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беспечение гармоничного физического развития в гимнастике обусловлено наличием упражнений, которые нацелены на развитие разных групп мышц. Комплекс включает растяжки, координационные и силовые задания. В большинстве же других видов спорта происходят усиленные нагрузки на отдельные части тела. Так, в теннисе активно развивается одна сторона плечевого пояса. Это может привести к ухудшению осанки. В плавании основная нагрузка ложится на плечевой пояс, а в хоккее и футболе – на ноги. Именно поэтому такие занятия стоит дополнять тренировками в гимнастическом зале, которые будут компенсировать нехватку определенных упражнений. Например, обеспечат футболистам необходимую растяжку и помогут забивать эффектные голы, а теннисистам – быстроту, ловкость и реакцию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Почему именно гимнастика?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6" name="Picture 6" descr="Подготовка гимнасток к фестивалю"/>
          <p:cNvPicPr/>
          <p:nvPr/>
        </p:nvPicPr>
        <p:blipFill>
          <a:blip r:embed="rId1"/>
          <a:stretch/>
        </p:blipFill>
        <p:spPr>
          <a:xfrm>
            <a:off x="4643280" y="1773360"/>
            <a:ext cx="42116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Плюсы гимнастики для взрослых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Для людей средней возрастной группы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 Им важно поддерживать хорошую физическую форму и следить за своим самочувствием. Упражнения на гибкость позволяют сохранять здоровье спины и шеи, обеспечивают подвижность суставов. Не менее полезны и сложно-координационные нагрузки. Вместе с кардио- и силовыми тренировками они способствуют повышению бодрости, снятию стрессов, приведению организма в тонус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5" descr="Как выглядит самая старая гимнастка в мире? Мотивирующая ..."/>
          <p:cNvPicPr/>
          <p:nvPr/>
        </p:nvPicPr>
        <p:blipFill>
          <a:blip r:embed="rId1"/>
          <a:stretch/>
        </p:blipFill>
        <p:spPr>
          <a:xfrm>
            <a:off x="4643280" y="1341360"/>
            <a:ext cx="4310280" cy="326412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6"/>
          <p:cNvSpPr/>
          <p:nvPr/>
        </p:nvSpPr>
        <p:spPr>
          <a:xfrm>
            <a:off x="324000" y="475380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ля пожилых людей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После 50 лет также можно заниматься гимнастикой. В этом возрасте стоит сделать акцент на упражнения, которые улучшают силу и выносливость, равновесие и гибкость. Это позволяет пожилому человеку сохранить здоровую сердечно-сосудистую и дыхательную системы, крепкие кости, подвижные суставы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Олимпийские чемпионы России по спортивной гимнастике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939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1" lang="ru-RU" sz="8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АБЛЯЗИН Денис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- Гимнастика спортивная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АХАИМОВА Лилия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- Гимнастика спортивная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БЕЛЯВСКИЙ Давид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- Гимнастика спортивная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ВАСИЛЕНКО Дмитрий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- Гимнастика спортивная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ВОРОПАЕВ Алексей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- Гимнастика спортивная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ffcc66"/>
                </a:solidFill>
                <a:uFillTx/>
                <a:latin typeface="Tahoma"/>
                <a:hlinkClick r:id="rId6"/>
              </a:rPr>
              <a:t>ДАЛАЛОЯН Артур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- Гимнастика спортивная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ffcc66"/>
                </a:solidFill>
                <a:uFillTx/>
                <a:latin typeface="Tahoma"/>
                <a:hlinkClick r:id="rId7"/>
              </a:rPr>
              <a:t>ЗАМОЛОДЧИКОВА Елена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- Гимнастика спортивная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ffcc66"/>
                </a:solidFill>
                <a:uFillTx/>
                <a:latin typeface="Tahoma"/>
                <a:hlinkClick r:id="rId8"/>
              </a:rPr>
              <a:t>КРЮКОВ Николай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- Гимнастика спортивная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ffcc66"/>
                </a:solidFill>
                <a:uFillTx/>
                <a:latin typeface="Tahoma"/>
                <a:hlinkClick r:id="rId9"/>
              </a:rPr>
              <a:t>ЛИСТУНОВА Виктория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- Гимнастика спортивная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ffcc66"/>
                </a:solidFill>
                <a:uFillTx/>
                <a:latin typeface="Tahoma"/>
                <a:hlinkClick r:id="rId10"/>
              </a:rPr>
              <a:t>МЕЛЬНИКОВА Ангелина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- Гимнастика спортивная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ffcc66"/>
                </a:solidFill>
                <a:uFillTx/>
                <a:latin typeface="Tahoma"/>
                <a:hlinkClick r:id="rId11"/>
              </a:rPr>
              <a:t>МУСТАФИНА Алия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- Гимнастика спортивная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ffcc66"/>
                </a:solidFill>
                <a:uFillTx/>
                <a:latin typeface="Tahoma"/>
                <a:hlinkClick r:id="rId12"/>
              </a:rPr>
              <a:t>НАГОРНЫЙ Никита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- Гимнастика спортивная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ffcc66"/>
                </a:solidFill>
                <a:uFillTx/>
                <a:latin typeface="Tahoma"/>
                <a:hlinkClick r:id="rId13"/>
              </a:rPr>
              <a:t>НЕМОВ Алексей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- Гимнастика спортивная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ПОДГОРНЫЙ Евгений - Гимнастика спортивная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ТРУШ Дмитрий - Гимнастика спортивная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УРАЗОВА Владислава - Гимнастика спортивная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ХАРЬКОВ Сергей - Гимнастика спортивная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ХОРКИНА Светлана - Гимнастика спортивная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5" descr="6dd2809c75749504f5d26dc5ad40cc00"/>
          <p:cNvPicPr/>
          <p:nvPr/>
        </p:nvPicPr>
        <p:blipFill>
          <a:blip r:embed="rId14"/>
          <a:stretch/>
        </p:blipFill>
        <p:spPr>
          <a:xfrm>
            <a:off x="4500720" y="1773360"/>
            <a:ext cx="40510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К занятиям допускаются учащиеся: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отнесённые по состоянию здоровья к основной и подготовительной медицинским группам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шедшие инструктаж по мерам безопасност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меющие спортивную обувь и форму, не стесняющую движений и соответствующую теме и условиям проведения заняти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Учащийся должен: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меть коротко остриженные ногти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 заходить в спортзал, брать спортивный инвентарь и выполнять упражнения с разрешения учител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бережно относиться к спортивному инвентарю и оборудованию, не использовать его не по назначению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 знать и выполнять настоящую инструкцию. Не выполняйте упражнения при наличии свежих мозолей на руках. Выполняя упражнения потоком, соблюдайте достаточные интервал и дистанцию. Не выполняйте сложные элементы без страховки, если нет уверенности в их выполнени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чащийся должен знать и выполнять инструкцию при занятиях спортивной гимнастикой. За несоблюдение мер безопасности учащийся может быть не допущен или отстранён от участия в учебном процесс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2-15T07:47:48Z</dcterms:created>
  <dc:creator>user6</dc:creator>
  <dc:description/>
  <dc:language>en-US</dc:language>
  <cp:lastModifiedBy>USER</cp:lastModifiedBy>
  <dcterms:modified xsi:type="dcterms:W3CDTF">2023-07-09T15:29:48Z</dcterms:modified>
  <cp:revision>3</cp:revision>
  <dc:subject/>
  <dc:title>Гимнастика как вид спорта</dc:title>
</cp:coreProperties>
</file>