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C009-D42B-48B2-920D-2CBADE27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086-D391-4A74-A3CB-BA7547A7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3785-6349-42A4-AAA4-408CD736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806-33ED-452B-81B8-A1543319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DC22-B167-483C-836D-2B5348F6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36C9-465F-4C17-8ACA-30D83338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D844-F90F-4838-A0A1-7515D9C2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1A06-8231-468B-800D-2F03C6F9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B11B-B775-4952-908C-BF416B12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FFFE-17A8-46C6-92A3-009C8C26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0B0D-FA21-4FD9-94B4-FB82A829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D73-949C-4999-AE5D-10E32689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1038-5DDE-4536-A67A-D33E0D57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DB25-FCFE-4B82-B86E-EF51EE58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0098-1514-4B84-805A-FFD2D074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4A43-9C6D-4818-9C2E-464D1DE1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6BCD-0AB1-4A80-827A-4607CEB5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BC7-33DD-4064-BD1D-5E370642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2964-57D7-4359-86AA-8B6FC88A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7248-407F-4B7F-9C3F-F4C21A9C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B16F-CDA2-476E-832A-659B6FA9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9A2-3DBE-46DC-9D64-C47010DA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600-3766-4B0D-AD04-67E4C9FA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255-777A-4D1B-9A2B-18F3C69F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2073-2A0F-44EC-944B-B90488BA8FB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7983-E1DC-45D5-B5A8-BE4709AB692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europegym.ru/programms/sport-dlya-detey-11-17-let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olympteka.ru/olymp/athlets/profile/1869.html" TargetMode="External"/><Relationship Id="rId2" Type="http://schemas.openxmlformats.org/officeDocument/2006/relationships/hyperlink" Target="https://olympteka.ru/olymp/athlets/profile/3535.html" TargetMode="External"/><Relationship Id="rId3" Type="http://schemas.openxmlformats.org/officeDocument/2006/relationships/hyperlink" Target="https://olympteka.ru/olymp/athlets/profile/3386.html" TargetMode="External"/><Relationship Id="rId4" Type="http://schemas.openxmlformats.org/officeDocument/2006/relationships/hyperlink" Target="https://olympteka.ru/olymp/athlets/profile/1659.html" TargetMode="External"/><Relationship Id="rId5" Type="http://schemas.openxmlformats.org/officeDocument/2006/relationships/hyperlink" Target="https://olympteka.ru/olymp/athlets/profile/931.html" TargetMode="External"/><Relationship Id="rId6" Type="http://schemas.openxmlformats.org/officeDocument/2006/relationships/hyperlink" Target="https://olympteka.ru/olymp/athlets/profile/3532.html" TargetMode="External"/><Relationship Id="rId7" Type="http://schemas.openxmlformats.org/officeDocument/2006/relationships/hyperlink" Target="https://olympteka.ru/olymp/athlets/profile/772.html" TargetMode="External"/><Relationship Id="rId8" Type="http://schemas.openxmlformats.org/officeDocument/2006/relationships/hyperlink" Target="https://olympteka.ru/olymp/athlets/profile/1513.html" TargetMode="External"/><Relationship Id="rId9" Type="http://schemas.openxmlformats.org/officeDocument/2006/relationships/hyperlink" Target="https://olympteka.ru/olymp/athlets/profile/3534.html" TargetMode="External"/><Relationship Id="rId10" Type="http://schemas.openxmlformats.org/officeDocument/2006/relationships/hyperlink" Target="https://olympteka.ru/olymp/athlets/profile/3388.html" TargetMode="External"/><Relationship Id="rId11" Type="http://schemas.openxmlformats.org/officeDocument/2006/relationships/hyperlink" Target="https://olympteka.ru/olymp/athlets/profile/1290.html" TargetMode="External"/><Relationship Id="rId12" Type="http://schemas.openxmlformats.org/officeDocument/2006/relationships/hyperlink" Target="https://olympteka.ru/olymp/athlets/profile/3389.html" TargetMode="External"/><Relationship Id="rId13" Type="http://schemas.openxmlformats.org/officeDocument/2006/relationships/hyperlink" Target="https://olympteka.ru/olymp/athlets/profile/18.html" TargetMode="External"/><Relationship Id="rId14" Type="http://schemas.openxmlformats.org/officeDocument/2006/relationships/image" Target="../media/image3.jpe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езентация на тему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Гимнастика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”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лена учителем Физической культуры МОУ Новобелоярской С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лоусовым Александром Борисович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Гимнастика как вид спорт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имнастика как спорт развивается уже давно. Причем она универсальна и гармонична. Этим видом спорта могут заниматься все дети и взрослые, независимо от начального уровня подготовки, индивидуальных способностей, целей и потребностей. Гимнастика считается базовой дисциплиной. Это обусловлено ее способностью к всестороннему и равноценному развитию. В процессе занятий закладывается фундамент всех физических навыков. В дальнейшем их можно применять в других видах спорта, повседневной жизни и развитии профессиональных навык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ольза гимнастики для детей разных возрастов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 1 года до 3 ле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Гимнастикой могут заниматься дети от 1 года. В возрасте до 3 лет этот вид спорта станет хорошим помощником в развитии базовых двигательных навыков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 3 до 7 ле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Занятия гимнастикой позволяет развивать гибкость, координацию движений и реакцию, скорректировать ортопедические нарушения и сформировать правильную осанку, укрепить мышечный корсет. Выполнение сложно-координационных упражнений положительно влияют на развитие центральной нервной системы, мозг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 7 до 11 ле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В этом возрасте у ребенка быстро увеличиваются пропорции тела. Учебная загруженность и нехватка физической активности может привести к ухудшению ловкости, ослаблению мышц, а также ослаблению иммунитета. Предотвратить эти негативные процессы позволят регулярные занятия в гимнастическом зал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Для подростков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На этот возраст приходится пик физического развития. Ко времени окончания школы у девушек и юношей завершается рост, полностью заканчивается формирование пропорций тела и окостенение скелета. При регулярных тренировках достигается максимум мышечной силы. Именно для подростков очень важны уверенность в себе, ловкость движений и красивая фигура. Все это можно получить на занятиях гимнастико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8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беспечение гармоничного физического развития в гимнастике обусловлено наличием упражнений, которые нацелены на развитие разных групп мышц. Комплекс включает растяжки, координационные и силовые задания. В большинстве же других видов спорта происходят усиленные нагрузки на отдельные части тела. Так, в теннисе активно развивается одна сторона плечевого пояса. Это может привести к ухудшению осанки. В плавании основная нагрузка ложится на плечевой пояс, а в хоккее и футболе – на ноги. Именно поэтому такие занятия стоит дополнять тренировками в гимнастическом зале, которые будут компенсировать нехватку определенных упражнений. Например, обеспечат футболистам необходимую растяжку и помогут забивать эффектные голы, а теннисистам – быстроту, ловкость и реакцию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очему именно гимнастика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Picture 6" descr="Подготовка гимнасток к фестивалю"/>
          <p:cNvPicPr/>
          <p:nvPr/>
        </p:nvPicPr>
        <p:blipFill>
          <a:blip r:embed="rId1"/>
          <a:stretch/>
        </p:blipFill>
        <p:spPr>
          <a:xfrm>
            <a:off x="4643280" y="1773360"/>
            <a:ext cx="4211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люсы гимнастики для взрослых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ля людей средней возрастной группы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Им важно поддерживать хорошую физическую форму и следить за своим самочувствием. Упражнения на гибкость позволяют сохранять здоровье спины и шеи, обеспечивают подвижность суставов. Не менее полезны и сложно-координационные нагрузки. Вместе с кардио- и силовыми тренировками они способствуют повышению бодрости, снятию стрессов, приведению организма в тонус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Как выглядит самая старая гимнастка в мире? Мотивирующая ..."/>
          <p:cNvPicPr/>
          <p:nvPr/>
        </p:nvPicPr>
        <p:blipFill>
          <a:blip r:embed="rId1"/>
          <a:stretch/>
        </p:blipFill>
        <p:spPr>
          <a:xfrm>
            <a:off x="4643280" y="1341360"/>
            <a:ext cx="4310280" cy="32641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24000" y="475380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ля пожилых люде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После 50 лет также можно заниматься гимнастикой. В этом возрасте стоит сделать акцент на упражнения, которые улучшают силу и выносливость, равновесие и гибкость. Это позволяет пожилому человеку сохранить здоровую сердечно-сосудистую и дыхательную системы, крепкие кости, подвижные сустав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Олимпийские чемпионы России по спортивной гимнастике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939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ru-RU" sz="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АБЛЯЗИН Денис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АХАИМОВА Лилия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БЕЛЯВСКИЙ Давид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ВАСИЛЕНКО Дмитрий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ВОРОПАЕВ Алексей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ДАЛАЛОЯН Артур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ЗАМОЛОДЧИКОВА Елена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КРЮКОВ Николай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ЛИСТУНОВА Виктория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МЕЛЬНИКОВА Ангелина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МУСТАФИНА Алия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НАГОРНЫЙ Никита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НЕМОВ Алексей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ПОДГОРНЫЙ Евгений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ТРУШ Дмитрий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УРАЗОВА Владислава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ХАРЬКОВ Сергей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ХОРКИНА Светлана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6dd2809c75749504f5d26dc5ad40cc00"/>
          <p:cNvPicPr/>
          <p:nvPr/>
        </p:nvPicPr>
        <p:blipFill>
          <a:blip r:embed="rId14"/>
          <a:stretch/>
        </p:blipFill>
        <p:spPr>
          <a:xfrm>
            <a:off x="4500720" y="1773360"/>
            <a:ext cx="4051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 занятиям допускаются учащиеся: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отнесённые по состоянию здоровья к основной и подготовительной медицинским группа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шедшие инструктаж по мерам безопас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ющие спортивную обувь и форму, не стесняющую движений и соответствующую теме и условиям проведения занят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чащийся должен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еть коротко остриженные ногт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 заходить в спортзал, брать спортивный инвентарь и выполнять упражнения с разрешения учител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бережно относиться к спортивному инвентарю и оборудованию, не использовать его не по назначению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 знать и выполнять настоящую инструкцию. Не выполняйте упражнения при наличии свежих мозолей на руках. Выполняя упражнения потоком, соблюдайте достаточные интервал и дистанцию. Не выполняйте сложные элементы без страховки, если нет уверенности в их выполнен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ащийся должен знать и выполнять инструкцию при занятиях спортивной гимнастикой. За несоблюдение мер безопасности учащийся может быть не допущен или отстранён от участия в учебном процесс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5T07:47:48Z</dcterms:created>
  <dc:creator>user6</dc:creator>
  <dc:description/>
  <dc:language>en-US</dc:language>
  <cp:lastModifiedBy>USER</cp:lastModifiedBy>
  <dcterms:modified xsi:type="dcterms:W3CDTF">2023-07-09T15:29:48Z</dcterms:modified>
  <cp:revision>3</cp:revision>
  <dc:subject/>
  <dc:title>Гимнастика как вид спорта</dc:title>
</cp:coreProperties>
</file>