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A75-F238-45FD-9328-65F51663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22D-F124-4804-9664-CB500C1C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9F2-1D18-436D-945C-556B647C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DED-67AB-4A29-B5C1-BD58AD23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028F-2FF4-406F-A626-2FE391EE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18D5-AB3F-476F-A9E2-21263F73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EA87-4A38-4FBF-95CB-1257A21D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D415-FE3E-4CFB-B841-B1A6BFA3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3248-00E0-4492-8FD9-BBD56A37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0A49-83BB-4726-B63C-0B3E399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2A3D-7172-47C2-8BCA-E09FDA43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F06-E21B-44F3-892A-FF62CCF9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4686-439F-4B87-93D7-F0D7EE8E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E293-0FAB-4646-ACE8-AA972A8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F562-EB00-489D-86FD-A147790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32E1-37C4-40C5-BCB8-B43ECAE5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D415-87A4-4153-B568-7AC58E83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DA8-FF8F-4EE4-BD79-49D5449B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19C-CF1C-4758-A47A-7761DE2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707-CFFC-47C9-89C9-00411B2F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0DC-9F0D-48AE-AFFA-0CB95B8B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B8D-FD72-4707-9D3A-FF0117B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A24-BD29-445F-87E2-380480A3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697-326D-4529-BBCA-D71142B5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1A4-91D3-4252-A13A-AE5CB2C89D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CE88-6C49-4BA5-8E79-5794EBDD31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rebnoj.ru/stati/konkovyj-khod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Основные виды лыжных ходов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я по физкульт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л Белоусов Александр Борис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Физической культуры МОУ Новобелоярской С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5194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множество способов передвижения на беговых лыжах. Они включают в себя способы преодоления подъемов и спусков, способы преодоления поворотов и неровностей, торможения, но, конечно же, основными способами передвижения на лыжах являются лыжные хода. Главными двигательными действиями в них являются отталкивания и махи ногами и руками в сочетании со скольжением на лыж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классический лыжный ход"/>
          <p:cNvPicPr/>
          <p:nvPr/>
        </p:nvPicPr>
        <p:blipFill>
          <a:blip r:embed="rId1"/>
          <a:stretch/>
        </p:blipFill>
        <p:spPr>
          <a:xfrm>
            <a:off x="5508720" y="1773360"/>
            <a:ext cx="33843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Способы передвижения на лыжах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ависимости от качества и ширины лыжной трассы различают два принципиально отличающихся способа передвижения на беговых лыжах. Каждый из этих способов подразделяется на 4-6 типов. Профессиональные лыжники в совершенстве владеют всеми способами и типами передвижения и выбирают тот, которые в данный момент соответствует условиям трассы или го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ический х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оньковый х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ипы классического ход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6275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ыжные ходы подразделяются в зависимости от сочетания движения рук и ног за определенный цикл времени. Разделяют две основные групп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еременные ход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временные х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Классический ход на лыжах: техника, видео, разбор ошибок"/>
          <p:cNvPicPr/>
          <p:nvPr/>
        </p:nvPicPr>
        <p:blipFill>
          <a:blip r:embed="rId1"/>
          <a:stretch/>
        </p:blipFill>
        <p:spPr>
          <a:xfrm>
            <a:off x="4788000" y="3716280"/>
            <a:ext cx="40449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Одновременный бесшажный ход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4547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ижение на лыжах заключается в выполнении одновременного толчка руками от трассы. В основном этот ход применим на пологих спусках и ровных участках трасс, где сохраняются отличные условия скольжения. Он является самым сложным даже для некоторых спортсменов. Если не поддерживать постоянную скорость, т.е. не вовремя и с недостаточной силой отталкиваться руками, движение на лыжах сразу же замедляется, при этом нарушается ритм, и повышается нагруз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одновременный бесшажный ход"/>
          <p:cNvPicPr/>
          <p:nvPr/>
        </p:nvPicPr>
        <p:blipFill>
          <a:blip r:embed="rId1"/>
          <a:stretch/>
        </p:blipFill>
        <p:spPr>
          <a:xfrm>
            <a:off x="5148360" y="1700280"/>
            <a:ext cx="3794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Одновременный ход в один шаг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56000" y="148392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вляется самым популярным вариантом движения на лыжах. Сам ход заключается в последовательном действии ног и рук и сохранении баланса. После толчка с места лыжник выносит обе руки и грудь вперед. Затем, совершив шаг, лыжные палки выводятся концами от себя. А во время следующего скольжения палки выводятся уже перед собой, далее цикл повторяется. Ход используется преимущественно на заснеженной трасс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одновременный одношажный ход"/>
          <p:cNvPicPr/>
          <p:nvPr/>
        </p:nvPicPr>
        <p:blipFill>
          <a:blip r:embed="rId1"/>
          <a:stretch/>
        </p:blipFill>
        <p:spPr>
          <a:xfrm>
            <a:off x="324000" y="1484280"/>
            <a:ext cx="4200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Попеременный ход в два шаг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же распространенный вариант движения на лыжах. Сам ход заключается в последовательном действии каждой ноги и руки. За один цикл, лыжник выполняет два скользящих шага, а отталкивание от снега происходит каждой рукой попеременно. Ход применяется, на заснеженной трассе, но в основном, на подъем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попеременный двухшажный ход"/>
          <p:cNvPicPr/>
          <p:nvPr/>
        </p:nvPicPr>
        <p:blipFill>
          <a:blip r:embed="rId1"/>
          <a:stretch/>
        </p:blipFill>
        <p:spPr>
          <a:xfrm>
            <a:off x="826920" y="3500280"/>
            <a:ext cx="7143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Ход в четыре шаг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0" y="1196640"/>
            <a:ext cx="4114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вольно сложный вид передвижения на лыжах. Заключается в последовательном выполнении двух шагов, поочередно. Выполняя третий шаг поднимается соответствующая рука, а после окончания шага выполняется толчок рукой. Четвертый шаг то же заканчивается толчком другой ру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вид ходьбы применяется только на равнинах с максимальным условием скольжения. Теперь Вы имеете примерное понимание, что из себя представляет техника классического хода передвижения на лыжах и можно смело переходить от теории к практи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переменный ход в четыре шага"/>
          <p:cNvPicPr/>
          <p:nvPr/>
        </p:nvPicPr>
        <p:blipFill>
          <a:blip r:embed="rId1"/>
          <a:stretch/>
        </p:blipFill>
        <p:spPr>
          <a:xfrm>
            <a:off x="179280" y="1197000"/>
            <a:ext cx="4608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7T10:11:55Z</dcterms:created>
  <dc:creator>user6</dc:creator>
  <dc:description/>
  <dc:language>en-US</dc:language>
  <cp:lastModifiedBy>USER</cp:lastModifiedBy>
  <dcterms:modified xsi:type="dcterms:W3CDTF">2023-07-09T15:35:20Z</dcterms:modified>
  <cp:revision>3</cp:revision>
  <dc:subject/>
  <dc:title>Основные виды лыжных ходов </dc:title>
</cp:coreProperties>
</file>