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7458-CED4-4C5B-8BE7-52D991571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401B-95CA-48A7-AFC9-89B2702F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0E1E-601F-4A3F-85B9-5FCBFF9F7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8497-5D90-42C5-96E5-B136CBC32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F1D8-DE4E-488D-9E4E-A5280816E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8A35-BD7A-40E9-8E5B-4035CFFD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DECC-BE4B-4842-A862-BD3F74F2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D120-66A7-41AD-BF57-94107ADF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00A7-C29B-48F7-858A-5145EB20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3D56-8371-4F0E-B270-58F8D4B0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695D-4554-4D88-996B-82A63959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413B-02DE-4EA9-8B06-44A6DFD1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25C0-66DF-4D41-BDA1-593B0F21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5C36-2F34-47C1-B7FB-6BA08AE6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336F-D310-4C41-BC3D-FCC41DF5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3BE5-FF01-47BA-A231-54835FF81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5706-C3AF-4A62-8C16-57079E2A7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4F10-F887-405B-8409-D3E2FD72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BBCE-AF90-4E32-B265-AAB2FA35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D6BF-6822-41E8-8917-017AAB0B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A972-C87C-490C-A29D-D0EB3537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027F-D183-4449-9A10-46E366CB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4D0B-75AF-4667-BE4B-5611412E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1E13-40B3-41C6-9BF8-D632DE06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A498-BB4F-4981-85B5-C21AABE473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F7EF-9059-46EE-9C78-CB75AA23848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grebnoj.ru/stati/konkovyj-khod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bbd71"/>
                </a:solidFill>
                <a:latin typeface="Arial"/>
              </a:rPr>
              <a:t>Основные виды лыжных ходов</a:t>
            </a:r>
            <a:br>
              <a:rPr sz="4800"/>
            </a:b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зентация по физкульту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авил Белоусов Александр Борисо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итель Физической культуры МОУ Новобелоярской СШ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6840" y="1699920"/>
            <a:ext cx="5194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уществует множество способов передвижения на беговых лыжах. Они включают в себя способы преодоления подъемов и спусков, способы преодоления поворотов и неровностей, торможения, но, конечно же, основными способами передвижения на лыжах являются лыжные хода. Главными двигательными действиями в них являются отталкивания и махи ногами и руками в сочетании со скольжением на лыжа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5" descr="классический лыжный ход"/>
          <p:cNvPicPr/>
          <p:nvPr/>
        </p:nvPicPr>
        <p:blipFill>
          <a:blip r:embed="rId1"/>
          <a:stretch/>
        </p:blipFill>
        <p:spPr>
          <a:xfrm>
            <a:off x="5508720" y="1773360"/>
            <a:ext cx="338436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Способы передвижения на лыжах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зависимости от качества и ширины лыжной трассы различают два принципиально отличающихся способа передвижения на беговых лыжах. Каждый из этих способов подразделяется на 4-6 типов. Профессиональные лыжники в совершенстве владеют всеми способами и типами передвижения и выбирают тот, которые в данный момент соответствует условиям трассы или гон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лассический ход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коньковый ход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Типы классического хода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627552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ыжные ходы подразделяются в зависимости от сочетания движения рук и ног за определенный цикл времени. Разделяют две основные групп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переменные ход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новременные х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5" descr="Классический ход на лыжах: техника, видео, разбор ошибок"/>
          <p:cNvPicPr/>
          <p:nvPr/>
        </p:nvPicPr>
        <p:blipFill>
          <a:blip r:embed="rId1"/>
          <a:stretch/>
        </p:blipFill>
        <p:spPr>
          <a:xfrm>
            <a:off x="4788000" y="3716280"/>
            <a:ext cx="404496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dbbd71"/>
                </a:solidFill>
                <a:uFillTx/>
                <a:latin typeface="Arial"/>
              </a:rPr>
              <a:t>Одновременный бесшажный ход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45478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вижение на лыжах заключается в выполнении одновременного толчка руками от трассы. В основном этот ход применим на пологих спусках и ровных участках трасс, где сохраняются отличные условия скольжения. Он является самым сложным даже для некоторых спортсменов. Если не поддерживать постоянную скорость, т.е. не вовремя и с недостаточной силой отталкиваться руками, движение на лыжах сразу же замедляется, при этом нарушается ритм, и повышается нагрузк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5" descr="одновременный бесшажный ход"/>
          <p:cNvPicPr/>
          <p:nvPr/>
        </p:nvPicPr>
        <p:blipFill>
          <a:blip r:embed="rId1"/>
          <a:stretch/>
        </p:blipFill>
        <p:spPr>
          <a:xfrm>
            <a:off x="5148360" y="1700280"/>
            <a:ext cx="37940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dbbd71"/>
                </a:solidFill>
                <a:uFillTx/>
                <a:latin typeface="Arial"/>
              </a:rPr>
              <a:t>Одновременный ход в один шаг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356000" y="1483920"/>
            <a:ext cx="4392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Является самым популярным вариантом движения на лыжах. Сам ход заключается в последовательном действии ног и рук и сохранении баланса. После толчка с места лыжник выносит обе руки и грудь вперед. Затем, совершив шаг, лыжные палки выводятся концами от себя. А во время следующего скольжения палки выводятся уже перед собой, далее цикл повторяется. Ход используется преимущественно на заснеженной трасс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5" descr="одновременный одношажный ход"/>
          <p:cNvPicPr/>
          <p:nvPr/>
        </p:nvPicPr>
        <p:blipFill>
          <a:blip r:embed="rId1"/>
          <a:stretch/>
        </p:blipFill>
        <p:spPr>
          <a:xfrm>
            <a:off x="324000" y="1484280"/>
            <a:ext cx="42004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dbbd71"/>
                </a:solidFill>
                <a:uFillTx/>
                <a:latin typeface="Arial"/>
              </a:rPr>
              <a:t>Попеременный ход в два шага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296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же распространенный вариант движения на лыжах. Сам ход заключается в последовательном действии каждой ноги и руки. За один цикл, лыжник выполняет два скользящих шага, а отталкивание от снега происходит каждой рукой попеременно. Ход применяется, на заснеженной трассе, но в основном, на подъемах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5" descr="попеременный двухшажный ход"/>
          <p:cNvPicPr/>
          <p:nvPr/>
        </p:nvPicPr>
        <p:blipFill>
          <a:blip r:embed="rId1"/>
          <a:stretch/>
        </p:blipFill>
        <p:spPr>
          <a:xfrm>
            <a:off x="826920" y="3500280"/>
            <a:ext cx="71438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dbbd71"/>
                </a:solidFill>
                <a:uFillTx/>
                <a:latin typeface="Arial"/>
              </a:rPr>
              <a:t>Ход в четыре шага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29200" y="1196640"/>
            <a:ext cx="41148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овольно сложный вид передвижения на лыжах. Заключается в последовательном выполнении двух шагов, поочередно. Выполняя третий шаг поднимается соответствующая рука, а после окончания шага выполняется толчок рукой. Четвертый шаг то же заканчивается толчком другой рук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тот вид ходьбы применяется только на равнинах с максимальным условием скольжения. Теперь Вы имеете примерное понимание, что из себя представляет техника классического хода передвижения на лыжах и можно смело переходить от теории к практик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5" descr="переменный ход в четыре шага"/>
          <p:cNvPicPr/>
          <p:nvPr/>
        </p:nvPicPr>
        <p:blipFill>
          <a:blip r:embed="rId1"/>
          <a:stretch/>
        </p:blipFill>
        <p:spPr>
          <a:xfrm>
            <a:off x="179280" y="1197000"/>
            <a:ext cx="460872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07T10:11:55Z</dcterms:created>
  <dc:creator>user6</dc:creator>
  <dc:description/>
  <dc:language>en-US</dc:language>
  <cp:lastModifiedBy>USER</cp:lastModifiedBy>
  <dcterms:modified xsi:type="dcterms:W3CDTF">2023-07-09T15:35:20Z</dcterms:modified>
  <cp:revision>3</cp:revision>
  <dc:subject/>
  <dc:title>Основные виды лыжных ходов </dc:title>
</cp:coreProperties>
</file>