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D946-FB1F-41F5-851F-6003AEF5E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51B9-7350-45C1-8702-B9961B336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1A2F-78CF-497E-9798-5EF93CDFA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341F-1659-4798-95BE-AE458616D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6C597-F1AC-4F69-9050-F781DDD3C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8A230-E460-43A2-8BC5-6DE4A185A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8AA05-934D-42C8-9B5D-4CE03E7B2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B3CE6-4326-4D3C-84DE-F35D4F1F4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A0F39-E355-4622-BCCF-BB1D2437D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EC94B-5C75-469F-9B51-0B8E7FFC0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C62AA-0F7F-4098-8CEE-4587EBA9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61CC-AD3A-4783-A550-8C28D5328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9735A-B6FF-4FBB-96C9-6E317E93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B012C-7271-4015-8526-CE77E6C1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260F6-09AA-4C4E-BB90-03632E238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7C576-7FCD-44FB-AEFA-A33FD783C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8D095-F3D1-41B8-9A8E-D180C5121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4211-6E86-4352-9E6F-7E5FC94CA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CB7C-1B47-4335-B7B8-C3AEF1D9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1F66-6799-431A-AD5C-9152C39BA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D669-C6EE-4AEE-9722-342B6C386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51D2-921E-4757-B090-8CFC0BFF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F0B1-B12B-447D-B5A3-DAC0C2EA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97FB-6256-4D8F-8648-B8925DD3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0790E-554B-4556-AD52-E9E15EC1CF8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95DC4-6CCF-41B2-8930-F6A23BAE700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Соло и тутти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4000320"/>
            <a:ext cx="7232760" cy="24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берман М.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музы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ценочный лист обучающегося на уроке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«Я -  собеседник» (умение слушать и слышать ответы обучающихся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«Я -  исследователь» (умение работать с текстом учебного пособия – Учебник, Дневник музыкальных размышлений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«Я - слушатель»  (слушание музыки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«Я - исполнитель» (исполнение песенного репертуар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33"/>
                </a:solidFill>
                <a:latin typeface="Garamond"/>
              </a:rPr>
              <a:t>Запись в тетради:</a:t>
            </a:r>
            <a:br>
              <a:rPr sz="3200"/>
            </a:b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Соло и тут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Цель урока: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. узнать о соло и тутти как средствах музыкальной выразитель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2. услышать красоту тембровых сочетаний в создании живописного образ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33"/>
                </a:solidFill>
                <a:latin typeface="Garamond"/>
              </a:rPr>
              <a:t>Запись в тетради:</a:t>
            </a:r>
            <a:br>
              <a:rPr sz="3800"/>
            </a:b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.А. Римский-Корсак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пера «Сказка о царе Салтане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«Три чуда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33"/>
                </a:solidFill>
                <a:latin typeface="Garamond"/>
              </a:rPr>
              <a:t>Музыкальные инструменты: ксилофон, челеста, флейта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4" name="Picture 12" descr="ксилофон 1"/>
          <p:cNvPicPr/>
          <p:nvPr/>
        </p:nvPicPr>
        <p:blipFill>
          <a:blip r:embed="rId1"/>
          <a:stretch/>
        </p:blipFill>
        <p:spPr>
          <a:xfrm>
            <a:off x="1187280" y="3933720"/>
            <a:ext cx="3264120" cy="2189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3" descr="флейта"/>
          <p:cNvPicPr/>
          <p:nvPr/>
        </p:nvPicPr>
        <p:blipFill>
          <a:blip r:embed="rId2"/>
          <a:srcRect l="0" t="0" r="23164" b="0"/>
          <a:stretch/>
        </p:blipFill>
        <p:spPr>
          <a:xfrm>
            <a:off x="6156360" y="1125360"/>
            <a:ext cx="1619280" cy="2951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4" descr="пикколо"/>
          <p:cNvPicPr/>
          <p:nvPr/>
        </p:nvPicPr>
        <p:blipFill>
          <a:blip r:embed="rId3"/>
          <a:stretch/>
        </p:blipFill>
        <p:spPr>
          <a:xfrm>
            <a:off x="5508720" y="4292640"/>
            <a:ext cx="3230640" cy="1822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5" descr="челеста"/>
          <p:cNvPicPr/>
          <p:nvPr/>
        </p:nvPicPr>
        <p:blipFill>
          <a:blip r:embed="rId4"/>
          <a:stretch/>
        </p:blipFill>
        <p:spPr>
          <a:xfrm>
            <a:off x="1547640" y="981000"/>
            <a:ext cx="24195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6" descr="медные"/>
          <p:cNvPicPr/>
          <p:nvPr/>
        </p:nvPicPr>
        <p:blipFill>
          <a:blip r:embed="rId1"/>
          <a:stretch/>
        </p:blipFill>
        <p:spPr>
          <a:xfrm>
            <a:off x="1403280" y="549360"/>
            <a:ext cx="633744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6633"/>
                </a:solidFill>
                <a:latin typeface="Garamond"/>
              </a:rPr>
              <a:t>Музыкальные инструменты: арфа, гобой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0" name="Picture 6" descr="арфа"/>
          <p:cNvPicPr/>
          <p:nvPr/>
        </p:nvPicPr>
        <p:blipFill>
          <a:blip r:embed="rId1"/>
          <a:stretch/>
        </p:blipFill>
        <p:spPr>
          <a:xfrm>
            <a:off x="539640" y="1484280"/>
            <a:ext cx="3622680" cy="3760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гобой"/>
          <p:cNvPicPr/>
          <p:nvPr/>
        </p:nvPicPr>
        <p:blipFill>
          <a:blip r:embed="rId2"/>
          <a:stretch/>
        </p:blipFill>
        <p:spPr>
          <a:xfrm>
            <a:off x="4427640" y="1844640"/>
            <a:ext cx="424980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7" descr="1 орк"/>
          <p:cNvPicPr/>
          <p:nvPr/>
        </p:nvPicPr>
        <p:blipFill>
          <a:blip r:embed="rId1"/>
          <a:stretch/>
        </p:blipFill>
        <p:spPr>
          <a:xfrm>
            <a:off x="1332000" y="1125360"/>
            <a:ext cx="3360600" cy="4530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орк 2"/>
          <p:cNvPicPr/>
          <p:nvPr/>
        </p:nvPicPr>
        <p:blipFill>
          <a:blip r:embed="rId2"/>
          <a:stretch/>
        </p:blipFill>
        <p:spPr>
          <a:xfrm>
            <a:off x="4643280" y="1125360"/>
            <a:ext cx="3270240" cy="45309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33"/>
                </a:solidFill>
                <a:latin typeface="Garamond"/>
              </a:rPr>
              <a:t>Симфонический оркестр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пасибо за творчество на уроке!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ндрей</cp:lastModifiedBy>
  <dcterms:modified xsi:type="dcterms:W3CDTF">2023-07-09T03:07:58Z</dcterms:modified>
  <cp:revision>12</cp:revision>
  <dc:subject/>
  <dc:title>PowerPoint Presentation</dc:title>
</cp:coreProperties>
</file>