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EE0-0BCD-4EB0-BFE3-E2E3AEF3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033-AA7D-4A28-AD4A-4CF4E988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44A-DE61-4ADB-B421-42864648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122-25D1-49F5-ADD7-ABCA7D48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662A-D57A-4B3A-9B34-85B3D030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3740-BC11-4197-B696-CF88F04F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5B61-2C74-4BED-856A-1C8087E4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9A42-F366-4537-AD85-6075EFE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DD3B-2C15-4D4A-A94C-6E5A88C6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EDE5-4167-4630-AF85-034143F3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8A25-B814-479A-95EE-A135A1D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F27-7D03-4481-A583-E679AEC2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EE01-784A-473B-9280-8892CC09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BB79-1508-4D33-944B-C0121D9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E41E-6DF2-4638-98DD-5251195C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DBAD-35CC-429E-92F8-D682F378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07C2-A095-4F8D-8126-F3DCAFD8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B04-C3EF-438C-88BE-5CDFFBF9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1FF-1DA3-4E06-B4BC-7F50465C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3AD-1BC4-4190-83B1-B180A502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239-1292-4D91-B447-DF089B9A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E01-5AD3-440D-BD27-68267B6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CD6-093B-45BA-B7D0-E288430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D0A-D322-4397-A88A-1A8B52F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F1B6-464D-4406-A429-15F50943CD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C286-F76F-4996-B920-8D7235BFD06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оло и тут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4000320"/>
            <a:ext cx="723276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ерман М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ценочный лист обучающегося на урок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Я -  собеседник» (умение слушать и слышать ответы обучающихс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Я -  исследователь» (умение работать с текстом учебного пособия – Учебник, Дневник музыкальных размышлений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Я - слушатель»  (слушание музы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Я - исполнитель» (исполнение песенного репертуа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Запись в тетради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Соло и тут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 узнать о соло и тутти как средствах музыкальной вырази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. услышать красоту тембровых сочетаний в создании живописного обр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Запись в тетради:</a:t>
            </a:r>
            <a:br>
              <a:rPr sz="3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.А. Римский-Корса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ера «Сказка о царе Салтан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Три чуд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Музыкальные инструменты: ксилофон, челеста, флейт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12" descr="ксилофон 1"/>
          <p:cNvPicPr/>
          <p:nvPr/>
        </p:nvPicPr>
        <p:blipFill>
          <a:blip r:embed="rId1"/>
          <a:stretch/>
        </p:blipFill>
        <p:spPr>
          <a:xfrm>
            <a:off x="1187280" y="3933720"/>
            <a:ext cx="3264120" cy="2189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флейта"/>
          <p:cNvPicPr/>
          <p:nvPr/>
        </p:nvPicPr>
        <p:blipFill>
          <a:blip r:embed="rId2"/>
          <a:srcRect l="0" t="0" r="23164" b="0"/>
          <a:stretch/>
        </p:blipFill>
        <p:spPr>
          <a:xfrm>
            <a:off x="6156360" y="1125360"/>
            <a:ext cx="1619280" cy="295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пикколо"/>
          <p:cNvPicPr/>
          <p:nvPr/>
        </p:nvPicPr>
        <p:blipFill>
          <a:blip r:embed="rId3"/>
          <a:stretch/>
        </p:blipFill>
        <p:spPr>
          <a:xfrm>
            <a:off x="5508720" y="4292640"/>
            <a:ext cx="3230640" cy="182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челеста"/>
          <p:cNvPicPr/>
          <p:nvPr/>
        </p:nvPicPr>
        <p:blipFill>
          <a:blip r:embed="rId4"/>
          <a:stretch/>
        </p:blipFill>
        <p:spPr>
          <a:xfrm>
            <a:off x="1547640" y="981000"/>
            <a:ext cx="2419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медные"/>
          <p:cNvPicPr/>
          <p:nvPr/>
        </p:nvPicPr>
        <p:blipFill>
          <a:blip r:embed="rId1"/>
          <a:stretch/>
        </p:blipFill>
        <p:spPr>
          <a:xfrm>
            <a:off x="1403280" y="549360"/>
            <a:ext cx="633744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Музыкальные инструменты: арфа, гобо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6" descr="арфа"/>
          <p:cNvPicPr/>
          <p:nvPr/>
        </p:nvPicPr>
        <p:blipFill>
          <a:blip r:embed="rId1"/>
          <a:stretch/>
        </p:blipFill>
        <p:spPr>
          <a:xfrm>
            <a:off x="539640" y="1484280"/>
            <a:ext cx="3622680" cy="376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гобой"/>
          <p:cNvPicPr/>
          <p:nvPr/>
        </p:nvPicPr>
        <p:blipFill>
          <a:blip r:embed="rId2"/>
          <a:stretch/>
        </p:blipFill>
        <p:spPr>
          <a:xfrm>
            <a:off x="4427640" y="1844640"/>
            <a:ext cx="4249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1 орк"/>
          <p:cNvPicPr/>
          <p:nvPr/>
        </p:nvPicPr>
        <p:blipFill>
          <a:blip r:embed="rId1"/>
          <a:stretch/>
        </p:blipFill>
        <p:spPr>
          <a:xfrm>
            <a:off x="1332000" y="1125360"/>
            <a:ext cx="3360600" cy="4530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орк 2"/>
          <p:cNvPicPr/>
          <p:nvPr/>
        </p:nvPicPr>
        <p:blipFill>
          <a:blip r:embed="rId2"/>
          <a:stretch/>
        </p:blipFill>
        <p:spPr>
          <a:xfrm>
            <a:off x="4643280" y="1125360"/>
            <a:ext cx="3270240" cy="45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Симфонический оркестр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асибо за творчество на уроке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23-07-09T03:07:58Z</dcterms:modified>
  <cp:revision>12</cp:revision>
  <dc:subject/>
  <dc:title>PowerPoint Presentation</dc:title>
</cp:coreProperties>
</file>