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44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02A-6BDD-4CA0-BA3E-194151A0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878-3452-4D8F-9CA7-3A93497B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6777-3797-493F-A5FC-D8E2594C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A16-06D9-438C-9304-3963E4AC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5068-DBEE-43AB-B3FA-C03D1611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5CB-5C24-4782-8B07-7C625E7F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A2A3-D6CF-44FC-B4CA-A58B460F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D78-DCFE-4E00-84F1-F5589BD9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14B-6B0C-4C2B-94CB-D3A4B2B3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988-1861-47AA-BB24-5A47658F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586A-4942-457F-881A-DB9BE4DC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1F64-763C-4166-AD17-B4093BEB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DE97-FA94-45C7-BA2D-0C2A364338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042920" y="549360"/>
            <a:ext cx="748836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ПРАВИ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БЕЗОПАСНОГО ПОВЕД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НА ЛЬД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330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 подходите к другим рыболовам ближе, чем на 3 мет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 приближайтесь к тем местам, где во льду имеются вмерзшие коряги, водоросли, воздушные пузыри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 ходите рядом с трещиной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6" descr="6"/>
          <p:cNvPicPr/>
          <p:nvPr/>
        </p:nvPicPr>
        <p:blipFill>
          <a:blip r:embed="rId1"/>
          <a:stretch/>
        </p:blipFill>
        <p:spPr>
          <a:xfrm>
            <a:off x="5076720" y="573120"/>
            <a:ext cx="3527640" cy="2657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14054"/>
          <p:cNvPicPr/>
          <p:nvPr/>
        </p:nvPicPr>
        <p:blipFill>
          <a:blip r:embed="rId2"/>
          <a:stretch/>
        </p:blipFill>
        <p:spPr>
          <a:xfrm>
            <a:off x="5076720" y="344160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4546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а замерзший водоем необходимо брать с собой прочную веревку длиной 20 – 25 метров с большой глухой петлей на конце и груз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Груз поможет забросить веревку к проваливше-муся в воду товарищу, петля нужна для того, чтобы пострадавший мог надежнее держаться, продев ее под мыш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2846"/>
          <p:cNvPicPr/>
          <p:nvPr/>
        </p:nvPicPr>
        <p:blipFill>
          <a:blip r:embed="rId1"/>
          <a:stretch/>
        </p:blipFill>
        <p:spPr>
          <a:xfrm>
            <a:off x="5724360" y="404640"/>
            <a:ext cx="2676600" cy="2676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16"/>
          <p:cNvPicPr/>
          <p:nvPr/>
        </p:nvPicPr>
        <p:blipFill>
          <a:blip r:embed="rId2"/>
          <a:stretch/>
        </p:blipFill>
        <p:spPr>
          <a:xfrm>
            <a:off x="5148360" y="3500280"/>
            <a:ext cx="2520720" cy="3052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Если вы провалились в холодную воду: 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 паникуйте, не делайте резких движений, стабилизируйте дыхани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ействуйте решительно и быстр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аскиньте руки в стороны и постарайтесь зацепиться за кромку льда, придав телу горизонтальное положение по направлению теч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опытайтесь осторожно налечь грудью на край льда и забросить одну, а потом и другую ногу на лед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если лед выдержал, перекатываясь, медленно ползите к берег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олзите в ту сторону – откуда пришли, ведь лед здесь уже проверен на проч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school185.ucoz.ru/_si/0/01065453.jpg"/>
          <p:cNvPicPr/>
          <p:nvPr/>
        </p:nvPicPr>
        <p:blipFill>
          <a:blip r:embed="rId2"/>
          <a:stretch/>
        </p:blipFill>
        <p:spPr>
          <a:xfrm>
            <a:off x="-30240" y="115920"/>
            <a:ext cx="9174240" cy="6742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Если быстро выбраться из воды не удалось</a:t>
            </a:r>
            <a:r>
              <a:rPr b="0" lang="ru-RU" sz="40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едует помнить, что удерживая себя на поверхности воды, необходимо стараться затрачивать на это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минимум физических усилий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дна из причин быстрого понижения температуры тела - перемещение прилежащего к телу подогретого им слоя воды и замена его новым, холодным. Кроме того, при движениях нарушается дополнительная изоляция, создаваемая водой, пропитавшей одеж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Если нужна Ваша помощь: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ооружитесь любой длинной палкой, доскою, шестом или веревкою. Можно связать воедино шарфы, ремни или одеж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едует ползком, широко расставляя при этом руки и ноги и толкая перед собою спасательные средства, осторожно двигаться по направлению к полынь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7" descr="неизвестное фото 011"/>
          <p:cNvPicPr/>
          <p:nvPr/>
        </p:nvPicPr>
        <p:blipFill>
          <a:blip r:embed="rId1"/>
          <a:stretch/>
        </p:blipFill>
        <p:spPr>
          <a:xfrm>
            <a:off x="4284720" y="1197000"/>
            <a:ext cx="4354560" cy="2657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http://ramina.ru/esmi3/img/admirk/go_4s/ice14_040210.jpg"/>
          <p:cNvPicPr/>
          <p:nvPr/>
        </p:nvPicPr>
        <p:blipFill>
          <a:blip r:embed="rId2"/>
          <a:stretch/>
        </p:blipFill>
        <p:spPr>
          <a:xfrm>
            <a:off x="4284720" y="3933720"/>
            <a:ext cx="4267080" cy="261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становитесь от находящегося в воде человека в нескольких метрах,  бросьте ему веревку, край одежды, подайте палку или шес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одавать  пострадавшему руку небезопасно, так как, приближаясь к полынье, вы увеличите нагрузку на лед и не только не поможете, но и сами рискуете провалить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сторожно вытащите пострадавшего на лед, и вместе ползком выбирайтесь из опасной зо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Без резких движений отползайте в ту сторону, откуда пришли.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неизвестное фото 010"/>
          <p:cNvPicPr/>
          <p:nvPr/>
        </p:nvPicPr>
        <p:blipFill>
          <a:blip r:embed="rId1"/>
          <a:stretch/>
        </p:blipFill>
        <p:spPr>
          <a:xfrm>
            <a:off x="3348000" y="4076640"/>
            <a:ext cx="3816360" cy="2665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0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Отогревание пострадавшего.</a:t>
            </a:r>
            <a:r>
              <a:rPr b="0" lang="ru-RU" sz="4000" spc="-1" strike="noStrike">
                <a:solidFill>
                  <a:srgbClr val="6600ff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острадавшего надо укрыть в месте, защищенном от ветра, хорошо укутать в любую имеющуюся одежду, одеял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Если он в сознании, напоить горячим чаем, коф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чень эффективны грелки, бутылки, фляги, заполненные горячей водой, или камни, разогретые в пламени костра и завернутые в ткань. Их прикладывают к боковым поверхностям грудной клетки, к голове, к паховой области, под мыш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421965_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4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611280" y="333360"/>
            <a:ext cx="4032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олько что замерзшие водоемы  таят в себе опаснос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3851280" y="5157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е торопитесь выходить на тонкий лед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2627280" y="2637000"/>
            <a:ext cx="3097080" cy="93636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мнит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0" name="Picture 2" descr="http://im6-tub-ru.yandex.net/i?id=220427403-34-72&amp;n=21"/>
          <p:cNvPicPr/>
          <p:nvPr/>
        </p:nvPicPr>
        <p:blipFill>
          <a:blip r:embed="rId1"/>
          <a:stretch/>
        </p:blipFill>
        <p:spPr>
          <a:xfrm>
            <a:off x="-103320" y="0"/>
            <a:ext cx="92473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78920" y="333360"/>
            <a:ext cx="50403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удьте осторожны 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2987640" y="4611600"/>
            <a:ext cx="53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2e2f4"/>
                </a:solidFill>
                <a:latin typeface="Arial"/>
              </a:rPr>
              <a:t>Помните!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рогое выполнение правил поведения на льду сохрани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аше здоровье и жизн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http://www.serpuhov.ru/spaw/images/index/led_nara.jpg"/>
          <p:cNvPicPr/>
          <p:nvPr/>
        </p:nvPicPr>
        <p:blipFill>
          <a:blip r:embed="rId1"/>
          <a:stretch/>
        </p:blipFill>
        <p:spPr>
          <a:xfrm>
            <a:off x="547560" y="1177920"/>
            <a:ext cx="8596440" cy="568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8920" y="115920"/>
            <a:ext cx="86425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508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Это необходимо знать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150840" indent="-150840" algn="just"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ервый лед только на вид кажется прочным, а на самом деле он тонкий, слаб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-150840" algn="just"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ак правило, водоемы замерзают неравномерно, по частям: сначала у берега, на мелководье, в защищенных от ветра заливах, а затем уже на серед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-150840" algn="just"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Если температура воздуха выше 0 градусов держится более трех дней, то прочность льда снижается на 25%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Категорически запрещается: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испытывать прочность льда ударом ноги по льд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ереходить водоем в одиночк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ходить по льду в темное время суток или при плохой видимости ( дождь, туман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ататься на коньках, на санках, играть в хоккей на тонком неокрепшем льд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ататься на замерзшем льду одно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8" descr="http://im5-tub-ru.yandex.net/i?id=83209204-61-72&amp;n=21"/>
          <p:cNvPicPr/>
          <p:nvPr/>
        </p:nvPicPr>
        <p:blipFill>
          <a:blip r:embed="rId1"/>
          <a:stretch/>
        </p:blipFill>
        <p:spPr>
          <a:xfrm>
            <a:off x="2340000" y="4149720"/>
            <a:ext cx="3672000" cy="2519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http://900igr.net/datas/obg/Pravila-povedenija-na-ldu/0020-020-Mery-bezopasnosti-i-pravila-povedenija-na-ld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http://900igr.net/datas/obg/Pravila-povedenija-na-ldu/0015-015-Mery-bezopasnosti-i-pravila-povedenija-na-ld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" descr="http://900igr.net/datas/obg/Pravila-povedenija-na-ldu/0025-025-Mery-bezopasnosti-i-pravila-povedenija-na-ld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900igr.net/datas/obg/Pravila-povedenija-na-ldu/0019-019-Mery-bezopasnosti-i-pravila-povedenija-na-ld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5" name="Picture 2" descr="http://900igr.net/datas/obg/Pravila-povedenija-na-ldu/0023-023-Mery-bezopasnosti-i-pravila-povedenija-na-ld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900igr.net/datas/obg/Pravila-povedenija-na-ldu/0023-023-Mery-bezopasnosti-i-pravila-povedenija-na-ldu.jpg"/>
          <p:cNvPicPr/>
          <p:nvPr/>
        </p:nvPicPr>
        <p:blipFill>
          <a:blip r:embed="rId2"/>
          <a:stretch/>
        </p:blipFill>
        <p:spPr>
          <a:xfrm>
            <a:off x="179280" y="189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ttp://900igr.net/datas/obg/Pravila-povedenija-na-ldu/0027-027-P-o-m-n-i-t-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900igr.net/datas/obg/Pravila-povedenija-na-ldu/0035-035-Mery-bezopasnosti-i-pravila-povedenija-na-ld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://900igr.net/datas/obg/Bezopasnost-na-ldu/0002-002-Bezopasnost-na-ldu.jpg"/>
          <p:cNvPicPr/>
          <p:nvPr/>
        </p:nvPicPr>
        <p:blipFill>
          <a:blip r:embed="rId2"/>
          <a:stretch/>
        </p:blipFill>
        <p:spPr>
          <a:xfrm>
            <a:off x="0" y="-270000"/>
            <a:ext cx="9504360" cy="7128000"/>
          </a:xfrm>
          <a:prstGeom prst="rect">
            <a:avLst/>
          </a:prstGeom>
          <a:ln w="0">
            <a:noFill/>
          </a:ln>
        </p:spPr>
      </p:pic>
      <p:sp>
        <p:nvSpPr>
          <p:cNvPr id="126" name="Скругленный прямоугольник 4"/>
          <p:cNvSpPr/>
          <p:nvPr/>
        </p:nvSpPr>
        <p:spPr>
          <a:xfrm>
            <a:off x="2700360" y="2276640"/>
            <a:ext cx="3672000" cy="647640"/>
          </a:xfrm>
          <a:prstGeom prst="roundRect">
            <a:avLst>
              <a:gd name="adj" fmla="val 16667"/>
            </a:avLst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ramina.ru/esmi3/img/admirk/go_4s/ice5_040210.jpg"/>
          <p:cNvPicPr/>
          <p:nvPr/>
        </p:nvPicPr>
        <p:blipFill>
          <a:blip r:embed="rId2"/>
          <a:stretch/>
        </p:blipFill>
        <p:spPr>
          <a:xfrm>
            <a:off x="0" y="0"/>
            <a:ext cx="4932360" cy="2887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ttp://uch.znate.ru/tw_files2/urls_1/6/d-5314/5314_html_7ab00584.png"/>
          <p:cNvPicPr/>
          <p:nvPr/>
        </p:nvPicPr>
        <p:blipFill>
          <a:blip r:embed="rId3"/>
          <a:stretch/>
        </p:blipFill>
        <p:spPr>
          <a:xfrm>
            <a:off x="5003640" y="0"/>
            <a:ext cx="4140360" cy="2905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http://ppt4web.ru/images/111/8711/310/img11.jpg"/>
          <p:cNvPicPr/>
          <p:nvPr/>
        </p:nvPicPr>
        <p:blipFill>
          <a:blip r:embed="rId4"/>
          <a:stretch/>
        </p:blipFill>
        <p:spPr>
          <a:xfrm>
            <a:off x="468360" y="3284640"/>
            <a:ext cx="4771800" cy="3573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ramina.ru/esmi3/img/admirk/go_4s/ice12_040210.jpg"/>
          <p:cNvPicPr/>
          <p:nvPr/>
        </p:nvPicPr>
        <p:blipFill>
          <a:blip r:embed="rId5"/>
          <a:stretch/>
        </p:blipFill>
        <p:spPr>
          <a:xfrm>
            <a:off x="3348000" y="3357720"/>
            <a:ext cx="5219640" cy="33876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8"/>
          <p:cNvSpPr/>
          <p:nvPr/>
        </p:nvSpPr>
        <p:spPr>
          <a:xfrm>
            <a:off x="2411280" y="2781360"/>
            <a:ext cx="4537080" cy="91440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кие опасные ситуации попали де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Толщина льд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267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Безопасным для человека считается лед толщино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ля одиночного пешехода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 менее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5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диночного пешехода с грузом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 менее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7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м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ля группы людей (расстояние между людьми не менее 6м)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 менее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7-9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ля автобуса (без пассажиров)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 менее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40-60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ля трактора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более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60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6" descr="4"/>
          <p:cNvPicPr/>
          <p:nvPr/>
        </p:nvPicPr>
        <p:blipFill>
          <a:blip r:embed="rId1"/>
          <a:stretch/>
        </p:blipFill>
        <p:spPr>
          <a:xfrm>
            <a:off x="6372360" y="1341360"/>
            <a:ext cx="1865160" cy="1552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6" descr="7543"/>
          <p:cNvPicPr/>
          <p:nvPr/>
        </p:nvPicPr>
        <p:blipFill>
          <a:blip r:embed="rId2"/>
          <a:stretch/>
        </p:blipFill>
        <p:spPr>
          <a:xfrm>
            <a:off x="6372360" y="3141720"/>
            <a:ext cx="1942920" cy="17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13"/>
          <p:cNvPicPr/>
          <p:nvPr/>
        </p:nvPicPr>
        <p:blipFill>
          <a:blip r:embed="rId3"/>
          <a:stretch/>
        </p:blipFill>
        <p:spPr>
          <a:xfrm>
            <a:off x="6443640" y="5084640"/>
            <a:ext cx="1873440" cy="1486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35" name="Picture 9" descr="http://cdn.smolcity.ru/upload/iblock/d85/011_1_0.preview.jpg"/>
          <p:cNvPicPr/>
          <p:nvPr/>
        </p:nvPicPr>
        <p:blipFill>
          <a:blip r:embed="rId1"/>
          <a:stretch/>
        </p:blipFill>
        <p:spPr>
          <a:xfrm>
            <a:off x="0" y="0"/>
            <a:ext cx="5292720" cy="34290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4"/>
          <p:cNvSpPr/>
          <p:nvPr/>
        </p:nvSpPr>
        <p:spPr>
          <a:xfrm>
            <a:off x="5292720" y="0"/>
            <a:ext cx="3527280" cy="91440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правильно перейти рек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http://www.muravlenko.com/uploads/posts/2013-02/1360903468_3.jpg"/>
          <p:cNvPicPr/>
          <p:nvPr/>
        </p:nvPicPr>
        <p:blipFill>
          <a:blip r:embed="rId2"/>
          <a:stretch/>
        </p:blipFill>
        <p:spPr>
          <a:xfrm>
            <a:off x="3851280" y="3495600"/>
            <a:ext cx="5292720" cy="336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900igr.net/datai/obg/Pravila-povedenija-na-ldu/0011-010-Mery-bezopasnosti-i-pravila-povedenija-na-ldu.jpg"/>
          <p:cNvPicPr/>
          <p:nvPr/>
        </p:nvPicPr>
        <p:blipFill>
          <a:blip r:embed="rId2"/>
          <a:stretch/>
        </p:blipFill>
        <p:spPr>
          <a:xfrm>
            <a:off x="0" y="0"/>
            <a:ext cx="4772160" cy="309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dubrovno1school.ucoz.ru/Neu/led.jpeg"/>
          <p:cNvPicPr/>
          <p:nvPr/>
        </p:nvPicPr>
        <p:blipFill>
          <a:blip r:embed="rId3"/>
          <a:stretch/>
        </p:blipFill>
        <p:spPr>
          <a:xfrm>
            <a:off x="2556000" y="3068640"/>
            <a:ext cx="6372000" cy="36450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4932360" y="115920"/>
            <a:ext cx="3672000" cy="91440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ют ли рыбаки правила безопаснос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http://uch.znate.ru/tw_files2/urls_15/5/d-4275/4275_html_m201dd06d.png"/>
          <p:cNvPicPr/>
          <p:nvPr/>
        </p:nvPicPr>
        <p:blipFill>
          <a:blip r:embed="rId2"/>
          <a:stretch/>
        </p:blipFill>
        <p:spPr>
          <a:xfrm>
            <a:off x="-11160" y="0"/>
            <a:ext cx="9155160" cy="68673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4"/>
          <p:cNvSpPr/>
          <p:nvPr/>
        </p:nvSpPr>
        <p:spPr>
          <a:xfrm>
            <a:off x="0" y="0"/>
            <a:ext cx="9144000" cy="114768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ушил ли мальчик правила безопасного повед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600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http://do.znate.ru/pars_docs/refs/38/37334/37334_html_mbc4241c.jpg"/>
          <p:cNvPicPr/>
          <p:nvPr/>
        </p:nvPicPr>
        <p:blipFill>
          <a:blip r:embed="rId2"/>
          <a:stretch/>
        </p:blipFill>
        <p:spPr>
          <a:xfrm>
            <a:off x="468360" y="115920"/>
            <a:ext cx="8474040" cy="63561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539640" y="189000"/>
            <a:ext cx="8209080" cy="100800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е правила нарушили рыболов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http://news.astv.ru/files/news/imagecache/one_new/front/led_26.jpg"/>
          <p:cNvPicPr/>
          <p:nvPr/>
        </p:nvPicPr>
        <p:blipFill>
          <a:blip r:embed="rId2"/>
          <a:stretch/>
        </p:blipFill>
        <p:spPr>
          <a:xfrm>
            <a:off x="3995640" y="3403440"/>
            <a:ext cx="4932360" cy="329904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5"/>
          <p:cNvSpPr/>
          <p:nvPr/>
        </p:nvSpPr>
        <p:spPr>
          <a:xfrm>
            <a:off x="5364000" y="260280"/>
            <a:ext cx="3456000" cy="91440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овите ошибки, которые совершают дети при переходе по ль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2" descr="http://cdn.smolcity.ru/upload/iblock/c1a/_014_1.preview.jpg"/>
          <p:cNvPicPr/>
          <p:nvPr/>
        </p:nvPicPr>
        <p:blipFill>
          <a:blip r:embed="rId3"/>
          <a:stretch/>
        </p:blipFill>
        <p:spPr>
          <a:xfrm>
            <a:off x="0" y="115920"/>
            <a:ext cx="5143680" cy="325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4608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7" name="Picture 5" descr="http://im2-tub-ru.yandex.net/i?id=72992749-49-72&amp;n=21"/>
          <p:cNvPicPr/>
          <p:nvPr/>
        </p:nvPicPr>
        <p:blipFill>
          <a:blip r:embed="rId1"/>
          <a:stretch/>
        </p:blipFill>
        <p:spPr>
          <a:xfrm>
            <a:off x="4751280" y="3500280"/>
            <a:ext cx="4392720" cy="3213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http://izinternat.at.ua/_si/0/00664715.jpeg"/>
          <p:cNvPicPr/>
          <p:nvPr/>
        </p:nvPicPr>
        <p:blipFill>
          <a:blip r:embed="rId2"/>
          <a:stretch/>
        </p:blipFill>
        <p:spPr>
          <a:xfrm>
            <a:off x="0" y="3500280"/>
            <a:ext cx="4800600" cy="3040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http://svit24.net/images/stories/articles/2013/World/02-2013/06/kriga.jpg"/>
          <p:cNvPicPr/>
          <p:nvPr/>
        </p:nvPicPr>
        <p:blipFill>
          <a:blip r:embed="rId3"/>
          <a:stretch/>
        </p:blipFill>
        <p:spPr>
          <a:xfrm>
            <a:off x="4924440" y="333360"/>
            <a:ext cx="4219560" cy="3068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http://www.theepochtimes.com/n2/images/stories/large/2011/09/27/71151448.jpg"/>
          <p:cNvPicPr/>
          <p:nvPr/>
        </p:nvPicPr>
        <p:blipFill>
          <a:blip r:embed="rId4"/>
          <a:stretch/>
        </p:blipFill>
        <p:spPr>
          <a:xfrm>
            <a:off x="0" y="260280"/>
            <a:ext cx="4859280" cy="31496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1476360" y="2531880"/>
            <a:ext cx="46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ourier New"/>
                <a:ea typeface="Times New Roman"/>
              </a:rPr>
              <a:t>Не ходи зимой по льду: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Courier New"/>
                <a:ea typeface="Times New Roman"/>
              </a:rPr>
              <a:t>Можешь ты попасть в беду 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Courier New"/>
                <a:ea typeface="Times New Roman"/>
              </a:rPr>
              <a:t>В лунку или в полынью 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–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Courier New"/>
                <a:ea typeface="Times New Roman"/>
              </a:rPr>
              <a:t>И загубишь жизнь сво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8"/>
          <p:cNvSpPr/>
          <p:nvPr/>
        </p:nvSpPr>
        <p:spPr>
          <a:xfrm>
            <a:off x="1547640" y="2924280"/>
            <a:ext cx="4392720" cy="1225440"/>
          </a:xfrm>
          <a:prstGeom prst="rect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й бы вы совет дали этим детя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й бы вы совет дали их родителя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амят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Осенний лед тонок, непрочен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На льду будь осторожен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Нельзя подходить близко к берег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Нельзя ступать на неокрепший лед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Нельзя кататься на льду в одиночк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Опасно съезжать с горы на лед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Опасно выходить на лед в условиях плохой видимост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Родители! Не отпускайте детей на водоемы без присмотр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http://img3.proshkolu.ru/content/media/pic/std/3000000/2654000/2653610-4dbdb0c772a96c1c.gif"/>
          <p:cNvPicPr/>
          <p:nvPr/>
        </p:nvPicPr>
        <p:blipFill>
          <a:blip r:embed="rId1"/>
          <a:stretch/>
        </p:blipFill>
        <p:spPr>
          <a:xfrm>
            <a:off x="6875640" y="333360"/>
            <a:ext cx="1873080" cy="2620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Прочность льд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Picture 2" descr="http://im7-tub-ru.yandex.net/i?id=83497004-18-72&amp;n=21"/>
          <p:cNvPicPr/>
          <p:nvPr/>
        </p:nvPicPr>
        <p:blipFill>
          <a:blip r:embed="rId1"/>
          <a:stretch/>
        </p:blipFill>
        <p:spPr>
          <a:xfrm>
            <a:off x="1547640" y="1773360"/>
            <a:ext cx="6359760" cy="477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Лед наиболее тон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2" name="Picture 2" descr="http://eleschool15.ru/Bezopasnost/pravila_na_ldu/6.jpg"/>
          <p:cNvPicPr/>
          <p:nvPr/>
        </p:nvPicPr>
        <p:blipFill>
          <a:blip r:embed="rId1"/>
          <a:stretch/>
        </p:blipFill>
        <p:spPr>
          <a:xfrm>
            <a:off x="108000" y="114300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Переход по льду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2286000" y="1996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684360" y="1557360"/>
            <a:ext cx="504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ри вынужденном переходе водоема безопаснее всего придерживаться проторенных троп или идти по уже проложенной лыжн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еред тем, как спуститься на лед, надо очень внимательно осмотреться и наметить предстоящий маршру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ри переходе водоема группой необходимо соблюдать расстояние друг от друга в 5-6 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http://img01.chitalnya.ru/upload2/458/346071918494999424.jpg"/>
          <p:cNvPicPr/>
          <p:nvPr/>
        </p:nvPicPr>
        <p:blipFill>
          <a:blip r:embed="rId1"/>
          <a:stretch/>
        </p:blipFill>
        <p:spPr>
          <a:xfrm>
            <a:off x="5940360" y="1413000"/>
            <a:ext cx="2735280" cy="270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Переход по льду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8" name="Picture 2" descr="http://do.znate.ru/pars_docs/refs/38/37334/37334_html_m1136ee7f.png"/>
          <p:cNvPicPr/>
          <p:nvPr/>
        </p:nvPicPr>
        <p:blipFill>
          <a:blip r:embed="rId1"/>
          <a:stretch/>
        </p:blipFill>
        <p:spPr>
          <a:xfrm>
            <a:off x="1042920" y="1628640"/>
            <a:ext cx="6529320" cy="489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358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Советы рыболовам</a:t>
            </a: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 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обходимо хорошо знать водоем, избранный для рыбалки, для того, чтобы помнить, где на нем глубина не выше роста человека или где с глубокого места можно быстро выйти на отмель, идущую к берег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обходимо знать об условиях образования и свойствах льда в различные периоды зимы, различать приметы опасного льда, знать меры предосторожности и постоянно их соблюд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пределите с берега маршрут дви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43992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сторожно спускайтесь с берега: лед может неплотно соединяться с сушей; могут быть трещины; подо льдом может быть возду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 выходите на темные участки льда - они быстрее прогреваются на солнце и быстрее таю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9" descr="picture31465242"/>
          <p:cNvPicPr/>
          <p:nvPr/>
        </p:nvPicPr>
        <p:blipFill>
          <a:blip r:embed="rId1"/>
          <a:stretch/>
        </p:blipFill>
        <p:spPr>
          <a:xfrm>
            <a:off x="4716360" y="1557360"/>
            <a:ext cx="4132440" cy="3103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5:18:26Z</dcterms:created>
  <dc:creator>MICHAEL</dc:creator>
  <dc:description/>
  <dc:language>en-US</dc:language>
  <cp:lastModifiedBy>Пользователь Windows</cp:lastModifiedBy>
  <dcterms:modified xsi:type="dcterms:W3CDTF">2021-02-05T06:17:09Z</dcterms:modified>
  <cp:revision>94</cp:revision>
  <dc:subject/>
  <dc:title>Прочность льд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d000000000001024140</vt:lpwstr>
  </property>
</Properties>
</file>