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19.jpeg" ContentType="image/jpeg"/>
  <Override PartName="/ppt/media/image11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B3F-D3C7-428F-9AD0-88C01A05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59E-592A-4ED8-977E-EE81027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268D-5785-467D-86B8-EEA81DBE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E2559-1F0C-40B2-9F76-55BBB97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780C1-6C00-451A-9163-674AAE6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1CB2-2F17-4319-81F6-BEA743E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E938-E208-4FDF-A543-D7F171B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563B3-CA40-4DEC-93FA-D24BA60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DD0EC-0045-44F1-9956-47969C08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352CA-7971-48B4-A235-F48B0E16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953C-12D8-48FD-955C-EA7FA5A8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98B-9DC6-4222-B123-72E36DB3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F99-7DD6-4531-A148-1E46759E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DBD-5322-4265-9DD9-DBE6EBFD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8559-8586-468B-AD0E-0B51A95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71C8-EE77-4E8B-A422-E33F54F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527-A438-4EE0-98AB-D017954D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1D66-3DC6-4F89-AEC1-E3E126F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245C-3A44-4934-BBBC-28261CF2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6F6-B93A-498C-A4ED-75CF02F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C12-2EBB-42DC-BDF4-D3A62BC5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3F28-ED8C-4D02-83A0-553456B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9FAE-7941-4F94-A076-61A6E1C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4B9-0C97-48C7-9826-0E6992EB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505D-0C2E-4775-9537-A515CBD0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B2F-0940-48C1-844B-78818BEF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2728-8A34-44D9-AC45-E0C1D070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CC71-A3D5-49BE-B94F-25B54A53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FADC-F93A-4748-AB85-546EAF4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D44C-E751-4BA9-87BB-00FEB4C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AA8E-1741-4859-B85C-A1210E6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702-10C9-45FC-B7D8-9B7C2460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ED4A-4769-4B91-9C14-9005834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5CE3-DD97-4058-8C9D-90CA796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A4E9-CD66-4699-AE46-71CEA40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61FC-B169-4136-ACD7-55EE207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DBD9-9D01-4DE5-9C8F-34E88A6E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BEE3-F76B-4354-8C62-855D44E6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54F7-D032-4146-B6A5-0F7DB472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FF32-9027-4032-ACE0-F5440A19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61AF-A69D-439E-B67D-3E9C81B2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7900-3B96-4929-9B20-1EC16A2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4B2-76E0-4DE4-9008-7B6DEEF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C7B2-54F4-48F3-B365-356F830F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665A-27EE-44EB-8FD6-11FE7A8C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353D-CF54-4D11-967E-5C55F6B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3688-F0F0-4E5B-9562-DC3DC4B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78BE-7899-4C83-AC8F-04584FD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89C5-95BB-431B-BE27-E8289CF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AFFD7-96D3-4785-BB88-7881EDEC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6D13-7228-4894-B614-359BB0E1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7C32-792F-4937-945D-D4A89451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5B8C-5D61-4EF1-AC62-2ACAA36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B5D-3AB7-4DF0-8768-B9ED514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FAEB2-DB0A-4C67-B0D8-8DC49A4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7182-A5C0-49CA-916C-B1261F3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6752-0B91-480D-86CF-5C183FE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C39B-E1F9-4DEE-8AC2-3031A98F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6579-F237-4DC8-9F8F-3A65A74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E1E87-9CDF-45D7-A1CE-8F5E681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FB48-DBF1-422C-81A1-937AA8C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9DC8-F4D3-4A8C-A07B-45F1C53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0936-5749-42DF-8F35-49AB5816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94F2-F5D6-4E34-9A74-3C31B918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D03-4456-408C-846E-5F5C1C0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7F8E8-6BDB-4A3C-9E12-857E7FBC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BE60-63CD-4EDE-93AC-C2107B86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C6D8-9169-44BD-A7E0-D236699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6E37-CC2B-457A-BCD4-F7283378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5B4A-66A4-4DD9-90FD-D4FFE915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C463-12C7-4420-91F3-165C56B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6F26-69EB-4187-8835-1953A30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9E90-A031-476E-8C56-3082BFE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D5BA-6609-4283-BB4F-B9F0EE8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3E779-81D6-4F91-A21A-3F7AF39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4E5-E925-4AE9-B6E6-A8EA78C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EF29D-39AC-460E-A95A-8F6B7E0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5FEF1-B4CE-4825-87DC-BF792613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BA291-D6AB-485B-B7AD-9E59703F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E01F-24F3-4A64-80EE-3BE08808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C557-6630-4C83-A26B-DF2E6E4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9F7E-AC66-49E6-ADA7-9CA3540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8F72-BEB5-4883-97AB-6D5A5A4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39827-B21E-4B5A-A14C-B585B1E2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4A2BA-76B5-499C-93A6-97E6F1D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2E10E-74EC-461C-AAA3-8D0B42C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B36-1F4F-441F-A6F7-59A06CF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BA858-C492-498D-B862-3F70370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96D3F-14DD-4414-BEF3-2CE7595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4EBB7-3EF6-4463-A553-AB371193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413B-B040-4E5C-B031-C29B1EBA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48D6D-4E2C-4CA0-AAEF-223E58AC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65DCB-2FF8-4401-8DCC-00222095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0278-88C6-4CCB-883C-EC539200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FC254-E5D1-4F90-B08B-D3C51BD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76CC-2C6F-4801-BE16-A8BC6C2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BC256-D681-4E12-9DEB-1DD10D7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705-BDE4-41B6-BCE5-1775C66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DB2D-9114-4025-9062-A0F0F036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3880-6D8A-4C89-B975-0DA30CB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7B72F-9BB2-4D9F-834F-A62D916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B5E7-8452-4DC8-A31B-749ECF1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1E70-BDB9-4C04-819E-70FBD83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FF59-4636-46AE-B73C-95B9B18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462E-CD9A-4D9C-804C-C28AF69A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A2FC5-D6FE-410D-BA67-3413F553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C6EF4-69CE-4F72-A17A-9432CCE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E6C99-7D4B-4E1E-B1AD-7DC40C4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6FC8-8832-44A8-930E-388CC11776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EDF5-79D2-448E-BE4F-8CE9E1B4B1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206D-21EC-4FBC-9223-10BAD40562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6A0D-CE13-4F85-A1EB-204958E084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30EC-5595-421F-96E4-F403E21326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9A8-8580-4284-AF90-B2631C47A9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3D8-EAEF-488C-915A-D97B51C6CF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554-79DD-42B6-9247-6C82A6DAB0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CA5-C09D-4E40-A498-B738074CD9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0360" y="1412640"/>
            <a:ext cx="4706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ожет привест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 (чему?) …  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Без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сохранит (что?) …  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review-image" descr="http://www.opochka.biz/wp-content/uploads/2015/08/110.jp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07640" y="2421000"/>
            <a:ext cx="410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электрическая розет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review-image" descr="http://www.myhome.ru/uploads/public/idea/5/41615/interiorpublic/9188/520x0resize_interiorpublic9188_64_1435478775.jpg"/>
          <p:cNvPicPr/>
          <p:nvPr/>
        </p:nvPicPr>
        <p:blipFill>
          <a:blip r:embed="rId1"/>
          <a:srcRect l="48604" t="26256" r="0" b="9143"/>
          <a:stretch/>
        </p:blipFill>
        <p:spPr>
          <a:xfrm>
            <a:off x="5292720" y="981000"/>
            <a:ext cx="3456000" cy="3384720"/>
          </a:xfrm>
          <a:prstGeom prst="rect">
            <a:avLst/>
          </a:prstGeom>
          <a:ln w="0">
            <a:noFill/>
          </a:ln>
        </p:spPr>
      </p:pic>
      <p:pic>
        <p:nvPicPr>
          <p:cNvPr id="461" name="preview-image" descr="http://www.gisfactory.com/wp-content/uploads/plastic-windows2-300x225.jpg"/>
          <p:cNvPicPr/>
          <p:nvPr/>
        </p:nvPicPr>
        <p:blipFill>
          <a:blip r:embed="rId2"/>
          <a:srcRect l="6601" t="0" r="29214" b="0"/>
          <a:stretch/>
        </p:blipFill>
        <p:spPr>
          <a:xfrm>
            <a:off x="539640" y="3716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462" name="preview-image" descr="https://i.ytimg.com/vi/tCLRcp32CKk/hqdefault.jpg"/>
          <p:cNvPicPr/>
          <p:nvPr/>
        </p:nvPicPr>
        <p:blipFill>
          <a:blip r:embed="rId3"/>
          <a:stretch/>
        </p:blipFill>
        <p:spPr>
          <a:xfrm>
            <a:off x="468360" y="189000"/>
            <a:ext cx="3240000" cy="2303280"/>
          </a:xfrm>
          <a:prstGeom prst="rect">
            <a:avLst/>
          </a:prstGeom>
          <a:ln w="0">
            <a:noFill/>
          </a:ln>
        </p:spPr>
      </p:pic>
      <p:sp>
        <p:nvSpPr>
          <p:cNvPr id="463" name="Содержимое 2"/>
          <p:cNvSpPr/>
          <p:nvPr/>
        </p:nvSpPr>
        <p:spPr>
          <a:xfrm>
            <a:off x="2765520" y="5819760"/>
            <a:ext cx="611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открытое ок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одержимое 2"/>
          <p:cNvSpPr/>
          <p:nvPr/>
        </p:nvSpPr>
        <p:spPr>
          <a:xfrm>
            <a:off x="5292720" y="436572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лест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одержимое 2"/>
          <p:cNvSpPr/>
          <p:nvPr/>
        </p:nvSpPr>
        <p:spPr>
          <a:xfrm>
            <a:off x="3995640" y="79200"/>
            <a:ext cx="338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89000" y="743040"/>
            <a:ext cx="8772480" cy="853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6227640" y="3141360"/>
            <a:ext cx="266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егать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аловать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 н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Содержимое 2"/>
          <p:cNvSpPr/>
          <p:nvPr/>
        </p:nvSpPr>
        <p:spPr>
          <a:xfrm>
            <a:off x="3708360" y="5300640"/>
            <a:ext cx="5040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сунуть в неё пальцы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-нибудь предмет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одержимое 2"/>
          <p:cNvSpPr/>
          <p:nvPr/>
        </p:nvSpPr>
        <p:spPr>
          <a:xfrm>
            <a:off x="6215040" y="1701720"/>
            <a:ext cx="23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ылез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Заголовок 1" descr=""/>
          <p:cNvPicPr/>
          <p:nvPr/>
        </p:nvPicPr>
        <p:blipFill>
          <a:blip r:embed="rId2"/>
          <a:stretch/>
        </p:blipFill>
        <p:spPr>
          <a:xfrm>
            <a:off x="3524400" y="73080"/>
            <a:ext cx="2071440" cy="890640"/>
          </a:xfrm>
          <a:prstGeom prst="rect">
            <a:avLst/>
          </a:prstGeom>
          <a:ln w="0">
            <a:noFill/>
          </a:ln>
        </p:spPr>
      </p:pic>
      <p:pic>
        <p:nvPicPr>
          <p:cNvPr id="471" name="preview-image" descr="http://cheb.ruc.su/upload/iblock/7cc/1005005753.jpg"/>
          <p:cNvPicPr/>
          <p:nvPr/>
        </p:nvPicPr>
        <p:blipFill>
          <a:blip r:embed="rId3"/>
          <a:stretch/>
        </p:blipFill>
        <p:spPr>
          <a:xfrm>
            <a:off x="324000" y="1628640"/>
            <a:ext cx="2808000" cy="2087640"/>
          </a:xfrm>
          <a:prstGeom prst="rect">
            <a:avLst/>
          </a:prstGeom>
          <a:ln w="0">
            <a:noFill/>
          </a:ln>
        </p:spPr>
      </p:pic>
      <p:pic>
        <p:nvPicPr>
          <p:cNvPr id="472" name="preview-image" descr="http://n1s1.hsmedia.ru/ab/e2/38/abe23827e9223d2c9d1374e505a87bed/690x459_1_828f78eb6821de4db4635c372eb16882@725x483_0xc0a8392b_15780352611441874547.gif"/>
          <p:cNvPicPr/>
          <p:nvPr/>
        </p:nvPicPr>
        <p:blipFill>
          <a:blip r:embed="rId4"/>
          <a:srcRect l="12084" t="0" r="17720" b="0"/>
          <a:stretch/>
        </p:blipFill>
        <p:spPr>
          <a:xfrm>
            <a:off x="324000" y="4005360"/>
            <a:ext cx="2592360" cy="2448000"/>
          </a:xfrm>
          <a:prstGeom prst="rect">
            <a:avLst/>
          </a:prstGeom>
          <a:ln w="0">
            <a:noFill/>
          </a:ln>
        </p:spPr>
      </p:pic>
      <p:pic>
        <p:nvPicPr>
          <p:cNvPr id="473" name="preview-image" descr="http://www.slavkrug.org/wp-content/uploads/2014/10/kratkaya-pamyatka-naseleniyu-po.jpg"/>
          <p:cNvPicPr/>
          <p:nvPr/>
        </p:nvPicPr>
        <p:blipFill>
          <a:blip r:embed="rId5"/>
          <a:srcRect l="5815" t="8951" r="3752" b="0"/>
          <a:stretch/>
        </p:blipFill>
        <p:spPr>
          <a:xfrm>
            <a:off x="3203640" y="2421000"/>
            <a:ext cx="2814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92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Medium"/>
              </a:rPr>
              <a:t>ПРОВЕРЬ СЕБЯ!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Вилкой надо дра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Иголку можно бросать на по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Из открытого окна вылезать опасно для жиз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Дети могут играть с электрической розет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Спускаясь по лестнице, надо наступать на каждую ступень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3.КАК СОХРАНИТЬ ЗДОРОВЬЕ?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411280" y="3644640"/>
            <a:ext cx="388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Кто?  Что делает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review-image" descr="http://img.4mama.com.ua/pictures/content/0/523_slider.jpg"/>
          <p:cNvPicPr/>
          <p:nvPr/>
        </p:nvPicPr>
        <p:blipFill>
          <a:blip r:embed="rId1"/>
          <a:stretch/>
        </p:blipFill>
        <p:spPr>
          <a:xfrm>
            <a:off x="5940360" y="1484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479" name="preview-image" descr="http://img1.liveinternet.ru/images/attach/b/4/103/700/103700039_0.jpg"/>
          <p:cNvPicPr/>
          <p:nvPr/>
        </p:nvPicPr>
        <p:blipFill>
          <a:blip r:embed="rId2"/>
          <a:srcRect l="6566" t="0" r="4791" b="4491"/>
          <a:stretch/>
        </p:blipFill>
        <p:spPr>
          <a:xfrm>
            <a:off x="179280" y="1484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480" name="preview-image" descr="http://xvatit.com/uploads/posts/2016-01/1452839168_51e8263628.jpg"/>
          <p:cNvPicPr/>
          <p:nvPr/>
        </p:nvPicPr>
        <p:blipFill>
          <a:blip r:embed="rId3"/>
          <a:srcRect l="10749" t="0" r="13200" b="0"/>
          <a:stretch/>
        </p:blipFill>
        <p:spPr>
          <a:xfrm>
            <a:off x="2843280" y="4365720"/>
            <a:ext cx="2665440" cy="2068560"/>
          </a:xfrm>
          <a:prstGeom prst="rect">
            <a:avLst/>
          </a:prstGeom>
          <a:ln w="0">
            <a:noFill/>
          </a:ln>
        </p:spPr>
      </p:pic>
      <p:pic>
        <p:nvPicPr>
          <p:cNvPr id="481" name="preview-image" descr="http://www.2mm.ru/uploads/article/images/shutterstock_87228280.jpg"/>
          <p:cNvPicPr/>
          <p:nvPr/>
        </p:nvPicPr>
        <p:blipFill>
          <a:blip r:embed="rId4"/>
          <a:srcRect l="35675" t="0" r="4731" b="0"/>
          <a:stretch/>
        </p:blipFill>
        <p:spPr>
          <a:xfrm>
            <a:off x="250920" y="4076640"/>
            <a:ext cx="1998720" cy="2305080"/>
          </a:xfrm>
          <a:prstGeom prst="rect">
            <a:avLst/>
          </a:prstGeom>
          <a:ln w="0">
            <a:noFill/>
          </a:ln>
        </p:spPr>
      </p:pic>
      <p:pic>
        <p:nvPicPr>
          <p:cNvPr id="482" name="preview-image" descr="http://img-fotki.yandex.ru/get/6708/160648376.a/0_94aae_94f2b254_M.jpg"/>
          <p:cNvPicPr/>
          <p:nvPr/>
        </p:nvPicPr>
        <p:blipFill>
          <a:blip r:embed="rId5"/>
          <a:stretch/>
        </p:blipFill>
        <p:spPr>
          <a:xfrm>
            <a:off x="3132000" y="1628640"/>
            <a:ext cx="2473560" cy="2087640"/>
          </a:xfrm>
          <a:prstGeom prst="rect">
            <a:avLst/>
          </a:prstGeom>
          <a:ln w="0">
            <a:noFill/>
          </a:ln>
        </p:spPr>
      </p:pic>
      <p:pic>
        <p:nvPicPr>
          <p:cNvPr id="483" name="preview-image" descr="http://img1.liveinternet.ru/images/attach/c/10/111/881/111881019_4603781_matrasy_ortopedicheskie.jpg"/>
          <p:cNvPicPr/>
          <p:nvPr/>
        </p:nvPicPr>
        <p:blipFill>
          <a:blip r:embed="rId6"/>
          <a:stretch/>
        </p:blipFill>
        <p:spPr>
          <a:xfrm>
            <a:off x="6012000" y="4365720"/>
            <a:ext cx="2709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4018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539280" y="1413000"/>
            <a:ext cx="8425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Я проснулся.   Делаю зарядку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  Иду на завтра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уляю.  Иду на обед.   Занимаюс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полдник.   Занимаюс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ужин.  Игра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Ложусь спать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ВАЖНО СОБЛЮДАТЬ РЕЖИМ ДН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одержимое 2"/>
          <p:cNvSpPr/>
          <p:nvPr/>
        </p:nvSpPr>
        <p:spPr>
          <a:xfrm>
            <a:off x="322200" y="1413000"/>
            <a:ext cx="8425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Я проснулся.   Делаю заря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  Иду на завтр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Занимаюсь. Иду на обед. Гуляю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полдник.   Занимаю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ужин.  Игр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Ложусь сп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728720" y="17640"/>
            <a:ext cx="583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Прямоугольник 2"/>
          <p:cNvSpPr/>
          <p:nvPr/>
        </p:nvSpPr>
        <p:spPr>
          <a:xfrm>
            <a:off x="425520" y="932040"/>
            <a:ext cx="834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1.Что относится к личной гигиене: мытье рук или заряд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"/>
          <p:cNvSpPr/>
          <p:nvPr/>
        </p:nvSpPr>
        <p:spPr>
          <a:xfrm>
            <a:off x="423720" y="2073240"/>
            <a:ext cx="79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2.Как часто надо чистить зубы: один раз или два раза в ден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4"/>
          <p:cNvSpPr/>
          <p:nvPr/>
        </p:nvSpPr>
        <p:spPr>
          <a:xfrm>
            <a:off x="423720" y="3205080"/>
            <a:ext cx="844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3.Во сколько маленьким детям надо ложиться спать: в 9 часов вечера или в 10 часов вечер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6"/>
          <p:cNvSpPr/>
          <p:nvPr/>
        </p:nvSpPr>
        <p:spPr>
          <a:xfrm>
            <a:off x="468360" y="4862520"/>
            <a:ext cx="90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4. Что в режиме дня может быть необязательным: просмотр телевизора или прогулка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211280" y="1412640"/>
            <a:ext cx="4707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ожет привест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 БЕД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Без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сохранит ЗДОРОВЬ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5" name="preview-image" descr="http://www.opochka.biz/wp-content/uploads/2015/08/110.jp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03280" y="5229360"/>
            <a:ext cx="7561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 </a:t>
            </a: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…  – </a:t>
            </a: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ЧЕЛОВЕК, КОТОРЫЙ </a:t>
            </a:r>
            <a:br>
              <a:rPr sz="3500"/>
            </a:b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НА ДОРОГЕ УПРАВЛЯЕТ МАШИНОЙ.</a:t>
            </a:r>
            <a:br>
              <a:rPr sz="3200"/>
            </a:br>
            <a:endParaRPr b="0" lang="en-US" sz="3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1720" y="90972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3b14"/>
                </a:solidFill>
                <a:latin typeface="Arial"/>
                <a:ea typeface="Arial"/>
              </a:rPr>
              <a:t>1.БЕЗОПАСНОСТЬ НА ДОРОГ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Подзаголовок 2"/>
          <p:cNvSpPr/>
          <p:nvPr/>
        </p:nvSpPr>
        <p:spPr>
          <a:xfrm>
            <a:off x="250920" y="170028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ОД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одзаголовок 2"/>
          <p:cNvSpPr/>
          <p:nvPr/>
        </p:nvSpPr>
        <p:spPr>
          <a:xfrm>
            <a:off x="5398920" y="1844640"/>
            <a:ext cx="37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ЕШ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3541680"/>
            <a:ext cx="6924960" cy="1328760"/>
          </a:xfrm>
          <a:prstGeom prst="rect">
            <a:avLst/>
          </a:prstGeom>
          <a:ln w="0">
            <a:noFill/>
          </a:ln>
        </p:spPr>
      </p:pic>
      <p:sp>
        <p:nvSpPr>
          <p:cNvPr id="407" name="Подзаголовок 2"/>
          <p:cNvSpPr/>
          <p:nvPr/>
        </p:nvSpPr>
        <p:spPr>
          <a:xfrm>
            <a:off x="3492360" y="256536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К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0720" y="4122720"/>
            <a:ext cx="8439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ТРАНСПОРТ МЧИТ ПО ТРОТУАРУ,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О ДОРОГЕ – ПЕШЕХОД!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ЭТО ПРАВИЛЬНО, ОТВЕТЬТЕ,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ИЛИ ВСЕ НАОБОРОТ?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22040" y="1341360"/>
            <a:ext cx="2663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ЧТО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review-image" descr="http://echo.msk.ru/files/805745.jpg?1344440734"/>
          <p:cNvPicPr/>
          <p:nvPr/>
        </p:nvPicPr>
        <p:blipFill>
          <a:blip r:embed="rId1"/>
          <a:srcRect l="40820" t="34634" r="0" b="2725"/>
          <a:stretch/>
        </p:blipFill>
        <p:spPr>
          <a:xfrm>
            <a:off x="2556000" y="195120"/>
            <a:ext cx="5938560" cy="3745080"/>
          </a:xfrm>
          <a:prstGeom prst="rect">
            <a:avLst/>
          </a:prstGeom>
          <a:ln w="0">
            <a:noFill/>
          </a:ln>
        </p:spPr>
      </p:pic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4632480" y="274680"/>
            <a:ext cx="4024080" cy="96840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1"/>
          <p:cNvSpPr/>
          <p:nvPr/>
        </p:nvSpPr>
        <p:spPr>
          <a:xfrm>
            <a:off x="2870280" y="2852640"/>
            <a:ext cx="2512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review-image" descr="http://echo.msk.ru/files/805745.jpg?1344440734"/>
          <p:cNvPicPr/>
          <p:nvPr/>
        </p:nvPicPr>
        <p:blipFill>
          <a:blip r:embed="rId1"/>
          <a:srcRect l="40820" t="34634" r="0" b="2725"/>
          <a:stretch/>
        </p:blipFill>
        <p:spPr>
          <a:xfrm>
            <a:off x="179280" y="189000"/>
            <a:ext cx="8840880" cy="6408720"/>
          </a:xfrm>
          <a:prstGeom prst="rect">
            <a:avLst/>
          </a:prstGeom>
          <a:ln w="0">
            <a:noFill/>
          </a:ln>
        </p:spPr>
      </p:pic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706400" y="4846680"/>
            <a:ext cx="4256280" cy="11937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23640" y="3141360"/>
            <a:ext cx="53276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По тротуару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дут (кто?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3"/>
          <a:stretch/>
        </p:blipFill>
        <p:spPr>
          <a:xfrm>
            <a:off x="5273640" y="1676520"/>
            <a:ext cx="3876840" cy="1139760"/>
          </a:xfrm>
          <a:prstGeom prst="rect">
            <a:avLst/>
          </a:prstGeom>
          <a:ln w="0">
            <a:noFill/>
          </a:ln>
        </p:spPr>
      </p:pic>
      <p:sp>
        <p:nvSpPr>
          <p:cNvPr id="417" name="Подзаголовок 2"/>
          <p:cNvSpPr/>
          <p:nvPr/>
        </p:nvSpPr>
        <p:spPr>
          <a:xfrm>
            <a:off x="3780000" y="260280"/>
            <a:ext cx="5040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 дорог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едет (чт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53880" y="30240"/>
            <a:ext cx="8796600" cy="1749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2014560" y="2491920"/>
            <a:ext cx="7129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У дороги светофор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Мигает мне глазам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… – стой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… – жди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... – быстро проходи!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review-image" descr="http://www.playing-field.ru/img/2015/052018/0628615"/>
          <p:cNvPicPr/>
          <p:nvPr/>
        </p:nvPicPr>
        <p:blipFill>
          <a:blip r:embed="rId2"/>
          <a:srcRect l="30406" t="0" r="30263" b="0"/>
          <a:stretch/>
        </p:blipFill>
        <p:spPr>
          <a:xfrm>
            <a:off x="214200" y="2060640"/>
            <a:ext cx="1643040" cy="4608360"/>
          </a:xfrm>
          <a:prstGeom prst="rect">
            <a:avLst/>
          </a:prstGeom>
          <a:ln w="0">
            <a:noFill/>
          </a:ln>
        </p:spPr>
      </p:pic>
      <p:sp>
        <p:nvSpPr>
          <p:cNvPr id="421" name="Овал 4"/>
          <p:cNvSpPr/>
          <p:nvPr/>
        </p:nvSpPr>
        <p:spPr>
          <a:xfrm>
            <a:off x="574560" y="2779560"/>
            <a:ext cx="971640" cy="93672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5"/>
          <p:cNvSpPr/>
          <p:nvPr/>
        </p:nvSpPr>
        <p:spPr>
          <a:xfrm>
            <a:off x="574560" y="4148280"/>
            <a:ext cx="971640" cy="936360"/>
          </a:xfrm>
          <a:prstGeom prst="ellipse">
            <a:avLst/>
          </a:prstGeom>
          <a:solidFill>
            <a:srgbClr val="ffff0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6"/>
          <p:cNvSpPr/>
          <p:nvPr/>
        </p:nvSpPr>
        <p:spPr>
          <a:xfrm>
            <a:off x="574560" y="5516640"/>
            <a:ext cx="971640" cy="9367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252720" y="151920"/>
            <a:ext cx="968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ЗНАК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ПОМОГАЮТ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 ПЕШЕХОДАМ И ВОДИТЕЛЯМ НА УЛИЦЕ.</a:t>
            </a:r>
            <a:br>
              <a:rPr sz="32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866920" y="3715920"/>
            <a:ext cx="309564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разрешаю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Содержимое 2"/>
          <p:cNvSpPr/>
          <p:nvPr/>
        </p:nvSpPr>
        <p:spPr>
          <a:xfrm>
            <a:off x="2268360" y="2276640"/>
            <a:ext cx="4249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</a:rPr>
              <a:t>предупрежд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одержимое 2"/>
          <p:cNvSpPr/>
          <p:nvPr/>
        </p:nvSpPr>
        <p:spPr>
          <a:xfrm>
            <a:off x="250920" y="5589720"/>
            <a:ext cx="3311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</a:rPr>
              <a:t>запрещ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review-image" descr="http://maminsite.ru/school.files/school18/deti.jpg"/>
          <p:cNvPicPr/>
          <p:nvPr/>
        </p:nvPicPr>
        <p:blipFill>
          <a:blip r:embed="rId1"/>
          <a:srcRect l="0" t="12840" r="0" b="23743"/>
          <a:stretch/>
        </p:blipFill>
        <p:spPr>
          <a:xfrm>
            <a:off x="3276720" y="3645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429" name="preview-image" descr="http://avto-flot.ru/img/blog/peshehodam%20zapresheno.jpeg"/>
          <p:cNvPicPr/>
          <p:nvPr/>
        </p:nvPicPr>
        <p:blipFill>
          <a:blip r:embed="rId2"/>
          <a:srcRect l="15771" t="0" r="16047" b="0"/>
          <a:stretch/>
        </p:blipFill>
        <p:spPr>
          <a:xfrm>
            <a:off x="468360" y="3284640"/>
            <a:ext cx="2089080" cy="215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http://stlad.ru/files/3Lv16PLyBEhM1572I6qs4T9VXditvi_1.png"/>
          <p:cNvPicPr/>
          <p:nvPr/>
        </p:nvPicPr>
        <p:blipFill>
          <a:blip r:embed="rId3"/>
          <a:stretch/>
        </p:blipFill>
        <p:spPr>
          <a:xfrm>
            <a:off x="6804000" y="4653000"/>
            <a:ext cx="1941480" cy="1941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http://playing-field.ru/img/2015/052107/0725202"/>
          <p:cNvPicPr/>
          <p:nvPr/>
        </p:nvPicPr>
        <p:blipFill>
          <a:blip r:embed="rId4"/>
          <a:stretch/>
        </p:blipFill>
        <p:spPr>
          <a:xfrm>
            <a:off x="6659640" y="1557360"/>
            <a:ext cx="2143080" cy="2047680"/>
          </a:xfrm>
          <a:prstGeom prst="rect">
            <a:avLst/>
          </a:prstGeom>
          <a:ln w="0">
            <a:noFill/>
          </a:ln>
        </p:spPr>
      </p:pic>
      <p:sp>
        <p:nvSpPr>
          <p:cNvPr id="432" name="Заголовок 1"/>
          <p:cNvSpPr/>
          <p:nvPr/>
        </p:nvSpPr>
        <p:spPr>
          <a:xfrm>
            <a:off x="0" y="1413000"/>
            <a:ext cx="320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ЕЛАЮТ?</a:t>
            </a:r>
            <a:br>
              <a:rPr sz="3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4600" y="764640"/>
            <a:ext cx="8458200" cy="59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1. КТО ПО ДОРОГЕ ХОДИТ ПЕШКОМ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58560" y="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Заголовок 1"/>
          <p:cNvSpPr/>
          <p:nvPr/>
        </p:nvSpPr>
        <p:spPr>
          <a:xfrm>
            <a:off x="250920" y="1557360"/>
            <a:ext cx="88930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2. КАК НАЗЫВАЕТСЯ ЭТА ЧАСТЬ ДОРОГИ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оловок 1"/>
          <p:cNvSpPr/>
          <p:nvPr/>
        </p:nvSpPr>
        <p:spPr>
          <a:xfrm>
            <a:off x="250920" y="2347920"/>
            <a:ext cx="845820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3. КТО УПРАВЛЯЕТ ТРАНСПОРТОМ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Заголовок 1"/>
          <p:cNvSpPr/>
          <p:nvPr/>
        </p:nvSpPr>
        <p:spPr>
          <a:xfrm>
            <a:off x="309600" y="3154320"/>
            <a:ext cx="890748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4. ЧТО НАХОДИТСЯ НА ПРОЕЗЖЕЙ ЧАСТИ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Заголовок 1"/>
          <p:cNvSpPr/>
          <p:nvPr/>
        </p:nvSpPr>
        <p:spPr>
          <a:xfrm>
            <a:off x="309600" y="3960720"/>
            <a:ext cx="913140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5. НА КАКОЙ СИГНАЛ СВЕТОФОРА МОЖНО ПЕРЕХОДИТЬ ДОРОГУ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Заголовок 1"/>
          <p:cNvSpPr/>
          <p:nvPr/>
        </p:nvSpPr>
        <p:spPr>
          <a:xfrm>
            <a:off x="341280" y="5737320"/>
            <a:ext cx="845820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6. ЧТО ДЕЛАЮТ ДОРОЖНЫЕ ЗНАК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Medium"/>
              </a:rPr>
              <a:t>2. БЕЗОПАСНОСТЬ В ШКОЛЕ</a:t>
            </a:r>
            <a:br>
              <a:rPr sz="3200"/>
            </a:b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203640" y="1341000"/>
            <a:ext cx="4851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а кольца, два конц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середине гвозд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review-image" descr="http://www.evora.ru/images/big/drugie-izdelija/serebro/bez-vstavok/vilka-stolovaja-iz-serebra-55144-0.jpg"/>
          <p:cNvPicPr/>
          <p:nvPr/>
        </p:nvPicPr>
        <p:blipFill>
          <a:blip r:embed="rId1"/>
          <a:srcRect l="0" t="15758" r="0" b="20152"/>
          <a:stretch/>
        </p:blipFill>
        <p:spPr>
          <a:xfrm>
            <a:off x="468360" y="1197000"/>
            <a:ext cx="1727280" cy="1584360"/>
          </a:xfrm>
          <a:prstGeom prst="rect">
            <a:avLst/>
          </a:prstGeom>
          <a:ln w="0">
            <a:noFill/>
          </a:ln>
        </p:spPr>
      </p:pic>
      <p:pic>
        <p:nvPicPr>
          <p:cNvPr id="443" name="preview-image" descr="http://otvetin.ru/uploads/posts/2009-09/1253865851_t04534-dur1771.jpg"/>
          <p:cNvPicPr/>
          <p:nvPr/>
        </p:nvPicPr>
        <p:blipFill>
          <a:blip r:embed="rId2"/>
          <a:srcRect l="3130" t="3182" r="8816" b="3912"/>
          <a:stretch/>
        </p:blipFill>
        <p:spPr>
          <a:xfrm>
            <a:off x="468360" y="5013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444" name="preview-image" descr="http://img1.liveinternet.ru/images/attach/c/2/73/720/73720309_4030949_igla.jpg"/>
          <p:cNvPicPr/>
          <p:nvPr/>
        </p:nvPicPr>
        <p:blipFill>
          <a:blip r:embed="rId3"/>
          <a:srcRect l="18690" t="21505" r="33044" b="6842"/>
          <a:stretch/>
        </p:blipFill>
        <p:spPr>
          <a:xfrm>
            <a:off x="468360" y="3068640"/>
            <a:ext cx="1727280" cy="1655640"/>
          </a:xfrm>
          <a:prstGeom prst="rect">
            <a:avLst/>
          </a:prstGeom>
          <a:ln w="0">
            <a:noFill/>
          </a:ln>
        </p:spPr>
      </p:pic>
      <p:sp>
        <p:nvSpPr>
          <p:cNvPr id="445" name="Содержимое 2"/>
          <p:cNvSpPr/>
          <p:nvPr/>
        </p:nvSpPr>
        <p:spPr>
          <a:xfrm>
            <a:off x="3276720" y="2781360"/>
            <a:ext cx="485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 зубаста и ост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Ложки младшая се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одержимое 2"/>
          <p:cNvSpPr/>
          <p:nvPr/>
        </p:nvSpPr>
        <p:spPr>
          <a:xfrm>
            <a:off x="3203640" y="4292640"/>
            <a:ext cx="485136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ленького рост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онкая и ост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осом путь себе ищ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 собою хвост та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42720" y="1814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Это  (какие?)      …        предметы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Они могут уколоть или порезать вас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review-image" descr="http://www.evora.ru/images/big/drugie-izdelija/serebro/bez-vstavok/vilka-stolovaja-iz-serebra-55144-0.jpg"/>
          <p:cNvPicPr/>
          <p:nvPr/>
        </p:nvPicPr>
        <p:blipFill>
          <a:blip r:embed="rId2"/>
          <a:srcRect l="0" t="15758" r="0" b="20152"/>
          <a:stretch/>
        </p:blipFill>
        <p:spPr>
          <a:xfrm>
            <a:off x="1042920" y="11592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450" name="preview-image" descr="http://img1.liveinternet.ru/images/attach/c/2/73/720/73720309_4030949_igla.jpg"/>
          <p:cNvPicPr/>
          <p:nvPr/>
        </p:nvPicPr>
        <p:blipFill>
          <a:blip r:embed="rId3"/>
          <a:srcRect l="18690" t="21505" r="33044" b="6842"/>
          <a:stretch/>
        </p:blipFill>
        <p:spPr>
          <a:xfrm>
            <a:off x="3708360" y="115920"/>
            <a:ext cx="1727280" cy="1657440"/>
          </a:xfrm>
          <a:prstGeom prst="rect">
            <a:avLst/>
          </a:prstGeom>
          <a:ln w="0">
            <a:noFill/>
          </a:ln>
        </p:spPr>
      </p:pic>
      <p:pic>
        <p:nvPicPr>
          <p:cNvPr id="451" name="preview-image" descr="http://otvetin.ru/uploads/posts/2009-09/1253865851_t04534-dur1771.jpg"/>
          <p:cNvPicPr/>
          <p:nvPr/>
        </p:nvPicPr>
        <p:blipFill>
          <a:blip r:embed="rId4"/>
          <a:srcRect l="3130" t="3182" r="8816" b="3912"/>
          <a:stretch/>
        </p:blipFill>
        <p:spPr>
          <a:xfrm>
            <a:off x="6516720" y="189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452" name="Подзаголовок 2"/>
          <p:cNvSpPr/>
          <p:nvPr/>
        </p:nvSpPr>
        <p:spPr>
          <a:xfrm>
            <a:off x="270000" y="5075280"/>
            <a:ext cx="89265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Я буду вести себя с этими предметами (как?)                …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review-image" descr="http://go3.imgsmail.ru/imgpreview?key=3b602ddca43d06e2&amp;mb=imgdb_preview_357"/>
          <p:cNvPicPr/>
          <p:nvPr/>
        </p:nvPicPr>
        <p:blipFill>
          <a:blip r:embed="rId5"/>
          <a:stretch/>
        </p:blipFill>
        <p:spPr>
          <a:xfrm>
            <a:off x="3629160" y="3328920"/>
            <a:ext cx="2447640" cy="1728720"/>
          </a:xfrm>
          <a:prstGeom prst="rect">
            <a:avLst/>
          </a:prstGeom>
          <a:ln w="0">
            <a:noFill/>
          </a:ln>
        </p:spPr>
      </p:pic>
      <p:pic>
        <p:nvPicPr>
          <p:cNvPr id="454" name="preview-image" descr="http://img1.joyreactor.cc/pics/post/%D0%9A%D0%BE%D0%BC%D0%B8%D0%BA%D1%81%D1%8B-Married-To-The-Sea-%D0%BD%D0%BE%D0%B6%D0%BD%D0%B8%D1%86%D1%8B-996385.gif"/>
          <p:cNvPicPr/>
          <p:nvPr/>
        </p:nvPicPr>
        <p:blipFill>
          <a:blip r:embed="rId6"/>
          <a:srcRect l="0" t="0" r="4044" b="50670"/>
          <a:stretch/>
        </p:blipFill>
        <p:spPr>
          <a:xfrm>
            <a:off x="6550200" y="32590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http://900igr.net/datai/okruzhajuschij-mir/Opasnosti-doma-i-na-ulitse/0005-012-Ne-igrajte-ostrymi-vilkami.jpg"/>
          <p:cNvPicPr/>
          <p:nvPr/>
        </p:nvPicPr>
        <p:blipFill>
          <a:blip r:embed="rId7"/>
          <a:stretch/>
        </p:blipFill>
        <p:spPr>
          <a:xfrm>
            <a:off x="204840" y="3265560"/>
            <a:ext cx="3181320" cy="179208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3741840" y="174636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>
            <a:off x="4403880" y="5800680"/>
            <a:ext cx="26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ККУ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люс 12"/>
          <p:cNvSpPr/>
          <p:nvPr/>
        </p:nvSpPr>
        <p:spPr>
          <a:xfrm rot="2506800">
            <a:off x="299880" y="2733840"/>
            <a:ext cx="3384720" cy="2952720"/>
          </a:xfrm>
          <a:custGeom>
            <a:avLst/>
            <a:gdLst>
              <a:gd name="textAreaLeft" fmla="*/ 448560 w 3384720"/>
              <a:gd name="textAreaRight" fmla="*/ 2936160 w 3384720"/>
              <a:gd name="textAreaTop" fmla="*/ 1446840 h 2952720"/>
              <a:gd name="textAreaBottom" fmla="*/ 1505880 h 2952720"/>
            </a:gdLst>
            <a:ahLst/>
            <a:rect l="textAreaLeft" t="textAreaTop" r="textAreaRight" b="textAreaBottom"/>
            <a:pathLst>
              <a:path w="3384550" h="2952750">
                <a:moveTo>
                  <a:pt x="448622" y="1447010"/>
                </a:moveTo>
                <a:lnTo>
                  <a:pt x="1662910" y="1447010"/>
                </a:lnTo>
                <a:lnTo>
                  <a:pt x="1662910" y="391387"/>
                </a:lnTo>
                <a:lnTo>
                  <a:pt x="1721640" y="391387"/>
                </a:lnTo>
                <a:lnTo>
                  <a:pt x="1721640" y="1447010"/>
                </a:lnTo>
                <a:lnTo>
                  <a:pt x="2935928" y="1447010"/>
                </a:lnTo>
                <a:lnTo>
                  <a:pt x="2935928" y="1505740"/>
                </a:lnTo>
                <a:lnTo>
                  <a:pt x="1721640" y="1505740"/>
                </a:lnTo>
                <a:lnTo>
                  <a:pt x="1721640" y="2561363"/>
                </a:lnTo>
                <a:lnTo>
                  <a:pt x="1662910" y="2561363"/>
                </a:lnTo>
                <a:lnTo>
                  <a:pt x="1662910" y="1505740"/>
                </a:lnTo>
                <a:lnTo>
                  <a:pt x="448622" y="1505740"/>
                </a:lnTo>
                <a:close/>
              </a:path>
            </a:pathLst>
          </a:custGeom>
          <a:solidFill>
            <a:srgbClr val="ff0000"/>
          </a:solidFill>
          <a:ln w="399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4:23:37Z</dcterms:created>
  <dc:creator>михаил</dc:creator>
  <dc:description/>
  <dc:language>en-US</dc:language>
  <cp:lastModifiedBy>михаил</cp:lastModifiedBy>
  <dcterms:modified xsi:type="dcterms:W3CDTF">2016-10-10T17:03:09Z</dcterms:modified>
  <cp:revision>43</cp:revision>
  <dc:subject/>
  <dc:title>Слайд 1</dc:title>
</cp:coreProperties>
</file>