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19.jpeg" ContentType="image/jpeg"/>
  <Override PartName="/ppt/media/image11.png" ContentType="image/png"/>
  <Override PartName="/ppt/media/image14.jpeg" ContentType="image/jpeg"/>
  <Override PartName="/ppt/media/image38.png" ContentType="image/png"/>
  <Override PartName="/ppt/media/image8.png" ContentType="image/png"/>
  <Override PartName="/ppt/media/image9.png" ContentType="image/png"/>
  <Override PartName="/ppt/media/image13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CC5-A0AB-4CA1-BC4A-08B02CE4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ACD-D96D-44D8-B916-4B015A98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B81D5-C5AD-4398-86B7-764B18A7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49CE1-2A78-4B77-A803-B80A417C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31C30-60F0-4344-9AE6-3E2B8D1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7586F-00F4-40B0-98CB-DA2C50B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2F637-0FFA-4A4D-9707-CE307FD1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36C5E-E73C-43FD-9F49-03B3AE27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90094-77DB-4BC2-A80E-C29D41DF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27249-8D41-4437-8B4D-64C13C05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02247-D394-4418-83D4-BC4CE27F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864-5A0E-4FB9-B2FA-2C94F511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55B-DBE0-4C2D-B419-746F7270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46BD-B36A-43A5-8C37-AC775430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C224-30D7-453F-B7EB-40EE1418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F22-AC15-4F1A-954D-DFDDD005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DEAD-C8F6-455D-A110-4DBAC7E8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E6E9-7073-4728-882C-A7A67DBD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A18B-8DF6-4404-A934-0A97F062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0090-7E26-415E-BCFE-A6068088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CE7-7603-441C-A792-BFAD4519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DFB5-205F-481E-8F30-DA6976B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2576-18B9-4C8B-8A78-89C79BF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4082-2B4F-46D5-892D-2A3BB716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834A-9F81-48FA-9D17-34DB5B54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975A-CA58-4A29-85E1-DDBB3894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ED88-5761-47F5-9429-D91D9293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AB68-3F20-4C39-A5AC-DF678512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4284-A637-4EB9-A979-503B7B77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B7E6-9249-45E6-91CB-681C51B4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E387-8C33-4310-82FD-E333BF22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CAD-7596-417F-A939-C5DA8129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9E18-5E7F-4500-849C-07DC3EC9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CE08-BF17-4EAA-9B44-7F6D9FD2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15A45-3577-4102-9023-33DFDAC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A17CF-2472-44BD-907F-4A2BA37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21A6-93A8-4A05-B561-93621CA9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E8DC-FE42-4F0F-AA05-7E658A60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029C-13D9-4154-A3D6-5E65FB41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48CA-5115-485A-8E06-31CEF8F3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833F-4F6A-4A57-80F9-93FE9C27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CD6B-35D8-4942-988B-34B0F460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8D6-87D0-4E32-A587-E50B68F4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B6CA-191F-424D-9BD0-13E7E49D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F661-B65C-4552-91C6-A42A9E45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5B668-987A-49D5-AB12-D83E2794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BC07-5585-4FF9-9521-5A4C1D43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A6525-5C26-4BBC-B255-116397B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5BD45-70C3-4A6B-ADAC-8AB8323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76D9-6E2C-487A-840B-A7ACF48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B8D1-88A5-4513-BAC4-808464DA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9AA4-F115-4727-81A0-836456BC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78EE-DF9B-4672-8689-93072F79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448-78A9-4CED-8AF8-25376AAE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5DBA-B79E-487B-8148-55C9DF55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5385D-92EC-41E7-AEA1-DDB47B20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E0A68-9E59-4247-BCD2-A2AFBDA6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67A68-B345-48C8-85E8-C792AABB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D75A-39AC-48E2-BDE5-AD601B5A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ADC05-7CCE-4A8A-ADE0-6E8B9978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AA6BA-4BE0-4553-BB01-C32AB12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042B-5F58-47F6-96F1-B1A7C4F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ED65-E7FA-4A6A-9DCC-8F3C04F0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1596-BC39-4564-ABC7-DA69573E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2CD-EE64-4560-8DB4-172A0FCD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A1EF3-5A5B-4E03-91FF-C8FE5FA3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120D7-F4D1-4B59-847C-B68453B8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569D6-21D3-4485-984E-7CA45B69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6BFE3-69BD-41D4-93D9-EDF32B8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4C86C-C72E-4A52-B2D8-DB09A8CE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A8DBB-AA1B-40EF-AB1B-6DA8BCAB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27334-7570-4A2C-B747-1084726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91252-DFAE-4B55-BFFF-B16D0806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E0001-9CE6-4974-BB98-799D7DCD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E2BCC-91D7-43BC-9F41-B5DD9BDC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A73-312E-4699-8B10-B8745D7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AABFE-F381-42E1-B4BC-9270F04F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97FBA-330E-4A63-87FD-62F0E025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D585-884B-472A-8B00-5E090AA9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869AC-7E83-4913-8B5C-103D29E7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806AB-365A-4E7B-ADD9-12071E35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45ABC-437C-451E-B544-9ACA415F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59CC7-5663-4480-BBBE-C503375F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9279F-4548-41C6-B1DF-FC826313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ED15E-1F0F-4870-9DA7-5CC67A5E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F534A-FB3E-488E-94EE-A01A1597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798-1351-444B-BEB9-081414B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45881-F37C-4F7D-A8B8-4E92A976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9FA02-08AF-492D-8D9A-690BD7F5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873DA-18F5-44EB-92AA-2985F7F0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79486-EACA-4ADF-A913-6A2A5957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51374-6DC8-44F1-9074-6B2247AE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161B4-B0D8-4B44-B43D-E52D565C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A1457-3A1F-4464-8078-8E40759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F57EA-9654-45AB-A394-73F36236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87541-7031-49EA-AF30-C48D3B3C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AA00D-4390-4881-9A82-4323F1D5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3C3-1994-47CE-8FC3-4FFA0874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A6A24-355C-4390-9BDE-42156139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A99DD-F7F3-4422-B2DA-5C5ADDE4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5EAFD-67ED-4EA0-840B-58233EE4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188F4-21FC-4871-B811-91688ED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2055A-FC00-49D8-A21C-AB58A27E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E4ADE-CDEB-4580-93B1-1B916104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BC14F-3910-457B-B405-6F187A0F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64351-37F8-4206-BB21-8875A43C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A0315-FE28-4B1A-AA79-F893F44C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C1CD4-5721-481B-85DE-1574C148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2869-635D-4718-8270-53A479F323D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F7A-551E-441D-B484-25748CD9DD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4BD6-F27F-4A41-8428-23EEDD9FD2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8EFA-1536-4A97-957B-C22557FC91F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A594-E193-4F5E-B6F2-0EFF16349A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56CA-F4AE-45EA-B3E0-3182329731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AB3B-17DA-4155-B5DD-38D2A81062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B461-BD96-467A-8659-4AB8F1C4F6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C2A2-E902-4254-A68B-9027537D34E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БЕЗОПАСНОСТЬ И ЗДОРОВЬ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140360" y="1412640"/>
            <a:ext cx="470664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Опасное поведение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может привест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к (чему?) …  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Безопасное поведение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сохранит (что?) …  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review-image" descr="http://www.opochka.biz/wp-content/uploads/2015/08/110.jp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07640" y="2421000"/>
            <a:ext cx="4103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электрическая розет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0" name="preview-image" descr="http://www.myhome.ru/uploads/public/idea/5/41615/interiorpublic/9188/520x0resize_interiorpublic9188_64_1435478775.jpg"/>
          <p:cNvPicPr/>
          <p:nvPr/>
        </p:nvPicPr>
        <p:blipFill>
          <a:blip r:embed="rId1"/>
          <a:srcRect l="48604" t="26256" r="0" b="9143"/>
          <a:stretch/>
        </p:blipFill>
        <p:spPr>
          <a:xfrm>
            <a:off x="5292720" y="981000"/>
            <a:ext cx="3456000" cy="3384720"/>
          </a:xfrm>
          <a:prstGeom prst="rect">
            <a:avLst/>
          </a:prstGeom>
          <a:ln w="0">
            <a:noFill/>
          </a:ln>
        </p:spPr>
      </p:pic>
      <p:pic>
        <p:nvPicPr>
          <p:cNvPr id="461" name="preview-image" descr="http://www.gisfactory.com/wp-content/uploads/plastic-windows2-300x225.jpg"/>
          <p:cNvPicPr/>
          <p:nvPr/>
        </p:nvPicPr>
        <p:blipFill>
          <a:blip r:embed="rId2"/>
          <a:srcRect l="6601" t="0" r="29214" b="0"/>
          <a:stretch/>
        </p:blipFill>
        <p:spPr>
          <a:xfrm>
            <a:off x="539640" y="3716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462" name="preview-image" descr="https://i.ytimg.com/vi/tCLRcp32CKk/hqdefault.jpg"/>
          <p:cNvPicPr/>
          <p:nvPr/>
        </p:nvPicPr>
        <p:blipFill>
          <a:blip r:embed="rId3"/>
          <a:stretch/>
        </p:blipFill>
        <p:spPr>
          <a:xfrm>
            <a:off x="468360" y="189000"/>
            <a:ext cx="3240000" cy="2303280"/>
          </a:xfrm>
          <a:prstGeom prst="rect">
            <a:avLst/>
          </a:prstGeom>
          <a:ln w="0">
            <a:noFill/>
          </a:ln>
        </p:spPr>
      </p:pic>
      <p:sp>
        <p:nvSpPr>
          <p:cNvPr id="463" name="Содержимое 2"/>
          <p:cNvSpPr/>
          <p:nvPr/>
        </p:nvSpPr>
        <p:spPr>
          <a:xfrm>
            <a:off x="2765520" y="5819760"/>
            <a:ext cx="611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открытое ок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одержимое 2"/>
          <p:cNvSpPr/>
          <p:nvPr/>
        </p:nvSpPr>
        <p:spPr>
          <a:xfrm>
            <a:off x="5292720" y="436572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лест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одержимое 2"/>
          <p:cNvSpPr/>
          <p:nvPr/>
        </p:nvSpPr>
        <p:spPr>
          <a:xfrm>
            <a:off x="3995640" y="79200"/>
            <a:ext cx="338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189000" y="743040"/>
            <a:ext cx="8772480" cy="853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6227640" y="3141360"/>
            <a:ext cx="2665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егать 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аловатьс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а не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Содержимое 2"/>
          <p:cNvSpPr/>
          <p:nvPr/>
        </p:nvSpPr>
        <p:spPr>
          <a:xfrm>
            <a:off x="3708360" y="5300640"/>
            <a:ext cx="5040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засунуть в неё пальцы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ие-нибудь предметы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одержимое 2"/>
          <p:cNvSpPr/>
          <p:nvPr/>
        </p:nvSpPr>
        <p:spPr>
          <a:xfrm>
            <a:off x="6215040" y="1701720"/>
            <a:ext cx="23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вылез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Заголовок 1" descr=""/>
          <p:cNvPicPr/>
          <p:nvPr/>
        </p:nvPicPr>
        <p:blipFill>
          <a:blip r:embed="rId2"/>
          <a:stretch/>
        </p:blipFill>
        <p:spPr>
          <a:xfrm>
            <a:off x="3524400" y="73080"/>
            <a:ext cx="2071440" cy="890640"/>
          </a:xfrm>
          <a:prstGeom prst="rect">
            <a:avLst/>
          </a:prstGeom>
          <a:ln w="0">
            <a:noFill/>
          </a:ln>
        </p:spPr>
      </p:pic>
      <p:pic>
        <p:nvPicPr>
          <p:cNvPr id="471" name="preview-image" descr="http://cheb.ruc.su/upload/iblock/7cc/1005005753.jpg"/>
          <p:cNvPicPr/>
          <p:nvPr/>
        </p:nvPicPr>
        <p:blipFill>
          <a:blip r:embed="rId3"/>
          <a:stretch/>
        </p:blipFill>
        <p:spPr>
          <a:xfrm>
            <a:off x="324000" y="1628640"/>
            <a:ext cx="2808000" cy="2087640"/>
          </a:xfrm>
          <a:prstGeom prst="rect">
            <a:avLst/>
          </a:prstGeom>
          <a:ln w="0">
            <a:noFill/>
          </a:ln>
        </p:spPr>
      </p:pic>
      <p:pic>
        <p:nvPicPr>
          <p:cNvPr id="472" name="preview-image" descr="http://n1s1.hsmedia.ru/ab/e2/38/abe23827e9223d2c9d1374e505a87bed/690x459_1_828f78eb6821de4db4635c372eb16882@725x483_0xc0a8392b_15780352611441874547.gif"/>
          <p:cNvPicPr/>
          <p:nvPr/>
        </p:nvPicPr>
        <p:blipFill>
          <a:blip r:embed="rId4"/>
          <a:srcRect l="12084" t="0" r="17720" b="0"/>
          <a:stretch/>
        </p:blipFill>
        <p:spPr>
          <a:xfrm>
            <a:off x="324000" y="4005360"/>
            <a:ext cx="2592360" cy="2448000"/>
          </a:xfrm>
          <a:prstGeom prst="rect">
            <a:avLst/>
          </a:prstGeom>
          <a:ln w="0">
            <a:noFill/>
          </a:ln>
        </p:spPr>
      </p:pic>
      <p:pic>
        <p:nvPicPr>
          <p:cNvPr id="473" name="preview-image" descr="http://www.slavkrug.org/wp-content/uploads/2014/10/kratkaya-pamyatka-naseleniyu-po.jpg"/>
          <p:cNvPicPr/>
          <p:nvPr/>
        </p:nvPicPr>
        <p:blipFill>
          <a:blip r:embed="rId5"/>
          <a:srcRect l="5815" t="8951" r="3752" b="0"/>
          <a:stretch/>
        </p:blipFill>
        <p:spPr>
          <a:xfrm>
            <a:off x="3203640" y="2421000"/>
            <a:ext cx="2814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92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Franklin Gothic Medium"/>
              </a:rPr>
              <a:t>ПРОВЕРЬ СЕБЯ!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Вилкой надо драть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Иголку можно бросать на по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Из открытого окна вылезать опасно для жизн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Дети могут играть с электрической розетк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Спускаясь по лестнице, надо наступать на каждую ступеньк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Medium"/>
              </a:rPr>
              <a:t>3.КАК СОХРАНИТЬ ЗДОРОВЬЕ?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411280" y="3644640"/>
            <a:ext cx="388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Кто?  Что делает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8" name="preview-image" descr="http://img.4mama.com.ua/pictures/content/0/523_slider.jpg"/>
          <p:cNvPicPr/>
          <p:nvPr/>
        </p:nvPicPr>
        <p:blipFill>
          <a:blip r:embed="rId1"/>
          <a:stretch/>
        </p:blipFill>
        <p:spPr>
          <a:xfrm>
            <a:off x="5940360" y="148428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479" name="preview-image" descr="http://img1.liveinternet.ru/images/attach/b/4/103/700/103700039_0.jpg"/>
          <p:cNvPicPr/>
          <p:nvPr/>
        </p:nvPicPr>
        <p:blipFill>
          <a:blip r:embed="rId2"/>
          <a:srcRect l="6566" t="0" r="4791" b="4491"/>
          <a:stretch/>
        </p:blipFill>
        <p:spPr>
          <a:xfrm>
            <a:off x="179280" y="148428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480" name="preview-image" descr="http://xvatit.com/uploads/posts/2016-01/1452839168_51e8263628.jpg"/>
          <p:cNvPicPr/>
          <p:nvPr/>
        </p:nvPicPr>
        <p:blipFill>
          <a:blip r:embed="rId3"/>
          <a:srcRect l="10749" t="0" r="13200" b="0"/>
          <a:stretch/>
        </p:blipFill>
        <p:spPr>
          <a:xfrm>
            <a:off x="2843280" y="4365720"/>
            <a:ext cx="2665440" cy="2068560"/>
          </a:xfrm>
          <a:prstGeom prst="rect">
            <a:avLst/>
          </a:prstGeom>
          <a:ln w="0">
            <a:noFill/>
          </a:ln>
        </p:spPr>
      </p:pic>
      <p:pic>
        <p:nvPicPr>
          <p:cNvPr id="481" name="preview-image" descr="http://www.2mm.ru/uploads/article/images/shutterstock_87228280.jpg"/>
          <p:cNvPicPr/>
          <p:nvPr/>
        </p:nvPicPr>
        <p:blipFill>
          <a:blip r:embed="rId4"/>
          <a:srcRect l="35675" t="0" r="4731" b="0"/>
          <a:stretch/>
        </p:blipFill>
        <p:spPr>
          <a:xfrm>
            <a:off x="250920" y="4076640"/>
            <a:ext cx="1998720" cy="2305080"/>
          </a:xfrm>
          <a:prstGeom prst="rect">
            <a:avLst/>
          </a:prstGeom>
          <a:ln w="0">
            <a:noFill/>
          </a:ln>
        </p:spPr>
      </p:pic>
      <p:pic>
        <p:nvPicPr>
          <p:cNvPr id="482" name="preview-image" descr="http://img-fotki.yandex.ru/get/6708/160648376.a/0_94aae_94f2b254_M.jpg"/>
          <p:cNvPicPr/>
          <p:nvPr/>
        </p:nvPicPr>
        <p:blipFill>
          <a:blip r:embed="rId5"/>
          <a:stretch/>
        </p:blipFill>
        <p:spPr>
          <a:xfrm>
            <a:off x="3132000" y="1628640"/>
            <a:ext cx="2473560" cy="2087640"/>
          </a:xfrm>
          <a:prstGeom prst="rect">
            <a:avLst/>
          </a:prstGeom>
          <a:ln w="0">
            <a:noFill/>
          </a:ln>
        </p:spPr>
      </p:pic>
      <p:pic>
        <p:nvPicPr>
          <p:cNvPr id="483" name="preview-image" descr="http://img1.liveinternet.ru/images/attach/c/10/111/881/111881019_4603781_matrasy_ortopedicheskie.jpg"/>
          <p:cNvPicPr/>
          <p:nvPr/>
        </p:nvPicPr>
        <p:blipFill>
          <a:blip r:embed="rId6"/>
          <a:stretch/>
        </p:blipFill>
        <p:spPr>
          <a:xfrm>
            <a:off x="6012000" y="4365720"/>
            <a:ext cx="2709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4018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539280" y="1413000"/>
            <a:ext cx="84250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Я проснулся.   Делаю зарядку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Умываюсь и чищу зубы.  Иду на завтрак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Гуляю.  Иду на обед.   Занимаюсь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Иду на полдник.   Занимаюсь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Иду на ужин.  Играю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Умываюсь и чищу зубы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Ложусь спать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Заголовок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ВАЖНО СОБЛЮДАТЬ РЕЖИМ ДН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одержимое 2"/>
          <p:cNvSpPr/>
          <p:nvPr/>
        </p:nvSpPr>
        <p:spPr>
          <a:xfrm>
            <a:off x="322200" y="1413000"/>
            <a:ext cx="84250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Я проснулся.   Делаю заряд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Умываюсь и чищу зубы.  Иду на завтра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Занимаюсь. Иду на обед. Гуляю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Иду на полдник.   Занимаю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Иду на ужин.  Игр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Умываюсь и чищу зу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Ложусь сп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728720" y="17640"/>
            <a:ext cx="58327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Franklin Gothic Book"/>
              </a:rPr>
              <a:t>ПРОВЕРЬ СЕБЯ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Прямоугольник 2"/>
          <p:cNvSpPr/>
          <p:nvPr/>
        </p:nvSpPr>
        <p:spPr>
          <a:xfrm>
            <a:off x="425520" y="932040"/>
            <a:ext cx="834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Arial"/>
              </a:rPr>
              <a:t>1.Что относится к личной гигиене: мытье рук или зарядк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3"/>
          <p:cNvSpPr/>
          <p:nvPr/>
        </p:nvSpPr>
        <p:spPr>
          <a:xfrm>
            <a:off x="423720" y="2073240"/>
            <a:ext cx="79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Arial"/>
              </a:rPr>
              <a:t>2.Как часто надо чистить зубы: один раз или два раза в день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4"/>
          <p:cNvSpPr/>
          <p:nvPr/>
        </p:nvSpPr>
        <p:spPr>
          <a:xfrm>
            <a:off x="423720" y="3205080"/>
            <a:ext cx="8440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Arial"/>
              </a:rPr>
              <a:t>3.Во сколько маленьким детям надо ложиться спать: в 9 часов вечера или в 10 часов вечер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6"/>
          <p:cNvSpPr/>
          <p:nvPr/>
        </p:nvSpPr>
        <p:spPr>
          <a:xfrm>
            <a:off x="468360" y="4862520"/>
            <a:ext cx="90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3227"/>
                </a:solidFill>
                <a:latin typeface="Arial"/>
              </a:rPr>
              <a:t>4. Что в режиме дня может быть необязательным: просмотр телевизора или прогулка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БЕЗОПАСНОСТЬ И ЗДОРОВЬ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211280" y="1412640"/>
            <a:ext cx="4707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Опасное поведение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может привест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к БЕДЕ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Безопасное поведение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сохранит ЗДОРОВЬЕ 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5" name="preview-image" descr="http://www.opochka.biz/wp-content/uploads/2015/08/110.jp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03280" y="5229360"/>
            <a:ext cx="7561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 </a:t>
            </a:r>
            <a:r>
              <a:rPr b="1" lang="ru-RU" sz="3500" spc="-1" strike="noStrike">
                <a:solidFill>
                  <a:srgbClr val="4e3b30"/>
                </a:solidFill>
                <a:latin typeface="Arial"/>
                <a:ea typeface="Arial"/>
              </a:rPr>
              <a:t>…  – </a:t>
            </a:r>
            <a:r>
              <a:rPr b="1" lang="ru-RU" sz="3500" spc="-1" strike="noStrike">
                <a:solidFill>
                  <a:srgbClr val="4e3b30"/>
                </a:solidFill>
                <a:latin typeface="Arial"/>
                <a:ea typeface="Arial"/>
              </a:rPr>
              <a:t>ЧЕЛОВЕК, КОТОРЫЙ </a:t>
            </a:r>
            <a:br>
              <a:rPr sz="3500"/>
            </a:br>
            <a:r>
              <a:rPr b="1" lang="ru-RU" sz="3500" spc="-1" strike="noStrike">
                <a:solidFill>
                  <a:srgbClr val="4e3b30"/>
                </a:solidFill>
                <a:latin typeface="Arial"/>
                <a:ea typeface="Arial"/>
              </a:rPr>
              <a:t>НА ДОРОГЕ УПРАВЛЯЕТ МАШИНОЙ.</a:t>
            </a:r>
            <a:br>
              <a:rPr sz="3200"/>
            </a:br>
            <a:endParaRPr b="0" lang="en-US" sz="3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61720" y="90972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3b14"/>
                </a:solidFill>
                <a:latin typeface="Arial"/>
                <a:ea typeface="Arial"/>
              </a:rPr>
              <a:t>1.БЕЗОПАСНОСТЬ НА ДОРОГЕ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Подзаголовок 2"/>
          <p:cNvSpPr/>
          <p:nvPr/>
        </p:nvSpPr>
        <p:spPr>
          <a:xfrm>
            <a:off x="250920" y="1700280"/>
            <a:ext cx="381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ОДИ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одзаголовок 2"/>
          <p:cNvSpPr/>
          <p:nvPr/>
        </p:nvSpPr>
        <p:spPr>
          <a:xfrm>
            <a:off x="5398920" y="1844640"/>
            <a:ext cx="3745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ПЕШЕХ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55440" y="3541680"/>
            <a:ext cx="6924960" cy="1328760"/>
          </a:xfrm>
          <a:prstGeom prst="rect">
            <a:avLst/>
          </a:prstGeom>
          <a:ln w="0">
            <a:noFill/>
          </a:ln>
        </p:spPr>
      </p:pic>
      <p:sp>
        <p:nvSpPr>
          <p:cNvPr id="407" name="Подзаголовок 2"/>
          <p:cNvSpPr/>
          <p:nvPr/>
        </p:nvSpPr>
        <p:spPr>
          <a:xfrm>
            <a:off x="3492360" y="2565360"/>
            <a:ext cx="24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КТ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0720" y="4122720"/>
            <a:ext cx="8439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ТРАНСПОРТ МЧИТ ПО ТРОТУАРУ,</a:t>
            </a:r>
            <a:br>
              <a:rPr sz="3600"/>
            </a:b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ПО ДОРОГЕ – ПЕШЕХОД!</a:t>
            </a:r>
            <a:br>
              <a:rPr sz="3600"/>
            </a:b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ЭТО ПРАВИЛЬНО, ОТВЕТЬТЕ,</a:t>
            </a:r>
            <a:br>
              <a:rPr sz="3600"/>
            </a:br>
            <a:r>
              <a:rPr b="1" lang="ru-RU" sz="3600" spc="-1" strike="noStrike">
                <a:solidFill>
                  <a:srgbClr val="4e3b30"/>
                </a:solidFill>
                <a:latin typeface="Franklin Gothic Medium"/>
              </a:rPr>
              <a:t>ИЛИ ВСЕ НАОБОРОТ?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22040" y="1341360"/>
            <a:ext cx="2663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ЧТО?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review-image" descr="http://echo.msk.ru/files/805745.jpg?1344440734"/>
          <p:cNvPicPr/>
          <p:nvPr/>
        </p:nvPicPr>
        <p:blipFill>
          <a:blip r:embed="rId1"/>
          <a:srcRect l="40820" t="34634" r="0" b="2725"/>
          <a:stretch/>
        </p:blipFill>
        <p:spPr>
          <a:xfrm>
            <a:off x="2556000" y="195120"/>
            <a:ext cx="5938560" cy="3745080"/>
          </a:xfrm>
          <a:prstGeom prst="rect">
            <a:avLst/>
          </a:prstGeom>
          <a:ln w="0">
            <a:noFill/>
          </a:ln>
        </p:spPr>
      </p:pic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4632480" y="274680"/>
            <a:ext cx="4024080" cy="968400"/>
          </a:xfrm>
          <a:prstGeom prst="rect">
            <a:avLst/>
          </a:prstGeom>
          <a:ln w="0">
            <a:noFill/>
          </a:ln>
        </p:spPr>
      </p:pic>
      <p:sp>
        <p:nvSpPr>
          <p:cNvPr id="412" name="Заголовок 1"/>
          <p:cNvSpPr/>
          <p:nvPr/>
        </p:nvSpPr>
        <p:spPr>
          <a:xfrm>
            <a:off x="2870280" y="2852640"/>
            <a:ext cx="2512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ТРОТУ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review-image" descr="http://echo.msk.ru/files/805745.jpg?1344440734"/>
          <p:cNvPicPr/>
          <p:nvPr/>
        </p:nvPicPr>
        <p:blipFill>
          <a:blip r:embed="rId1"/>
          <a:srcRect l="40820" t="34634" r="0" b="2725"/>
          <a:stretch/>
        </p:blipFill>
        <p:spPr>
          <a:xfrm>
            <a:off x="179280" y="189000"/>
            <a:ext cx="8840880" cy="6408720"/>
          </a:xfrm>
          <a:prstGeom prst="rect">
            <a:avLst/>
          </a:prstGeom>
          <a:ln w="0">
            <a:noFill/>
          </a:ln>
        </p:spPr>
      </p:pic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1706400" y="4846680"/>
            <a:ext cx="4256280" cy="11937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23640" y="3141360"/>
            <a:ext cx="532764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По тротуару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идут (кто?)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3"/>
          <a:stretch/>
        </p:blipFill>
        <p:spPr>
          <a:xfrm>
            <a:off x="5273640" y="1676520"/>
            <a:ext cx="3876840" cy="1139760"/>
          </a:xfrm>
          <a:prstGeom prst="rect">
            <a:avLst/>
          </a:prstGeom>
          <a:ln w="0">
            <a:noFill/>
          </a:ln>
        </p:spPr>
      </p:pic>
      <p:sp>
        <p:nvSpPr>
          <p:cNvPr id="417" name="Подзаголовок 2"/>
          <p:cNvSpPr/>
          <p:nvPr/>
        </p:nvSpPr>
        <p:spPr>
          <a:xfrm>
            <a:off x="3780000" y="260280"/>
            <a:ext cx="5040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 дорог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едет (что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53880" y="30240"/>
            <a:ext cx="8796600" cy="1749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2014560" y="2491920"/>
            <a:ext cx="7129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У дороги светофор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Мигает мне глазами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(какой?)  … – стой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(какой?)  … – жди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(какой?)  ... – быстро проходи!            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review-image" descr="http://www.playing-field.ru/img/2015/052018/0628615"/>
          <p:cNvPicPr/>
          <p:nvPr/>
        </p:nvPicPr>
        <p:blipFill>
          <a:blip r:embed="rId2"/>
          <a:srcRect l="30406" t="0" r="30263" b="0"/>
          <a:stretch/>
        </p:blipFill>
        <p:spPr>
          <a:xfrm>
            <a:off x="214200" y="2060640"/>
            <a:ext cx="1643040" cy="4608360"/>
          </a:xfrm>
          <a:prstGeom prst="rect">
            <a:avLst/>
          </a:prstGeom>
          <a:ln w="0">
            <a:noFill/>
          </a:ln>
        </p:spPr>
      </p:pic>
      <p:sp>
        <p:nvSpPr>
          <p:cNvPr id="421" name="Овал 4"/>
          <p:cNvSpPr/>
          <p:nvPr/>
        </p:nvSpPr>
        <p:spPr>
          <a:xfrm>
            <a:off x="574560" y="2779560"/>
            <a:ext cx="971640" cy="936720"/>
          </a:xfrm>
          <a:prstGeom prst="ellipse">
            <a:avLst/>
          </a:prstGeom>
          <a:solidFill>
            <a:srgbClr val="ff0000"/>
          </a:solidFill>
          <a:ln w="399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5"/>
          <p:cNvSpPr/>
          <p:nvPr/>
        </p:nvSpPr>
        <p:spPr>
          <a:xfrm>
            <a:off x="574560" y="4148280"/>
            <a:ext cx="971640" cy="936360"/>
          </a:xfrm>
          <a:prstGeom prst="ellipse">
            <a:avLst/>
          </a:prstGeom>
          <a:solidFill>
            <a:srgbClr val="ffff00"/>
          </a:solidFill>
          <a:ln w="399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6"/>
          <p:cNvSpPr/>
          <p:nvPr/>
        </p:nvSpPr>
        <p:spPr>
          <a:xfrm>
            <a:off x="574560" y="5516640"/>
            <a:ext cx="971640" cy="936720"/>
          </a:xfrm>
          <a:prstGeom prst="ellipse">
            <a:avLst/>
          </a:prstGeom>
          <a:solidFill>
            <a:srgbClr val="00b050"/>
          </a:solidFill>
          <a:ln w="399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252720" y="151920"/>
            <a:ext cx="968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ЗНАКИ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ПОМОГАЮТ</a:t>
            </a:r>
            <a:br>
              <a:rPr sz="3600"/>
            </a:br>
            <a:r>
              <a:rPr b="0" lang="ru-RU" sz="3600" spc="-1" strike="noStrike">
                <a:solidFill>
                  <a:srgbClr val="4e3b30"/>
                </a:solidFill>
                <a:latin typeface="Arial"/>
                <a:ea typeface="Arial"/>
              </a:rPr>
              <a:t> ПЕШЕХОДАМ И ВОДИТЕЛЯМ НА УЛИЦЕ.</a:t>
            </a:r>
            <a:br>
              <a:rPr sz="32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866920" y="3715920"/>
            <a:ext cx="309564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Arial"/>
                <a:ea typeface="Arial"/>
              </a:rPr>
              <a:t>разрешаю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Содержимое 2"/>
          <p:cNvSpPr/>
          <p:nvPr/>
        </p:nvSpPr>
        <p:spPr>
          <a:xfrm>
            <a:off x="2268360" y="2276640"/>
            <a:ext cx="42498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Arial"/>
              </a:rPr>
              <a:t>предупрежд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одержимое 2"/>
          <p:cNvSpPr/>
          <p:nvPr/>
        </p:nvSpPr>
        <p:spPr>
          <a:xfrm>
            <a:off x="250920" y="5589720"/>
            <a:ext cx="3311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Arial"/>
              </a:rPr>
              <a:t>запрещ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review-image" descr="http://maminsite.ru/school.files/school18/deti.jpg"/>
          <p:cNvPicPr/>
          <p:nvPr/>
        </p:nvPicPr>
        <p:blipFill>
          <a:blip r:embed="rId1"/>
          <a:srcRect l="0" t="12840" r="0" b="23743"/>
          <a:stretch/>
        </p:blipFill>
        <p:spPr>
          <a:xfrm>
            <a:off x="3276720" y="364500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429" name="preview-image" descr="http://avto-flot.ru/img/blog/peshehodam%20zapresheno.jpeg"/>
          <p:cNvPicPr/>
          <p:nvPr/>
        </p:nvPicPr>
        <p:blipFill>
          <a:blip r:embed="rId2"/>
          <a:srcRect l="15771" t="0" r="16047" b="0"/>
          <a:stretch/>
        </p:blipFill>
        <p:spPr>
          <a:xfrm>
            <a:off x="468360" y="3284640"/>
            <a:ext cx="2089080" cy="2158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http://stlad.ru/files/3Lv16PLyBEhM1572I6qs4T9VXditvi_1.png"/>
          <p:cNvPicPr/>
          <p:nvPr/>
        </p:nvPicPr>
        <p:blipFill>
          <a:blip r:embed="rId3"/>
          <a:stretch/>
        </p:blipFill>
        <p:spPr>
          <a:xfrm>
            <a:off x="6804000" y="4653000"/>
            <a:ext cx="1941480" cy="1941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" descr="http://playing-field.ru/img/2015/052107/0725202"/>
          <p:cNvPicPr/>
          <p:nvPr/>
        </p:nvPicPr>
        <p:blipFill>
          <a:blip r:embed="rId4"/>
          <a:stretch/>
        </p:blipFill>
        <p:spPr>
          <a:xfrm>
            <a:off x="6659640" y="1557360"/>
            <a:ext cx="2143080" cy="2047680"/>
          </a:xfrm>
          <a:prstGeom prst="rect">
            <a:avLst/>
          </a:prstGeom>
          <a:ln w="0">
            <a:noFill/>
          </a:ln>
        </p:spPr>
      </p:pic>
      <p:sp>
        <p:nvSpPr>
          <p:cNvPr id="432" name="Заголовок 1"/>
          <p:cNvSpPr/>
          <p:nvPr/>
        </p:nvSpPr>
        <p:spPr>
          <a:xfrm>
            <a:off x="0" y="1413000"/>
            <a:ext cx="320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ЧТ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ЕЛАЮТ?</a:t>
            </a:r>
            <a:br>
              <a:rPr sz="35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64600" y="764640"/>
            <a:ext cx="8458200" cy="59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1. КТО ПО ДОРОГЕ ХОДИТ ПЕШКОМ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258560" y="0"/>
            <a:ext cx="6769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Book"/>
              </a:rPr>
              <a:t>ПРОВЕРЬ СЕБЯ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Заголовок 1"/>
          <p:cNvSpPr/>
          <p:nvPr/>
        </p:nvSpPr>
        <p:spPr>
          <a:xfrm>
            <a:off x="250920" y="1557360"/>
            <a:ext cx="889308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2. КАК НАЗЫВАЕТСЯ ЭТА ЧАСТЬ ДОРОГИ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Заголовок 1"/>
          <p:cNvSpPr/>
          <p:nvPr/>
        </p:nvSpPr>
        <p:spPr>
          <a:xfrm>
            <a:off x="250920" y="2347920"/>
            <a:ext cx="845820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3. КТО УПРАВЛЯЕТ ТРАНСПОРТОМ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Заголовок 1"/>
          <p:cNvSpPr/>
          <p:nvPr/>
        </p:nvSpPr>
        <p:spPr>
          <a:xfrm>
            <a:off x="309600" y="3154320"/>
            <a:ext cx="890748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4. ЧТО НАХОДИТСЯ НА ПРОЕЗЖЕЙ ЧАСТИ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Заголовок 1"/>
          <p:cNvSpPr/>
          <p:nvPr/>
        </p:nvSpPr>
        <p:spPr>
          <a:xfrm>
            <a:off x="309600" y="3960720"/>
            <a:ext cx="9131400" cy="59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5. НА КАКОЙ СИГНАЛ СВЕТОФОРА МОЖНО ПЕРЕХОДИТЬ ДОРОГУ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Заголовок 1"/>
          <p:cNvSpPr/>
          <p:nvPr/>
        </p:nvSpPr>
        <p:spPr>
          <a:xfrm>
            <a:off x="341280" y="5737320"/>
            <a:ext cx="845820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6. ЧТО ДЕЛАЮТ ДОРОЖНЫЕ ЗНАК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Medium"/>
              </a:rPr>
              <a:t>2. БЕЗОПАСНОСТЬ В ШКОЛЕ</a:t>
            </a:r>
            <a:br>
              <a:rPr sz="3200"/>
            </a:br>
            <a:endParaRPr b="0" lang="en-US" sz="4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203640" y="1341000"/>
            <a:ext cx="4851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ва кольца, два конца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середине гвозд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review-image" descr="http://www.evora.ru/images/big/drugie-izdelija/serebro/bez-vstavok/vilka-stolovaja-iz-serebra-55144-0.jpg"/>
          <p:cNvPicPr/>
          <p:nvPr/>
        </p:nvPicPr>
        <p:blipFill>
          <a:blip r:embed="rId1"/>
          <a:srcRect l="0" t="15758" r="0" b="20152"/>
          <a:stretch/>
        </p:blipFill>
        <p:spPr>
          <a:xfrm>
            <a:off x="468360" y="1197000"/>
            <a:ext cx="1727280" cy="1584360"/>
          </a:xfrm>
          <a:prstGeom prst="rect">
            <a:avLst/>
          </a:prstGeom>
          <a:ln w="0">
            <a:noFill/>
          </a:ln>
        </p:spPr>
      </p:pic>
      <p:pic>
        <p:nvPicPr>
          <p:cNvPr id="443" name="preview-image" descr="http://otvetin.ru/uploads/posts/2009-09/1253865851_t04534-dur1771.jpg"/>
          <p:cNvPicPr/>
          <p:nvPr/>
        </p:nvPicPr>
        <p:blipFill>
          <a:blip r:embed="rId2"/>
          <a:srcRect l="3130" t="3182" r="8816" b="3912"/>
          <a:stretch/>
        </p:blipFill>
        <p:spPr>
          <a:xfrm>
            <a:off x="468360" y="5013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444" name="preview-image" descr="http://img1.liveinternet.ru/images/attach/c/2/73/720/73720309_4030949_igla.jpg"/>
          <p:cNvPicPr/>
          <p:nvPr/>
        </p:nvPicPr>
        <p:blipFill>
          <a:blip r:embed="rId3"/>
          <a:srcRect l="18690" t="21505" r="33044" b="6842"/>
          <a:stretch/>
        </p:blipFill>
        <p:spPr>
          <a:xfrm>
            <a:off x="468360" y="3068640"/>
            <a:ext cx="1727280" cy="1655640"/>
          </a:xfrm>
          <a:prstGeom prst="rect">
            <a:avLst/>
          </a:prstGeom>
          <a:ln w="0">
            <a:noFill/>
          </a:ln>
        </p:spPr>
      </p:pic>
      <p:sp>
        <p:nvSpPr>
          <p:cNvPr id="445" name="Содержимое 2"/>
          <p:cNvSpPr/>
          <p:nvPr/>
        </p:nvSpPr>
        <p:spPr>
          <a:xfrm>
            <a:off x="3276720" y="2781360"/>
            <a:ext cx="4851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Я зубаста и ост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Ложки младшая сес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одержимое 2"/>
          <p:cNvSpPr/>
          <p:nvPr/>
        </p:nvSpPr>
        <p:spPr>
          <a:xfrm>
            <a:off x="3203640" y="4292640"/>
            <a:ext cx="485136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аленького роста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онкая и ост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осом путь себе ищ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За собою хвост тащ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378000" y="4846680"/>
            <a:ext cx="8467560" cy="12366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342720" y="1814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3329"/>
                </a:solidFill>
                <a:latin typeface="Franklin Gothic Book"/>
              </a:rPr>
              <a:t>Это  (какие?)      …        предметы.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3329"/>
                </a:solidFill>
                <a:latin typeface="Franklin Gothic Book"/>
              </a:rPr>
              <a:t>Они могут уколоть или порезать вас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9" name="preview-image" descr="http://www.evora.ru/images/big/drugie-izdelija/serebro/bez-vstavok/vilka-stolovaja-iz-serebra-55144-0.jpg"/>
          <p:cNvPicPr/>
          <p:nvPr/>
        </p:nvPicPr>
        <p:blipFill>
          <a:blip r:embed="rId2"/>
          <a:srcRect l="0" t="15758" r="0" b="20152"/>
          <a:stretch/>
        </p:blipFill>
        <p:spPr>
          <a:xfrm>
            <a:off x="1042920" y="11592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450" name="preview-image" descr="http://img1.liveinternet.ru/images/attach/c/2/73/720/73720309_4030949_igla.jpg"/>
          <p:cNvPicPr/>
          <p:nvPr/>
        </p:nvPicPr>
        <p:blipFill>
          <a:blip r:embed="rId3"/>
          <a:srcRect l="18690" t="21505" r="33044" b="6842"/>
          <a:stretch/>
        </p:blipFill>
        <p:spPr>
          <a:xfrm>
            <a:off x="3708360" y="115920"/>
            <a:ext cx="1727280" cy="1657440"/>
          </a:xfrm>
          <a:prstGeom prst="rect">
            <a:avLst/>
          </a:prstGeom>
          <a:ln w="0">
            <a:noFill/>
          </a:ln>
        </p:spPr>
      </p:pic>
      <p:pic>
        <p:nvPicPr>
          <p:cNvPr id="451" name="preview-image" descr="http://otvetin.ru/uploads/posts/2009-09/1253865851_t04534-dur1771.jpg"/>
          <p:cNvPicPr/>
          <p:nvPr/>
        </p:nvPicPr>
        <p:blipFill>
          <a:blip r:embed="rId4"/>
          <a:srcRect l="3130" t="3182" r="8816" b="3912"/>
          <a:stretch/>
        </p:blipFill>
        <p:spPr>
          <a:xfrm>
            <a:off x="6516720" y="189000"/>
            <a:ext cx="1871640" cy="1584360"/>
          </a:xfrm>
          <a:prstGeom prst="rect">
            <a:avLst/>
          </a:prstGeom>
          <a:ln w="0">
            <a:noFill/>
          </a:ln>
        </p:spPr>
      </p:pic>
      <p:sp>
        <p:nvSpPr>
          <p:cNvPr id="452" name="Подзаголовок 2"/>
          <p:cNvSpPr/>
          <p:nvPr/>
        </p:nvSpPr>
        <p:spPr>
          <a:xfrm>
            <a:off x="270000" y="5075280"/>
            <a:ext cx="89265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3329"/>
                </a:solidFill>
                <a:latin typeface="Franklin Gothic Book"/>
              </a:rPr>
              <a:t>Я буду вести себя с этими предметами (как?)                …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review-image" descr="http://go3.imgsmail.ru/imgpreview?key=3b602ddca43d06e2&amp;mb=imgdb_preview_357"/>
          <p:cNvPicPr/>
          <p:nvPr/>
        </p:nvPicPr>
        <p:blipFill>
          <a:blip r:embed="rId5"/>
          <a:stretch/>
        </p:blipFill>
        <p:spPr>
          <a:xfrm>
            <a:off x="3629160" y="3328920"/>
            <a:ext cx="2447640" cy="1728720"/>
          </a:xfrm>
          <a:prstGeom prst="rect">
            <a:avLst/>
          </a:prstGeom>
          <a:ln w="0">
            <a:noFill/>
          </a:ln>
        </p:spPr>
      </p:pic>
      <p:pic>
        <p:nvPicPr>
          <p:cNvPr id="454" name="preview-image" descr="http://img1.joyreactor.cc/pics/post/%D0%9A%D0%BE%D0%BC%D0%B8%D0%BA%D1%81%D1%8B-Married-To-The-Sea-%D0%BD%D0%BE%D0%B6%D0%BD%D0%B8%D1%86%D1%8B-996385.gif"/>
          <p:cNvPicPr/>
          <p:nvPr/>
        </p:nvPicPr>
        <p:blipFill>
          <a:blip r:embed="rId6"/>
          <a:srcRect l="0" t="0" r="4044" b="50670"/>
          <a:stretch/>
        </p:blipFill>
        <p:spPr>
          <a:xfrm>
            <a:off x="6550200" y="325908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http://900igr.net/datai/okruzhajuschij-mir/Opasnosti-doma-i-na-ulitse/0005-012-Ne-igrajte-ostrymi-vilkami.jpg"/>
          <p:cNvPicPr/>
          <p:nvPr/>
        </p:nvPicPr>
        <p:blipFill>
          <a:blip r:embed="rId7"/>
          <a:stretch/>
        </p:blipFill>
        <p:spPr>
          <a:xfrm>
            <a:off x="204840" y="3265560"/>
            <a:ext cx="3181320" cy="179208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3741840" y="174636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Т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1"/>
          <p:cNvSpPr/>
          <p:nvPr/>
        </p:nvSpPr>
        <p:spPr>
          <a:xfrm>
            <a:off x="4403880" y="5800680"/>
            <a:ext cx="26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ККУ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люс 12"/>
          <p:cNvSpPr/>
          <p:nvPr/>
        </p:nvSpPr>
        <p:spPr>
          <a:xfrm rot="2506800">
            <a:off x="299880" y="2733840"/>
            <a:ext cx="3384720" cy="2952720"/>
          </a:xfrm>
          <a:custGeom>
            <a:avLst/>
            <a:gdLst>
              <a:gd name="textAreaLeft" fmla="*/ 448560 w 3384720"/>
              <a:gd name="textAreaRight" fmla="*/ 2936160 w 3384720"/>
              <a:gd name="textAreaTop" fmla="*/ 1446840 h 2952720"/>
              <a:gd name="textAreaBottom" fmla="*/ 1505880 h 2952720"/>
            </a:gdLst>
            <a:ahLst/>
            <a:rect l="textAreaLeft" t="textAreaTop" r="textAreaRight" b="textAreaBottom"/>
            <a:pathLst>
              <a:path w="3384550" h="2952750">
                <a:moveTo>
                  <a:pt x="448622" y="1447010"/>
                </a:moveTo>
                <a:lnTo>
                  <a:pt x="1662910" y="1447010"/>
                </a:lnTo>
                <a:lnTo>
                  <a:pt x="1662910" y="391387"/>
                </a:lnTo>
                <a:lnTo>
                  <a:pt x="1721640" y="391387"/>
                </a:lnTo>
                <a:lnTo>
                  <a:pt x="1721640" y="1447010"/>
                </a:lnTo>
                <a:lnTo>
                  <a:pt x="2935928" y="1447010"/>
                </a:lnTo>
                <a:lnTo>
                  <a:pt x="2935928" y="1505740"/>
                </a:lnTo>
                <a:lnTo>
                  <a:pt x="1721640" y="1505740"/>
                </a:lnTo>
                <a:lnTo>
                  <a:pt x="1721640" y="2561363"/>
                </a:lnTo>
                <a:lnTo>
                  <a:pt x="1662910" y="2561363"/>
                </a:lnTo>
                <a:lnTo>
                  <a:pt x="1662910" y="1505740"/>
                </a:lnTo>
                <a:lnTo>
                  <a:pt x="448622" y="1505740"/>
                </a:lnTo>
                <a:close/>
              </a:path>
            </a:pathLst>
          </a:custGeom>
          <a:solidFill>
            <a:srgbClr val="ff0000"/>
          </a:solidFill>
          <a:ln w="399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04:23:37Z</dcterms:created>
  <dc:creator>михаил</dc:creator>
  <dc:description/>
  <dc:language>en-US</dc:language>
  <cp:lastModifiedBy>михаил</cp:lastModifiedBy>
  <dcterms:modified xsi:type="dcterms:W3CDTF">2016-10-10T17:03:09Z</dcterms:modified>
  <cp:revision>43</cp:revision>
  <dc:subject/>
  <dc:title>Слайд 1</dc:title>
</cp:coreProperties>
</file>