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06C-56E1-4908-9E68-EF877379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5649-58C6-45F3-85AC-78BE9D8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F8B-27C4-4F13-95B6-2E489EAF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DEF-92D2-4123-8CEE-C911A329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B31-BF11-4FAF-B6D6-ED4B92EE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C14-1C95-466A-A6A3-0CE155B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1969-14BA-4A87-88DC-EF0F0A01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2FA-5C92-4C82-8AD0-00CF4855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A85-4264-449F-8211-56513B3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237-6531-4394-BABF-86021EB9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ADC-55A0-48FD-AFC2-2ED05CEE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12C-1CBC-4DCC-953C-A4BD7759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A496-44CC-402F-A7E9-B2E01BDCBE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1871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лимпиада.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древних времен до наших 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6" descr=""/>
          <p:cNvPicPr/>
          <p:nvPr/>
        </p:nvPicPr>
        <p:blipFill>
          <a:blip r:embed="rId1"/>
          <a:stretch/>
        </p:blipFill>
        <p:spPr>
          <a:xfrm>
            <a:off x="1593720" y="3573360"/>
            <a:ext cx="5969160" cy="289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833400" y="11592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ю составила: учитель физкультуры МБОУ Софринская СОШ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това Л.Н., 05. 07. 2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5" descr=""/>
          <p:cNvPicPr/>
          <p:nvPr/>
        </p:nvPicPr>
        <p:blipFill>
          <a:blip r:embed="rId1"/>
          <a:stretch/>
        </p:blipFill>
        <p:spPr>
          <a:xfrm>
            <a:off x="762120" y="2014560"/>
            <a:ext cx="7619760" cy="369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ять скреплённых колец символизируют объединение пяти частей света в олимпийском движ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Безимени-1"/>
          <p:cNvPicPr/>
          <p:nvPr/>
        </p:nvPicPr>
        <p:blipFill>
          <a:blip r:embed="rId1"/>
          <a:stretch/>
        </p:blipFill>
        <p:spPr>
          <a:xfrm>
            <a:off x="596880" y="1758960"/>
            <a:ext cx="4751280" cy="486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92360" y="3235320"/>
            <a:ext cx="33829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травы, зеленый цвет – Из Австралии прив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востоке рано-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це окна золот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у-то желтый цвет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Азии прив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Безимени-2"/>
          <p:cNvPicPr/>
          <p:nvPr/>
        </p:nvPicPr>
        <p:blipFill>
          <a:blip r:embed="rId1"/>
          <a:stretch/>
        </p:blipFill>
        <p:spPr>
          <a:xfrm>
            <a:off x="324000" y="83664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ют вс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черный цве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ойной Афр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в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Безимени-3-gif"/>
          <p:cNvPicPr/>
          <p:nvPr/>
        </p:nvPicPr>
        <p:blipFill>
          <a:blip r:embed="rId1"/>
          <a:stretch/>
        </p:blipFill>
        <p:spPr>
          <a:xfrm>
            <a:off x="468360" y="1125360"/>
            <a:ext cx="4824360" cy="496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Америке нег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без собственны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ный цвет – ва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шлет при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Безимени-4"/>
          <p:cNvPicPr/>
          <p:nvPr/>
        </p:nvPicPr>
        <p:blipFill>
          <a:blip r:embed="rId1"/>
          <a:stretch/>
        </p:blipFill>
        <p:spPr>
          <a:xfrm>
            <a:off x="395280" y="105264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Европы дружбы тро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нам спешат – препятстви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какой же цвет Европ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лубой Европы ц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Безимени-5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ыстрее, выше, сильне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«Citius, Altius, Fortius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озунг был придуман французским священником Анри Дидоном и предложен Пьером де Кубертеном при создании Международного олимпийского комитета в 1894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2859120" y="4437000"/>
            <a:ext cx="3384360" cy="223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остаточных зна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огласно легенде основал Олимпийские игр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дней длились состязания в древней Гре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лимпийские игры перестали проводиться с 394 года до н.э.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озродил традицию проведения Олимпийских иг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тлично поработали, поздравля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87280" y="6165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зентацию составила: учитель физкультуры МБОУ Софринская СОШ№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ктова Л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на Олимпийских игр - Древня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реция, а именно почитаемое греками святилище Олимп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6264360" cy="343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одной из легенд Геракл установил состязания, которые должны были происходить раз в 5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 он победил в беге 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амять об этом посадил на берегу реки Алфей куст оливы, ветками которой награждались потом Олимпийские чемп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38280" cy="29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мпийские игры проводились в «священном» для древних греков округе Альтис (Олимпия), гордостью которого была статуя Зевса в храме Зевса Олимпий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дее олимпиад был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ложено стремление люд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миру в условиях постоя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735280" cy="41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ЛИМПИЙСКИЙ ОГО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лимпийский огонь зажигался на центральном стадионе г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olimpia факел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619280" y="2644920"/>
            <a:ext cx="5616720" cy="38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тем юноша принимал факел из рук девушки, зажегшей огонь, и в сопровождении группы бегунов отправлялся в п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68360" y="2544840"/>
            <a:ext cx="5328000" cy="41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1"/>
          <p:cNvPicPr/>
          <p:nvPr/>
        </p:nvPicPr>
        <p:blipFill>
          <a:blip r:embed="rId1"/>
          <a:stretch/>
        </p:blipFill>
        <p:spPr>
          <a:xfrm>
            <a:off x="6732720" y="2962440"/>
            <a:ext cx="2146320" cy="350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360" y="260280"/>
            <a:ext cx="822960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день игр открывал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язаниями в беге. После бега начиналась бор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20"/>
          <p:cNvPicPr/>
          <p:nvPr/>
        </p:nvPicPr>
        <p:blipFill>
          <a:blip r:embed="rId2"/>
          <a:stretch/>
        </p:blipFill>
        <p:spPr>
          <a:xfrm>
            <a:off x="468360" y="1359000"/>
            <a:ext cx="2303280" cy="276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43280" y="1773360"/>
            <a:ext cx="56894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день состязаний начинался с пятиборья (бег и борьба, метание диска, копья и прыжки)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1403280" y="4005360"/>
            <a:ext cx="56898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дний день игр посвящался состязаниям на ипподром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46040" y="5516640"/>
            <a:ext cx="56307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обедитель олимпийских игр всю жизнь оставался почитаемым челов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В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импийские игры существенно потеряли своё значение с приходом римля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того, как христианство стало официальной религией, игры стали рассматриваться как проявление язычества и в 394 н. э. были запрещены императором Феодосием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15"/>
          <p:cNvPicPr/>
          <p:nvPr/>
        </p:nvPicPr>
        <p:blipFill>
          <a:blip r:embed="rId1"/>
          <a:stretch/>
        </p:blipFill>
        <p:spPr>
          <a:xfrm>
            <a:off x="1374840" y="378936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ЗРОЖ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1080" y="1197000"/>
            <a:ext cx="8291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766- в результате археологических раскопок в Олимпии, были обнаружены спортивные и храмовые соору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27"/>
          <p:cNvPicPr/>
          <p:nvPr/>
        </p:nvPicPr>
        <p:blipFill>
          <a:blip r:embed="rId1"/>
          <a:stretch/>
        </p:blipFill>
        <p:spPr>
          <a:xfrm>
            <a:off x="5940360" y="2201760"/>
            <a:ext cx="3087720" cy="36036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63440" y="4292640"/>
            <a:ext cx="5776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конгрессе 1894 года в Сорбонне, Пьер де Кубертен представил свои мысли и идеи международной публик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последний день конгресса было принято решение о том, что первые Олимпийские Игры современности должны состояться в 1896 году в Афин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157320" y="2516040"/>
            <a:ext cx="541656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«Германия раскопала то, что осталось от древней Олимпии. Почему Франция не может восстановить старое величие?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/ барон Пьер де Кубертен /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6:22:24Z</dcterms:created>
  <dc:creator>Alina</dc:creator>
  <dc:description/>
  <dc:language>en-US</dc:language>
  <cp:lastModifiedBy>Admin</cp:lastModifiedBy>
  <cp:lastPrinted>2012-12-30T17:59:22Z</cp:lastPrinted>
  <dcterms:modified xsi:type="dcterms:W3CDTF">2023-07-09T11:50:52Z</dcterms:modified>
  <cp:revision>14</cp:revision>
  <dc:subject/>
  <dc:title>Олимпиада. С древних времен до наших дней</dc:title>
</cp:coreProperties>
</file>