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9F6-46E2-46E5-9894-D2E1AD1A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D36-A14C-439C-A70B-8B0B4473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3A9-31F2-46E3-9E45-B336C050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0A-A784-4902-9773-8526A70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B36-00F0-4397-AF86-514EBAD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AC2-A410-4B39-9DA5-AE1BC337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013-2AC7-4B15-BC98-BD486BA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707-F7BC-475B-A54A-EAFBBE0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69B-23B8-4099-8F99-AAB3854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5CC-BC9F-4DEB-852C-528D2CE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9D6-6E4A-4493-B5BE-14453E4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70E-1B4C-4C6D-A736-F4A0C65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B3E-1FBF-4EFE-97DC-0884C11BE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1871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лимпиада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евних времен до наших 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1"/>
          <a:stretch/>
        </p:blipFill>
        <p:spPr>
          <a:xfrm>
            <a:off x="1593720" y="3573360"/>
            <a:ext cx="5969160" cy="289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833400" y="1159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составила: учитель физкультуры МБОУ Софринская СОШ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това Л.Н., 05. 07. 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5" descr=""/>
          <p:cNvPicPr/>
          <p:nvPr/>
        </p:nvPicPr>
        <p:blipFill>
          <a:blip r:embed="rId1"/>
          <a:stretch/>
        </p:blipFill>
        <p:spPr>
          <a:xfrm>
            <a:off x="762120" y="2014560"/>
            <a:ext cx="7619760" cy="36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ять скреплённых колец символизируют объединение пяти частей света в олимпийском дви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Безимени-1"/>
          <p:cNvPicPr/>
          <p:nvPr/>
        </p:nvPicPr>
        <p:blipFill>
          <a:blip r:embed="rId1"/>
          <a:stretch/>
        </p:blipFill>
        <p:spPr>
          <a:xfrm>
            <a:off x="596880" y="1758960"/>
            <a:ext cx="4751280" cy="486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92360" y="3235320"/>
            <a:ext cx="33829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травы, зеленый цвет – Из Австралии прив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востоке рано-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окна золо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у-то желтый цвет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Азии прив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Безимени-2"/>
          <p:cNvPicPr/>
          <p:nvPr/>
        </p:nvPicPr>
        <p:blipFill>
          <a:blip r:embed="rId1"/>
          <a:stretch/>
        </p:blipFill>
        <p:spPr>
          <a:xfrm>
            <a:off x="324000" y="83664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ют вс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черный цве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ойной Афр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Безимени-3-gif"/>
          <p:cNvPicPr/>
          <p:nvPr/>
        </p:nvPicPr>
        <p:blipFill>
          <a:blip r:embed="rId1"/>
          <a:stretch/>
        </p:blipFill>
        <p:spPr>
          <a:xfrm>
            <a:off x="468360" y="1125360"/>
            <a:ext cx="4824360" cy="496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Америке нег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без собствен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й цвет – ва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шлет при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Безимени-4"/>
          <p:cNvPicPr/>
          <p:nvPr/>
        </p:nvPicPr>
        <p:blipFill>
          <a:blip r:embed="rId1"/>
          <a:stretch/>
        </p:blipFill>
        <p:spPr>
          <a:xfrm>
            <a:off x="395280" y="105264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Европы дружбы тр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нам спешат – препятств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какой же цвет Европ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убой Европы ц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Безимени-5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ыстрее, выше, сильне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Citius, Altius, Fortius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озунг был придуман французским священником Анри Дидоном и предложен Пьером де Кубертеном при создании Международного олимпийского комитета в 1894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2859120" y="4437000"/>
            <a:ext cx="3384360" cy="223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остаточных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огласно легенде основал Олимпийские иг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дней длились состязания в древней Гре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лимпийские игры перестали проводиться с 394 года до н.э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озродил традицию проведения Олимпийских иг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тлично поработали, поздравля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87280" y="6165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составила: учитель физкультуры МБОУ Софринская СОШ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ктова Л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на Олимпийских игр - Древня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еция, а именно почитаемое греками святилище Олим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6264360" cy="343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дной из легенд Геракл установил состязания, которые должны были происходить раз в 5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он победил в беге 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мять об этом посадил на берегу реки Алфей куст оливы, ветками которой награждались потом Олимпийские чемп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3828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мпийские игры проводились в «священном» для древних греков округе Альтис (Олимпия), гордостью которого была статуя Зевса в храме Зевса Олимпий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дее олимпиад бы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ложено стремление люд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миру в условиях постоя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735280" cy="41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ИМПИЙСКИЙ ОГО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мпийский огонь зажигался на центральном стадионе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olimpia факел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619280" y="2644920"/>
            <a:ext cx="5616720" cy="38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юноша принимал факел из рук девушки, зажегшей огонь, и в сопровождении группы бегунов отправлялся в п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68360" y="2544840"/>
            <a:ext cx="53280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1"/>
          <p:cNvPicPr/>
          <p:nvPr/>
        </p:nvPicPr>
        <p:blipFill>
          <a:blip r:embed="rId1"/>
          <a:stretch/>
        </p:blipFill>
        <p:spPr>
          <a:xfrm>
            <a:off x="6732720" y="296244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360" y="260280"/>
            <a:ext cx="822960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день игр открывал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язаниями в беге. После бега начиналась бор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20"/>
          <p:cNvPicPr/>
          <p:nvPr/>
        </p:nvPicPr>
        <p:blipFill>
          <a:blip r:embed="rId2"/>
          <a:stretch/>
        </p:blipFill>
        <p:spPr>
          <a:xfrm>
            <a:off x="468360" y="1359000"/>
            <a:ext cx="2303280" cy="276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43280" y="1773360"/>
            <a:ext cx="56894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день состязаний начинался с пятиборья (бег и борьба, метание диска, копья и прыжки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1403280" y="4005360"/>
            <a:ext cx="56898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дний день игр посвящался состязаниям на ипподром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46040" y="5516640"/>
            <a:ext cx="56307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бедитель олимпийских игр всю жизнь оставался почитаемым челов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В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импийские игры существенно потеряли своё значение с приходом римля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того, как христианство стало официальной религией, игры стали рассматриваться как проявление язычества и в 394 н. э. были запрещены императором Феодосием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15"/>
          <p:cNvPicPr/>
          <p:nvPr/>
        </p:nvPicPr>
        <p:blipFill>
          <a:blip r:embed="rId1"/>
          <a:stretch/>
        </p:blipFill>
        <p:spPr>
          <a:xfrm>
            <a:off x="1374840" y="378936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Р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1080" y="1197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766- в результате археологических раскопок в Олимпии, были обнаружены спортивные и храмовые соору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27"/>
          <p:cNvPicPr/>
          <p:nvPr/>
        </p:nvPicPr>
        <p:blipFill>
          <a:blip r:embed="rId1"/>
          <a:stretch/>
        </p:blipFill>
        <p:spPr>
          <a:xfrm>
            <a:off x="5940360" y="2201760"/>
            <a:ext cx="3087720" cy="36036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63440" y="4292640"/>
            <a:ext cx="5776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конгрессе 1894 года в Сорбонне, Пьер де Кубертен представил свои мысли и идеи международной публи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последний день конгресса было принято решение о том, что первые Олимпийские Игры современности должны состояться в 1896 году в Афин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57320" y="2516040"/>
            <a:ext cx="541656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«Германия раскопала то, что осталось от древней Олимпии. Почему Франция не может восстановить старое величие?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/ барон Пьер де Кубертен /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6:22:24Z</dcterms:created>
  <dc:creator>Alina</dc:creator>
  <dc:description/>
  <dc:language>en-US</dc:language>
  <cp:lastModifiedBy>Admin</cp:lastModifiedBy>
  <cp:lastPrinted>2012-12-30T17:59:22Z</cp:lastPrinted>
  <dcterms:modified xsi:type="dcterms:W3CDTF">2023-07-09T11:50:52Z</dcterms:modified>
  <cp:revision>14</cp:revision>
  <dc:subject/>
  <dc:title>Олимпиада. С древних времен до наших дней</dc:title>
</cp:coreProperties>
</file>