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1B9-0794-426E-8267-5A3B06DF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9D2-733C-4E36-8363-7AE33856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538-44B5-4802-B010-DB959816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DE7-2662-4565-AEAF-B0487D82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A35-8A43-4CEC-BE94-E1FD7D95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EA3-28E3-4A8B-BF40-E06D032D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8EF-8438-47AF-A514-969D2D26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EBD-561D-4290-B3B3-790246DF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C6A-BE6E-468D-98D7-D518ED0C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1FF-CEEE-4335-A1C6-A5D5C87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FF0-3C81-48E1-B3B1-4A74B34E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486-CDDA-4563-B556-31BFF1B3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4F7A-8B2B-45FC-8EC2-28610E12D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52280" y="68580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  <a:ea typeface="Times New Roman"/>
              </a:rPr>
              <a:t>РЕЧЕВОЕ РАЗВИТИЕ –ЗНАЧИМАЯ ОБРАЗОВАТЕЛЬНАЯ ОБЛАСТЬ ФГОС Д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 flipV="1" rot="10800000">
            <a:off x="3048120" y="4929840"/>
            <a:ext cx="5943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рехова Ирина Валент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0" y="763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КОММУНИКАТИВНЫХ ПРЕДПОСЫЛОК УУД В РЕЧЕВОМ  РАЗВИТИИ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1143000"/>
            <a:ext cx="9144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общаться, взаимодействовать с людьм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 достаточной полнотой и точностью выражать свои мысли в соответствии с задачами и условиями коммуникац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своих и чужих поступков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регуляция поведения и эмоционально-волевых 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52280" y="15228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РЕЧЕВОЕ РАЗВИТИЕ ПРЕОБЛАДАЕТ В ОСНОВНЫХ ВИДАХ ДЕТ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0" y="190656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вательно-исследовательс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риятии художественной литературы и фолькл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52280" y="1522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ОБРАЗОВАТЕЛЬНАЯ ОБЛАСТЬ – «РЕЧЕВОЕ РАЗВИТИЕ» ВКЛЮЧ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0" y="1295280"/>
            <a:ext cx="91440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ние речью как средством общения и культур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гащения активного словаря, развития связной, грамматически правильной диалогической и монологической речи, развитие речевого творчеств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я звуковой и интонационной культуры речи, фонематического слух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омство с книжной культурой, детской литературой, понимание на слух текстов различных жанров детской литератур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ирование звуковой аналитико-синтетической активности как предпосылки обучения грамо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. 2.6 ФГОС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1" descr=""/>
          <p:cNvPicPr/>
          <p:nvPr/>
        </p:nvPicPr>
        <p:blipFill>
          <a:blip r:embed="rId2"/>
          <a:stretch/>
        </p:blipFill>
        <p:spPr>
          <a:xfrm>
            <a:off x="73080" y="60480"/>
            <a:ext cx="89247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5076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0" y="152280"/>
            <a:ext cx="92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ОСНОВНЫЕ КОМПЕТЕНТНОСТИ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-25560" y="911160"/>
            <a:ext cx="929664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ые для создания социальной ситуации развития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ПЕ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МПЕТЕНТНОСТЬ (ПРОФЕССИОНАЛЬ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высокого профессионального уровня, результативности твор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ЦИ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пособность брать ответственность и принимать решения, взаимодействовать с коллегами, окружающими люд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ЛИЧН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качеств организованности, работоспособности; психологической совместимость со всеми участниками образовате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личие индивидуального стиля профессиональной деятельности, неповторимости, самобытности педагога в профессиональном поведении и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28600" y="380880"/>
            <a:ext cx="8763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РАССКАЖИ МНЕ И Я ЗАБУ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ОКАЖИ МНЕ И Я ЗАПОМН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ОВЛЕКИ МЕНЯ И Я НАУЧУ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РОДНАЯ МУДР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295.png"/>
          <p:cNvPicPr/>
          <p:nvPr/>
        </p:nvPicPr>
        <p:blipFill>
          <a:blip r:embed="rId3"/>
          <a:stretch/>
        </p:blipFill>
        <p:spPr>
          <a:xfrm>
            <a:off x="3505320" y="3124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90720" y="228600"/>
            <a:ext cx="792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ЦЕЛЬ ОБУЧЕНИЯ РЕБЕНКА СОСТОИТ В ТОМ, ЧТОБЫ СДЕЛАТЬ ЕГО СПОСОБНЫМ РАЗВИВАТЬСЯ ДАЛЬШ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ЛБЕРТ ХАББ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971800" y="31669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152280" y="22860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ЦЕЛЬ СОВРЕМЕННОГО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52280" y="1600200"/>
            <a:ext cx="883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школьное образование направлено на формирование общей культуры, развитие физических, интеллектуальных, нравственных, эстетических, личностных качеств, формирование предпосылок учебной деятельности, сохранение укрепление здоровь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ст. 64 ФЗ Об образовании в РФ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58760" y="76320"/>
            <a:ext cx="88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ЦЕЛЕВЫЕ ОРИЕНТИРЫ РЕЧЕВОГО РАЗВИТИЯ В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-4680" y="1176480"/>
            <a:ext cx="9137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Ранний возраст: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ладеет активной речью, включенной в об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обращаться с вопросами и просьбами, понимает речь взрослых; знает названия окружающих предметов и игруш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6 – 7 л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достаточно хорошо владеет устной речью, может выражать свои мысли и желания, может использовать речь для выражения своих мыслей, чувств, желаний, построения речевого высказывания в ситуации общения, может выделять звуки в словах, у ребенка складываются предпосылки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52280" y="763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СЫЛКИ УНИВЕРСАЛЬНЫХ УЧЕБНЫХ ДЕЙСТВИЙ (УУ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0" y="1447920"/>
            <a:ext cx="883908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УД - это умение учиться, то есть способность человека к самосовершенствованию через усвоение нового социального опыта (Википед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УД - это способность ребенка к саморазвитию путем активного усвоения и получения знаний через практическую деятельность, «умение учить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76320" y="1522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ЕДПОСЫЛКИ ФОРМИРОВАНИЯ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52280" y="990720"/>
            <a:ext cx="883944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познаватель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умение строить высказывание, формулировка проблемы, рефлексия деятельности, структурирование знаний, поиск информации, смысловое чтение, моделирова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регулятив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цель-план-прогноз-контроль-коррекция-оце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личностные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амоопределение, смыслообразование, нравственно-эстетическое оценивание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Times New Roman"/>
              </a:rPr>
              <a:t>коммуникативны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постановка вопросов, разрешение конфликтов, умение выражать свои мысли, управление поведением партнера, планирование учебного сотрудничеств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0" y="15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ПОЗНАВАТЕЛЬ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6320" y="1722600"/>
            <a:ext cx="8915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 и произвольное построение речевого высказывания в устной и письменной форм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улирование проблем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е выделение и формулирование познаватель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76320" y="1522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РЕГУЛЯТИВ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 flipV="1" rot="10800000">
            <a:off x="-360" y="205704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оценивать результат, осуществлять контроль за соответствием способа действия с заданным эталоном, внесение необходимых дополнений и коррек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76320" y="763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ФОРМИРОВАНИЕ ЛИЧНОСТНЫХ ПРЕДПОСЫЛОК УУД В РЕЧЕВОМ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2209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о-этическая ориентация, в том числе оценивание усваиваемого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0:19:06Z</dcterms:created>
  <dc:creator>ГДОУ</dc:creator>
  <dc:description/>
  <dc:language>en-US</dc:language>
  <cp:lastModifiedBy>User</cp:lastModifiedBy>
  <dcterms:modified xsi:type="dcterms:W3CDTF">2016-06-14T15:39:44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