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E430-591F-48B2-BD73-8B236E66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2AFC-9B68-4EB2-BC9A-FE170BA5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E50-3231-47D2-91FB-6309B5AC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859-22A0-4CAB-A3FB-ECCA35BF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261-766D-4C79-A949-5F586D50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097-5E5B-4F71-BA24-129D0F20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CAD-1036-4982-97C7-6617CC94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23D-5FDB-49F3-B5E4-F75B1C4F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B27-1AA8-4E88-A271-606503C0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3CE-9F26-41B7-8E72-8CE15DED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9EC-7E6E-434F-B2EF-0F32E721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29F-679B-4C5D-B995-CF0A6DD0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292D-3C09-4679-A874-044E9D2FF5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152280" y="68580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Arial"/>
                <a:ea typeface="Times New Roman"/>
              </a:rPr>
              <a:t>РЕЧЕВОЕ РАЗВИТИЕ –ЗНАЧИМАЯ ОБРАЗОВАТЕЛЬНАЯ ОБЛАСТЬ ФГОС Д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 flipV="1" rot="10800000">
            <a:off x="3048120" y="4929840"/>
            <a:ext cx="59436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рехова Ирина Валенти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0" y="763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ФОРМИРОВАНИЕ КОММУНИКАТИВНЫХ ПРЕДПОСЫЛОК УУД В РЕЧЕВОМ  РАЗВИТИИ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0" y="1143000"/>
            <a:ext cx="914400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общаться, взаимодействовать с людьм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 достаточной полнотой и точностью выражать свои мысли в соответствии с задачами и условиями коммуникац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своих и чужих поступков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регуляция поведения и эмоционально-волевых 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152280" y="1522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РЕЧЕВОЕ РАЗВИТИЕ ПРЕОБЛАДАЕТ В ОСНОВНЫХ ВИДАХ ДЕТСК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0" y="1906560"/>
            <a:ext cx="914400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муникатив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о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навательно-исследователь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риятии художественной литературы и фолькл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152280" y="1522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ОБРАЗОВАТЕЛЬНАЯ ОБЛАСТЬ – «РЕЧЕВОЕ РАЗВИТИЕ» ВКЛЮЧ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0" y="1295280"/>
            <a:ext cx="9144000" cy="55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владение речью как средством общения и культур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гащения активного словаря, развития связной, грамматически правильной диалогической и монологической речи, развитие речевого творчеств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я звуковой и интонационной культуры речи, фонематического слух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комство с книжной культурой, детской литературой, понимание на слух текстов различных жанров детской литератур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звуковой аналитико-синтетической активности как предпосылки обучения грамо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. 2.6 ФГОС 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Схема 1" descr=""/>
          <p:cNvPicPr/>
          <p:nvPr/>
        </p:nvPicPr>
        <p:blipFill>
          <a:blip r:embed="rId2"/>
          <a:stretch/>
        </p:blipFill>
        <p:spPr>
          <a:xfrm>
            <a:off x="73080" y="60480"/>
            <a:ext cx="8924760" cy="67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0" y="152280"/>
            <a:ext cx="92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СНОВНЫЕ КОМПЕТЕНТНОСТИ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-25560" y="911160"/>
            <a:ext cx="929664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ые для создания социальной ситуации развития воспитан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ПЕ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МПЕТЕНТНОСТЬ (ПРОФЕССИОНАЛЬН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высокого профессионального уровня, результативности твор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ОЦИА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пособность брать ответственность и принимать решения, взаимодействовать с коллегами, окружающими люд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ЛИЧНОС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качеств организованности, работоспособности; психологической совместимость со всеми участниками образовательн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ИНДИВИДУ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индивидуального стиля профессиональной деятельности, неповторимости, самобытности педагога в профессиональном поведении и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28600" y="380880"/>
            <a:ext cx="87631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РАССКАЖИ МНЕ И Я ЗАБУ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ОКАЖИ МНЕ И Я ЗАПОМН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ВОВЛЕКИ МЕНЯ И Я НАУЧУ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РОДНАЯ МУДР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295.png"/>
          <p:cNvPicPr/>
          <p:nvPr/>
        </p:nvPicPr>
        <p:blipFill>
          <a:blip r:embed="rId3"/>
          <a:stretch/>
        </p:blipFill>
        <p:spPr>
          <a:xfrm>
            <a:off x="3505320" y="31240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990720" y="228600"/>
            <a:ext cx="7924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ЦЕЛЬ ОБУЧЕНИЯ РЕБЕНКА СОСТОИТ В ТОМ, ЧТОБЫ СДЕЛАТЬ ЕГО СПОСОБНЫМ РАЗВИВАТЬСЯ ДАЛЬШ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ЛБЕРТ ХАББ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971800" y="31669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152280" y="22860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ЦЕЛЬ СОВРЕМЕННОГО 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52280" y="1600200"/>
            <a:ext cx="883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школьное образование направлено на формирование общей культуры, развитие физических, интеллектуальных, нравственных, эстетических, личностных качеств, формирование предпосылок учебной деятельности, сохранение укрепление здоровья де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ст. 64 ФЗ Об образовании в Р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158760" y="76320"/>
            <a:ext cx="881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ЦЕЛЕВЫЕ ОРИЕНТИРЫ РЕЧЕВОГО РАЗВИТИЯ В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-4680" y="1176480"/>
            <a:ext cx="9137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анний возраст: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ладеет активной речью, включенной в об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т обращаться с вопросами и просьбами, понимает речь взрослых; знает названия окружающих предметов и игруш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6 – 7 лет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достаточно хорошо владеет устной речью, может выражать свои мысли и желания, может использовать речь для выражения своих мыслей, чувств, желаний, построения речевого высказывания в ситуации общения, может выделять звуки в словах, у ребенка складываются предпосылки грам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152280" y="763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ДПОСЫЛКИ УНИВЕРСАЛЬНЫХ УЧЕБНЫХ ДЕЙСТВИЙ (УУ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0" y="1447920"/>
            <a:ext cx="8839080" cy="50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УД - это умение учиться, то есть способность человека к самосовершенствованию через усвоение нового социального опыта (Википед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УД - это способность ребенка к саморазвитию путем активного усвоения и получения знаний через практическую деятельность, «умение учить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76320" y="1522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ДПОСЫЛКИ ФОРМИРОВАНИЯ У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152280" y="990720"/>
            <a:ext cx="8839440" cy="54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познавательные</a:t>
            </a:r>
            <a:r>
              <a:rPr b="1" i="1" lang="ru-RU" sz="2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умение строить высказывание, формулировка проблемы, рефлексия деятельности, структурирование знаний, поиск информации, смысловое чтение, моделировани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регулятивные</a:t>
            </a:r>
            <a:r>
              <a:rPr b="1" i="1" lang="ru-RU" sz="2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цель-план-прогноз-контроль-коррекция-оценк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личностные</a:t>
            </a:r>
            <a:r>
              <a:rPr b="1" i="1" lang="ru-RU" sz="2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самоопределение, смыслообразование, нравственно-эстетическое оценивание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коммуникативные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постановка вопросов, разрешение конфликтов, умение выражать свои мысли, управление поведением партнера, планирование учебного сотрудничеств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0" y="15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ФОРМИРОВАНИЕ ПОЗНАВАТЕЛЬНЫХ ПРЕДПОСЫЛОК УУД В РЕЧЕВОМ РАЗВИ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76320" y="1722600"/>
            <a:ext cx="8915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знанное и произвольное построение речевого высказывания в устной и письменной форм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ирование проблем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тоятельное выделение и формулирование познаватель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76320" y="1522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ФОРМИРОВАНИЕ РЕГУЛЯТИВНЫХ ПРЕДПОСЫЛОК УУД В РЕЧЕВОМ РАЗВИ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 flipV="1" rot="10800000">
            <a:off x="-360" y="205704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оценивать результат, осуществлять контроль за соответствием способа действия с заданным эталоном, внесение необходимых дополнений и коррек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76320" y="7632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ФОРМИРОВАНИЕ ЛИЧНОСТНЫХ ПРЕДПОСЫЛОК УУД В РЕЧЕВОМ РАЗВИ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28600" y="220968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равственно-этическая ориентация, в том числе оценивание усваиваемого содерж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4T10:19:06Z</dcterms:created>
  <dc:creator>ГДОУ</dc:creator>
  <dc:description/>
  <dc:language>en-US</dc:language>
  <cp:lastModifiedBy>User</cp:lastModifiedBy>
  <dcterms:modified xsi:type="dcterms:W3CDTF">2016-06-14T15:39:44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