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FEF-703A-4D1D-96F2-1E82D4B4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1DE-24BC-4593-8E27-FDCDE3AE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A49-8E77-4D2D-BD85-4D74F056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6C3-853F-4C0F-8F4B-71E0481C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A47D-2318-4B3F-9ECF-7AFF17CE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CB7F-AAC2-4290-A6E9-214AE8E4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DED4-D26D-45A7-8043-6FE9583F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EA75-7E57-40D1-AD7A-8DC5AEC8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2046-03BD-45FA-9FD8-EA198336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2EEB-245A-40D8-BC05-4AB0214B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1B46-3176-4755-9D3A-E8910FA1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892-9B0A-4A38-A592-017B542C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AA22-2818-4E6E-A4DA-BDC1BE7C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9824-6D37-4644-ADE3-9D5A73BC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74C9-01AB-48EE-866E-6DEF43F7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4314-1A63-4D69-926C-A3C472F3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E9E5-042A-4CA2-B954-2B547E28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C15-1B50-495D-9C27-7C390632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122-9D11-4CCA-AFDD-3E802516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786-3E20-44BC-A0E9-CBF79D2E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59D-81E6-49B6-B6E1-89F496A8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788-6B9E-4D26-B9E8-AC9627E1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17F6-72B8-4EF1-A608-FB4022FC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E10-AA24-4C1B-AD58-66C4D709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D619-DCF0-4C81-8940-6381905A9AA9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BF8F-3F11-4BE2-B095-82F55BE9DCA7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shkola9.edusite.ru/images/p52_p3220298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80520" y="22856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Логопедическое сопровождение детей с ОВ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530280" y="60336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76176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Формирование навыков письма и чтения у младших школьников с ОВЗ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олнение пробелов звуковой стороны реч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фонематического восприят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навыков звукового анализа и синте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графо-моторных навы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пространственно-временных представл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слуховой и зрительной памяти, внимания, мышл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91404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гностика готовности учащихся к овладению письменной реч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упражнений по формированию психологической базы письма и чт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упражнений по формированию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нематических процессов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ыков звуко-буквенного анализ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троль уровня сформированности фонематического слуха, навыков звукового анализа и синтез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7720" y="13716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мся  с ОВЗ коррекционные занят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гут сформировать полноценные навыки грамотного письма и чтения не только в период обучения грамоте, но и в последующие годы обуч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ат осуществлять звуковой синтез и соотносить письменный код со звуковым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уют навыки пространственной ориентировки, будут способствовать развитию внимания, памяти и  мелкой моторики ру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хема 3" descr=""/>
          <p:cNvPicPr/>
          <p:nvPr/>
        </p:nvPicPr>
        <p:blipFill>
          <a:blip r:embed="rId1"/>
          <a:stretch/>
        </p:blipFill>
        <p:spPr>
          <a:xfrm>
            <a:off x="895320" y="603360"/>
            <a:ext cx="7572240" cy="5273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3886200" y="2590920"/>
            <a:ext cx="2133720" cy="175248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товн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овладению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исьмен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чь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990720" y="1905120"/>
            <a:ext cx="2286000" cy="99036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нематическ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у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990720" y="4038480"/>
            <a:ext cx="2286000" cy="99072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афическ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вы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8"/>
          <p:cNvSpPr/>
          <p:nvPr/>
        </p:nvSpPr>
        <p:spPr>
          <a:xfrm>
            <a:off x="4038480" y="5410080"/>
            <a:ext cx="2286000" cy="99072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ображени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им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6629400" y="3809880"/>
            <a:ext cx="2286000" cy="106704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странстве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иент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6553080" y="1981080"/>
            <a:ext cx="2286000" cy="990720"/>
          </a:xfrm>
          <a:prstGeom prst="ellipse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ритель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1"/>
          <p:cNvSpPr/>
          <p:nvPr/>
        </p:nvSpPr>
        <p:spPr>
          <a:xfrm flipV="1">
            <a:off x="3124080" y="3809880"/>
            <a:ext cx="8384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3200400" y="2590920"/>
            <a:ext cx="76212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3"/>
          <p:cNvSpPr/>
          <p:nvPr/>
        </p:nvSpPr>
        <p:spPr>
          <a:xfrm flipH="1">
            <a:off x="5866920" y="25146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 flipH="1" flipV="1">
            <a:off x="5943240" y="380988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5"/>
          <p:cNvSpPr/>
          <p:nvPr/>
        </p:nvSpPr>
        <p:spPr>
          <a:xfrm flipH="1" flipV="1">
            <a:off x="5028840" y="4343040"/>
            <a:ext cx="1522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974880" y="298440"/>
            <a:ext cx="7718400" cy="1444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ение пространственно-временных представле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очнение пространственно-временных представле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афическое воспроизведение направл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8" descr="40-летие школы 003"/>
          <p:cNvPicPr/>
          <p:nvPr/>
        </p:nvPicPr>
        <p:blipFill>
          <a:blip r:embed="rId2"/>
          <a:stretch/>
        </p:blipFill>
        <p:spPr>
          <a:xfrm>
            <a:off x="4114800" y="2133720"/>
            <a:ext cx="4648320" cy="3674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1060560" y="237960"/>
            <a:ext cx="7559640" cy="1505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рекционная работа на фонетическом уров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мирование звукового анализа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говой анализ и синтез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дарение в слов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12" descr="Картинка 174 из 2367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2590920"/>
            <a:ext cx="3733920" cy="297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139760" y="237960"/>
            <a:ext cx="7553520" cy="1505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914040" y="20570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ширение словарного запас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навыков словоизменения и словообразов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умения строить сложные синтаксические конструк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ршенствовать умение слушать и понимать связный текс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сказывать текс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ть умение строить монологические высказывания различных тип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440" y="6854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.Организация коррекционно-развивающей работы с детьми с ОВЗ на школьном логопунк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Основные направления работы по коррекции нарушений письма и чтения у младших школьников с ОВ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58480" cy="1328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76176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явление букв, смешиваемых по акустическому или графическому сходств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пись под диктовку слов, составленных из хорошо знакомых бук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ставление слов из букв разрезной азбу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афический дикт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исыва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рительный диктан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уховой диктан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294920" y="9907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i="1" lang="ru-RU" sz="6000" spc="-1" strike="noStrike">
                <a:solidFill>
                  <a:srgbClr val="ffffff"/>
                </a:solidFill>
                <a:latin typeface="Times New Roman"/>
              </a:rPr>
              <a:t>Спасибо за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ru-RU" sz="6000" spc="-1" strike="noStrike">
                <a:solidFill>
                  <a:srgbClr val="ffffff"/>
                </a:solidFill>
                <a:latin typeface="Times New Roman"/>
              </a:rPr>
              <a:t>внимание!    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195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21492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равление недостатков устной речи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высших психических функций, участвующих в процессе письма и чт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5145120" cy="1274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12193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ррекция нарушений в развитии устной и письменной речи учащихся с ОВЗ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воевременное предупреждение и преодоление трудностей в освоении учащимися с ОВЗ общеобразовательных программ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азъяснение специальных знаний по логопедии среди педагогов, родителей (законных представителей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298440" y="298440"/>
            <a:ext cx="755964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агностика индивидуальных особенностей речевого развития ребёнка с ОВЗ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ление учителем-логопедом индивидуальной карты речевого развития ребён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астие учителя-логопеда в психолого-медико-педагогическом консилиуме школы, разработка совместных рекомендац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09120" y="457200"/>
            <a:ext cx="80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ганизация индивидуальной и групповой логопедической работы с детьми с ОВЗ, нуждающимися в коррекции реч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ниторинг речевого развития учащихся, имеющих проблемы логопедического характер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дивидуальные консультации специалистов, педагогов, родителей по вопросам организации речевого режима ребёнка в школе и дом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993600" y="201600"/>
            <a:ext cx="7869240" cy="1755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761760" y="17524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ллектуальные нарушения – освоение значение слов, их уместное употребление в соответствии с контекстом высказывания, ситуаци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е деятельности зрительного анализатора – уточнение значение слов, их предметная соотнесённость с объектом действитель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6840" y="6091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е слухового анализатора – опора на зрительный анализатор, с помощью которого ребёнок воспринимает движение речевых органов, лучше понимает обращённую реч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е опорно-двигательного аппарата – развитие речедвигательного анализатора, выработка точных движений органов артикуляции,работа над просодической стороной реч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09120" y="76176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сновные направления  работы по коррекции нарушений письма и чтения у младших школьников с ОВЗ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07T19:14:3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