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264-2A2D-43C8-B385-49ED8CF8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8F1-434F-463F-A8D8-C286C6E3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C41-42F5-4F72-BC91-7648DCDE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9A2-0439-4645-BC7B-CDC88C09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A5DA-7ECE-4E4D-9E61-D6D07AF5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7217-D958-450E-ADF0-3D2C9ACB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2A0A-E2B2-454B-9332-82E12584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9FD3-3C4E-4760-9533-055607FF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E0AD-4475-46C1-B168-C2F6677F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9C9E-A40E-454F-BAFD-C3647884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FD04-5399-4024-8771-D5B9AEED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B0D-CC0E-4D6F-B548-27B71E71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0E87-A120-4B54-A78E-146676BD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2491-8585-4E65-B7D9-31867605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075B-24E2-46F1-83D7-AC101DD4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02F2-C1F9-4B04-8167-432CEAF2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39E2-E0EA-4CB7-BD9E-F90CE953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8E9-0AF9-4439-9D34-BA3CC0F1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DD4F-D269-4BA8-BA82-17288BAB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0AB-AE4E-4B63-8351-7AE19230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D0F-1080-4422-A0EF-5A6D2B59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B0A-C531-4908-85F6-3F7AED68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8A8-326F-448D-B1B1-12E76DD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E3F-CB46-48A7-A574-865476CF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5B19-5B17-4267-A581-BBC63FA21DA7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BF4A-6D9B-418B-B50B-14F675E40B04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shkola9.edusite.ru/images/p52_p3220298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8052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огопедическое сопровождение детей с ОВ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530280" y="60336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76176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Формирование навыков письма и чтения у младших школьников с ОВЗ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олнение пробелов звуковой стороны р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фонематического воспри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навыков звукового анализа и синте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графо-моторных навы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пространственно-временных представл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слуховой и зрительной памяти, внимания, мыш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91404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гностика готовности учащихся к овладению письменной реч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упражнений по формированию психологической базы письма и чт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упражнений по формировани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нематических процессов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ыков звуко-буквенного анализ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троль уровня сформированности фонематического слуха, навыков звукового анализа и синтез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772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 с ОВЗ коррекционные занят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ут сформировать полноценные навыки грамотного письма и чтения не только в период обучения грамоте, но и в последующие годы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ат осуществлять звуковой синтез и соотносить письменный код со звуковы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уют навыки пространственной ориентировки, будут способствовать развитию внимания, памяти и  мелкой моторики ру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3" descr=""/>
          <p:cNvPicPr/>
          <p:nvPr/>
        </p:nvPicPr>
        <p:blipFill>
          <a:blip r:embed="rId1"/>
          <a:stretch/>
        </p:blipFill>
        <p:spPr>
          <a:xfrm>
            <a:off x="895320" y="603360"/>
            <a:ext cx="7572240" cy="527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3886200" y="2590920"/>
            <a:ext cx="2133720" cy="175248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тов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овладен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исьмен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ч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990720" y="1905120"/>
            <a:ext cx="2286000" cy="99036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нематическ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у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990720" y="4038480"/>
            <a:ext cx="2286000" cy="9907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фическ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4038480" y="5410080"/>
            <a:ext cx="2286000" cy="9907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ображени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им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6629400" y="3809880"/>
            <a:ext cx="2286000" cy="106704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странств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иент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6553080" y="1981080"/>
            <a:ext cx="2286000" cy="9907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ритель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3124080" y="3809880"/>
            <a:ext cx="838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3200400" y="2590920"/>
            <a:ext cx="7621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3"/>
          <p:cNvSpPr/>
          <p:nvPr/>
        </p:nvSpPr>
        <p:spPr>
          <a:xfrm flipH="1">
            <a:off x="5866920" y="25146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 flipH="1" flipV="1">
            <a:off x="5943240" y="380988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5"/>
          <p:cNvSpPr/>
          <p:nvPr/>
        </p:nvSpPr>
        <p:spPr>
          <a:xfrm flipH="1" flipV="1">
            <a:off x="5028840" y="4343040"/>
            <a:ext cx="1522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974880" y="298440"/>
            <a:ext cx="7718400" cy="1444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ение пространственно-временных представле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очнение пространственно-временных представле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фическое воспроизведение направл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8" descr="40-летие школы 003"/>
          <p:cNvPicPr/>
          <p:nvPr/>
        </p:nvPicPr>
        <p:blipFill>
          <a:blip r:embed="rId2"/>
          <a:stretch/>
        </p:blipFill>
        <p:spPr>
          <a:xfrm>
            <a:off x="4114800" y="2133720"/>
            <a:ext cx="4648320" cy="3674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1060560" y="237960"/>
            <a:ext cx="7559640" cy="1505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рекционная работа на фонетическом уров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ирование звукового анализа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говой анализ и синтез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дарение в слов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12" descr="Картинка 174 из 236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2590920"/>
            <a:ext cx="3733920" cy="29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139760" y="237960"/>
            <a:ext cx="7553520" cy="1505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914040" y="20570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ение словарного запас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выков словоизменения и словообраз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умения строить сложные синтаксические констру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ствовать умение слушать и понимать связный текс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сказывать текс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ть умение строить монологические высказывания различных тип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440" y="6854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Организация коррекционно-развивающей работы с детьми с ОВЗ на школьном логопунк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Основные направления работы по коррекции нарушений письма и чтения у младших школьников с ОВ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8480" cy="1328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76176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явление букв, смешиваемых по акустическому или графическому сход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пись под диктовку слов, составленных из хорошо знакомых бук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авление слов из букв разрезной азбу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й дикт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исыва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рительный диктан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уховой дикт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94920" y="9907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i="1" lang="ru-RU" sz="6000" spc="-1" strike="noStrike">
                <a:solidFill>
                  <a:srgbClr val="ffffff"/>
                </a:solidFill>
                <a:latin typeface="Times New Roman"/>
              </a:rPr>
              <a:t>Спасибо за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6000" spc="-1" strike="noStrike">
                <a:solidFill>
                  <a:srgbClr val="ffffff"/>
                </a:solidFill>
                <a:latin typeface="Times New Roman"/>
              </a:rPr>
              <a:t>внимание!   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21492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равление недостатков устной реч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высших психических функций, участвующих в процессе письма и чт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5145120" cy="1274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12193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ррекция нарушений в развитии устной и письменной речи учащихся с ОВЗ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воевременное предупреждение и преодоление трудностей в освоении учащимися с ОВЗ общеобразовательных програм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ъяснение специальных знаний по логопедии среди педагогов, родителей (законных представителей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755964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гностика индивидуальных особенностей речевого развития ребёнка с ОВЗ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ление учителем-логопедом индивидуальной карты речевого развития ребён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стие учителя-логопеда в психолого-медико-педагогическом консилиуме школы, разработка совместных рекоменда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120" y="457200"/>
            <a:ext cx="80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изация индивидуальной и групповой логопедической работы с детьми с ОВЗ, нуждающимися в коррекции реч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ниторинг речевого развития учащихся, имеющих проблемы логопедического характе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ые консультации специалистов, педагогов, родителей по вопросам организации речевого режима ребёнка в школе и дом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993600" y="201600"/>
            <a:ext cx="7869240" cy="1755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761760" y="17524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лектуальные нарушения – освоение значение слов, их уместное употребление в соответствии с контекстом высказывания, ситуаци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 деятельности зрительного анализатора – уточнение значение слов, их предметная соотнесённость с объектом действите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6840" y="6091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 слухового анализатора – опора на зрительный анализатор, с помощью которого ребёнок воспринимает движение речевых органов, лучше понимает обращённую реч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 опорно-двигательного аппарата – развитие речедвигательного анализатора, выработка точных движений органов артикуляции,работа над просодической стороной р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120" y="7617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новные направления  работы по коррекции нарушений письма и чтения у младших школьников с ОВЗ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07T19:14:3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