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7.jpeg" ContentType="image/jpeg"/>
  <Override PartName="/ppt/media/image9.png" ContentType="image/png"/>
  <Override PartName="/ppt/media/image7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558-C52A-49D3-A488-57F8AD82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622-1CD4-4170-A740-74C8008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2AB-FBA2-4659-96B9-8A54BEC1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413-D05C-4AC5-B2AB-FC823951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4D10-8741-41AF-B7A0-5E24D429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6DB6-1F1F-4540-A156-D0B168DF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2781-9DC6-4307-9908-97214D71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D94-DEF1-47A5-AD0C-074A214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B629-9D8F-46C3-8DF3-41255421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4CCE-0A08-45BD-A8C4-905B7A2E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AFF7-898B-4009-9233-F733DD7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286-5357-430E-BBE8-F2EEB214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58E2-49D9-4905-A4D4-C29C970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AC4C-8D20-4FE1-AB59-DCA01AE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A85C-C3FD-4E67-B0A2-7D2449F7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8ED5-5790-4EF2-A780-C500E734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70B4-B11A-47FB-8892-1AEB362C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A8A-F599-44D9-A394-B36790D6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3EA-F260-446C-8106-FB95B71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D15-D302-443B-9940-5D93EBE3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9AB-B7F5-42FA-AA49-9485BE8F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51A-CC1F-4361-B5C9-5EDCFE2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244-F8AB-4272-92A4-1BB94F1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24D-29DB-4022-B089-3330A25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89CD-50D2-4201-8BEE-29FDA272B65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320"/>
              <a:ext cx="3622320" cy="6134040"/>
              <a:chOff x="5407920" y="58320"/>
              <a:chExt cx="3622320" cy="61340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69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1960"/>
              <a:ext cx="892800" cy="825840"/>
              <a:chOff x="5649120" y="29196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2400"/>
                <a:ext cx="250920" cy="3006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2100-6883-47DC-8E0D-44559BCDAB5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284720" y="6308640"/>
            <a:ext cx="4859280" cy="3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дготовила презентацию: Кузовлева О.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03280" y="1341360"/>
            <a:ext cx="561636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б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у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р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223560"/>
            <a:ext cx="82440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малышей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547640" y="1197000"/>
            <a:ext cx="16243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00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7" descr="https://sun9-79.userapi.com/impg/-PPntiNTDeFg4NNr8Ka0qo7oWTmZb7LA-ClYxQ/A5l5Jprvuhk.jpg?size=1200x800&amp;quality=96&amp;sign=9ebcc93ebb0d9831b41390e810b3abfc&amp;c_uniq_tag=ggq6o_9TQwZaid_y5Yh7b8IRjrIkrxlvVa0CCnUSrFU&amp;type=album"/>
          <p:cNvPicPr/>
          <p:nvPr/>
        </p:nvPicPr>
        <p:blipFill>
          <a:blip r:embed="rId1"/>
          <a:stretch/>
        </p:blipFill>
        <p:spPr>
          <a:xfrm>
            <a:off x="2843280" y="2781360"/>
            <a:ext cx="57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3586320" y="587700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Organization Chart 34"/>
          <p:cNvGrpSpPr/>
          <p:nvPr/>
        </p:nvGrpSpPr>
        <p:grpSpPr>
          <a:xfrm>
            <a:off x="1835280" y="1778040"/>
            <a:ext cx="6095520" cy="1846080"/>
            <a:chOff x="1835280" y="1778040"/>
            <a:chExt cx="6095520" cy="1846080"/>
          </a:xfrm>
        </p:grpSpPr>
        <p:cxnSp>
          <p:nvCxnSpPr>
            <p:cNvPr id="175" name="_s1028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5818320" y="1315080"/>
              <a:ext cx="237240" cy="2109600"/>
            </a:xfrm>
            <a:prstGeom prst="bentConnector3">
              <a:avLst>
                <a:gd name="adj1" fmla="val 495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29"/>
            <p:cNvCxnSpPr>
              <a:stCxn id="179" idx="0"/>
              <a:endCxn id="177" idx="2"/>
            </p:cNvCxnSpPr>
            <p:nvPr/>
          </p:nvCxnSpPr>
          <p:spPr>
            <a:xfrm flipV="1">
              <a:off x="4882680" y="2251440"/>
              <a:ext cx="2880" cy="23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30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3710520" y="1316520"/>
              <a:ext cx="237240" cy="2107440"/>
            </a:xfrm>
            <a:prstGeom prst="bentConnector3">
              <a:avLst>
                <a:gd name="adj1" fmla="val 495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031"/>
            <p:cNvSpPr/>
            <p:nvPr/>
          </p:nvSpPr>
          <p:spPr>
            <a:xfrm>
              <a:off x="3860640" y="1778040"/>
              <a:ext cx="2044800" cy="47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_s1032"/>
            <p:cNvSpPr/>
            <p:nvPr/>
          </p:nvSpPr>
          <p:spPr>
            <a:xfrm>
              <a:off x="1835280" y="2488680"/>
              <a:ext cx="1881000" cy="1135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3942000" y="2488680"/>
              <a:ext cx="1881720" cy="1135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34"/>
            <p:cNvSpPr/>
            <p:nvPr/>
          </p:nvSpPr>
          <p:spPr>
            <a:xfrm>
              <a:off x="6049080" y="2488680"/>
              <a:ext cx="1881720" cy="1135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2" name="Picture 42" descr="zfys1of_[1]"/>
          <p:cNvPicPr/>
          <p:nvPr/>
        </p:nvPicPr>
        <p:blipFill>
          <a:blip r:embed="rId1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5" descr="0wevhluf[1]"/>
          <p:cNvPicPr/>
          <p:nvPr/>
        </p:nvPicPr>
        <p:blipFill>
          <a:blip r:embed="rId2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8" descr="j0211949"/>
          <p:cNvPicPr/>
          <p:nvPr/>
        </p:nvPicPr>
        <p:blipFill>
          <a:blip r:embed="rId3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227640" y="6237360"/>
            <a:ext cx="27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23" descr="18019_1012380580"/>
          <p:cNvPicPr/>
          <p:nvPr/>
        </p:nvPicPr>
        <p:blipFill>
          <a:blip r:embed="rId1"/>
          <a:stretch/>
        </p:blipFill>
        <p:spPr>
          <a:xfrm>
            <a:off x="2771640" y="1413000"/>
            <a:ext cx="3745080" cy="23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sobol2-s"/>
          <p:cNvPicPr/>
          <p:nvPr/>
        </p:nvPicPr>
        <p:blipFill>
          <a:blip r:embed="rId2"/>
          <a:stretch/>
        </p:blipFill>
        <p:spPr>
          <a:xfrm>
            <a:off x="5292720" y="3860640"/>
            <a:ext cx="3375000" cy="229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s://www.intelkot.ru/upload/26296.jpg"/>
          <p:cNvPicPr/>
          <p:nvPr/>
        </p:nvPicPr>
        <p:blipFill>
          <a:blip r:embed="rId3"/>
          <a:stretch/>
        </p:blipFill>
        <p:spPr>
          <a:xfrm>
            <a:off x="684360" y="4005360"/>
            <a:ext cx="38764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0560" y="102960"/>
            <a:ext cx="663588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4392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160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5219640" y="522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Comic Sans MS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8" descr="8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http://flomaster.club/uploads/posts/2021-11/1637009768_29-flomaster-club-p-regulirovshchik-raskraska-dlya-detei-krasi-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132000" y="333360"/>
            <a:ext cx="52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39640" y="602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8720" y="1125360"/>
            <a:ext cx="29448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7" descr="https://myslide.ru/documents_7/7d9a4bd36af9977c4bd00fb4647492a2/img15.jpg"/>
          <p:cNvPicPr/>
          <p:nvPr/>
        </p:nvPicPr>
        <p:blipFill>
          <a:blip r:embed="rId1"/>
          <a:stretch/>
        </p:blipFill>
        <p:spPr>
          <a:xfrm>
            <a:off x="4572000" y="1700280"/>
            <a:ext cx="4427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ЮниАрт</cp:lastModifiedBy>
  <dcterms:modified xsi:type="dcterms:W3CDTF">2023-07-07T18:27:27Z</dcterms:modified>
  <cp:revision>71</cp:revision>
  <dc:subject/>
  <dc:title>Слайд 1</dc:title>
</cp:coreProperties>
</file>