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9.png" ContentType="image/png"/>
  <Override PartName="/ppt/media/image7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447-B09E-4C80-BCA7-5AC51B6C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135-EDCA-48D5-A69D-F3EE1B2B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8C0-CCD0-4344-B8CB-DC6770FF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4C7C-3430-43E2-9E01-F30C9E2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B759-9834-4293-A2F3-6A605D7F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1A5-C85B-41F5-8EC1-B5502BF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DB1-3242-4BCA-9237-90304ED1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A069-B7FE-4053-9B88-ED9D9A0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664B-B8FE-4E02-A9F1-E846952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D1D2-70C2-47B7-9B9C-EA9E801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E810-DB49-4617-85AD-E1A59AA5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4CA-45DF-40DA-B9D8-BAC6C86F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B22-8FFB-4AC9-A1AF-1957FFA8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8B9-DFEC-45DD-99FA-907442E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0C41-4FCF-48B0-9841-A327DC0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3A4C-9C1C-439D-B825-9EA467DF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778-BB0D-4D5C-BDD4-060D823B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09D-474F-4051-A6F2-44FC1711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F67-A6E0-4899-B48D-6223E11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CBF-137C-4C0F-8759-8732DBBC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C26-9FFA-4256-A7BC-0B9A339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974-DC1F-434B-AA93-77984FE9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FC9-FA69-495A-90CF-B40872C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B2A-3041-45D4-BB76-EB291E4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131B-326A-4C2C-9517-3844C2EC42B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320"/>
              <a:ext cx="3622320" cy="6134040"/>
              <a:chOff x="5407920" y="58320"/>
              <a:chExt cx="3622320" cy="61340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69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760"/>
                <a:ext cx="523440" cy="326772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1960"/>
              <a:ext cx="892800" cy="825840"/>
              <a:chOff x="5649120" y="29196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480" y="39168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2400"/>
                <a:ext cx="250920" cy="3006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6CD5-94A3-4BBE-A60C-0126DC98786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284720" y="6308640"/>
            <a:ext cx="4859280" cy="3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дготовила презентацию: Кузовлева О.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03280" y="1341360"/>
            <a:ext cx="561636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з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б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у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к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r>
              <a:rPr b="1" lang="ru-RU" sz="9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р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223560"/>
            <a:ext cx="82440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знавательная игра для малышей по 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15" descr="4"/>
          <p:cNvPicPr/>
          <p:nvPr/>
        </p:nvPicPr>
        <p:blipFill>
          <a:blip r:embed="rId1"/>
          <a:stretch/>
        </p:blipFill>
        <p:spPr>
          <a:xfrm>
            <a:off x="1547640" y="1197000"/>
            <a:ext cx="16243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Добрый совет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00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Азбуку города помни всегда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 не случилась с тобою беда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7" descr="https://sun9-79.userapi.com/impg/-PPntiNTDeFg4NNr8Ka0qo7oWTmZb7LA-ClYxQ/A5l5Jprvuhk.jpg?size=1200x800&amp;quality=96&amp;sign=9ebcc93ebb0d9831b41390e810b3abfc&amp;c_uniq_tag=ggq6o_9TQwZaid_y5Yh7b8IRjrIkrxlvVa0CCnUSrFU&amp;type=album"/>
          <p:cNvPicPr/>
          <p:nvPr/>
        </p:nvPicPr>
        <p:blipFill>
          <a:blip r:embed="rId1"/>
          <a:stretch/>
        </p:blipFill>
        <p:spPr>
          <a:xfrm>
            <a:off x="2843280" y="2781360"/>
            <a:ext cx="572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0"/>
          <p:cNvSpPr/>
          <p:nvPr/>
        </p:nvSpPr>
        <p:spPr>
          <a:xfrm>
            <a:off x="3276720" y="41904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3586320" y="5877000"/>
            <a:ext cx="51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Ответь на вопрос те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1763640" y="2602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Автомобили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Organization Chart 34"/>
          <p:cNvGrpSpPr/>
          <p:nvPr/>
        </p:nvGrpSpPr>
        <p:grpSpPr>
          <a:xfrm>
            <a:off x="1835280" y="1778040"/>
            <a:ext cx="6095520" cy="1846080"/>
            <a:chOff x="1835280" y="1778040"/>
            <a:chExt cx="6095520" cy="1846080"/>
          </a:xfrm>
        </p:grpSpPr>
        <p:cxnSp>
          <p:nvCxnSpPr>
            <p:cNvPr id="175" name="_s1028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5818320" y="1315080"/>
              <a:ext cx="237240" cy="2109600"/>
            </a:xfrm>
            <a:prstGeom prst="bentConnector3">
              <a:avLst>
                <a:gd name="adj1" fmla="val 49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29"/>
            <p:cNvCxnSpPr>
              <a:stCxn id="179" idx="0"/>
              <a:endCxn id="177" idx="2"/>
            </p:cNvCxnSpPr>
            <p:nvPr/>
          </p:nvCxnSpPr>
          <p:spPr>
            <a:xfrm flipV="1">
              <a:off x="4882680" y="2251440"/>
              <a:ext cx="2880" cy="237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30"/>
            <p:cNvCxnSpPr>
              <a:stCxn id="181" idx="0"/>
              <a:endCxn id="177" idx="2"/>
            </p:cNvCxnSpPr>
            <p:nvPr/>
          </p:nvCxnSpPr>
          <p:spPr>
            <a:xfrm flipH="1" flipV="1" rot="5400000">
              <a:off x="3710520" y="1316520"/>
              <a:ext cx="237240" cy="2107440"/>
            </a:xfrm>
            <a:prstGeom prst="bentConnector3">
              <a:avLst>
                <a:gd name="adj1" fmla="val 495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031"/>
            <p:cNvSpPr/>
            <p:nvPr/>
          </p:nvSpPr>
          <p:spPr>
            <a:xfrm>
              <a:off x="3860640" y="1778040"/>
              <a:ext cx="2044800" cy="4737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Comic Sans MS"/>
                </a:rPr>
                <a:t>Автомобили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1032"/>
            <p:cNvSpPr/>
            <p:nvPr/>
          </p:nvSpPr>
          <p:spPr>
            <a:xfrm>
              <a:off x="1835280" y="2488680"/>
              <a:ext cx="188100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6600"/>
                  </a:solidFill>
                  <a:latin typeface="Comic Sans MS"/>
                </a:rPr>
                <a:t>Легковые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_s1033"/>
            <p:cNvSpPr/>
            <p:nvPr/>
          </p:nvSpPr>
          <p:spPr>
            <a:xfrm>
              <a:off x="3942000" y="2488680"/>
              <a:ext cx="188172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Грузов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34"/>
            <p:cNvSpPr/>
            <p:nvPr/>
          </p:nvSpPr>
          <p:spPr>
            <a:xfrm>
              <a:off x="6049080" y="2488680"/>
              <a:ext cx="1881720" cy="11354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Пожарные,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милицейские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корая помощь,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Comic Sans MS"/>
                </a:rPr>
                <a:t>спецмашины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2" name="Picture 42" descr="zfys1of_[1]"/>
          <p:cNvPicPr/>
          <p:nvPr/>
        </p:nvPicPr>
        <p:blipFill>
          <a:blip r:embed="rId1"/>
          <a:stretch/>
        </p:blipFill>
        <p:spPr>
          <a:xfrm>
            <a:off x="3995640" y="3933720"/>
            <a:ext cx="2303640" cy="1638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5" descr="0wevhluf[1]"/>
          <p:cNvPicPr/>
          <p:nvPr/>
        </p:nvPicPr>
        <p:blipFill>
          <a:blip r:embed="rId2"/>
          <a:stretch/>
        </p:blipFill>
        <p:spPr>
          <a:xfrm>
            <a:off x="1835280" y="4076640"/>
            <a:ext cx="2009520" cy="1368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8" descr="j0211949"/>
          <p:cNvPicPr/>
          <p:nvPr/>
        </p:nvPicPr>
        <p:blipFill>
          <a:blip r:embed="rId3"/>
          <a:stretch/>
        </p:blipFill>
        <p:spPr>
          <a:xfrm>
            <a:off x="6443640" y="4076640"/>
            <a:ext cx="1900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Вопрос теста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Какие автомобили могут ехать на красный свет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пина и мам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Так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Пожарная, милицейская, скорая помощь, спецмаш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Посмотри и ответь правильно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6227640" y="6237360"/>
            <a:ext cx="27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зад к вопро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3" descr="18019_1012380580"/>
          <p:cNvPicPr/>
          <p:nvPr/>
        </p:nvPicPr>
        <p:blipFill>
          <a:blip r:embed="rId1"/>
          <a:stretch/>
        </p:blipFill>
        <p:spPr>
          <a:xfrm>
            <a:off x="2771640" y="1413000"/>
            <a:ext cx="3745080" cy="2376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sobol2-s"/>
          <p:cNvPicPr/>
          <p:nvPr/>
        </p:nvPicPr>
        <p:blipFill>
          <a:blip r:embed="rId2"/>
          <a:stretch/>
        </p:blipFill>
        <p:spPr>
          <a:xfrm>
            <a:off x="5292720" y="3860640"/>
            <a:ext cx="3375000" cy="229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s://www.intelkot.ru/upload/26296.jpg"/>
          <p:cNvPicPr/>
          <p:nvPr/>
        </p:nvPicPr>
        <p:blipFill>
          <a:blip r:embed="rId3"/>
          <a:stretch/>
        </p:blipFill>
        <p:spPr>
          <a:xfrm>
            <a:off x="684360" y="4005360"/>
            <a:ext cx="38764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50560" y="102960"/>
            <a:ext cx="663588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439272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160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наки все мы знать долж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Чтобы, выехав на рын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Не остались дружно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И без ног, и без ботино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В красном треугольни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Знаки осторожны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Они предупреждаю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К вниманью призываю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апрещают зна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Разное движение: обгоны, поворот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И в красные кружоч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Обводит их нар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А ещё есть знаки- добрые друзь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Укажут направления вашего движени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Где поесть, заправиться, поспа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И как в деревню к бабушке попа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17" descr="7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648320" y="1413000"/>
            <a:ext cx="4038480" cy="1368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5219640" y="5229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Comic Sans MS"/>
              </a:rPr>
              <a:t>Выполни зад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18" descr="8"/>
          <p:cNvPicPr/>
          <p:nvPr/>
        </p:nvPicPr>
        <p:blipFill>
          <a:blip r:embed="rId2">
            <a:lum contrast="66000"/>
          </a:blip>
          <a:stretch/>
        </p:blipFill>
        <p:spPr>
          <a:xfrm>
            <a:off x="4648320" y="2565360"/>
            <a:ext cx="4038480" cy="136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4859280" y="3933720"/>
            <a:ext cx="3816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9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Найди соответствие между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знаками и стиха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Круглый знак, а в нём- окошко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Не спешите с горяч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А подумайте немножк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Что здесь- свалка кирпич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В треугольнике шагаю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Транспорт я предупреждаю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Скоро место перех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Берегите пеш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Только я для пешех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нак на месте пере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 голубом иду квадрат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Переходоуказ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7" descr="eaivezvz[1]"/>
          <p:cNvPicPr/>
          <p:nvPr/>
        </p:nvPicPr>
        <p:blipFill>
          <a:blip r:embed="rId1"/>
          <a:stretch/>
        </p:blipFill>
        <p:spPr>
          <a:xfrm>
            <a:off x="5745240" y="175248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2"/>
          <p:cNvPicPr/>
          <p:nvPr/>
        </p:nvPicPr>
        <p:blipFill>
          <a:blip r:embed="rId2">
            <a:lum contrast="48000"/>
          </a:blip>
          <a:stretch/>
        </p:blipFill>
        <p:spPr>
          <a:xfrm rot="20484600">
            <a:off x="4003560" y="4206600"/>
            <a:ext cx="2286000" cy="2044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Untitled-1 copy"/>
          <p:cNvPicPr/>
          <p:nvPr/>
        </p:nvPicPr>
        <p:blipFill>
          <a:blip r:embed="rId3">
            <a:lum contrast="60000"/>
          </a:blip>
          <a:stretch/>
        </p:blipFill>
        <p:spPr>
          <a:xfrm rot="2204400">
            <a:off x="6710400" y="4460400"/>
            <a:ext cx="2719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http://flomaster.club/uploads/posts/2021-11/1637009768_29-flomaster-club-p-regulirovshchik-raskraska-dlya-detei-krasi-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292720" y="4437000"/>
            <a:ext cx="4038480" cy="35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ывает же работ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видно от душ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исти, когда охо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палочкой маш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132000" y="333360"/>
            <a:ext cx="52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Регулировщи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39640" y="602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очитай шут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Comic Sans MS"/>
              </a:rPr>
              <a:t>Шутк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Бежать нельзя на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Сказал медведь еж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Я знаю, - буркнул ёж в отве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Но очень я спеш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Куда же ёж спешишь ты так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А я спешу в больниц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-Тогда беги, и красный с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82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Тебе вполне сгоди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20" descr="Untitled-1 copy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948360" y="4941720"/>
            <a:ext cx="1800360" cy="1224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Untitled-1 cop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8720" y="1125360"/>
            <a:ext cx="2944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С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в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е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т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8000"/>
                </a:solidFill>
                <a:latin typeface="Comic Sans MS"/>
              </a:rPr>
              <a:t>ф</a:t>
            </a:r>
            <a:r>
              <a:rPr b="1" lang="ru-RU" sz="9600" spc="-1" strike="noStrike">
                <a:solidFill>
                  <a:srgbClr val="ff0066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7" descr="https://myslide.ru/documents_7/7d9a4bd36af9977c4bd00fb4647492a2/img15.jpg"/>
          <p:cNvPicPr/>
          <p:nvPr/>
        </p:nvPicPr>
        <p:blipFill>
          <a:blip r:embed="rId1"/>
          <a:stretch/>
        </p:blipFill>
        <p:spPr>
          <a:xfrm>
            <a:off x="4572000" y="1700280"/>
            <a:ext cx="4427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2:50:07Z</dcterms:created>
  <dc:creator>_</dc:creator>
  <dc:description/>
  <dc:language>en-US</dc:language>
  <cp:lastModifiedBy>ЮниАрт</cp:lastModifiedBy>
  <dcterms:modified xsi:type="dcterms:W3CDTF">2023-07-07T18:27:27Z</dcterms:modified>
  <cp:revision>71</cp:revision>
  <dc:subject/>
  <dc:title>Слайд 1</dc:title>
</cp:coreProperties>
</file>