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4F8-B02E-4392-848C-645B711F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9E5-C2CD-4AC4-A3CC-DD470644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2DE-65FF-416C-96DB-52EF670C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8B1-5E93-4ABA-BF4D-FDF42AB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335-B4D1-4679-B666-A1E9ABF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A84-35B8-4259-9605-3855CDC7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1F4-378B-4CFF-9F80-E05F804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DAC-D4C7-4451-B74B-35BEFD4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59E-7E81-46DC-AC72-C4679491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B1B-4952-4212-9DFE-8A62B22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D34-211C-425D-AC91-47E84FF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48C-DED1-412F-9CF8-BE8317F1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04F0-D131-43F2-9FA8-48124F77E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1749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готовила презентацию: Кузовлева О.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1"/>
          <a:stretch/>
        </p:blipFill>
        <p:spPr>
          <a:xfrm>
            <a:off x="1619280" y="-243000"/>
            <a:ext cx="6337440" cy="2951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s://www.my-karnaval.ru/upload/goods_pic_large/77449.jpg"/>
          <p:cNvPicPr/>
          <p:nvPr/>
        </p:nvPicPr>
        <p:blipFill>
          <a:blip r:embed="rId2"/>
          <a:stretch/>
        </p:blipFill>
        <p:spPr>
          <a:xfrm>
            <a:off x="3059280" y="1989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&amp;Pcy;&amp;rcy;&amp;icy;&amp;mcy;&amp;icy; &amp;ucy;&amp;chcy;&amp;acy;&amp;scy;&amp;tcy;&amp;icy;&amp;iecy; &amp;vcy; &amp;acy;&amp;kcy;&amp;tscy;&amp;icy;&amp;icy; &quot;&amp;Gcy;&amp;iecy;&amp;ocy;&amp;rcy;&amp;gcy;&amp;icy;&amp;iecy;&amp;vcy;&amp;scy;&amp;kcy;&amp;acy;&amp;yacy; &amp;lcy;&amp;iecy;&amp;ncy;&amp;tcy;&amp;ocy;&amp;chcy;&amp;kcy;&amp;acy;&quot; &amp;Fcy;&amp;Gcy;&amp;Bcy;&amp;Ocy;&amp;Ucy; &amp;Vcy;&amp;Pcy;&amp;Ocy; &quot;&amp;Tcy;&amp;ucy;&amp;vcy;&amp;icy;&amp;ncy;&amp;scy;&amp;kcy;&amp;icy;&amp;jcy; &amp;Gcy;&amp;ocy;&amp;scy;&amp;ucy;&amp;dcy;&amp;acy;&amp;rcy;&amp;scy;&amp;tcy;&amp;vcy;&amp;iecy;&amp;ncy;&amp;ncy;&amp;ycy;&amp;jcy; &amp;Ucy;&amp;ncy;&amp;icy;&amp;vcy;&amp;iecy;&amp;rcy;&amp;scy;&amp;icy;&amp;tcy;&amp;iecy;&amp;tcy;&quot;"/>
          <p:cNvPicPr/>
          <p:nvPr/>
        </p:nvPicPr>
        <p:blipFill>
          <a:blip r:embed="rId1"/>
          <a:stretch/>
        </p:blipFill>
        <p:spPr>
          <a:xfrm>
            <a:off x="684360" y="836640"/>
            <a:ext cx="392400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4932360" y="836640"/>
            <a:ext cx="360036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755640" y="907920"/>
            <a:ext cx="381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анун празднования Дня Победы и дни проведения акции каждый участник надевает себе на лацкан одежды, руку, сумку или антенну автомобиля Георгиевскую ленточку в знак памяти о героическом прошлом, выражая уважение к ветеранам, отдавая дань памяти павшим на поле боя, благодарность людям, отдавшим всё для фронта в годы Великой отечественной вой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&amp;Dcy;&amp;iecy;&amp;ncy;&amp;softcy; &amp;Pcy;&amp;ocy;&amp;bcy;&amp;iecy;&amp;dcy;&amp;ycy; - &quot;&amp;Gcy;&amp;ocy;&amp;rcy;&amp;ocy;&amp;dcy;&amp;scy;&amp;kcy;&amp;icy;&amp;iecy; &amp;ncy;&amp;ocy;&amp;vcy;&amp;ocy;&amp;scy;&amp;tcy;&amp;icy;&quot;. &amp;Kcy;&amp;rcy;&amp;acy;&amp;scy;&amp;ncy;&amp;ocy;&amp;yacy;&amp;rcy;&amp;scy;&amp;kcy;"/>
          <p:cNvPicPr/>
          <p:nvPr/>
        </p:nvPicPr>
        <p:blipFill>
          <a:blip r:embed="rId1"/>
          <a:stretch/>
        </p:blipFill>
        <p:spPr>
          <a:xfrm>
            <a:off x="5219640" y="1628640"/>
            <a:ext cx="3265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&amp;Vcy; &amp;Kcy;&amp;ocy;&amp;mcy;&amp;icy; &amp;pcy;&amp;lcy;&amp;acy;&amp;ncy;&amp;icy;&amp;rcy;&amp;ucy;&amp;yucy;&amp;tcy; &amp;rcy;&amp;acy;&amp;zcy;&amp;dcy;&amp;acy;&amp;tcy;&amp;softcy; &amp;gcy;&amp;iecy;&amp;ocy;&amp;rcy;&amp;gcy;&amp;icy;&amp;iecy;&amp;vcy;&amp;scy;&amp;kcy;&amp;icy;&amp;khcy; &amp;lcy;&amp;iecy;&amp;ncy;&amp;tcy;&amp;ocy;&amp;chcy;&amp;iecy;&amp;kcy; &amp;bcy;&amp;ocy;&amp;lcy;&amp;softcy;&amp;shcy;&amp;iecy;, &amp;chcy;&amp;iecy;&amp;mcy; 2012 &amp;gcy;&amp;ocy;&amp;dcy;&amp;ucy; &amp;Scy;&amp;ycy;&amp;kcy;&amp;tcy;&amp;ycy;&amp;vcy;&amp;kcy;&amp;acy;&amp;rcy; - &amp;Ncy;&amp;ocy;&amp;vcy;&amp;ocy;&amp;scy;&amp;tcy;&amp;icy; &amp;rcy;&amp;iecy;&amp;gcy;&amp;icy;&amp;ocy;&amp;ncy;&amp;ocy;&amp;vcy;"/>
          <p:cNvPicPr/>
          <p:nvPr/>
        </p:nvPicPr>
        <p:blipFill>
          <a:blip r:embed="rId1"/>
          <a:stretch/>
        </p:blipFill>
        <p:spPr>
          <a:xfrm>
            <a:off x="4067280" y="1773360"/>
            <a:ext cx="434808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55640" y="44427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еддверии праздника Победы в российских городах проходит акция "Георгиевская ленточка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сячи волонтёров раздают их всем желающим на оживлённых улицах, в пар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&amp;Vcy; &amp;rcy;&amp;ucy;&amp;scy;&amp;scy;&amp;kcy;&amp;icy;&amp;khcy; &amp;shcy;&amp;kcy;&amp;ocy;&amp;lcy;&amp;acy;&amp;khcy; &amp;vcy;&amp;iecy;&amp;lcy;&amp;iecy;&amp;lcy;&amp;icy; &amp;scy;&amp;ncy;&amp;yacy;&amp;tcy;&amp;softcy; &amp;gcy;&amp;iecy;&amp;ocy;&amp;rcy;&amp;gcy;&amp;icy;&amp;iecy;&amp;vcy;&amp;scy;&amp;kcy;&amp;icy;&amp;iecy; &amp;lcy;&amp;iecy;&amp;ncy;&amp;tcy;&amp;ocy;&amp;chcy;&amp;kcy;&amp;icy; - &amp;ncy;&amp;acy; &amp;vcy;&amp;scy;&amp;yacy;…"/>
          <p:cNvPicPr/>
          <p:nvPr/>
        </p:nvPicPr>
        <p:blipFill>
          <a:blip r:embed="rId2"/>
          <a:stretch/>
        </p:blipFill>
        <p:spPr>
          <a:xfrm>
            <a:off x="826920" y="907920"/>
            <a:ext cx="304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&amp;Bcy;&amp;iecy;&amp;scy;&amp;scy;&amp;iecy;&amp;dcy;&amp;ocy;&amp;chcy;&amp;kcy;&amp;acy; &amp;dcy;&amp;lcy;&amp;yacy; &amp;zhcy;&amp;dcy;&amp;ucy;&amp;shcy;&amp;icy;&amp;khcy; &amp;Vcy;&amp;CHcy; 44980 &amp;Scy;&amp;iecy;&amp;rcy;&amp;gcy;&amp;iecy;&amp;iecy;&amp;vcy;&amp;kcy;&amp;acy; &amp;Pcy;&amp;rcy;&amp;icy;&amp;mcy;&amp;ocy;&amp;rcy;&amp;scy;&amp;kcy;&amp;ocy;&amp;gcy;&amp;ocy; &amp;kcy;&amp;rcy;&amp;acy;&amp;yacy; - &amp;Scy;&amp;tcy;&amp;rcy;&amp;acy;&amp;ncy;&amp;icy;&amp;tscy;&amp;acy; 267"/>
          <p:cNvPicPr/>
          <p:nvPr/>
        </p:nvPicPr>
        <p:blipFill>
          <a:blip r:embed="rId1"/>
          <a:stretch/>
        </p:blipFill>
        <p:spPr>
          <a:xfrm>
            <a:off x="900000" y="1052640"/>
            <a:ext cx="71089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755640" y="69228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оргиевская лент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00720" y="2276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имво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оргиевская ленточ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https://papik.pro/uploads/posts/2023-01/1674053573_papik-pro-p-georgievskaya-lenta-risunok-18.jpg"/>
          <p:cNvPicPr/>
          <p:nvPr/>
        </p:nvPicPr>
        <p:blipFill>
          <a:blip r:embed="rId1"/>
          <a:stretch/>
        </p:blipFill>
        <p:spPr>
          <a:xfrm>
            <a:off x="826920" y="2781360"/>
            <a:ext cx="367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в гергий"/>
          <p:cNvPicPr/>
          <p:nvPr/>
        </p:nvPicPr>
        <p:blipFill>
          <a:blip r:embed="rId1"/>
          <a:stretch/>
        </p:blipFill>
        <p:spPr>
          <a:xfrm>
            <a:off x="1042920" y="907920"/>
            <a:ext cx="3132360" cy="4826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716360" y="549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вятой Георгий – великомучени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00720" y="1700280"/>
            <a:ext cx="4054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716360" y="1916280"/>
            <a:ext cx="387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27336_or"/>
          <p:cNvPicPr/>
          <p:nvPr/>
        </p:nvPicPr>
        <p:blipFill>
          <a:blip r:embed="rId1"/>
          <a:stretch/>
        </p:blipFill>
        <p:spPr>
          <a:xfrm>
            <a:off x="611280" y="1125360"/>
            <a:ext cx="381636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643280" y="620640"/>
            <a:ext cx="34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рден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вятого Гео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орден"/>
          <p:cNvPicPr/>
          <p:nvPr/>
        </p:nvPicPr>
        <p:blipFill>
          <a:blip r:embed="rId1"/>
          <a:stretch/>
        </p:blipFill>
        <p:spPr>
          <a:xfrm>
            <a:off x="826920" y="119700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&amp;Kcy;&amp;rcy;&amp;iecy;&amp;scy;&amp;tcy; &amp;Ocy;&amp;rcy;&amp;dcy;&amp;iecy;&amp;ncy;&amp;acy; &amp;Scy;&amp;vcy;&amp;yacy;&amp;tcy;&amp;ocy;&amp;gcy;&amp;ocy; &amp;Gcy;&amp;iecy;&amp;ocy;&amp;rcy;&amp;gcy;&amp;icy;&amp;yacy; 2&amp;jcy; &amp;scy;&amp;tcy;&amp;iecy;&amp;pcy;&amp;iecy;&amp;ncy;&amp;icy;, &amp;Rcy;&amp;ocy;&amp;scy;&amp;scy;&amp;icy;&amp;yacy;, &amp;kcy;&amp;ocy;&amp;pcy;&amp;icy;&amp;yacy;"/>
          <p:cNvPicPr/>
          <p:nvPr/>
        </p:nvPicPr>
        <p:blipFill>
          <a:blip r:embed="rId2"/>
          <a:stretch/>
        </p:blipFill>
        <p:spPr>
          <a:xfrm>
            <a:off x="1187280" y="3716280"/>
            <a:ext cx="2232360" cy="2160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422520" y="620640"/>
            <a:ext cx="51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Знак отличия Военного орде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ергиевский кр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211640" y="176940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 награждаются военнослужащие из числа солдат, матросов, сержантов и старшин, прапорщиков и мичманов... Вручали их за боевые заслуги и за храбрость, проявленную против неприяте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611280" y="54936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ргиевские ленты занимают наиболее почетное место в ряду многочисленных коллективных наград (отличий) частей Российской армии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ргиевская лента, подтверждая традиционные цвета российской воинской доблести, украсила многие солдатские и современные российские наградные медали и зн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&amp;vcy;&amp;icy;&amp;dcy;&amp;iecy;&amp;ocy;&amp;kcy;&amp;lcy;&amp;icy;&amp;pcy;&amp;ycy;-&amp;fcy;&amp;lcy;&amp;ecy;&amp;shcy; &amp;icy; &amp;pcy;&amp;lcy;&amp;ecy;&amp;jcy;&amp;kcy;&amp;acy;&amp;scy;&amp;tcy;&amp;ycy; &amp;Zcy;&amp;acy;&amp;pcy;&amp;icy;&amp;scy;&amp;icy; &amp;vcy; &amp;rcy;&amp;ucy;&amp;bcy;&amp;rcy;&amp;icy;&amp;kcy;&amp;iecy; &amp;vcy;&amp;icy;&amp;dcy;&amp;iecy;&amp;ocy;&amp;kcy;&amp;lcy;&amp;icy;&amp;pcy;&amp;ycy;-&amp;fcy;&amp;lcy;&amp;ecy;&amp;shcy; &amp;icy; &amp;pcy;&amp;lcy;&amp;ecy;&amp;jcy;&amp;kcy;&amp;acy;&amp;scy;&amp;tcy;&amp;ycy; &amp;Dcy;&amp;ncy;&amp;iecy;&amp;vcy;&amp;ncy;&amp;icy;&amp;kcy; alexis7 : LiveInternet - &amp;Rcy;&amp;ocy;&amp;scy;&amp;scy;&amp;icy;&amp;jcy;&amp;scy;&amp;kcy;&amp;icy;&amp;jcy; &amp;Scy;&amp;iecy;&amp;rcy;&amp;vcy;&amp;icy;&amp;scy; &amp;Ocy;&amp;ncy;&amp;lcy;&amp;acy;"/>
          <p:cNvPicPr/>
          <p:nvPr/>
        </p:nvPicPr>
        <p:blipFill>
          <a:blip r:embed="rId1"/>
          <a:stretch/>
        </p:blipFill>
        <p:spPr>
          <a:xfrm>
            <a:off x="4427640" y="1341360"/>
            <a:ext cx="1512720" cy="201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&amp;Mcy;&amp;acy;&amp;tcy;&amp;iecy;&amp;rcy;&amp;icy;&amp;acy;&amp;lcy;&amp;ycy; &amp;zcy;&amp;acy; &amp;Mcy;&amp;acy;&amp;jcy; 2014 &amp;gcy;&amp;ocy;&amp;dcy;&amp;acy; &quot; &amp;Scy;&amp;tcy;&amp;rcy;&amp;acy;&amp;ncy;&amp;icy;&amp;tscy;&amp;acy; 51 &quot; &amp;Kcy;&amp;rcy;&amp;ycy;&amp;mcy;&amp;scy;&amp;kcy;&amp;icy;&amp;jcy; &amp;Vcy;&amp;iecy;&amp;kcy;&amp;tcy;&amp;ocy;&amp;rcy;"/>
          <p:cNvPicPr/>
          <p:nvPr/>
        </p:nvPicPr>
        <p:blipFill>
          <a:blip r:embed="rId2"/>
          <a:stretch/>
        </p:blipFill>
        <p:spPr>
          <a:xfrm>
            <a:off x="6012000" y="692280"/>
            <a:ext cx="2684160" cy="877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&amp;Rcy;&amp;acy;&amp;zcy;&amp;ncy;&amp;ocy;&amp;iecy; &amp;Zcy;&amp;acy;&amp;pcy;&amp;icy;&amp;scy;&amp;icy; &amp;vcy; &amp;rcy;&amp;ucy;&amp;bcy;&amp;rcy;&amp;icy;&amp;kcy;&amp;iecy; &amp;Rcy;&amp;acy;&amp;zcy;&amp;ncy;&amp;ocy;&amp;iecy; &amp;Dcy;&amp;ncy;&amp;iecy;&amp;vcy;&amp;ncy;&amp;icy;&amp;kcy; &amp;Ocy;&amp;lcy;&amp;softcy;&amp;gcy;&amp;acy;-&amp;Ocy;&amp;lcy;&amp;yacy;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4067280" y="5013360"/>
            <a:ext cx="4752720" cy="1325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&amp;Gcy;&amp;iecy;&amp;ocy;&amp;rcy;&amp;gcy;&amp;icy;&amp;iecy;&amp;vcy;&amp;scy;&amp;kcy;&amp;acy;&amp;yacy; &amp;lcy;&amp;iecy;&amp;ncy;&amp;tcy;&amp;ocy;&amp;chcy;&amp;kcy;&amp;acy;"/>
          <p:cNvPicPr/>
          <p:nvPr/>
        </p:nvPicPr>
        <p:blipFill>
          <a:blip r:embed="rId4"/>
          <a:stretch/>
        </p:blipFill>
        <p:spPr>
          <a:xfrm>
            <a:off x="5940360" y="2565360"/>
            <a:ext cx="2648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&amp;Pcy;&amp;acy;&amp;zcy;&amp;lcy; &amp;Tcy;&amp;rcy;&amp;icy; &amp;scy;&amp;tcy;&amp;iecy;&amp;pcy;&amp;iecy;&amp;ncy;&amp;icy; &amp;Ocy;&amp;rcy;&amp;dcy;&amp;iecy;&amp;ncy;&amp;acy; &amp;Scy;&amp;lcy;&amp;acy;&amp;vcy;&amp;ycy; - &amp;scy;&amp;ocy;&amp;bcy;&amp;rcy;&amp;acy;&amp;tcy;&amp;softcy; &amp;pcy;&amp;acy;&amp;zcy;&amp;lcy; &amp;ocy;&amp;ncy;&amp;lcy;&amp;acy;&amp;jcy;&amp;ncy;"/>
          <p:cNvPicPr/>
          <p:nvPr/>
        </p:nvPicPr>
        <p:blipFill>
          <a:blip r:embed="rId1"/>
          <a:stretch/>
        </p:blipFill>
        <p:spPr>
          <a:xfrm>
            <a:off x="900000" y="765000"/>
            <a:ext cx="2394000" cy="259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&amp;Pcy;&amp;rcy;&amp;icy;&amp;lcy;&amp;ocy;&amp;zhcy;&amp;iecy;&amp;ncy;&amp;icy;&amp;iecy; 3 - &amp;Pcy;&amp;rcy;&amp;icy;&amp;lcy;&amp;ocy;&amp;zhcy;&amp;iecy;&amp;ncy;&amp;icy;&amp;iecy; 1 &amp;Gcy;&amp;acy;&amp;zcy;&amp;iecy;&amp;tcy;&amp;acy; 53-&amp;jcy; &amp;gcy;&amp;vcy;&amp;acy;&amp;rcy;&amp;dcy;&amp;iecy;&amp;jcy;&amp;scy;&amp;kcy;&amp;ocy;&amp;jcy; &amp;scy;&amp;tcy;&amp;rcy;&amp;iecy;&amp;lcy;&amp;kcy;&amp;ocy;&amp;vcy;&amp;ocy;&amp;jcy; &amp;dcy;&amp;icy;&amp;vcy;&amp;icy;&amp;zcy;&amp;icy;&amp;icy;"/>
          <p:cNvPicPr/>
          <p:nvPr/>
        </p:nvPicPr>
        <p:blipFill>
          <a:blip r:embed="rId2"/>
          <a:stretch/>
        </p:blipFill>
        <p:spPr>
          <a:xfrm>
            <a:off x="6300720" y="620640"/>
            <a:ext cx="1871640" cy="2735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3357000" y="76500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дена сла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149720" y="234936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аль «За Побед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 Германие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4" descr="&amp;Ncy;&amp;acy;&amp;gcy;&amp;rcy;&amp;acy;&amp;dcy;&amp;ncy;&amp;acy;&amp;yacy; &amp;mcy;&amp;iecy;&amp;dcy;&amp;acy;&amp;lcy;&amp;softcy; &quot;&amp;Zcy;&amp;acy; &amp;vcy;&amp;ocy;&amp;zcy;&amp;rcy;&amp;ocy;&amp;zhcy;&amp;dcy;&amp;iecy;&amp;ncy;&amp;icy;&amp;iecy; &amp;kcy;&amp;acy;&amp;zcy;&amp;acy;&amp;chcy;&amp;iecy;&amp;scy;&amp;tcy;&amp;vcy;&amp;acy;&quot; &amp;scy; &amp;Gcy;&amp;iecy;&amp;ocy;&amp;rcy;&amp;gcy;&amp;icy;&amp;iecy;&amp;vcy;&amp;scy;&amp;kcy;&amp;ocy;&amp;jcy; &amp;lcy;&amp;iecy;&amp;ncy;&amp;tcy;&amp;ocy;&amp;jcy; "/>
          <p:cNvPicPr/>
          <p:nvPr/>
        </p:nvPicPr>
        <p:blipFill>
          <a:blip r:embed="rId3"/>
          <a:stretch/>
        </p:blipFill>
        <p:spPr>
          <a:xfrm>
            <a:off x="1476360" y="3716280"/>
            <a:ext cx="2233800" cy="2173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&amp;Mcy;&amp;iecy;&amp;dcy;&amp;acy;&amp;lcy;&amp;softcy; &amp;Mcy;&amp;ocy;&amp;rcy;&amp;scy;&amp;kcy;&amp;ocy;&amp;jcy; &amp;pcy;&amp;iecy;&amp;khcy;&amp;ocy;&amp;tcy;&amp;ycy; «&amp;Zcy;&amp;acy; &amp;zcy;&amp;acy;&amp;scy;&amp;lcy;&amp;ucy;&amp;gcy;&amp;icy;»"/>
          <p:cNvPicPr/>
          <p:nvPr/>
        </p:nvPicPr>
        <p:blipFill>
          <a:blip r:embed="rId4"/>
          <a:stretch/>
        </p:blipFill>
        <p:spPr>
          <a:xfrm>
            <a:off x="5148360" y="3716280"/>
            <a:ext cx="2233440" cy="2173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539640" y="59500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аль «За возрождение казачест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356000" y="595008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даль Морской пехоты «За заслуг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1"/>
          <p:cNvSpPr/>
          <p:nvPr/>
        </p:nvSpPr>
        <p:spPr>
          <a:xfrm>
            <a:off x="539640" y="2133720"/>
            <a:ext cx="3456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4356000" y="1844640"/>
            <a:ext cx="431964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Times New Roman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4" descr="&amp;Mcy;&amp;acy;&amp;tcy;&amp;iecy;&amp;rcy;&amp;icy;&amp;acy;&amp;lcy;&amp;ycy; &amp;zcy;&amp;acy; &amp;Mcy;&amp;acy;&amp;jcy; 2014 &amp;gcy;&amp;ocy;&amp;dcy;&amp;acy; &quot; &amp;Scy;&amp;tcy;&amp;rcy;&amp;acy;&amp;ncy;&amp;icy;&amp;tscy;&amp;acy; 51 &quot; &amp;Kcy;&amp;rcy;&amp;ycy;&amp;mcy;&amp;scy;&amp;kcy;&amp;icy;&amp;jcy; &amp;Vcy;&amp;iecy;&amp;kcy;&amp;tcy;&amp;ocy;&amp;rcy;"/>
          <p:cNvPicPr/>
          <p:nvPr/>
        </p:nvPicPr>
        <p:blipFill>
          <a:blip r:embed="rId1"/>
          <a:stretch/>
        </p:blipFill>
        <p:spPr>
          <a:xfrm>
            <a:off x="971640" y="549360"/>
            <a:ext cx="76327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826920" y="981000"/>
            <a:ext cx="3600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s://www.formadeti.ru/wa-data/public/shop/products/53/70/7053/images/25120/25120.750x0.jpg"/>
          <p:cNvPicPr/>
          <p:nvPr/>
        </p:nvPicPr>
        <p:blipFill>
          <a:blip r:embed="rId1"/>
          <a:stretch/>
        </p:blipFill>
        <p:spPr>
          <a:xfrm>
            <a:off x="4716360" y="1484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ЮниАрт</cp:lastModifiedBy>
  <dcterms:modified xsi:type="dcterms:W3CDTF">2023-07-07T19:27:16Z</dcterms:modified>
  <cp:revision>11</cp:revision>
  <dc:subject/>
  <dc:title>Слайд 1</dc:title>
</cp:coreProperties>
</file>