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169-9438-4EE5-B97D-6F526E8B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35E-FCD9-487A-879A-D94753D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90E-AF9F-4D61-8F3E-0D5276EA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A4D-FD10-4AF8-B5A0-C59802A7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A2C-E9C5-479A-9752-662C9F64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A9E-833E-43B7-9916-FA36738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3D5-E95F-4E33-8537-466ADF98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DFC-68BB-45CA-B291-3656D526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EBB-71F0-4878-B448-AA88AB1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AB0-A5D7-4AC9-9400-174A171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624-495A-4E63-95CB-5339CDE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B49-DCD2-4109-9A55-2CC0422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A48-D380-4004-9051-A5D532BA9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C:\Users\User\Documents\8_july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489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484360" y="-179640"/>
            <a:ext cx="172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6720" y="5805360"/>
            <a:ext cx="3672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Непоседы_-_Петр_и_Феврония.mp3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663480" cy="6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31683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нём Семьи, Любви               и Верност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3743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вспоминаем благовер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ых князей Февронию               с Пет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ря их покровителями ве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ви в семье, защитою зовё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их стать примером может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быть должен христианский бра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ай влюблённым всем Господь помож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 вдвоём живите точно так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16" descr="C:\Users\User\Documents\0_3532b_ebf83839_XL.jpeg"/>
          <p:cNvPicPr/>
          <p:nvPr/>
        </p:nvPicPr>
        <p:blipFill>
          <a:blip r:embed="rId1"/>
          <a:stretch/>
        </p:blipFill>
        <p:spPr>
          <a:xfrm>
            <a:off x="3995640" y="1557360"/>
            <a:ext cx="4969080" cy="453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78483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сего ценнее в жизни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конечно же, семья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дороже и важне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ты да я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вы друг друг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обижайте зря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 в доме и любви вам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радостного дня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5" descr="C:\Users\User\Documents\14963-03.jpg"/>
          <p:cNvPicPr/>
          <p:nvPr/>
        </p:nvPicPr>
        <p:blipFill>
          <a:blip r:embed="rId1"/>
          <a:stretch/>
        </p:blipFill>
        <p:spPr>
          <a:xfrm>
            <a:off x="25092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российский день семьи, любви и вер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989000"/>
            <a:ext cx="489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день семьи, любви и верности вышел из православного календаря, где каждый год 8 июля отмечается день святых Петра и Февроньи Муромских — православных покровителей семьи и брака, олицетворяющих в русской культуре супружескую любовь и верность и издревле считавшихся на Руси покровителями семьи и б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C:\Users\User\Documents\penr_i_fevroniya-9.jpg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424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нонизация святых благоверных Петра и Февро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91592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и Феврония Муромские (в иночестве Давид и Ефросинья) - благоверные супруги, своей жизнью отразившие духовные ценности и идеалы Святой Руси. История их жизни много веков существовала в преданиях Муромской земли, где они жили и где сохранялись их честные 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5" descr="C:\Users\User\Documents\383a6797beb8.jpg"/>
          <p:cNvPicPr/>
          <p:nvPr/>
        </p:nvPicPr>
        <p:blipFill>
          <a:blip r:embed="rId1"/>
          <a:stretch/>
        </p:blipFill>
        <p:spPr>
          <a:xfrm>
            <a:off x="5435640" y="1844640"/>
            <a:ext cx="2881440" cy="4105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3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весть о Петре и Февронии"         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Жили они долго и счастливо и умерли                в один день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1" descr="C:\Users\User\Documents\908.jpg"/>
          <p:cNvPicPr/>
          <p:nvPr/>
        </p:nvPicPr>
        <p:blipFill>
          <a:blip r:embed="rId1"/>
          <a:srcRect l="0" t="9170" r="0" b="9170"/>
          <a:stretch/>
        </p:blipFill>
        <p:spPr>
          <a:xfrm>
            <a:off x="1692360" y="2276640"/>
            <a:ext cx="5832360" cy="40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о-Троицкий женский монастыр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844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июля, в день святых Петра и Февронии, по традиции, божественная литургия проходит на монастырской площади у стен Троицкого собора. Богослужение завершается крестным ходом вокруг монастыр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ocuments\19047853.jpg"/>
          <p:cNvPicPr/>
          <p:nvPr/>
        </p:nvPicPr>
        <p:blipFill>
          <a:blip r:embed="rId1"/>
          <a:stretch/>
        </p:blipFill>
        <p:spPr>
          <a:xfrm>
            <a:off x="4788000" y="335772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ocuments\ob011_.jpg"/>
          <p:cNvPicPr/>
          <p:nvPr/>
        </p:nvPicPr>
        <p:blipFill>
          <a:blip r:embed="rId2"/>
          <a:stretch/>
        </p:blipFill>
        <p:spPr>
          <a:xfrm>
            <a:off x="324000" y="3357720"/>
            <a:ext cx="4319280" cy="308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59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кона Святых Петра и Февро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уться к святыне можно не только в Муроме. Во многих православных храмах есть икона Святых Петра и Февронии, где любой из нас может возжечь свечу и попросить помощи и заступничества у угодников Божи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C:\Users\User\Documents\image2877401.jpg"/>
          <p:cNvPicPr/>
          <p:nvPr/>
        </p:nvPicPr>
        <p:blipFill>
          <a:blip r:embed="rId1"/>
          <a:stretch/>
        </p:blipFill>
        <p:spPr>
          <a:xfrm>
            <a:off x="4572000" y="1484280"/>
            <a:ext cx="401472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семьи, любви и вер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412640"/>
            <a:ext cx="3095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8 июля 2008 года, который был провозглашен годом семьи, был отмечен новый праздник - День семьи, получивший официальный правительственный стату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ового праздника очень нежный символ - ромаш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8" descr="C:\Users\User\Documents\10.jpg"/>
          <p:cNvPicPr/>
          <p:nvPr/>
        </p:nvPicPr>
        <p:blipFill>
          <a:blip r:embed="rId1"/>
          <a:stretch/>
        </p:blipFill>
        <p:spPr>
          <a:xfrm>
            <a:off x="3851280" y="184464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ден Святых благоверных князя Петра и княгини Февронии Муромск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2133360"/>
            <a:ext cx="439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награда дается за значительный вклад в укрепление института семьи, как признание выдающегося служения укреплению семьи, исполнению супружеского долга и подвига, совершенного              во имя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cuments\75956552_large_63776ad20d9e.jpg"/>
          <p:cNvPicPr/>
          <p:nvPr/>
        </p:nvPicPr>
        <p:blipFill>
          <a:blip r:embed="rId1"/>
          <a:stretch/>
        </p:blipFill>
        <p:spPr>
          <a:xfrm>
            <a:off x="4284720" y="2205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ульптурные композиции                         "Святые благоверные Петр и Феврония Муромские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5280" y="2205000"/>
            <a:ext cx="41036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8 году стартовала общенациональная программа "В кругу семьи". В рамках этой программы началась установка скульптурных групп в различных городах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C:\Users\User\Documents\solnet-ee-d7.jpg"/>
          <p:cNvPicPr/>
          <p:nvPr/>
        </p:nvPicPr>
        <p:blipFill>
          <a:blip r:embed="rId1"/>
          <a:stretch/>
        </p:blipFill>
        <p:spPr>
          <a:xfrm>
            <a:off x="5292720" y="2349360"/>
            <a:ext cx="2951280" cy="399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"Храмцова Елена" &lt;khramtzova.alena@mail.ru&gt;</dc:creator>
  <dc:description/>
  <dc:language>en-US</dc:language>
  <cp:lastModifiedBy>Itoken I</cp:lastModifiedBy>
  <dcterms:modified xsi:type="dcterms:W3CDTF">2021-07-06T17:42:48Z</dcterms:modified>
  <cp:revision>42</cp:revision>
  <dc:subject/>
  <dc:title>Слайд 1</dc:title>
</cp:coreProperties>
</file>