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CA9-EA8A-4DEB-9D61-5D53D88D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F56-D4F9-4F1F-8B50-25E0507C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2CF-1FE6-4528-985A-7F299F54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1F7-EB0E-4E34-AD4D-4675C6AC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912-3719-4486-9B70-E3B5F8BC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168-A344-4673-AA10-80030F3D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9EA-AFEE-4CB3-B619-03409C39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E06-B3DD-496F-B3B8-98713963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977-3B4E-4B0A-B12E-CD35DA41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102-9053-472F-AA62-AFF8B56F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943-11C5-43B2-8E9A-02C2C6A0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4C8-4237-4B22-8B92-5BB09D6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2863-2815-4373-9F54-E24F747A4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C:\Users\User\Documents\8_july.jpg"/>
          <p:cNvPicPr/>
          <p:nvPr/>
        </p:nvPicPr>
        <p:blipFill>
          <a:blip r:embed="rId1"/>
          <a:stretch/>
        </p:blipFill>
        <p:spPr>
          <a:xfrm>
            <a:off x="1258920" y="1052640"/>
            <a:ext cx="6697800" cy="489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484360" y="-179640"/>
            <a:ext cx="172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6720" y="5805360"/>
            <a:ext cx="36720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d0d0d"/>
              </a:solidFill>
              <a:latin typeface="Times New Roman"/>
              <a:ea typeface="Times New Roman"/>
            </a:endParaRPr>
          </a:p>
        </p:txBody>
      </p:sp>
      <p:pic>
        <p:nvPicPr>
          <p:cNvPr id="44" name="Непоседы_-_Петр_и_Феврония.mp3" descr=""/>
          <p:cNvPicPr/>
          <p:nvPr/>
        </p:nvPicPr>
        <p:blipFill>
          <a:blip r:embed="rId2"/>
          <a:stretch/>
        </p:blipFill>
        <p:spPr>
          <a:xfrm>
            <a:off x="6300720" y="3716280"/>
            <a:ext cx="663480" cy="6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6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316836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нём Семьи, Любви               и Верност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3743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вспоминаем благовер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ых князей Февронию               с Пет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ря их покровителями вер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ви в семье, защитою зовё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юз их стать примером может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быть должен христианский бра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кай влюблённым всем Господь помож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 вдвоём живите точно так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16" descr="C:\Users\User\Documents\0_3532b_ebf83839_XL.jpeg"/>
          <p:cNvPicPr/>
          <p:nvPr/>
        </p:nvPicPr>
        <p:blipFill>
          <a:blip r:embed="rId1"/>
          <a:stretch/>
        </p:blipFill>
        <p:spPr>
          <a:xfrm>
            <a:off x="3995640" y="1557360"/>
            <a:ext cx="4969080" cy="4535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784836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сего ценнее в жизни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конечно же, семья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дороже и важне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папа, ты да я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ите вы друг друг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обижайте зря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я в доме и любви вам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радостного дня!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5" descr="C:\Users\User\Documents\14963-03.jpg"/>
          <p:cNvPicPr/>
          <p:nvPr/>
        </p:nvPicPr>
        <p:blipFill>
          <a:blip r:embed="rId1"/>
          <a:stretch/>
        </p:blipFill>
        <p:spPr>
          <a:xfrm>
            <a:off x="250920" y="18900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российский день семьи, любви и вер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000" y="1989000"/>
            <a:ext cx="4895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ий день семьи, любви и верности вышел из православного календаря, где каждый год 8 июля отмечается день святых Петра и Февроньи Муромских — православных покровителей семьи и брака, олицетворяющих в русской культуре супружескую любовь и верность и издревле считавшихся на Руси покровителями семьи и бр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4" descr="C:\Users\User\Documents\penr_i_fevroniya-9.jpg"/>
          <p:cNvPicPr/>
          <p:nvPr/>
        </p:nvPicPr>
        <p:blipFill>
          <a:blip r:embed="rId1"/>
          <a:stretch/>
        </p:blipFill>
        <p:spPr>
          <a:xfrm>
            <a:off x="5292720" y="1916280"/>
            <a:ext cx="3311640" cy="4249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561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нонизация святых благоверных Петра и Февро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1915920"/>
            <a:ext cx="4680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и Феврония Муромские (в иночестве Давид и Ефросинья) - благоверные супруги, своей жизнью отразившие духовные ценности и идеалы Святой Руси. История их жизни много веков существовала в преданиях Муромской земли, где они жили и где сохранялись их честные 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5" descr="C:\Users\User\Documents\383a6797beb8.jpg"/>
          <p:cNvPicPr/>
          <p:nvPr/>
        </p:nvPicPr>
        <p:blipFill>
          <a:blip r:embed="rId1"/>
          <a:stretch/>
        </p:blipFill>
        <p:spPr>
          <a:xfrm>
            <a:off x="5435640" y="1844640"/>
            <a:ext cx="2881440" cy="4105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34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овесть о Петре и Февронии"                               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Жили они долго и счастливо и умерли                в один день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1" descr="C:\Users\User\Documents\908.jpg"/>
          <p:cNvPicPr/>
          <p:nvPr/>
        </p:nvPicPr>
        <p:blipFill>
          <a:blip r:embed="rId1"/>
          <a:srcRect l="0" t="9170" r="0" b="9170"/>
          <a:stretch/>
        </p:blipFill>
        <p:spPr>
          <a:xfrm>
            <a:off x="1692360" y="2276640"/>
            <a:ext cx="5832360" cy="40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то-Троицкий женский монастыр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1844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июля, в день святых Петра и Февронии, по традиции, божественная литургия проходит на монастырской площади у стен Троицкого собора. Богослужение завершается крестным ходом вокруг монастыр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ocuments\19047853.jpg"/>
          <p:cNvPicPr/>
          <p:nvPr/>
        </p:nvPicPr>
        <p:blipFill>
          <a:blip r:embed="rId1"/>
          <a:stretch/>
        </p:blipFill>
        <p:spPr>
          <a:xfrm>
            <a:off x="4788000" y="335772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User\Documents\ob011_.jpg"/>
          <p:cNvPicPr/>
          <p:nvPr/>
        </p:nvPicPr>
        <p:blipFill>
          <a:blip r:embed="rId2"/>
          <a:stretch/>
        </p:blipFill>
        <p:spPr>
          <a:xfrm>
            <a:off x="324000" y="3357720"/>
            <a:ext cx="4319280" cy="3084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8598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кона Святых Петра и Февро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оснуться к святыне можно не только в Муроме. Во многих православных храмах есть икона Святых Петра и Февронии, где любой из нас может возжечь свечу и попросить помощи и заступничества у угодников Божи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C:\Users\User\Documents\image2877401.jpg"/>
          <p:cNvPicPr/>
          <p:nvPr/>
        </p:nvPicPr>
        <p:blipFill>
          <a:blip r:embed="rId1"/>
          <a:stretch/>
        </p:blipFill>
        <p:spPr>
          <a:xfrm>
            <a:off x="4572000" y="1484280"/>
            <a:ext cx="4014720" cy="482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нь семьи, любви и вер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412640"/>
            <a:ext cx="3095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8 июля 2008 года, который был провозглашен годом семьи, был отмечен новый праздник - День семьи, получивший официальный правительственный стату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ового праздника очень нежный символ - ромаш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8" descr="C:\Users\User\Documents\10.jpg"/>
          <p:cNvPicPr/>
          <p:nvPr/>
        </p:nvPicPr>
        <p:blipFill>
          <a:blip r:embed="rId1"/>
          <a:stretch/>
        </p:blipFill>
        <p:spPr>
          <a:xfrm>
            <a:off x="3851280" y="1844640"/>
            <a:ext cx="4824360" cy="403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ден Святых благоверных князя Петра и княгини Февронии Муромск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2133360"/>
            <a:ext cx="439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награда дается за значительный вклад в укрепление института семьи, как признание выдающегося служения укреплению семьи, исполнению супружеского долга и подвига, совершенного              во имя сем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User\Documents\75956552_large_63776ad20d9e.jpg"/>
          <p:cNvPicPr/>
          <p:nvPr/>
        </p:nvPicPr>
        <p:blipFill>
          <a:blip r:embed="rId1"/>
          <a:stretch/>
        </p:blipFill>
        <p:spPr>
          <a:xfrm>
            <a:off x="4284720" y="220500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ульптурные композиции                         "Святые благоверные Петр и Феврония Муромские"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5280" y="2205000"/>
            <a:ext cx="41036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8 году стартовала общенациональная программа "В кругу семьи". В рамках этой программы началась установка скульптурных групп в различных городах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C:\Users\User\Documents\solnet-ee-d7.jpg"/>
          <p:cNvPicPr/>
          <p:nvPr/>
        </p:nvPicPr>
        <p:blipFill>
          <a:blip r:embed="rId1"/>
          <a:stretch/>
        </p:blipFill>
        <p:spPr>
          <a:xfrm>
            <a:off x="5292720" y="2349360"/>
            <a:ext cx="2951280" cy="399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"Храмцова Елена" &lt;khramtzova.alena@mail.ru&gt;</dc:creator>
  <dc:description/>
  <dc:language>en-US</dc:language>
  <cp:lastModifiedBy>Itoken I</cp:lastModifiedBy>
  <dcterms:modified xsi:type="dcterms:W3CDTF">2021-07-06T17:42:48Z</dcterms:modified>
  <cp:revision>42</cp:revision>
  <dc:subject/>
  <dc:title>Слайд 1</dc:title>
</cp:coreProperties>
</file>