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695-8153-4B5F-91D8-671F87B1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04B-7D13-4AF1-B2D1-A706B049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63C-0A70-42B6-B961-5EE2E022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906-81CD-472F-BDC1-7FFD0083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ABC3-6AF0-4B70-9161-26A43EAF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399E-5CE6-4BD4-B225-E2700E61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79E6-0E2A-4E7B-848A-7E0CE59C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22EA-DE6B-40D8-978E-3226CB54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78BA-862E-4D49-AB1C-094CECB7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41DB-506E-4BB3-8DF5-DDD30B27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F013-70C7-431E-B358-F5090221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D4B-BE7A-4190-AC4C-CA007082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91D8-6207-40D3-A7AD-8E2842D4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41C2-CF6D-44A5-B75E-E6E06F15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2F99-751A-4E7F-B350-0173D00A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8E81-45F1-46EA-9694-8E0561E2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2A07-57E1-4286-B736-4F4511D2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9C7-D13B-4272-92F6-C4A29167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A1F-8A27-442D-997D-A420F5B9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CF9-154E-4A05-82BB-07C1F7D1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EC3-C3E1-45C6-AFE6-CC66091B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264-E7B5-4C5B-A6EA-1B20E35B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269-3AC0-4B59-A493-445B5767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BA4-4D88-4A2C-8479-EE173D21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8CCA-07FD-41FE-88EC-A93F625C15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ribka58.png"/>
          <p:cNvPicPr/>
          <p:nvPr/>
        </p:nvPicPr>
        <p:blipFill>
          <a:blip r:embed="rId3"/>
          <a:stretch/>
        </p:blipFill>
        <p:spPr>
          <a:xfrm>
            <a:off x="0" y="0"/>
            <a:ext cx="1325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ribka1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649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59DC-6A61-4C64-9B07-BC40275D7F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27280" y="357120"/>
            <a:ext cx="6337440" cy="44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адиционное рисован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ватными палочками.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рисования ватными палочками</a:t>
            </a:r>
            <a:br>
              <a:rPr sz="36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птиёва Д.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Круглая лента лицом вверх 3"/>
          <p:cNvSpPr/>
          <p:nvPr/>
        </p:nvSpPr>
        <p:spPr>
          <a:xfrm>
            <a:off x="1428840" y="500040"/>
            <a:ext cx="7715160" cy="4929120"/>
          </a:xfrm>
          <a:custGeom>
            <a:avLst/>
            <a:gdLst>
              <a:gd name="textAreaLeft" fmla="*/ 1928880 w 7715160"/>
              <a:gd name="textAreaRight" fmla="*/ 5786640 w 7715160"/>
              <a:gd name="textAreaTop" fmla="*/ 145800 h 4929120"/>
              <a:gd name="textAreaBottom" fmla="*/ 413316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3489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1429"/>
                </a:lnTo>
                <a:arcTo wR="21600" hR="20153" stAng="-4471878" swAng="976834"/>
                <a:lnTo>
                  <a:pt x="18900" y="11315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8269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1315"/>
                </a:lnTo>
                <a:close/>
              </a:path>
              <a:path fill="none" w="21600" h="21600">
                <a:moveTo>
                  <a:pt x="8100" y="18269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8269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1429"/>
                </a:moveTo>
                <a:lnTo>
                  <a:pt x="5400" y="18751"/>
                </a:lnTo>
              </a:path>
              <a:path fill="none" w="21600" h="21600">
                <a:moveTo>
                  <a:pt x="16200" y="1429"/>
                </a:moveTo>
                <a:lnTo>
                  <a:pt x="16200" y="18751"/>
                </a:lnTo>
              </a:path>
            </a:pathLst>
          </a:custGeom>
          <a:solidFill>
            <a:srgbClr val="ffffff"/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ование ватными палочками можно назвать одним из видов пуантил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уантилиз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это уникальное течение в живописи, которое в переводе с французского языка означает «писать по точка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Сена у острова Гранд - Жатт"/>
          <p:cNvPicPr/>
          <p:nvPr/>
        </p:nvPicPr>
        <p:blipFill>
          <a:blip r:embed="rId1"/>
          <a:stretch/>
        </p:blipFill>
        <p:spPr>
          <a:xfrm>
            <a:off x="2341440" y="3286080"/>
            <a:ext cx="5680080" cy="7162920"/>
          </a:xfrm>
          <a:prstGeom prst="rect">
            <a:avLst/>
          </a:prstGeom>
          <a:ln w="0">
            <a:noFill/>
          </a:ln>
        </p:spPr>
      </p:pic>
      <p:grpSp>
        <p:nvGrpSpPr>
          <p:cNvPr id="87" name="Прямоугольник 3"/>
          <p:cNvGrpSpPr/>
          <p:nvPr/>
        </p:nvGrpSpPr>
        <p:grpSpPr>
          <a:xfrm>
            <a:off x="1255680" y="189000"/>
            <a:ext cx="7918560" cy="2730240"/>
            <a:chOff x="1255680" y="189000"/>
            <a:chExt cx="7918560" cy="2730240"/>
          </a:xfrm>
        </p:grpSpPr>
        <p:pic>
          <p:nvPicPr>
            <p:cNvPr id="88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255680" y="189000"/>
              <a:ext cx="7918560" cy="27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285920" y="214200"/>
              <a:ext cx="78580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артины такого плана писали многие художники. Например, шедеврами признаны картины Жоржа Сёра. Он считается основателем этой техники. Рисование ватными палочками – весьма необычная техника, интересная не только младшим школьникам, но и малышам, которые только-только знакомятся с различными инструментами для живо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Прямоугольник 1"/>
          <p:cNvGrpSpPr/>
          <p:nvPr/>
        </p:nvGrpSpPr>
        <p:grpSpPr>
          <a:xfrm>
            <a:off x="1328760" y="255600"/>
            <a:ext cx="7845480" cy="2517840"/>
            <a:chOff x="1328760" y="255600"/>
            <a:chExt cx="7845480" cy="2517840"/>
          </a:xfrm>
        </p:grpSpPr>
        <p:pic>
          <p:nvPicPr>
            <p:cNvPr id="91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328760" y="255600"/>
              <a:ext cx="7845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357200" y="285840"/>
              <a:ext cx="778680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тьми обычно с радостью приветствуется техника рисования ватными палочками, так как можно одну и ту же картинку создать совершенно разными способами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 работе можно взять за основу шаблон и заполнить все детали рисунка точками определенного цвета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жно не заполнять весь рисунок, а сделать разноцветными точками только контур детале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4" descr="ватные палочки - Самое интересное в блогах"/>
          <p:cNvPicPr/>
          <p:nvPr/>
        </p:nvPicPr>
        <p:blipFill>
          <a:blip r:embed="rId2"/>
          <a:stretch/>
        </p:blipFill>
        <p:spPr>
          <a:xfrm>
            <a:off x="1500120" y="2786040"/>
            <a:ext cx="74296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оугольник 1"/>
          <p:cNvGrpSpPr/>
          <p:nvPr/>
        </p:nvGrpSpPr>
        <p:grpSpPr>
          <a:xfrm>
            <a:off x="1328760" y="189000"/>
            <a:ext cx="7845480" cy="2359080"/>
            <a:chOff x="1328760" y="189000"/>
            <a:chExt cx="7845480" cy="2359080"/>
          </a:xfrm>
        </p:grpSpPr>
        <p:pic>
          <p:nvPicPr>
            <p:cNvPr id="95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328760" y="189000"/>
              <a:ext cx="7845480" cy="23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357200" y="214200"/>
              <a:ext cx="77868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тям в возрасте от 1 года до 3 лет рисовать палочками гораздо проще, чем кисточкой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ля того чтобы заинтересовать малыша, нужно сначала показать ему, как можно провести красивую линию или поставить точку, потом еще одну, а потом другого цвет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Надежда Ямщикова. Блог - Для воспитателей детских садов - Маам.ру"/>
          <p:cNvPicPr/>
          <p:nvPr/>
        </p:nvPicPr>
        <p:blipFill>
          <a:blip r:embed="rId2"/>
          <a:stretch/>
        </p:blipFill>
        <p:spPr>
          <a:xfrm>
            <a:off x="2212920" y="2730600"/>
            <a:ext cx="56088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Прямоугольник 2"/>
          <p:cNvGrpSpPr/>
          <p:nvPr/>
        </p:nvGrpSpPr>
        <p:grpSpPr>
          <a:xfrm>
            <a:off x="1255680" y="401760"/>
            <a:ext cx="7486560" cy="5565600"/>
            <a:chOff x="1255680" y="401760"/>
            <a:chExt cx="7486560" cy="5565600"/>
          </a:xfrm>
        </p:grpSpPr>
        <p:pic>
          <p:nvPicPr>
            <p:cNvPr id="99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55680" y="401760"/>
              <a:ext cx="7486560" cy="55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285920" y="428760"/>
              <a:ext cx="7429320" cy="54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В каждой технике рисования существуют различные секреты и нюансы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Пуантилизм – не исключение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Есть некоторые моменты, на которые стоит ориентироваться, чтобы получить максимально удовлетворительный результат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Для малышей на первых занятиях лучше предлагать только один цвет краски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Картинки надо подбирать максимально простые: солнышко, яблочко или снег, дождик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Детям постарше даются задания сложнее. Увеличивается количество цветов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Это позволит юным художникам проявить воображение. А старшие ученики могут попробовать себя в роли художников, создавая целые картины в технике пуантилизма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краски для рисования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500120" y="428760"/>
            <a:ext cx="72867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3:05:28Z</dcterms:created>
  <dc:creator>Helen</dc:creator>
  <dc:description/>
  <dc:language>en-US</dc:language>
  <cp:lastModifiedBy>Капелька</cp:lastModifiedBy>
  <dcterms:modified xsi:type="dcterms:W3CDTF">2023-07-07T07:26:52Z</dcterms:modified>
  <cp:revision>8</cp:revision>
  <dc:subject/>
  <dc:title>Слайд 1</dc:title>
</cp:coreProperties>
</file>