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1CA-3D4E-4B04-8F65-87F83942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367-3A6C-4EB4-BA09-3022521A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DDE-0AA7-4AA0-BBCF-5835365E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558-17F3-4200-AC55-96E3737F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3727-19E0-4071-93A1-3B085AD9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8F1-CD12-48E8-925F-E311F0F4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4973-9856-4E25-B072-05E53CAC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F8A-FFE0-4805-AE9D-7E03C03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709F-90F0-45FE-9D72-69C611DB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B8BC-F356-4BBB-A69B-910C44E4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BA37-F961-4172-B0C4-036BE63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7AA-D743-44FA-B6E1-FDFF0783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4E70-E25C-47F2-B256-AFAAE49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23F-4B1E-4E33-A910-B30D410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077A-FE56-40A2-8F07-0C6D8DF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B31A-41D2-41F7-864D-A24A4287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6EE2-E626-4E49-8E37-3D227858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096-720D-4CC5-AB4C-F5B3D183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764-DB08-45FC-A2B9-2EBE410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7B2-E3F7-4FEF-92AF-A01DACDE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3D2-1393-4A18-A737-56B067FF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6EC-009C-4919-965F-B659E17D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769-C804-43A0-AC50-8F20B1B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EE2-FB05-4D60-9FA6-39025DE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DA8-4A38-4321-BB6A-C0CAA984B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ribka58.png"/>
          <p:cNvPicPr/>
          <p:nvPr/>
        </p:nvPicPr>
        <p:blipFill>
          <a:blip r:embed="rId3"/>
          <a:stretch/>
        </p:blipFill>
        <p:spPr>
          <a:xfrm>
            <a:off x="0" y="0"/>
            <a:ext cx="1325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ribka1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649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DDAB-383C-4D3A-9AAA-0F9E021D3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27280" y="357120"/>
            <a:ext cx="633744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ое рисов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атными палочками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рисования ватными палочками</a:t>
            </a:r>
            <a:br>
              <a:rPr sz="36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ёва Д.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Круглая лента лицом вверх 3"/>
          <p:cNvSpPr/>
          <p:nvPr/>
        </p:nvSpPr>
        <p:spPr>
          <a:xfrm>
            <a:off x="1428840" y="500040"/>
            <a:ext cx="7715160" cy="4929120"/>
          </a:xfrm>
          <a:custGeom>
            <a:avLst/>
            <a:gdLst>
              <a:gd name="textAreaLeft" fmla="*/ 1928880 w 7715160"/>
              <a:gd name="textAreaRight" fmla="*/ 5786640 w 7715160"/>
              <a:gd name="textAreaTop" fmla="*/ 145800 h 4929120"/>
              <a:gd name="textAreaBottom" fmla="*/ 413316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3489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1429"/>
                </a:lnTo>
                <a:arcTo wR="21600" hR="20153" stAng="-4471878" swAng="976834"/>
                <a:lnTo>
                  <a:pt x="18900" y="11315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8269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1315"/>
                </a:lnTo>
                <a:close/>
              </a:path>
              <a:path fill="none" w="21600" h="21600">
                <a:moveTo>
                  <a:pt x="8100" y="18269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8269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1429"/>
                </a:moveTo>
                <a:lnTo>
                  <a:pt x="5400" y="18751"/>
                </a:lnTo>
              </a:path>
              <a:path fill="none" w="21600" h="21600">
                <a:moveTo>
                  <a:pt x="16200" y="1429"/>
                </a:moveTo>
                <a:lnTo>
                  <a:pt x="16200" y="18751"/>
                </a:lnTo>
              </a:path>
            </a:pathLst>
          </a:custGeom>
          <a:solidFill>
            <a:srgbClr val="ffffff"/>
          </a:solidFill>
          <a:ln w="25560">
            <a:solidFill>
              <a:srgbClr val="4031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сование ватными палочками можно назвать одним из видов пуантил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уантилиз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это уникальное течение в живописи, которое в переводе с французского языка означает «писать по точка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Сена у острова Гранд - Жатт"/>
          <p:cNvPicPr/>
          <p:nvPr/>
        </p:nvPicPr>
        <p:blipFill>
          <a:blip r:embed="rId1"/>
          <a:stretch/>
        </p:blipFill>
        <p:spPr>
          <a:xfrm>
            <a:off x="2341440" y="3286080"/>
            <a:ext cx="5680080" cy="7162920"/>
          </a:xfrm>
          <a:prstGeom prst="rect">
            <a:avLst/>
          </a:prstGeom>
          <a:ln w="0">
            <a:noFill/>
          </a:ln>
        </p:spPr>
      </p:pic>
      <p:grpSp>
        <p:nvGrpSpPr>
          <p:cNvPr id="87" name="Прямоугольник 3"/>
          <p:cNvGrpSpPr/>
          <p:nvPr/>
        </p:nvGrpSpPr>
        <p:grpSpPr>
          <a:xfrm>
            <a:off x="1255680" y="189000"/>
            <a:ext cx="7918560" cy="2730240"/>
            <a:chOff x="1255680" y="189000"/>
            <a:chExt cx="7918560" cy="2730240"/>
          </a:xfrm>
        </p:grpSpPr>
        <p:pic>
          <p:nvPicPr>
            <p:cNvPr id="8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55680" y="189000"/>
              <a:ext cx="7918560" cy="27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285920" y="214200"/>
              <a:ext cx="78580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ртины такого плана писали многие художники. Например, шедеврами признаны картины Жоржа Сёра. Он считается основателем этой техники. Рисование ватными палочками – весьма необычная техника, интересная не только младшим школьникам, но и малышам, которые только-только знакомятся с различными инструментами для живо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оугольник 1"/>
          <p:cNvGrpSpPr/>
          <p:nvPr/>
        </p:nvGrpSpPr>
        <p:grpSpPr>
          <a:xfrm>
            <a:off x="1328760" y="255600"/>
            <a:ext cx="7845480" cy="2517840"/>
            <a:chOff x="1328760" y="255600"/>
            <a:chExt cx="7845480" cy="2517840"/>
          </a:xfrm>
        </p:grpSpPr>
        <p:pic>
          <p:nvPicPr>
            <p:cNvPr id="91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28760" y="255600"/>
              <a:ext cx="7845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357200" y="285840"/>
              <a:ext cx="7786800" cy="24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тьми обычно с радостью приветствуется техника рисования ватными палочками, так как можно одну и ту же картинку создать совершенно разными способам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работе можно взять за основу шаблон и заполнить все детали рисунка точками определенного цвета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но не заполнять весь рисунок, а сделать разноцветными точками только контур детал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4" descr="ватные палочки - Самое интересное в блогах"/>
          <p:cNvPicPr/>
          <p:nvPr/>
        </p:nvPicPr>
        <p:blipFill>
          <a:blip r:embed="rId2"/>
          <a:stretch/>
        </p:blipFill>
        <p:spPr>
          <a:xfrm>
            <a:off x="1500120" y="2786040"/>
            <a:ext cx="74296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1"/>
          <p:cNvGrpSpPr/>
          <p:nvPr/>
        </p:nvGrpSpPr>
        <p:grpSpPr>
          <a:xfrm>
            <a:off x="1328760" y="189000"/>
            <a:ext cx="7845480" cy="2359080"/>
            <a:chOff x="1328760" y="189000"/>
            <a:chExt cx="7845480" cy="2359080"/>
          </a:xfrm>
        </p:grpSpPr>
        <p:pic>
          <p:nvPicPr>
            <p:cNvPr id="95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328760" y="189000"/>
              <a:ext cx="784548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357200" y="214200"/>
              <a:ext cx="7786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тям в возрасте от 1 года до 3 лет рисовать палочками гораздо проще, чем кисточкой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я того чтобы заинтересовать малыша, нужно сначала показать ему, как можно провести красивую линию или поставить точку, потом еще одну, а потом другого цвет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Надежда Ямщикова. Блог - Для воспитателей детских садов - Маам.ру"/>
          <p:cNvPicPr/>
          <p:nvPr/>
        </p:nvPicPr>
        <p:blipFill>
          <a:blip r:embed="rId2"/>
          <a:stretch/>
        </p:blipFill>
        <p:spPr>
          <a:xfrm>
            <a:off x="2212920" y="2730600"/>
            <a:ext cx="5608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оугольник 2"/>
          <p:cNvGrpSpPr/>
          <p:nvPr/>
        </p:nvGrpSpPr>
        <p:grpSpPr>
          <a:xfrm>
            <a:off x="1255680" y="401760"/>
            <a:ext cx="7486560" cy="5565600"/>
            <a:chOff x="1255680" y="401760"/>
            <a:chExt cx="7486560" cy="5565600"/>
          </a:xfrm>
        </p:grpSpPr>
        <p:pic>
          <p:nvPicPr>
            <p:cNvPr id="9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55680" y="401760"/>
              <a:ext cx="7486560" cy="55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285920" y="428760"/>
              <a:ext cx="7429320" cy="54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В каждой технике рисования существуют различные секреты и нюансы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Пуантилизм – не исключение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Есть некоторые моменты, на которые стоит ориентироваться, чтобы получить максимально удовлетворительный результат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Для малышей на первых занятиях лучше предлагать только один цвет краски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Картинки надо подбирать максимально простые: солнышко, яблочко или снег, дождик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Детям постарше даются задания сложнее. Увеличивается количество цветов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Это позволит юным художникам проявить воображение. А старшие ученики могут попробовать себя в роли художников, создавая целые картины в технике пуантилизма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краски для рисования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500120" y="428760"/>
            <a:ext cx="72867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3:05:28Z</dcterms:created>
  <dc:creator>Helen</dc:creator>
  <dc:description/>
  <dc:language>en-US</dc:language>
  <cp:lastModifiedBy>Капелька</cp:lastModifiedBy>
  <dcterms:modified xsi:type="dcterms:W3CDTF">2023-07-07T07:26:52Z</dcterms:modified>
  <cp:revision>8</cp:revision>
  <dc:subject/>
  <dc:title>Слайд 1</dc:title>
</cp:coreProperties>
</file>