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C1F-5163-4422-BBFF-C18097D8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4D8-A42A-48E6-9C3B-506376D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EB6-FC0D-4085-880A-2D3F8E8D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23-F426-44A8-B562-6E5781FF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3A4-6277-4849-86E4-C8006ED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481-2329-4C90-A298-D612986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6E4-6670-40D4-B72F-6683EFB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EEC-B2F4-4F66-B937-63FD9BC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19A-82EF-4401-BEA9-09A6932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52D-51FC-486A-9492-C02490F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94-3594-4812-99C2-584345D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14E-D487-4FBD-97F3-06790D8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423-E4D5-423A-AF56-59722C3E8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12600" y="-60480"/>
            <a:ext cx="9313920" cy="157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3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6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000080" y="214200"/>
            <a:ext cx="7858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 предложен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1" descr="bk"/>
          <p:cNvPicPr/>
          <p:nvPr/>
        </p:nvPicPr>
        <p:blipFill>
          <a:blip r:embed="rId4"/>
          <a:srcRect l="0" t="0" r="0" b="6199"/>
          <a:stretch/>
        </p:blipFill>
        <p:spPr>
          <a:xfrm>
            <a:off x="3000240" y="2357280"/>
            <a:ext cx="2808360" cy="2500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4572000" y="5072040"/>
            <a:ext cx="428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642960" y="14288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 русского языка в 8 классе по теме «Основные виды обстоятельс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Определ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21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170028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опинка вилась вдоль берега в густой тр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68360" y="220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24000" y="220500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124000" y="22766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5508720" y="2133720"/>
            <a:ext cx="1368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7164360" y="1628640"/>
            <a:ext cx="216000" cy="21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7164360" y="1628640"/>
            <a:ext cx="216000" cy="21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V="1">
            <a:off x="7596360" y="1412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H="1">
            <a:off x="6084360" y="1413000"/>
            <a:ext cx="15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6084720" y="141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372360" y="105264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2124000" y="333360"/>
            <a:ext cx="511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684360" y="2924280"/>
            <a:ext cx="2592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я</a:t>
            </a:r>
            <a:endParaRPr b="1" lang="en-US" sz="32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211640" y="256536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глас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4192560" y="3232080"/>
            <a:ext cx="34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соглас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V="1">
            <a:off x="3348000" y="2924280"/>
            <a:ext cx="86364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348000" y="3213000"/>
            <a:ext cx="86364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63480" y="460044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полке лежали книги б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4643280" y="5084640"/>
            <a:ext cx="111780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При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95280" y="189000"/>
            <a:ext cx="849636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ложение - это особый вид определе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50920" y="2421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ложение – это определение, выраженное существительным, согласованным с определяемым словом в пад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ложения могут обозначать различные качества предмета, указывать на возраст, национальность, профессию и другие при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городе-крепости мы осматривали выста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907920"/>
            <a:ext cx="8516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красивы деревенские ласточки-кас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газете «Собеседник» была напечатана интересная статья о наших современ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над Москвою-рекой услыхать соловья на расс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торой половин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в городе Пскове появились первые каменные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3059280" y="260280"/>
            <a:ext cx="33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лож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816200" y="4313160"/>
            <a:ext cx="61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ицательное – на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ственное – нарица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4"/>
          <p:cNvSpPr/>
          <p:nvPr/>
        </p:nvSpPr>
        <p:spPr>
          <a:xfrm>
            <a:off x="2019240" y="428760"/>
            <a:ext cx="5105520" cy="157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228600" y="3214800"/>
            <a:ext cx="4191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лав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4572000" y="3143160"/>
            <a:ext cx="4038480" cy="121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2357280" y="200016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6072120" y="200016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380880" y="48769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лежащ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2438280" y="4876920"/>
            <a:ext cx="1633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1219320" y="4286160"/>
            <a:ext cx="28080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857680" y="4286160"/>
            <a:ext cx="34272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9"/>
          <p:cNvSpPr/>
          <p:nvPr/>
        </p:nvSpPr>
        <p:spPr>
          <a:xfrm>
            <a:off x="4286160" y="4876920"/>
            <a:ext cx="1571760" cy="1066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0"/>
          <p:cNvSpPr/>
          <p:nvPr/>
        </p:nvSpPr>
        <p:spPr>
          <a:xfrm>
            <a:off x="6019920" y="4876920"/>
            <a:ext cx="1143000" cy="1066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/>
          <p:cNvSpPr/>
          <p:nvPr/>
        </p:nvSpPr>
        <p:spPr>
          <a:xfrm>
            <a:off x="7391520" y="4876920"/>
            <a:ext cx="12952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то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 flipH="1">
            <a:off x="5181120" y="4357800"/>
            <a:ext cx="39060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429680" y="4357800"/>
            <a:ext cx="64764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6429240" y="4357800"/>
            <a:ext cx="4788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бстоятельств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5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5"/>
          <p:cNvSpPr/>
          <p:nvPr/>
        </p:nvSpPr>
        <p:spPr>
          <a:xfrm>
            <a:off x="357120" y="1000080"/>
            <a:ext cx="8102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Monotype Corsiva"/>
              </a:rPr>
              <a:t>Приём «Корзина ид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Что вам известно об обстоятельст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6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214200" y="642960"/>
            <a:ext cx="8929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Monotype Corsiva"/>
              </a:rPr>
              <a:t>Приём «Корзина ид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Что вам известно об обстоятель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озможные варианты ответов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стоятельст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второстепенный член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Обстоятельство «дружит» со сказуемым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Обстоятельство отвечает на вопрос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где? когда? куда? откуда? почему? зачем? как? и др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Обстоятельство может быть выражено наречием и именем существительным в косвенном пад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Подчёркивается штрих пунктирн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Нам известно, что обстоятельство выражается разными частями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7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5"/>
          <p:cNvSpPr/>
          <p:nvPr/>
        </p:nvSpPr>
        <p:spPr>
          <a:xfrm>
            <a:off x="357120" y="1143000"/>
            <a:ext cx="8102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сновные ви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бстоятельст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§ </a:t>
            </a: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17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42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2060"/>
                </a:solidFill>
                <a:latin typeface="Calibri"/>
              </a:rPr>
              <a:t>Притч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480" y="9284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обрый день, ребята! Сегодня мне хотелось бы начать урок с прит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«Один мудрец на склоне лет решил найти себе замену - ученика, для того чтобы передать ему свой опыт. Подумал мудрец, позвал к себе всех своих учеников и сказал: «Мне интересно узнать, сможет ли кто-нибудь из вас открыть огромную, тяжеленную дверь вон в той стене?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которые ученики сразу сдались, посчитав проблему неразрешимой. Другие ученики все же решили изучить дверь, они внимательно ее осмотрели, поговорили о том, какие подручные средства здесь можно использовать, и в конце концов пришли к выводу, что эта проблема не ре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только один-единственный ученик подошел к двери и с особым вниманием ее изучил. На самом деле дверь оказалась слегка прикрытой, в то время как все остальные думали, что она наглухо заперта. Ученик слегка толкнул дверь, и она легко откры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арец нашел своего преемника. Он повернулся к остальным ученикам и сказал им..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расширить представление  об обстоятельстве, познакомиться с основными видами обстоятельств и способами их выраж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</a:rPr>
              <a:t>учиться находить обстоятельства в речи, определять его вид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</a:rPr>
              <a:t>учиться отличать обстоятельство от других членов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213840"/>
            <a:ext cx="72280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Верите  ли  вы, что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928800"/>
          <a:ext cx="8535960" cy="5771880"/>
        </p:xfrm>
        <a:graphic>
          <a:graphicData uri="http://schemas.openxmlformats.org/drawingml/2006/table">
            <a:tbl>
              <a:tblPr/>
              <a:tblGrid>
                <a:gridCol w="498240"/>
                <a:gridCol w="6827760"/>
                <a:gridCol w="632160"/>
                <a:gridCol w="577800"/>
              </a:tblGrid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ите  ли  вы, ч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– это  второстепенный  член 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обозначает  признак 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зависит  от 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согласованным  с 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 5  видов 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твечать  на  вопрос:  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бозначать  прич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причастным  оборо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словосочетанием  с  предлогом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мотря 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476280"/>
          <a:ext cx="8496360" cy="5829120"/>
        </p:xfrm>
        <a:graphic>
          <a:graphicData uri="http://schemas.openxmlformats.org/drawingml/2006/table">
            <a:tbl>
              <a:tblPr/>
              <a:tblGrid>
                <a:gridCol w="496800"/>
                <a:gridCol w="6796080"/>
                <a:gridCol w="628560"/>
                <a:gridCol w="5749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ите  ли  вы, ч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– это  второстепенный  член 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обозначает  признак 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зависит  от 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согласованным  с 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 5  видов 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твечать  на  вопрос:  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бозначать  прич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причастным  оборо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словосочетанием  с  предлогом  несмотря 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black43"/>
          <p:cNvPicPr/>
          <p:nvPr/>
        </p:nvPicPr>
        <p:blipFill>
          <a:blip r:embed="rId2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black43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black43"/>
          <p:cNvPicPr/>
          <p:nvPr/>
        </p:nvPicPr>
        <p:blipFill>
          <a:blip r:embed="rId4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lack43"/>
          <p:cNvPicPr/>
          <p:nvPr/>
        </p:nvPicPr>
        <p:blipFill>
          <a:blip r:embed="rId5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05_moon_meteorit_alh-81005"/>
          <p:cNvPicPr/>
          <p:nvPr/>
        </p:nvPicPr>
        <p:blipFill>
          <a:blip r:embed="rId6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5_moon_meteorit_alh-81005"/>
          <p:cNvPicPr/>
          <p:nvPr/>
        </p:nvPicPr>
        <p:blipFill>
          <a:blip r:embed="rId7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1" descr="earth"/>
          <p:cNvPicPr/>
          <p:nvPr/>
        </p:nvPicPr>
        <p:blipFill>
          <a:blip r:embed="rId8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42"/>
          <p:cNvPicPr/>
          <p:nvPr/>
        </p:nvPicPr>
        <p:blipFill>
          <a:blip r:embed="rId9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mars"/>
          <p:cNvPicPr/>
          <p:nvPr/>
        </p:nvPicPr>
        <p:blipFill>
          <a:blip r:embed="rId10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112"/>
          <p:cNvPicPr/>
          <p:nvPr/>
        </p:nvPicPr>
        <p:blipFill>
          <a:blip r:embed="rId11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5" descr="upiter"/>
          <p:cNvPicPr/>
          <p:nvPr/>
        </p:nvPicPr>
        <p:blipFill>
          <a:blip r:embed="rId12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r4"/>
          <p:cNvPicPr/>
          <p:nvPr/>
        </p:nvPicPr>
        <p:blipFill>
          <a:blip r:embed="rId13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9" descr="r4"/>
          <p:cNvPicPr/>
          <p:nvPr/>
        </p:nvPicPr>
        <p:blipFill>
          <a:blip r:embed="rId14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0" descr="r4"/>
          <p:cNvPicPr/>
          <p:nvPr/>
        </p:nvPicPr>
        <p:blipFill>
          <a:blip r:embed="rId15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2" descr="r7"/>
          <p:cNvPicPr/>
          <p:nvPr/>
        </p:nvPicPr>
        <p:blipFill>
          <a:blip r:embed="rId16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56r2"/>
          <p:cNvPicPr/>
          <p:nvPr/>
        </p:nvPicPr>
        <p:blipFill>
          <a:blip r:embed="rId17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4" descr=""/>
          <p:cNvPicPr/>
          <p:nvPr/>
        </p:nvPicPr>
        <p:blipFill>
          <a:blip r:embed="rId18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500"/>
                            </p:stCondLst>
                            <p:childTnLst>
                              <p:par>
                                <p:cTn id="50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9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9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549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558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15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3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4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579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7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8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9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500"/>
                            </p:stCondLst>
                            <p:childTnLst>
                              <p:par>
                                <p:cTn id="5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3500"/>
                            </p:stCondLst>
                            <p:childTnLst>
                              <p:par>
                                <p:cTn id="59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6500"/>
                            </p:stCondLst>
                            <p:childTnLst>
                              <p:par>
                                <p:cTn id="6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603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5" dur="3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9500"/>
                            </p:stCondLst>
                            <p:childTnLst>
                              <p:par>
                                <p:cTn id="6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1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25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500"/>
                            </p:stCondLst>
                            <p:childTnLst>
                              <p:par>
                                <p:cTn id="6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40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Стадия осмысл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5"/>
          <p:cNvSpPr/>
          <p:nvPr/>
        </p:nvSpPr>
        <p:spPr>
          <a:xfrm>
            <a:off x="357120" y="357120"/>
            <a:ext cx="81025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ополн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Лошади бежали …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…..  растёт самое красивое дерево – 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Сегодня ты пришёл …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…… я уронил кни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Мы пришли вам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 ……. Витя не пришел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 …..можно хорошо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 ………росли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4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357120" y="285840"/>
            <a:ext cx="810252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ополн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Лошади бежали ……(дружно - образ действ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(В России - места)…..  растёт самое красивое дерево – берё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Сегодня ты пришёл ……(рано - врем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(Нечаянно - причина) …… я уронил кни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ы пришли вам…..( помочь - ц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(Из-за болезни - причина)……. Витя не пришел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(При желании – условие)…..можно хорошо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.(Внизу - места)………росли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9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7613640" y="5707080"/>
            <a:ext cx="1214280" cy="822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85840" y="214200"/>
            <a:ext cx="8858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мените наречия фразеологизмами, какие виды обстоятельств у вас пол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285840" y="1428840"/>
            <a:ext cx="8501040" cy="485784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c0b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н живёт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далек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тветь мне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чест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ши дома стоят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ядом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аша проснулся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а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тя бежал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быстр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таша трудилась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хорош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тя выучила стихотворение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отлич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714760" y="1571760"/>
            <a:ext cx="50004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у чёрта на куличках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3786120" y="1571760"/>
            <a:ext cx="1857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3071880" y="2214720"/>
            <a:ext cx="50004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положа руку на сердце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3429000" y="214308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4286160" y="2928960"/>
            <a:ext cx="271476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бок о бо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1"/>
          <p:cNvSpPr/>
          <p:nvPr/>
        </p:nvSpPr>
        <p:spPr>
          <a:xfrm>
            <a:off x="4214880" y="2857680"/>
            <a:ext cx="192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2"/>
          <p:cNvSpPr/>
          <p:nvPr/>
        </p:nvSpPr>
        <p:spPr>
          <a:xfrm>
            <a:off x="4071960" y="3571920"/>
            <a:ext cx="37148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и свет ни з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572000" y="3500280"/>
            <a:ext cx="1928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3143160" y="4143240"/>
            <a:ext cx="30006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сломя голо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2786040" y="414324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8"/>
          <p:cNvSpPr/>
          <p:nvPr/>
        </p:nvSpPr>
        <p:spPr>
          <a:xfrm>
            <a:off x="4429080" y="4857840"/>
            <a:ext cx="35719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е покладая ру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4714920" y="471492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9"/>
          <p:cNvSpPr/>
          <p:nvPr/>
        </p:nvSpPr>
        <p:spPr>
          <a:xfrm>
            <a:off x="6500880" y="5500800"/>
            <a:ext cx="2143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азубо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7"/>
          <p:cNvSpPr/>
          <p:nvPr/>
        </p:nvSpPr>
        <p:spPr>
          <a:xfrm>
            <a:off x="5572080" y="535788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908000" y="260280"/>
            <a:ext cx="54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о -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280" y="1341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кие гроздья рябины празднично украшали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50920" y="292428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 – это второстепенный член предложения, который обозначает признак действия или другого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 обычно зависит от сказ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324000" y="184464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619280" y="1844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300720" y="184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300720" y="19162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2916360" y="184464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956720" y="1844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284720" y="184464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357120" y="1143000"/>
            <a:ext cx="8102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Основные ви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обстоятельст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</a:t>
            </a: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17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87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Ребята, как вы думаете, что именно сказал мудрец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 вот слова старц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Что же сопутствует успеху в жизни, мои дорогие учен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-первых, сама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-вторых, не спеш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третьих, будьте готовы к тому, что придется принимать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четвертых, не смейте отступать, коль уж решение приня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пятых, не жалейте сил и энер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 просто-напросто не страшитесь ошибиться в этой жизн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акой из этих советов вы бы взяли за правило? Почему? Какой совет вам кажется самым трудным?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ы примем во внимание все советы  мудреца и успешно решим в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блемные вопросы уро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900000" y="260280"/>
            <a:ext cx="73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места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763640" y="2924280"/>
            <a:ext cx="56167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времен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700360" y="1773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де? Куда? Отк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55640" y="393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? Как долго? С каких пор? До каких п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причины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500040" y="2357280"/>
            <a:ext cx="8215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образа действ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00080" y="15717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? Отчего? По какой прич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071720" y="30718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 Каким образ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1214280" y="4000680"/>
            <a:ext cx="5734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степен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143000" y="4714920"/>
            <a:ext cx="56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857160" y="260280"/>
            <a:ext cx="738684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сравнен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987640" y="170028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928800" y="2857680"/>
            <a:ext cx="6286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цел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928800" y="378612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чем? Для чего? С какой цел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услов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1403280" y="3166920"/>
            <a:ext cx="6264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уступк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700360" y="177336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каком усло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28840" y="40766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отря на что? Вопреки 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611280" y="981000"/>
          <a:ext cx="8229600" cy="53341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 с каких пор? до каких п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 по какой причи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а действия и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с какой цель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аком услов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что? вопреки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WordArt 47"/>
          <p:cNvSpPr txBox="1"/>
          <p:nvPr/>
        </p:nvSpPr>
        <p:spPr>
          <a:xfrm>
            <a:off x="684360" y="18900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виды обстоятельств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30360" y="5935680"/>
          <a:ext cx="8227800" cy="422280"/>
        </p:xfrm>
        <a:graphic>
          <a:graphicData uri="http://schemas.openxmlformats.org/drawingml/2006/table">
            <a:tbl>
              <a:tblPr/>
              <a:tblGrid>
                <a:gridCol w="8227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376200" y="136440"/>
            <a:ext cx="85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. В каком предложении есть обстоятельство усло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Все весело рассмея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ри желании всё можн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Дело чрезвычайно сро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Несмотря на оттепель, соревнования по биатлону 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755640" y="1268280"/>
            <a:ext cx="453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95280" y="2708280"/>
            <a:ext cx="83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2. В каком предложении есть обстоятельство ц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Ты едешь в Оренбург служить под его нача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Через минуту попадья вышла ко мне в с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Я горько заплакал и громко произнёс имя моей люб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Маша была необыкновенно хороша в этот м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826920" y="3500280"/>
            <a:ext cx="720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03120" y="208080"/>
            <a:ext cx="858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В каком предложении есть обстоятельство ц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круг не было ни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опыхах я оставил билет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моносов отправился в Москву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коре прозвенел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50920" y="2492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. В каком предложении есть обстоятельство при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шу гавань заходили кора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мившись от долгой дороги, я тотчас ус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изу, как муравьи, сновали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акате солнце кажется огромным красным ш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755640" y="1700280"/>
            <a:ext cx="576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684360" y="3645000"/>
            <a:ext cx="648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535788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виды обстоятель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вопросы они отвеч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огут быть выражены обстоя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">
            <a:hlinkClick r:id="rId2" action="ppaction://hlinksldjump"/>
          </p:cNvPr>
          <p:cNvSpPr/>
          <p:nvPr/>
        </p:nvSpPr>
        <p:spPr>
          <a:xfrm>
            <a:off x="0" y="1643040"/>
            <a:ext cx="8501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>
            <a:hlinkClick r:id="rId3" action="ppaction://hlinksldjump"/>
          </p:cNvPr>
          <p:cNvSpPr/>
          <p:nvPr/>
        </p:nvSpPr>
        <p:spPr>
          <a:xfrm>
            <a:off x="0" y="292896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>
            <a:hlinkClick r:id="rId4" action="ppaction://hlinksldjump"/>
          </p:cNvPr>
          <p:cNvSpPr/>
          <p:nvPr/>
        </p:nvSpPr>
        <p:spPr>
          <a:xfrm>
            <a:off x="0" y="428616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611280" y="981000"/>
          <a:ext cx="8229600" cy="53341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 с каких пор? до каких п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 по какой причи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а действия и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с какой цель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аком услов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что? вопреки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WordArt 47"/>
          <p:cNvSpPr txBox="1"/>
          <p:nvPr/>
        </p:nvSpPr>
        <p:spPr>
          <a:xfrm>
            <a:off x="684360" y="18900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виды обстоятельств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30360" y="5935680"/>
          <a:ext cx="8227800" cy="422280"/>
        </p:xfrm>
        <a:graphic>
          <a:graphicData uri="http://schemas.openxmlformats.org/drawingml/2006/table">
            <a:tbl>
              <a:tblPr/>
              <a:tblGrid>
                <a:gridCol w="8227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571680" y="214200"/>
          <a:ext cx="8286480" cy="6299280"/>
        </p:xfrm>
        <a:graphic>
          <a:graphicData uri="http://schemas.openxmlformats.org/drawingml/2006/table">
            <a:tbl>
              <a:tblPr/>
              <a:tblGrid>
                <a:gridCol w="3236760"/>
                <a:gridCol w="5049720"/>
              </a:tblGrid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выражения обстоятель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) нареч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ы приехал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утром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) деепричастиями (деепричастными оборот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Он сидел,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греясь на солнце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) именами существитель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читал стих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 выражением,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как профессиональный чтец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) неопределённой формой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Я хочу пойти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 прогуля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) синтаксически неделимыми словосочет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 потерял тетрадь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два дня тому назад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) фразеолог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бежа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ломя голову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но все равно прише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к шапочному разбору.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в паре и в групп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71400"/>
            <a:ext cx="8143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лушивай всех не перебив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говори одновременно с друг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держивайся 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юбые идеи имеют це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ловек сам вправе решать, в какой мере он участвует в общей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важай различные мнения. Надо слушать, а не успокаивать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Любые вопросы важ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5"/>
          <p:cNvSpPr/>
          <p:nvPr/>
        </p:nvSpPr>
        <p:spPr>
          <a:xfrm>
            <a:off x="357120" y="0"/>
            <a:ext cx="842976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Составить синквей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(структура синквей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строка – название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д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ествительное или словосочет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строка –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ние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лагательных-опреде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строка – описание действия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лагола или деепричаст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строка – отношение автора к теме (фраза или предложение из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 сл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строка – суть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ло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ло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выв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98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5"/>
          <p:cNvSpPr/>
          <p:nvPr/>
        </p:nvSpPr>
        <p:spPr>
          <a:xfrm>
            <a:off x="357120" y="357120"/>
            <a:ext cx="84297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Пример синквей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Обстоятель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Разное, зависящ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Обозначает, зависит, выраж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Обстоятельство зависит от сказуем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Второстепенный ч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02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5"/>
          <p:cNvSpPr/>
          <p:nvPr/>
        </p:nvSpPr>
        <p:spPr>
          <a:xfrm>
            <a:off x="642960" y="1214280"/>
            <a:ext cx="72151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Домашне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970520" y="2778120"/>
            <a:ext cx="1214280" cy="822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3571560"/>
            <a:ext cx="8501040" cy="2071800"/>
          </a:xfrm>
          <a:prstGeom prst="rect">
            <a:avLst/>
          </a:prstGeom>
          <a:solidFill>
            <a:srgbClr val="eeece1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78 (выучить виды обстоятельств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175 (письменно), Упр. 180 (устно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16 -0.07871 C -0.27292 -0.09861 -0.25955 -0.10139 -0.2441 -0.1088 C -0.24497 -0.10278 -0.24514 -0.08542 -0.24983 -0.07871 C -0.27813 -0.03588 -0.25712 -0.07524 -0.26771 -0.05486 C -0.25851 -0.04584 -0.23785 -0.05787 -0.22865 -0.06598 C -0.22292 -0.07084 -0.21268 -0.08334 -0.21268 -0.08311 C -0.21198 -0.08125 -0.21094 -0.0794 -0.21042 -0.07709 C -0.2099 -0.07338 -0.21094 -0.06899 -0.20955 -0.06598 C -0.20851 -0.06366 -0.20573 -0.06389 -0.20365 -0.06274 C -0.19167 -0.06945 -0.19532 -0.06598 -0.19167 -0.08195 C -0.19028 -0.0875 -0.18316 -0.08403 -0.17917 -0.08496 C -0.17223 -0.09861 -0.17761 -0.08565 -0.17136 -0.07871 C -0.16945 -0.07662 -0.16684 -0.07662 -0.16459 -0.07547 C -0.14862 -0.07686 -0.14462 -0.07477 -0.13559 -0.09144 C -0.13299 -0.10903 -0.13577 -0.09584 -0.13316 -0.09306 C -0.13056 -0.09028 -0.12709 -0.08982 -0.12414 -0.0882 C -0.11667 -0.08936 -0.10921 -0.08912 -0.10174 -0.09144 C -0.10052 -0.0919 -0.10105 -0.09607 -0.09966 -0.09607 C -0.09862 -0.09607 -0.10035 -0.09306 -0.1007 -0.09144 C -0.10035 -0.08936 -0.10087 -0.08635 -0.09966 -0.08496 C -0.09827 -0.08311 -0.09584 -0.08287 -0.09393 -0.08334 C -0.08091 -0.08658 -0.07639 -0.09098 -0.06615 -0.09607 C -0.06372 -0.08079 -0.05278 -0.07338 -0.04254 -0.07084 C -0.03542 -0.07246 -0.02813 -0.07199 -0.02118 -0.07547 C -0.01927 -0.07639 -0.01997 -0.08334 -0.01789 -0.08334 C -0.0158 -0.08334 -0.01875 -0.07801 -0.0191 -0.07547 C -0.01511 -0.07199 -0.01216 -0.0713 -0.00782 -0.06922 C 0.01909 -0.07871 0.00277 -0.07709 0.01909 -0.0676 C 0.03107 -0.06806 0.0434 -0.07246 0.0552 -0.06922 C 0.05833 -0.06829 0.05746 -0.06042 0.05954 -0.05649 C 0.06059 -0.0544 0.0625 -0.05301 0.06406 -0.05162 C 0.07222 -0.04514 0.0842 -0.04653 0.09323 -0.04537 C 0.10885 -0.04746 0.12465 -0.04746 0.14027 -0.05162 C 0.15746 -0.05625 0.14027 -0.06297 0.15017 -0.05811 C 0.1526 -0.05903 0.1552 -0.05926 0.15711 -0.06111 C 0.16632 -0.07084 0.1585 -0.07269 0.16614 -0.06922 C 0.16753 -0.07014 0.16944 -0.07061 0.17031 -0.07223 C 0.17361 -0.07639 0.16996 -0.08542 0.16944 -0.0882 C 0.16701 -0.09769 0.16163 -0.10649 0.15468 -0.11042 C 0.15191 -0.11204 0.14861 -0.11158 0.14583 -0.11204 C 0.13263 -0.10949 0.11892 -0.11111 0.10642 -0.10417 C 0.06961 -0.08334 0.03698 -0.04028 0.00347 -0.01042 C -0.04289 0.03055 -0.09827 0.05324 -0.15226 0.06111 C -0.16511 0.06828 -0.1783 0.07268 -0.19167 0.07847 C -0.2007 0.07801 -0.20955 0.0787 -0.21841 0.07685 C -0.21997 0.07662 -0.22049 0.07361 -0.22171 0.07222 C -0.22674 0.06713 -0.23177 0.06226 -0.2375 0.05949 C -0.23594 0.09722 -0.23993 0.09467 -0.21615 0.08009 C -0.20921 0.07014 -0.20521 0.05764 -0.19827 0.04838 C -0.18889 0.05648 -0.1941 0.07245 -0.18143 0.07685 C -0.16962 0.0699 -0.16737 0.06203 -0.16337 0.04514 C -0.15868 0.06713 -0.1632 0.06458 -0.15018 0.07222 C -0.14671 0.07407 -0.14323 0.07523 -0.13993 0.07685 C -0.12362 0.07361 -0.10677 0.07361 -0.09063 0.06736 C -0.0816 0.06389 -0.06615 0.04838 -0.06615 0.04861 C -0.05591 0.0243 -0.07118 0.06088 -0.05816 0.06736 C -0.04896 0.06088 -0.04028 0.05301 -0.03125 0.04676 C -0.01094 0.03287 -0.02518 0.04652 -0.01424 0.03564 C -0.0132 0.04074 -0.01424 0.04699 -0.01216 0.05139 C -0.00712 0.0618 -0.00365 0.06111 0.00347 0.0625 C 0.01718 0.0574 0.02604 0.05879 0.0335 0.04351 C 0.0368 0.03078 0.03263 0.04768 0.03263 0.04838 C 0.03333 0.05393 0.03524 0.05926 0.03698 0.06412 C 0.04045 0.07268 0.04288 0.07083 0.04948 0.07222 C 0.07326 0.06828 0.08663 0.07245 0.10329 0.05301 C 0.1059 0.03611 0.10191 0.0581 0.10781 0.06412 C 0.11024 0.06666 0.11371 0.06111 0.11666 0.05949 C 0.11996 0.04791 0.11701 0.03426 0.11892 0.05949 C 0.12013 0.05787 0.12135 0.05648 0.12222 0.05463 C 0.12395 0.05046 0.12257 0.04421 0.12448 0.04027 C 0.12569 0.03796 0.13142 0.03564 0.1335 0.03564 E">
                                      <p:cBhvr>
                                        <p:cTn id="106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98 -0.11643 C -0.20034 -0.13634 -0.19027 -0.13912 -0.17847 -0.14653 C -0.17899 -0.14051 -0.17916 -0.12315 -0.18263 -0.11643 C -0.20416 -0.07361 -0.18819 -0.11296 -0.19635 -0.09259 C -0.18923 -0.08356 -0.17361 -0.0956 -0.16666 -0.1037 C -0.16215 -0.10856 -0.15451 -0.12106 -0.15451 -0.12083 C -0.15399 -0.11898 -0.15329 -0.11713 -0.15295 -0.11481 C -0.15243 -0.11111 -0.15329 -0.10671 -0.15208 -0.1037 C -0.15138 -0.10139 -0.1493 -0.10162 -0.14774 -0.10046 C -0.13854 -0.10718 -0.14131 -0.1037 -0.13854 -0.11968 C -0.1375 -0.12523 -0.13211 -0.12176 -0.12916 -0.12268 C -0.12395 -0.13634 -0.12795 -0.12338 -0.12309 -0.11643 C -0.12187 -0.11435 -0.11979 -0.11435 -0.11805 -0.11319 C -0.1059 -0.11458 -0.10295 -0.1125 -0.096 -0.12917 C -0.09392 -0.14676 -0.09618 -0.13356 -0.09427 -0.13079 C -0.09236 -0.12801 -0.08975 -0.12755 -0.08732 -0.12593 C -0.08177 -0.12708 -0.07604 -0.12685 -0.07048 -0.12917 C -0.06944 -0.12963 -0.06996 -0.1338 -0.06875 -0.1338 C -0.06788 -0.1338 -0.06927 -0.13079 -0.06944 -0.12917 C -0.06927 -0.12708 -0.06979 -0.12407 -0.06875 -0.12268 C -0.0677 -0.12083 -0.06597 -0.1206 -0.06458 -0.12106 C -0.05468 -0.12431 -0.05104 -0.1287 -0.0434 -0.1338 C -0.04149 -0.11852 -0.03333 -0.11111 -0.02552 -0.10856 C -0.01996 -0.11018 -0.01441 -0.10972 -0.00937 -0.11319 C -0.00781 -0.11412 -0.00833 -0.12106 -0.00677 -0.12106 C -0.0052 -0.12106 -0.00729 -0.11574 -0.00763 -0.11319 C -0.00468 -0.10972 -0.00225 -0.10903 0.00087 -0.10694 C 0.02119 -0.11643 0.00903 -0.11481 0.02119 -0.10532 C 0.03039 -0.10579 0.03959 -0.11018 0.04862 -0.10694 C 0.05105 -0.10602 0.05053 -0.09815 0.05191 -0.09421 C 0.05278 -0.09213 0.05417 -0.09074 0.05539 -0.08935 C 0.06164 -0.08287 0.07066 -0.08426 0.07744 -0.0831 C 0.08941 -0.08518 0.10139 -0.08518 0.1132 -0.08935 C 0.12622 -0.09398 0.1132 -0.10069 0.12084 -0.09583 C 0.12275 -0.09676 0.12448 -0.09699 0.12587 -0.09884 C 0.13299 -0.10856 0.12709 -0.11042 0.13282 -0.10694 C 0.13386 -0.10787 0.13525 -0.10833 0.13612 -0.10995 C 0.13855 -0.11412 0.13577 -0.12315 0.13525 -0.12593 C 0.13351 -0.13542 0.12934 -0.14421 0.12414 -0.14815 C 0.12223 -0.14977 0.11962 -0.14931 0.11737 -0.14977 C 0.1073 -0.14722 0.09688 -0.14884 0.0875 -0.1419 C 0.05955 -0.12106 0.0349 -0.07801 0.00955 -0.04815 C -0.02569 -0.00718 -0.0677 0.01551 -0.10868 0.02338 C -0.1184 0.03056 -0.12847 0.03495 -0.13854 0.04074 C -0.14531 0.04028 -0.15208 0.04097 -0.15885 0.03912 C -0.16024 0.03889 -0.16041 0.03588 -0.16145 0.03449 C -0.1651 0.0294 -0.16892 0.02454 -0.17343 0.02176 C -0.17222 0.05949 -0.17534 0.05694 -0.15711 0.04236 C -0.15191 0.03241 -0.14895 0.01991 -0.14357 0.01065 C -0.13663 0.01875 -0.14045 0.03472 -0.1309 0.03912 C -0.12187 0.03218 -0.12013 0.02431 -0.11718 0.00741 C -0.11354 0.0294 -0.11684 0.02685 -0.10711 0.03449 C -0.10468 0.03634 -0.10191 0.0375 -0.0993 0.03912 C -0.08697 0.03588 -0.07413 0.03588 -0.06197 0.02963 C -0.0552 0.02616 -0.0434 0.01065 -0.0434 0.01088 C -0.03576 -0.01343 -0.04722 0.02315 -0.03732 0.02963 C -0.03038 0.02315 -0.02378 0.01528 -0.01684 0.00903 C -0.00156 -0.00486 -0.01232 0.0088 -0.00416 -0.00208 C -0.00329 0.00301 -0.00416 0.00926 -0.0026 0.01366 C 0.00139 0.02407 0.004 0.02338 0.00955 0.02477 C 0.01997 0.01968 0.02639 0.02107 0.0323 0.00579 C 0.03473 -0.00694 0.0316 0.00995 0.0316 0.01065 C 0.03195 0.0162 0.03351 0.02153 0.0349 0.02639 C 0.0375 0.03495 0.03941 0.0331 0.04428 0.03449 C 0.06233 0.03056 0.07275 0.03472 0.08525 0.01528 C 0.08716 -0.00162 0.08403 0.02037 0.08855 0.02639 C 0.09063 0.02894 0.09306 0.02338 0.09532 0.02176 C 0.09775 0.01019 0.09566 -0.00347 0.09705 0.02176 C 0.09792 0.02014 0.09896 0.01875 0.09948 0.0169 C 0.1007 0.01273 0.09966 0.00648 0.10122 0.00255 C 0.10209 0.00023 0.10643 -0.00208 0.10799 -0.00208 E">
                                      <p:cBhvr>
                                        <p:cTn id="109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571680" y="214200"/>
          <a:ext cx="8286480" cy="6299280"/>
        </p:xfrm>
        <a:graphic>
          <a:graphicData uri="http://schemas.openxmlformats.org/drawingml/2006/table">
            <a:tbl>
              <a:tblPr/>
              <a:tblGrid>
                <a:gridCol w="3236760"/>
                <a:gridCol w="5049720"/>
              </a:tblGrid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выражения обстоятель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) нареч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ы приехал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утром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) деепричастиями (деепричастными оборот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Он сидел,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греясь на солнце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) именами существитель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читал стих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 выражением,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как профессиональный чтец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) неопределённой формой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Я хочу пойти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 прогуля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) синтаксически неделимыми словосочет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 потерял тетрадь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два дня тому назад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) фразеолог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бежа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ломя голову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но все равно прише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к шапочному разбору.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0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Ребята, каким советам старца вы следовал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2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6"/>
          <p:cNvSpPr/>
          <p:nvPr/>
        </p:nvSpPr>
        <p:spPr>
          <a:xfrm>
            <a:off x="285840" y="642960"/>
            <a:ext cx="8501040" cy="607212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c0b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На уроке я чувствовал себя… </a:t>
            </a:r>
            <a:r>
              <a:rPr b="0" lang="en-US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Виды обстоятельств я запомнил… </a:t>
            </a:r>
            <a:r>
              <a:rPr b="0" lang="en-US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Урок прошё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285840" y="214200"/>
            <a:ext cx="8501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одолжите предложения, используя различные виды обстоятель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357120" y="2214720"/>
            <a:ext cx="83487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омфортно, удобно, хорошо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357120" y="3571920"/>
            <a:ext cx="8348760" cy="9190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хорошо, крепко, с трудом, плох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285840" y="5500800"/>
            <a:ext cx="8348400" cy="9190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быстро, весело, интерес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7613640" y="570708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5"/>
          <p:cNvSpPr/>
          <p:nvPr/>
        </p:nvSpPr>
        <p:spPr>
          <a:xfrm>
            <a:off x="428760" y="214200"/>
            <a:ext cx="8286480" cy="60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r>
              <a:rPr b="1" lang="ru-RU" sz="8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бята, спасибо  за урок. Мне было приятно с вами об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 добрый час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м беречь доб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т беречь крас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м дерзать, будем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лыбку познанья Уроку да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желайте всего доброго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5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5"/>
          <p:cNvSpPr/>
          <p:nvPr/>
        </p:nvSpPr>
        <p:spPr>
          <a:xfrm>
            <a:off x="357120" y="642960"/>
            <a:ext cx="8102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Monotype Corsiva"/>
              </a:rPr>
              <a:t>Актуализация опорных зна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Monotype Corsiva"/>
              </a:rPr>
              <a:t>Проверка домашнего задания </a:t>
            </a:r>
            <a:r>
              <a:rPr b="0" i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</a:t>
            </a:r>
            <a:r>
              <a:rPr b="0" lang="en-US" sz="4800" spc="-1" strike="noStrike">
                <a:solidFill>
                  <a:srgbClr val="002060"/>
                </a:solidFill>
                <a:latin typeface="Monotype Corsiva"/>
              </a:rPr>
              <a:t>175,176,177. Упр.14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Допол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4000" y="14842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ые чайки лениво распустили кривые кры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763640" y="1989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324000" y="40464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 предложен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356000" y="1989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4356000" y="206064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1"/>
          <p:cNvSpPr/>
          <p:nvPr/>
        </p:nvSpPr>
        <p:spPr>
          <a:xfrm>
            <a:off x="6588000" y="1989000"/>
            <a:ext cx="136872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"/>
          <p:cNvSpPr/>
          <p:nvPr/>
        </p:nvSpPr>
        <p:spPr>
          <a:xfrm>
            <a:off x="324000" y="198900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32400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8436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97164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33200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69236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349236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2987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392436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5"/>
          <p:cNvSpPr/>
          <p:nvPr/>
        </p:nvSpPr>
        <p:spPr>
          <a:xfrm>
            <a:off x="3276720" y="1989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6"/>
          <p:cNvSpPr/>
          <p:nvPr/>
        </p:nvSpPr>
        <p:spPr>
          <a:xfrm>
            <a:off x="3780000" y="1989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7"/>
          <p:cNvSpPr txBox="1"/>
          <p:nvPr/>
        </p:nvSpPr>
        <p:spPr>
          <a:xfrm>
            <a:off x="2843280" y="2781360"/>
            <a:ext cx="309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полнение -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95280" y="33577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второстепенный член предложения, который зависит от сказуемого или другого члена предложения и отвечает на вопросы косвенных падеж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166760" y="539280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Кого? Чего? Кому? Чему? Кого? Ч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Кем? Чем? О ком? О 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68360" y="90792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лнце ярко освещало берёзовую ро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87708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730872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66764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2340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е дополн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68360" y="17002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й винительного падежа существительного без предл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й родительного падежа, если обозначает часть предмета (налил чаю), если переходный глагол употребляется с отрицанием НЕ (не надел курт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268360" y="4076640"/>
            <a:ext cx="518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венное дополн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95280" y="472428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ы разговорились об интересных кни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687708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730872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766764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810108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47840" y="352440"/>
            <a:ext cx="83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В каком предложении есть прямое допол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ей мне чаю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ушка всегда беспокоится обо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а в победу помогла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чь незаметно ползла над л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7840" y="2728800"/>
            <a:ext cx="84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В каком предложении есть прямое допол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дереву лодки неугомонно стучал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так и не нашёл нужной тетради в своё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круг домика росли раскидистые ли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ие издавна славятся своим гостеприим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826920" y="1125360"/>
            <a:ext cx="396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826920" y="3860640"/>
            <a:ext cx="66978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7:23Z</dcterms:created>
  <dc:creator>Евгения</dc:creator>
  <dc:description>http://aida.ucoz.ru</dc:description>
  <dc:language>en-US</dc:language>
  <cp:lastModifiedBy>Лариса</cp:lastModifiedBy>
  <dcterms:modified xsi:type="dcterms:W3CDTF">2023-07-07T12:09:29Z</dcterms:modified>
  <cp:revision>116</cp:revision>
  <dc:subject/>
  <dc:title>Слайд 1</dc:title>
</cp:coreProperties>
</file>