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gif" ContentType="image/gif"/>
  <Override PartName="/ppt/media/image9.gif" ContentType="image/gif"/>
  <Override PartName="/ppt/media/image15.gif" ContentType="image/gif"/>
  <Override PartName="/ppt/media/image14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11.gif" ContentType="image/gif"/>
  <Override PartName="/ppt/media/image1.jpeg" ContentType="image/jpeg"/>
  <Override PartName="/ppt/media/image7.png" ContentType="image/png"/>
  <Override PartName="/ppt/media/image8.gif" ContentType="image/gif"/>
  <Override PartName="/ppt/media/image13.gif" ContentType="image/gif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5F9-61E9-4878-8FD0-DE11AE48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78C1-997A-4E11-93AF-6B8D3E1C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9CE-235C-4428-A1AD-D9A9A0CD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E78-5294-4D48-ACAF-E86B3294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E29-E594-4D05-8394-8AD04CC3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745-2D84-4A1A-8AAB-AE186099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754-B9AD-4443-ABA6-B080C9A6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AF5-7373-4F87-8CD5-C03242A8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C47-E1AF-4E16-9877-8FA4A570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85B-6E66-493B-A565-403C04E0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2B5-ECBA-453A-8CEC-A7B3AF41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519-90F0-403C-8235-07DA71AA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1032-CB50-46AB-863A-14C02128B0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4.gif"/><Relationship Id="rId17" Type="http://schemas.openxmlformats.org/officeDocument/2006/relationships/image" Target="../media/image15.gif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12600" y="-60480"/>
            <a:ext cx="9313920" cy="157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:\Documents and Settings\Aida\Рабочий стол\ПРО создание презнетаций шаблонов... и всё!\Картинки к 1 сентября\lqoeyiomhoedxyztswryo.png"/>
          <p:cNvPicPr/>
          <p:nvPr/>
        </p:nvPicPr>
        <p:blipFill>
          <a:blip r:embed="rId3"/>
          <a:stretch/>
        </p:blipFill>
        <p:spPr>
          <a:xfrm flipH="1" rot="1484400">
            <a:off x="463320" y="216000"/>
            <a:ext cx="610920" cy="60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TextBox 6"/>
          <p:cNvSpPr/>
          <p:nvPr/>
        </p:nvSpPr>
        <p:spPr>
          <a:xfrm>
            <a:off x="152280" y="650088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3d69b"/>
                </a:solidFill>
                <a:latin typeface="Calibri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1000080" y="214200"/>
            <a:ext cx="7858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торостепенные члены предложения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11" descr="bk"/>
          <p:cNvPicPr/>
          <p:nvPr/>
        </p:nvPicPr>
        <p:blipFill>
          <a:blip r:embed="rId4"/>
          <a:srcRect l="0" t="0" r="0" b="6199"/>
          <a:stretch/>
        </p:blipFill>
        <p:spPr>
          <a:xfrm>
            <a:off x="3000240" y="2357280"/>
            <a:ext cx="2808360" cy="25005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8"/>
          <p:cNvSpPr/>
          <p:nvPr/>
        </p:nvSpPr>
        <p:spPr>
          <a:xfrm>
            <a:off x="4572000" y="5072040"/>
            <a:ext cx="428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642960" y="142884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рок русского языка в 8 классе по теме «Основные виды обстоятельст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5"/>
          <p:cNvSpPr/>
          <p:nvPr/>
        </p:nvSpPr>
        <p:spPr>
          <a:xfrm>
            <a:off x="357120" y="1143000"/>
            <a:ext cx="81025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Monotype Corsiva"/>
              </a:rPr>
              <a:t>Определ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213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95280" y="170028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опинка вилась вдоль берега в густой тра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468360" y="220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124000" y="220500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2124000" y="227664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8"/>
          <p:cNvSpPr/>
          <p:nvPr/>
        </p:nvSpPr>
        <p:spPr>
          <a:xfrm>
            <a:off x="5508720" y="2133720"/>
            <a:ext cx="1368360" cy="7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7164360" y="1628640"/>
            <a:ext cx="216000" cy="21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7164360" y="1628640"/>
            <a:ext cx="216000" cy="21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 flipV="1">
            <a:off x="7596360" y="1412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 flipH="1">
            <a:off x="6084360" y="1413000"/>
            <a:ext cx="151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6084720" y="1413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6372360" y="105264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к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5"/>
          <p:cNvSpPr txBox="1"/>
          <p:nvPr/>
        </p:nvSpPr>
        <p:spPr>
          <a:xfrm>
            <a:off x="2124000" y="333360"/>
            <a:ext cx="511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16"/>
          <p:cNvSpPr txBox="1"/>
          <p:nvPr/>
        </p:nvSpPr>
        <p:spPr>
          <a:xfrm>
            <a:off x="684360" y="2924280"/>
            <a:ext cx="259236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я</a:t>
            </a:r>
            <a:endParaRPr b="1" lang="en-US" sz="32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4211640" y="2565360"/>
            <a:ext cx="31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гласов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4192560" y="3232080"/>
            <a:ext cx="34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согласов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 flipV="1">
            <a:off x="3348000" y="2924280"/>
            <a:ext cx="86364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348000" y="3213000"/>
            <a:ext cx="86364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663480" y="460044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полке лежали книги б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4643280" y="5084640"/>
            <a:ext cx="1117800" cy="7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5"/>
          <p:cNvSpPr/>
          <p:nvPr/>
        </p:nvSpPr>
        <p:spPr>
          <a:xfrm>
            <a:off x="357120" y="1143000"/>
            <a:ext cx="81025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Monotype Corsiva"/>
              </a:rPr>
              <a:t>Прилож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31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395280" y="189000"/>
            <a:ext cx="8496360" cy="9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ложение - это особый вид определения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250920" y="2421000"/>
            <a:ext cx="864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ложение – это определение, выраженное существительным, согласованным с определяемым словом в паде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ложения могут обозначать различные качества предмета, указывать на возраст, национальность, профессию и другие призн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79280" y="1341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городе-крепости мы осматривали выстав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95280" y="907920"/>
            <a:ext cx="85168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 красивы деревенские ласточки-кас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газете «Собеседник» была напечатана интересная статья о наших современни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о над Москвою-рекой услыхать соловья на рассв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 второй половине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 в городе Пскове появились первые каменные з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3059280" y="260280"/>
            <a:ext cx="338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ложение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816200" y="4313160"/>
            <a:ext cx="61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рицательное – нариц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ственное – нарицате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14"/>
          <p:cNvSpPr/>
          <p:nvPr/>
        </p:nvSpPr>
        <p:spPr>
          <a:xfrm>
            <a:off x="2019240" y="428760"/>
            <a:ext cx="5105520" cy="157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лены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228600" y="3214800"/>
            <a:ext cx="419112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лавн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4572000" y="3143160"/>
            <a:ext cx="4038480" cy="1214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степ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1"/>
          <p:cNvSpPr/>
          <p:nvPr/>
        </p:nvSpPr>
        <p:spPr>
          <a:xfrm>
            <a:off x="2357280" y="2000160"/>
            <a:ext cx="457200" cy="990720"/>
          </a:xfrm>
          <a:prstGeom prst="downArrow">
            <a:avLst>
              <a:gd name="adj1" fmla="val 50000"/>
              <a:gd name="adj2" fmla="val 5417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2"/>
          <p:cNvSpPr/>
          <p:nvPr/>
        </p:nvSpPr>
        <p:spPr>
          <a:xfrm>
            <a:off x="6072120" y="2000160"/>
            <a:ext cx="381240" cy="990720"/>
          </a:xfrm>
          <a:prstGeom prst="downArrow">
            <a:avLst>
              <a:gd name="adj1" fmla="val 50000"/>
              <a:gd name="adj2" fmla="val 649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3"/>
          <p:cNvSpPr/>
          <p:nvPr/>
        </p:nvSpPr>
        <p:spPr>
          <a:xfrm>
            <a:off x="380880" y="48769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лежаще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5"/>
          <p:cNvSpPr/>
          <p:nvPr/>
        </p:nvSpPr>
        <p:spPr>
          <a:xfrm>
            <a:off x="2438280" y="4876920"/>
            <a:ext cx="1633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казуем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7"/>
          <p:cNvSpPr/>
          <p:nvPr/>
        </p:nvSpPr>
        <p:spPr>
          <a:xfrm flipH="1">
            <a:off x="1219320" y="4286160"/>
            <a:ext cx="28080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2857680" y="4286160"/>
            <a:ext cx="342720" cy="5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9"/>
          <p:cNvSpPr/>
          <p:nvPr/>
        </p:nvSpPr>
        <p:spPr>
          <a:xfrm>
            <a:off x="4286160" y="4876920"/>
            <a:ext cx="1571760" cy="1066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0"/>
          <p:cNvSpPr/>
          <p:nvPr/>
        </p:nvSpPr>
        <p:spPr>
          <a:xfrm>
            <a:off x="6019920" y="4876920"/>
            <a:ext cx="1143000" cy="10666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1"/>
          <p:cNvSpPr/>
          <p:nvPr/>
        </p:nvSpPr>
        <p:spPr>
          <a:xfrm>
            <a:off x="7391520" y="4876920"/>
            <a:ext cx="1295280" cy="1066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сто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5"/>
          <p:cNvSpPr/>
          <p:nvPr/>
        </p:nvSpPr>
        <p:spPr>
          <a:xfrm flipH="1">
            <a:off x="5181120" y="4357800"/>
            <a:ext cx="39060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6"/>
          <p:cNvSpPr/>
          <p:nvPr/>
        </p:nvSpPr>
        <p:spPr>
          <a:xfrm>
            <a:off x="7429680" y="4357800"/>
            <a:ext cx="647640" cy="59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6429240" y="4357800"/>
            <a:ext cx="47880" cy="67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5"/>
          <p:cNvSpPr/>
          <p:nvPr/>
        </p:nvSpPr>
        <p:spPr>
          <a:xfrm>
            <a:off x="357120" y="1143000"/>
            <a:ext cx="81025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Monotype Corsiva"/>
              </a:rPr>
              <a:t>Обстоятельств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350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5"/>
          <p:cNvSpPr/>
          <p:nvPr/>
        </p:nvSpPr>
        <p:spPr>
          <a:xfrm>
            <a:off x="357120" y="1000080"/>
            <a:ext cx="8102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Monotype Corsiva"/>
              </a:rPr>
              <a:t>Приём «Корзина идей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Что вам известно об обстоятельств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36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5"/>
          <p:cNvSpPr/>
          <p:nvPr/>
        </p:nvSpPr>
        <p:spPr>
          <a:xfrm>
            <a:off x="214200" y="642960"/>
            <a:ext cx="89298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Monotype Corsiva"/>
              </a:rPr>
              <a:t>Приём «Корзина идей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Что вам известно об обстоятель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Возможные варианты ответов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стоятельств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второстепенный член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Обстоятельство «дружит» со сказуемым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Обстоятельство отвечает на вопросы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где? когда? куда? откуда? почему? зачем? как? и др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Обстоятельство может быть выражено наречием и именем существительным в косвенном паде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Подчёркивается штрих пунктирной ли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 Нам известно, что обстоятельство выражается разными частями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377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5"/>
          <p:cNvSpPr/>
          <p:nvPr/>
        </p:nvSpPr>
        <p:spPr>
          <a:xfrm>
            <a:off x="357120" y="1143000"/>
            <a:ext cx="81025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Monotype Corsiva"/>
              </a:rPr>
              <a:t>Основные ви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Monotype Corsiva"/>
              </a:rPr>
              <a:t>обстоятельст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те § </a:t>
            </a:r>
            <a:r>
              <a:rPr b="1" lang="en-US" sz="8000" spc="-1" strike="noStrike">
                <a:solidFill>
                  <a:srgbClr val="002060"/>
                </a:solidFill>
                <a:latin typeface="Monotype Corsiva"/>
              </a:rPr>
              <a:t>17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42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2060"/>
                </a:solidFill>
                <a:latin typeface="Calibri"/>
              </a:rPr>
              <a:t>Притч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5480" y="92844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обрый день, ребята! Сегодня мне хотелось бы начать урок с прит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«Один мудрец на склоне лет решил найти себе замену - ученика, для того чтобы передать ему свой опыт. Подумал мудрец, позвал к себе всех своих учеников и сказал: «Мне интересно узнать, сможет ли кто-нибудь из вас открыть огромную, тяжеленную дверь вон в той стене?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которые ученики сразу сдались, посчитав проблему неразрешимой. Другие ученики все же решили изучить дверь, они внимательно ее осмотрели, поговорили о том, какие подручные средства здесь можно использовать, и в конце концов пришли к выводу, что эта проблема не реш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 только один-единственный ученик подошел к двери и с особым вниманием ее изучил. На самом деле дверь оказалась слегка прикрытой, в то время как все остальные думали, что она наглухо заперта. Ученик слегка толкнул дверь, и она легко открыла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арец нашел своего преемника. Он повернулся к остальным ученикам и сказал им..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36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4061"/>
                </a:solidFill>
                <a:latin typeface="Calibri"/>
                <a:ea typeface="Times New Roman"/>
              </a:rPr>
              <a:t>расширить представление  об обстоятельстве, познакомиться с основными видами обстоятельств и способами их выраж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4061"/>
                </a:solidFill>
                <a:latin typeface="Calibri"/>
              </a:rPr>
              <a:t>учиться находить обстоятельства в речи, определять его виды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54061"/>
                </a:solidFill>
                <a:latin typeface="Calibri"/>
              </a:rPr>
              <a:t>учиться отличать обстоятельство от других членов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213840"/>
            <a:ext cx="722808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«Верите  ли  вы, что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928800"/>
          <a:ext cx="8535960" cy="5771880"/>
        </p:xfrm>
        <a:graphic>
          <a:graphicData uri="http://schemas.openxmlformats.org/drawingml/2006/table">
            <a:tbl>
              <a:tblPr/>
              <a:tblGrid>
                <a:gridCol w="498240"/>
                <a:gridCol w="6827760"/>
                <a:gridCol w="632160"/>
                <a:gridCol w="577800"/>
              </a:tblGrid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ите  ли  вы, что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– это  второстепенный  член 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обозначает  признак 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зависит  от  сказуе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быть  согласованным  с  подлежащ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ует  5  видов  обстоятель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отвечать  на  вопрос:  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обозначать  причи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быть  выражено  причастным  оборо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быть  выражено  словосочетанием  с  предлогом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мотря  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476280"/>
          <a:ext cx="8496360" cy="5829120"/>
        </p:xfrm>
        <a:graphic>
          <a:graphicData uri="http://schemas.openxmlformats.org/drawingml/2006/table">
            <a:tbl>
              <a:tblPr/>
              <a:tblGrid>
                <a:gridCol w="496800"/>
                <a:gridCol w="6796080"/>
                <a:gridCol w="628560"/>
                <a:gridCol w="574920"/>
              </a:tblGrid>
              <a:tr h="46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ите  ли  вы, что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– это  второстепенный  член 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обозначает  признак 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зависит  от  сказуе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быть  согласованным  с  подлежащ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ует  5  видов  обстоятель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отвечать  на  вопрос:  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обозначать  причи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быть  выражено  причастным  оборот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тоятельство  может  быть  выражено  словосочетанием  с  предлогом  несмотря  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black43"/>
          <p:cNvPicPr/>
          <p:nvPr/>
        </p:nvPicPr>
        <p:blipFill>
          <a:blip r:embed="rId2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black43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black43"/>
          <p:cNvPicPr/>
          <p:nvPr/>
        </p:nvPicPr>
        <p:blipFill>
          <a:blip r:embed="rId4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black43"/>
          <p:cNvPicPr/>
          <p:nvPr/>
        </p:nvPicPr>
        <p:blipFill>
          <a:blip r:embed="rId5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 rot="19871400">
            <a:off x="6084360" y="765000"/>
            <a:ext cx="1795680" cy="160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05_moon_meteorit_alh-81005"/>
          <p:cNvPicPr/>
          <p:nvPr/>
        </p:nvPicPr>
        <p:blipFill>
          <a:blip r:embed="rId6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05_moon_meteorit_alh-81005"/>
          <p:cNvPicPr/>
          <p:nvPr/>
        </p:nvPicPr>
        <p:blipFill>
          <a:blip r:embed="rId7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15"/>
          <p:cNvSpPr/>
          <p:nvPr/>
        </p:nvSpPr>
        <p:spPr>
          <a:xfrm>
            <a:off x="1042920" y="4797360"/>
            <a:ext cx="936720" cy="86364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7"/>
          <p:cNvSpPr/>
          <p:nvPr/>
        </p:nvSpPr>
        <p:spPr>
          <a:xfrm>
            <a:off x="3635280" y="549360"/>
            <a:ext cx="1224000" cy="1079280"/>
          </a:xfrm>
          <a:prstGeom prst="pie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 rot="19975200">
            <a:off x="6283440" y="3414240"/>
            <a:ext cx="1731960" cy="1656000"/>
          </a:xfrm>
          <a:prstGeom prst="pie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9"/>
          <p:cNvSpPr/>
          <p:nvPr/>
        </p:nvSpPr>
        <p:spPr>
          <a:xfrm rot="19975200">
            <a:off x="779040" y="1011240"/>
            <a:ext cx="1587600" cy="1511280"/>
          </a:xfrm>
          <a:prstGeom prst="pie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0"/>
          <p:cNvSpPr/>
          <p:nvPr/>
        </p:nvSpPr>
        <p:spPr>
          <a:xfrm rot="19975200">
            <a:off x="3566880" y="4804920"/>
            <a:ext cx="1873080" cy="1736640"/>
          </a:xfrm>
          <a:prstGeom prst="pie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1" descr="earth"/>
          <p:cNvPicPr/>
          <p:nvPr/>
        </p:nvPicPr>
        <p:blipFill>
          <a:blip r:embed="rId8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42"/>
          <p:cNvPicPr/>
          <p:nvPr/>
        </p:nvPicPr>
        <p:blipFill>
          <a:blip r:embed="rId9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3" descr="mars"/>
          <p:cNvPicPr/>
          <p:nvPr/>
        </p:nvPicPr>
        <p:blipFill>
          <a:blip r:embed="rId10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4" descr="112"/>
          <p:cNvPicPr/>
          <p:nvPr/>
        </p:nvPicPr>
        <p:blipFill>
          <a:blip r:embed="rId11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5" descr="upiter"/>
          <p:cNvPicPr/>
          <p:nvPr/>
        </p:nvPicPr>
        <p:blipFill>
          <a:blip r:embed="rId12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6" descr="r4"/>
          <p:cNvPicPr/>
          <p:nvPr/>
        </p:nvPicPr>
        <p:blipFill>
          <a:blip r:embed="rId13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9" descr="r4"/>
          <p:cNvPicPr/>
          <p:nvPr/>
        </p:nvPicPr>
        <p:blipFill>
          <a:blip r:embed="rId14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0" descr="r4"/>
          <p:cNvPicPr/>
          <p:nvPr/>
        </p:nvPicPr>
        <p:blipFill>
          <a:blip r:embed="rId15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2" descr="r7"/>
          <p:cNvPicPr/>
          <p:nvPr/>
        </p:nvPicPr>
        <p:blipFill>
          <a:blip r:embed="rId16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3" descr="56r2"/>
          <p:cNvPicPr/>
          <p:nvPr/>
        </p:nvPicPr>
        <p:blipFill>
          <a:blip r:embed="rId17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4" descr=""/>
          <p:cNvPicPr/>
          <p:nvPr/>
        </p:nvPicPr>
        <p:blipFill>
          <a:blip r:embed="rId18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9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6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9000"/>
                            </p:stCondLst>
                            <p:childTnLst>
                              <p:par>
                                <p:cTn id="4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2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0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3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495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6" dur="3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5500"/>
                            </p:stCondLst>
                            <p:childTnLst>
                              <p:par>
                                <p:cTn id="500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1" dur="3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85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9000"/>
                            </p:stCondLst>
                            <p:childTnLst>
                              <p:par>
                                <p:cTn id="5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9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1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5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2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3000"/>
                            </p:stCondLst>
                            <p:childTnLst>
                              <p:par>
                                <p:cTn id="5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4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4500"/>
                            </p:stCondLst>
                            <p:childTnLst>
                              <p:par>
                                <p:cTn id="5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55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549" dur="3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8500"/>
                            </p:stCondLst>
                            <p:childTnLst>
                              <p:par>
                                <p:cTn id="5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558" dur="3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1500"/>
                            </p:stCondLst>
                            <p:childTnLst>
                              <p:par>
                                <p:cTn id="5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3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45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579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75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85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95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60500"/>
                            </p:stCondLst>
                            <p:childTnLst>
                              <p:par>
                                <p:cTn id="5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3500"/>
                            </p:stCondLst>
                            <p:childTnLst>
                              <p:par>
                                <p:cTn id="598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66500"/>
                            </p:stCondLst>
                            <p:childTnLst>
                              <p:par>
                                <p:cTn id="60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603" dur="3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5" dur="3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69500"/>
                            </p:stCondLst>
                            <p:childTnLst>
                              <p:par>
                                <p:cTn id="6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8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71500"/>
                            </p:stCondLst>
                            <p:childTnLst>
                              <p:par>
                                <p:cTn id="6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72500"/>
                            </p:stCondLst>
                            <p:childTnLst>
                              <p:par>
                                <p:cTn id="6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3500"/>
                            </p:stCondLst>
                            <p:childTnLst>
                              <p:par>
                                <p:cTn id="6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74000"/>
                            </p:stCondLst>
                            <p:childTnLst>
                              <p:par>
                                <p:cTn id="6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5"/>
          <p:cNvSpPr/>
          <p:nvPr/>
        </p:nvSpPr>
        <p:spPr>
          <a:xfrm>
            <a:off x="357120" y="1143000"/>
            <a:ext cx="81025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8000" spc="-1" strike="noStrike">
                <a:solidFill>
                  <a:srgbClr val="002060"/>
                </a:solidFill>
                <a:latin typeface="Monotype Corsiva"/>
              </a:rPr>
              <a:t>Стадия осмысл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63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5"/>
          <p:cNvSpPr/>
          <p:nvPr/>
        </p:nvSpPr>
        <p:spPr>
          <a:xfrm>
            <a:off x="357120" y="357120"/>
            <a:ext cx="810252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Дополн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Лошади бежали …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…..  растёт самое красивое дерево – берё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Сегодня ты пришёл …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…… я уронил книж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. Мы пришли вам….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. ……. Витя не пришел в шк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. …..можно хорошо у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. ………росли цв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647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8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5"/>
          <p:cNvSpPr/>
          <p:nvPr/>
        </p:nvSpPr>
        <p:spPr>
          <a:xfrm>
            <a:off x="357120" y="285840"/>
            <a:ext cx="810252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Дополн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Лошади бежали ……(дружно - образ действ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(В России - места)…..  растёт самое красивое дерево – берё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Сегодня ты пришёл ……(рано - врем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(Нечаянно - причина) …… я уронил кни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Мы пришли вам…..( помочь - цел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(Из-за болезни - причина)……. Витя не пришел в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.(При желании – условие)…..можно хорошо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8.(Внизу - места)………росли ц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698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8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7613640" y="5707080"/>
            <a:ext cx="1214280" cy="8222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3"/>
          <p:cNvSpPr/>
          <p:nvPr/>
        </p:nvSpPr>
        <p:spPr>
          <a:xfrm>
            <a:off x="285840" y="214200"/>
            <a:ext cx="88581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5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амените наречия фразеологизмами, какие виды обстоятельств у вас получили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285840" y="1428840"/>
            <a:ext cx="8501040" cy="4857840"/>
          </a:xfrm>
          <a:prstGeom prst="rect">
            <a:avLst/>
          </a:prstGeom>
          <a:solidFill>
            <a:srgbClr val="ffffff">
              <a:alpha val="37000"/>
            </a:srgbClr>
          </a:solidFill>
          <a:ln w="25560">
            <a:solidFill>
              <a:srgbClr val="c0b9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buClr>
                <a:srgbClr val="0033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н живёт </a:t>
            </a: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далеко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33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тветь мне </a:t>
            </a: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честно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33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аши дома стоят </a:t>
            </a: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рядом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33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аша проснулся </a:t>
            </a: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рано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33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етя бежал </a:t>
            </a: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быстро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33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аташа трудилась </a:t>
            </a: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хорош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33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атя выучила стихотворение </a:t>
            </a: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отлично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2714760" y="1571760"/>
            <a:ext cx="50004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у чёрта на куличках 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3786120" y="1571760"/>
            <a:ext cx="1857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8"/>
          <p:cNvSpPr/>
          <p:nvPr/>
        </p:nvSpPr>
        <p:spPr>
          <a:xfrm>
            <a:off x="3071880" y="2214720"/>
            <a:ext cx="500040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положа руку на сердце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9"/>
          <p:cNvSpPr/>
          <p:nvPr/>
        </p:nvSpPr>
        <p:spPr>
          <a:xfrm>
            <a:off x="3429000" y="2143080"/>
            <a:ext cx="328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а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0"/>
          <p:cNvSpPr/>
          <p:nvPr/>
        </p:nvSpPr>
        <p:spPr>
          <a:xfrm>
            <a:off x="4286160" y="2928960"/>
            <a:ext cx="271476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бок о бок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1"/>
          <p:cNvSpPr/>
          <p:nvPr/>
        </p:nvSpPr>
        <p:spPr>
          <a:xfrm>
            <a:off x="4214880" y="2857680"/>
            <a:ext cx="1928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2"/>
          <p:cNvSpPr/>
          <p:nvPr/>
        </p:nvSpPr>
        <p:spPr>
          <a:xfrm>
            <a:off x="4071960" y="3571920"/>
            <a:ext cx="371484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ни свет ни за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3"/>
          <p:cNvSpPr/>
          <p:nvPr/>
        </p:nvSpPr>
        <p:spPr>
          <a:xfrm>
            <a:off x="4572000" y="3500280"/>
            <a:ext cx="1928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4"/>
          <p:cNvSpPr/>
          <p:nvPr/>
        </p:nvSpPr>
        <p:spPr>
          <a:xfrm>
            <a:off x="3143160" y="4143240"/>
            <a:ext cx="30006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сломя голо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5"/>
          <p:cNvSpPr/>
          <p:nvPr/>
        </p:nvSpPr>
        <p:spPr>
          <a:xfrm>
            <a:off x="2786040" y="4143240"/>
            <a:ext cx="328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а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8"/>
          <p:cNvSpPr/>
          <p:nvPr/>
        </p:nvSpPr>
        <p:spPr>
          <a:xfrm>
            <a:off x="4429080" y="4857840"/>
            <a:ext cx="357192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не покладая рук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6"/>
          <p:cNvSpPr/>
          <p:nvPr/>
        </p:nvSpPr>
        <p:spPr>
          <a:xfrm>
            <a:off x="4714920" y="4714920"/>
            <a:ext cx="328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а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9"/>
          <p:cNvSpPr/>
          <p:nvPr/>
        </p:nvSpPr>
        <p:spPr>
          <a:xfrm>
            <a:off x="6500880" y="5500800"/>
            <a:ext cx="214308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назубок</a:t>
            </a: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7"/>
          <p:cNvSpPr/>
          <p:nvPr/>
        </p:nvSpPr>
        <p:spPr>
          <a:xfrm>
            <a:off x="5572080" y="5357880"/>
            <a:ext cx="3286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а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>
            <a:off x="1908000" y="260280"/>
            <a:ext cx="547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о - 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95280" y="1341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ркие гроздья рябины празднично украшали 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50920" y="292428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оятельство – это второстепенный член предложения, который обозначает признак действия или другого призн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оятельство обычно зависит от сказуе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"/>
          <p:cNvSpPr/>
          <p:nvPr/>
        </p:nvSpPr>
        <p:spPr>
          <a:xfrm>
            <a:off x="324000" y="1844640"/>
            <a:ext cx="1260360" cy="7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619280" y="184464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6300720" y="184464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6300720" y="191628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1"/>
          <p:cNvSpPr/>
          <p:nvPr/>
        </p:nvSpPr>
        <p:spPr>
          <a:xfrm>
            <a:off x="2916360" y="1844640"/>
            <a:ext cx="1260360" cy="7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956720" y="184464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4284720" y="184464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5"/>
          <p:cNvSpPr/>
          <p:nvPr/>
        </p:nvSpPr>
        <p:spPr>
          <a:xfrm>
            <a:off x="357120" y="1143000"/>
            <a:ext cx="81025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Monotype Corsiva"/>
              </a:rPr>
              <a:t>Основные вид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Monotype Corsiva"/>
              </a:rPr>
              <a:t>обстоятельст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 </a:t>
            </a:r>
            <a:r>
              <a:rPr b="1" lang="ru-RU" sz="8000" spc="-1" strike="noStrike">
                <a:solidFill>
                  <a:srgbClr val="002060"/>
                </a:solidFill>
                <a:latin typeface="Monotype Corsiva"/>
              </a:rPr>
              <a:t>17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87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Ребята, как вы думаете, что именно сказал мудрец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А вот слова старц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«Что же сопутствует успеху в жизни, мои дорогие учени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о-первых, сама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о-вторых, не спеши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-третьих, будьте готовы к тому, что придется принимать ре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-четвертых, не смейте отступать, коль уж решение принят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-пятых, не жалейте сил и энер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И просто-напросто не страшитесь ошибиться в этой жизн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Какой из этих советов вы бы взяли за правило? Почему? Какой совет вам кажется самым трудным? Почем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Мы примем во внимание все советы  мудреца и успешно решим в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роблемные вопросы уро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900000" y="260280"/>
            <a:ext cx="7344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какие вопросы отвечают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места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1763640" y="2924280"/>
            <a:ext cx="561672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времени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700360" y="177336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де? Куда? Отку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55640" y="39337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гда? Как долго? С каких пор? До каких по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900000" y="260280"/>
            <a:ext cx="734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какие вопросы отвечают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причины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WordArt 5"/>
          <p:cNvSpPr txBox="1"/>
          <p:nvPr/>
        </p:nvSpPr>
        <p:spPr>
          <a:xfrm>
            <a:off x="500040" y="2357280"/>
            <a:ext cx="8215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образа действия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000080" y="157176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ему? Отчего? По какой причи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1071720" y="307188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? Каким образ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6"/>
          <p:cNvSpPr txBox="1"/>
          <p:nvPr/>
        </p:nvSpPr>
        <p:spPr>
          <a:xfrm>
            <a:off x="1214280" y="4000680"/>
            <a:ext cx="57340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степени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143000" y="4714920"/>
            <a:ext cx="56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акой степ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4"/>
          <p:cNvSpPr txBox="1"/>
          <p:nvPr/>
        </p:nvSpPr>
        <p:spPr>
          <a:xfrm>
            <a:off x="857160" y="260280"/>
            <a:ext cx="7386840" cy="13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какие вопросы отвечают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сравнения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987640" y="1700280"/>
            <a:ext cx="36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928800" y="2857680"/>
            <a:ext cx="6286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цели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928800" y="378612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чем? Для чего? С какой цел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4"/>
          <p:cNvSpPr txBox="1"/>
          <p:nvPr/>
        </p:nvSpPr>
        <p:spPr>
          <a:xfrm>
            <a:off x="900000" y="260280"/>
            <a:ext cx="7344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какие вопросы отвечают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условия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1403280" y="3166920"/>
            <a:ext cx="62643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стоятельства уступки?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700360" y="1773360"/>
            <a:ext cx="41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каком услов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428840" y="40766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смотря на что? Вопреки 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611280" y="981000"/>
          <a:ext cx="8229600" cy="5334120"/>
        </p:xfrm>
        <a:graphic>
          <a:graphicData uri="http://schemas.openxmlformats.org/drawingml/2006/table">
            <a:tbl>
              <a:tblPr/>
              <a:tblGrid>
                <a:gridCol w="3095640"/>
                <a:gridCol w="5133960"/>
              </a:tblGrid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де? куда? откуд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гда? как долго? с каких пор? до каких пор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ему? отчего? по какой причин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а действия и степ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? каким образом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кой степен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чем? для чего? с какой целью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уп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каком услов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мотря на что? вопреки 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WordArt 47"/>
          <p:cNvSpPr txBox="1"/>
          <p:nvPr/>
        </p:nvSpPr>
        <p:spPr>
          <a:xfrm>
            <a:off x="684360" y="189000"/>
            <a:ext cx="79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ые виды обстоятельств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30360" y="5935680"/>
          <a:ext cx="8227800" cy="422280"/>
        </p:xfrm>
        <a:graphic>
          <a:graphicData uri="http://schemas.openxmlformats.org/drawingml/2006/table">
            <a:tbl>
              <a:tblPr/>
              <a:tblGrid>
                <a:gridCol w="82278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376200" y="136440"/>
            <a:ext cx="851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1. В каком предложении есть обстоятельство услов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Все весело рассмея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При желании всё можно с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Дело чрезвычайно сро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Несмотря на оттепель, соревнования по биатлону не отме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755640" y="1268280"/>
            <a:ext cx="4537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395280" y="2708280"/>
            <a:ext cx="83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2. В каком предложении есть обстоятельство ц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Ты едешь в Оренбург служить под его началь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Через минуту попадья вышла ко мне в с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Я горько заплакал и громко произнёс имя моей люби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Маша была необыкновенно хороша в этот м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826920" y="3500280"/>
            <a:ext cx="7201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303120" y="208080"/>
            <a:ext cx="858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3. В каком предложении есть обстоятельство ц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круг не было ни д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попыхах я оставил билет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моносов отправился в Москву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коре прозвенел зво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50920" y="249228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4. В каком предложении есть обстоятельство причи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ашу гавань заходили кораб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омившись от долгой дороги, я тотчас усн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изу, как муравьи, сновали лю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закате солнце кажется огромным красным ша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755640" y="1700280"/>
            <a:ext cx="5761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684360" y="3645000"/>
            <a:ext cx="648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28520" y="357120"/>
            <a:ext cx="535788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оговые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57120" y="160020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виды обстоятель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ие вопросы они отвеч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огут быть выражены обстоятельств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3">
            <a:hlinkClick r:id="rId2" action="ppaction://hlinksldjump"/>
          </p:cNvPr>
          <p:cNvSpPr/>
          <p:nvPr/>
        </p:nvSpPr>
        <p:spPr>
          <a:xfrm>
            <a:off x="0" y="1643040"/>
            <a:ext cx="85010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>
            <a:hlinkClick r:id="rId3" action="ppaction://hlinksldjump"/>
          </p:cNvPr>
          <p:cNvSpPr/>
          <p:nvPr/>
        </p:nvSpPr>
        <p:spPr>
          <a:xfrm>
            <a:off x="0" y="2928960"/>
            <a:ext cx="86439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>
            <a:hlinkClick r:id="rId4" action="ppaction://hlinksldjump"/>
          </p:cNvPr>
          <p:cNvSpPr/>
          <p:nvPr/>
        </p:nvSpPr>
        <p:spPr>
          <a:xfrm>
            <a:off x="0" y="4286160"/>
            <a:ext cx="86439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611280" y="981000"/>
          <a:ext cx="8229600" cy="5334120"/>
        </p:xfrm>
        <a:graphic>
          <a:graphicData uri="http://schemas.openxmlformats.org/drawingml/2006/table">
            <a:tbl>
              <a:tblPr/>
              <a:tblGrid>
                <a:gridCol w="3095640"/>
                <a:gridCol w="5133960"/>
              </a:tblGrid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де? куда? откуд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гда? как долго? с каких пор? до каких пор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ему? отчего? по какой причин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а действия и степ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? каким образом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кой степен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чем? для чего? с какой целью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о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уп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 каком услов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мотря на что? вопреки 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WordArt 47"/>
          <p:cNvSpPr txBox="1"/>
          <p:nvPr/>
        </p:nvSpPr>
        <p:spPr>
          <a:xfrm>
            <a:off x="684360" y="189000"/>
            <a:ext cx="79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ные виды обстоятельств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30360" y="5935680"/>
          <a:ext cx="8227800" cy="422280"/>
        </p:xfrm>
        <a:graphic>
          <a:graphicData uri="http://schemas.openxmlformats.org/drawingml/2006/table">
            <a:tbl>
              <a:tblPr/>
              <a:tblGrid>
                <a:gridCol w="82278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571680" y="214200"/>
          <a:ext cx="8286480" cy="6299280"/>
        </p:xfrm>
        <a:graphic>
          <a:graphicData uri="http://schemas.openxmlformats.org/drawingml/2006/table">
            <a:tbl>
              <a:tblPr/>
              <a:tblGrid>
                <a:gridCol w="3236760"/>
                <a:gridCol w="5049720"/>
              </a:tblGrid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выражения обстоятельст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) нареч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Мы приехали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утром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) деепричастиями (деепричастными оборот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Он сидел,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Calibri"/>
                        </a:rPr>
                        <a:t>греясь на солнце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) именами существительны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н читал стихи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с выражением,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 как профессиональный чтец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) неопределённой формой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Я хочу пойти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Calibri"/>
                        </a:rPr>
                        <a:t> прогулять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) синтаксически неделимыми словосочетан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Я потерял тетрадь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два дня тому назад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) фразеологизм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н бежал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сломя голову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, но все равно пришел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к шапочному разбору.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работы в паре и в группе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571400"/>
            <a:ext cx="81439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слушивай всех не перебив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 говори одновременно с друг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держивайся т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Любые идеи имеют цен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еловек сам вправе решать, в какой мере он участвует в общей рабо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важай различные мнения. Надо слушать, а не успокаивать друг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Любые вопросы важ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5"/>
          <p:cNvSpPr/>
          <p:nvPr/>
        </p:nvSpPr>
        <p:spPr>
          <a:xfrm>
            <a:off x="357120" y="0"/>
            <a:ext cx="842976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Monotype Corsiva"/>
              </a:rPr>
              <a:t>Составить синквей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Monotype Corsiva"/>
              </a:rPr>
              <a:t>(структура синквейн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строка – название темы (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дн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уществительное или словосочетани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 строка –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исание темы (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в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лагательных-определ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строка – описание действия (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лагола или деепричаст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строка – отношение автора к теме (фраза или предложение из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4 сл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 строка – суть темы (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ло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ловосочет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вывод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560" y="3500280"/>
            <a:ext cx="12142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-0.10694 C -0.13246 -0.08634 -0.13506 -0.06412 -0.15017 -0.04977 C -0.15381 -0.04606 -0.15902 -0.04491 -0.16319 -0.0419 C -0.17222 -0.03542 -0.18038 -0.02523 -0.19045 -0.02106 C -0.19357 -0.02153 -0.19687 -0.02106 -0.19982 -0.02268 C -0.20277 -0.02431 -0.20555 -0.03518 -0.20746 -0.03866 C -0.20659 -0.04931 -0.20798 -0.06065 -0.20486 -0.07037 C -0.20295 -0.07569 -0.19739 -0.07731 -0.19322 -0.07986 C -0.17621 -0.09074 -0.15746 -0.09514 -0.13975 -0.1037 C -0.13593 -0.10208 -0.13125 -0.10208 -0.12812 -0.09884 C -0.12656 -0.09722 -0.12743 -0.09352 -0.12691 -0.09097 C -0.12586 -0.08773 -0.12413 -0.08472 -0.12274 -0.08148 C -0.12066 -0.03518 -0.12517 -0.05301 -0.1151 -0.06713 C -0.11406 -0.06852 -0.1125 -0.06921 -0.11111 -0.07037 C -0.10034 -0.06181 -0.10277 -0.06296 -0.10086 -0.04815 C -0.08906 -0.05532 -0.07881 -0.06088 -0.06562 -0.06412 C -0.05937 -0.05648 -0.05729 -0.05347 -0.05538 -0.04329 C -0.04756 -0.0463 -0.04305 -0.0537 -0.03576 -0.05764 C -0.03107 -0.05995 -0.02604 -0.06088 -0.02135 -0.0625 C 0.00643 -0.05787 -0.00104 -0.06204 0.00087 -0.02593 C 0.00955 -0.03148 0.00938 -0.04167 0.01632 -0.04977 C 0.02205 -0.05648 0.02414 -0.05602 0.03073 -0.05764 C 0.03698 -0.0537 0.03733 -0.04884 0.04358 -0.04491 C 0.05816 -0.05787 0.07309 -0.06667 0.09063 -0.07199 C 0.1 -0.06829 0.08924 -0.07407 0.09601 -0.0625 C 0.09775 -0.05903 0.10087 -0.05718 0.10348 -0.0544 C 0.1158 -0.0588 0.11789 -0.0581 0.12309 -0.07037 C 0.13473 -0.05926 0.14775 -0.06528 0.16216 -0.06713 C 0.16737 -0.07639 0.16598 -0.0875 0.17014 -0.09745 C 0.17796 -0.09421 0.17292 -0.09306 0.17014 -0.08634 E">
                                      <p:cBhvr>
                                        <p:cTn id="98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4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5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6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0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1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5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4" dur="8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6" dur="8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9" dur="8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0" dur="8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1" dur="8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5"/>
          <p:cNvSpPr/>
          <p:nvPr/>
        </p:nvSpPr>
        <p:spPr>
          <a:xfrm>
            <a:off x="357120" y="357120"/>
            <a:ext cx="84297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Monotype Corsiva"/>
              </a:rPr>
              <a:t>Пример синквейн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Обстоятель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Разное, зависяще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Обозначает, зависит, выраж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Обстоятельство зависит от сказуем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.Второстепенный чл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560" y="3500280"/>
            <a:ext cx="12142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-0.10694 C -0.13246 -0.08634 -0.13506 -0.06412 -0.15017 -0.04977 C -0.15381 -0.04606 -0.15902 -0.04491 -0.16319 -0.0419 C -0.17222 -0.03542 -0.18038 -0.02523 -0.19045 -0.02106 C -0.19357 -0.02153 -0.19687 -0.02106 -0.19982 -0.02268 C -0.20277 -0.02431 -0.20555 -0.03518 -0.20746 -0.03866 C -0.20659 -0.04931 -0.20798 -0.06065 -0.20486 -0.07037 C -0.20295 -0.07569 -0.19739 -0.07731 -0.19322 -0.07986 C -0.17621 -0.09074 -0.15746 -0.09514 -0.13975 -0.1037 C -0.13593 -0.10208 -0.13125 -0.10208 -0.12812 -0.09884 C -0.12656 -0.09722 -0.12743 -0.09352 -0.12691 -0.09097 C -0.12586 -0.08773 -0.12413 -0.08472 -0.12274 -0.08148 C -0.12066 -0.03518 -0.12517 -0.05301 -0.1151 -0.06713 C -0.11406 -0.06852 -0.1125 -0.06921 -0.11111 -0.07037 C -0.10034 -0.06181 -0.10277 -0.06296 -0.10086 -0.04815 C -0.08906 -0.05532 -0.07881 -0.06088 -0.06562 -0.06412 C -0.05937 -0.05648 -0.05729 -0.05347 -0.05538 -0.04329 C -0.04756 -0.0463 -0.04305 -0.0537 -0.03576 -0.05764 C -0.03107 -0.05995 -0.02604 -0.06088 -0.02135 -0.0625 C 0.00643 -0.05787 -0.00104 -0.06204 0.00087 -0.02593 C 0.00955 -0.03148 0.00938 -0.04167 0.01632 -0.04977 C 0.02205 -0.05648 0.02414 -0.05602 0.03073 -0.05764 C 0.03698 -0.0537 0.03733 -0.04884 0.04358 -0.04491 C 0.05816 -0.05787 0.07309 -0.06667 0.09063 -0.07199 C 0.1 -0.06829 0.08924 -0.07407 0.09601 -0.0625 C 0.09775 -0.05903 0.10087 -0.05718 0.10348 -0.0544 C 0.1158 -0.0588 0.11789 -0.0581 0.12309 -0.07037 C 0.13473 -0.05926 0.14775 -0.06528 0.16216 -0.06713 C 0.16737 -0.07639 0.16598 -0.0875 0.17014 -0.09745 C 0.17796 -0.09421 0.17292 -0.09306 0.17014 -0.08634 E">
                                      <p:cBhvr>
                                        <p:cTn id="1027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8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5" dur="8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6" dur="8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7" dur="8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8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5" dur="8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6" dur="8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8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7" dur="8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5"/>
          <p:cNvSpPr/>
          <p:nvPr/>
        </p:nvSpPr>
        <p:spPr>
          <a:xfrm>
            <a:off x="642960" y="1214280"/>
            <a:ext cx="721512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Домашне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970520" y="2778120"/>
            <a:ext cx="1214280" cy="8222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214200" y="3571560"/>
            <a:ext cx="8501040" cy="2071800"/>
          </a:xfrm>
          <a:prstGeom prst="rect">
            <a:avLst/>
          </a:prstGeom>
          <a:solidFill>
            <a:srgbClr val="eeece1">
              <a:alpha val="4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178 (выучить виды обстоятельств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. 175 (письменно), Упр. 180 (устно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16 -0.07871 C -0.27292 -0.09861 -0.25955 -0.10139 -0.2441 -0.1088 C -0.24497 -0.10278 -0.24514 -0.08542 -0.24983 -0.07871 C -0.27813 -0.03588 -0.25712 -0.07524 -0.26771 -0.05486 C -0.25851 -0.04584 -0.23785 -0.05787 -0.22865 -0.06598 C -0.22292 -0.07084 -0.21268 -0.08334 -0.21268 -0.08311 C -0.21198 -0.08125 -0.21094 -0.0794 -0.21042 -0.07709 C -0.2099 -0.07338 -0.21094 -0.06899 -0.20955 -0.06598 C -0.20851 -0.06366 -0.20573 -0.06389 -0.20365 -0.06274 C -0.19167 -0.06945 -0.19532 -0.06598 -0.19167 -0.08195 C -0.19028 -0.0875 -0.18316 -0.08403 -0.17917 -0.08496 C -0.17223 -0.09861 -0.17761 -0.08565 -0.17136 -0.07871 C -0.16945 -0.07662 -0.16684 -0.07662 -0.16459 -0.07547 C -0.14862 -0.07686 -0.14462 -0.07477 -0.13559 -0.09144 C -0.13299 -0.10903 -0.13577 -0.09584 -0.13316 -0.09306 C -0.13056 -0.09028 -0.12709 -0.08982 -0.12414 -0.0882 C -0.11667 -0.08936 -0.10921 -0.08912 -0.10174 -0.09144 C -0.10052 -0.0919 -0.10105 -0.09607 -0.09966 -0.09607 C -0.09862 -0.09607 -0.10035 -0.09306 -0.1007 -0.09144 C -0.10035 -0.08936 -0.10087 -0.08635 -0.09966 -0.08496 C -0.09827 -0.08311 -0.09584 -0.08287 -0.09393 -0.08334 C -0.08091 -0.08658 -0.07639 -0.09098 -0.06615 -0.09607 C -0.06372 -0.08079 -0.05278 -0.07338 -0.04254 -0.07084 C -0.03542 -0.07246 -0.02813 -0.07199 -0.02118 -0.07547 C -0.01927 -0.07639 -0.01997 -0.08334 -0.01789 -0.08334 C -0.0158 -0.08334 -0.01875 -0.07801 -0.0191 -0.07547 C -0.01511 -0.07199 -0.01216 -0.0713 -0.00782 -0.06922 C 0.01909 -0.07871 0.00277 -0.07709 0.01909 -0.0676 C 0.03107 -0.06806 0.0434 -0.07246 0.0552 -0.06922 C 0.05833 -0.06829 0.05746 -0.06042 0.05954 -0.05649 C 0.06059 -0.0544 0.0625 -0.05301 0.06406 -0.05162 C 0.07222 -0.04514 0.0842 -0.04653 0.09323 -0.04537 C 0.10885 -0.04746 0.12465 -0.04746 0.14027 -0.05162 C 0.15746 -0.05625 0.14027 -0.06297 0.15017 -0.05811 C 0.1526 -0.05903 0.1552 -0.05926 0.15711 -0.06111 C 0.16632 -0.07084 0.1585 -0.07269 0.16614 -0.06922 C 0.16753 -0.07014 0.16944 -0.07061 0.17031 -0.07223 C 0.17361 -0.07639 0.16996 -0.08542 0.16944 -0.0882 C 0.16701 -0.09769 0.16163 -0.10649 0.15468 -0.11042 C 0.15191 -0.11204 0.14861 -0.11158 0.14583 -0.11204 C 0.13263 -0.10949 0.11892 -0.11111 0.10642 -0.10417 C 0.06961 -0.08334 0.03698 -0.04028 0.00347 -0.01042 C -0.04289 0.03055 -0.09827 0.05324 -0.15226 0.06111 C -0.16511 0.06828 -0.1783 0.07268 -0.19167 0.07847 C -0.2007 0.07801 -0.20955 0.0787 -0.21841 0.07685 C -0.21997 0.07662 -0.22049 0.07361 -0.22171 0.07222 C -0.22674 0.06713 -0.23177 0.06226 -0.2375 0.05949 C -0.23594 0.09722 -0.23993 0.09467 -0.21615 0.08009 C -0.20921 0.07014 -0.20521 0.05764 -0.19827 0.04838 C -0.18889 0.05648 -0.1941 0.07245 -0.18143 0.07685 C -0.16962 0.0699 -0.16737 0.06203 -0.16337 0.04514 C -0.15868 0.06713 -0.1632 0.06458 -0.15018 0.07222 C -0.14671 0.07407 -0.14323 0.07523 -0.13993 0.07685 C -0.12362 0.07361 -0.10677 0.07361 -0.09063 0.06736 C -0.0816 0.06389 -0.06615 0.04838 -0.06615 0.04861 C -0.05591 0.0243 -0.07118 0.06088 -0.05816 0.06736 C -0.04896 0.06088 -0.04028 0.05301 -0.03125 0.04676 C -0.01094 0.03287 -0.02518 0.04652 -0.01424 0.03564 C -0.0132 0.04074 -0.01424 0.04699 -0.01216 0.05139 C -0.00712 0.0618 -0.00365 0.06111 0.00347 0.0625 C 0.01718 0.0574 0.02604 0.05879 0.0335 0.04351 C 0.0368 0.03078 0.03263 0.04768 0.03263 0.04838 C 0.03333 0.05393 0.03524 0.05926 0.03698 0.06412 C 0.04045 0.07268 0.04288 0.07083 0.04948 0.07222 C 0.07326 0.06828 0.08663 0.07245 0.10329 0.05301 C 0.1059 0.03611 0.10191 0.0581 0.10781 0.06412 C 0.11024 0.06666 0.11371 0.06111 0.11666 0.05949 C 0.11996 0.04791 0.11701 0.03426 0.11892 0.05949 C 0.12013 0.05787 0.12135 0.05648 0.12222 0.05463 C 0.12395 0.05046 0.12257 0.04421 0.12448 0.04027 C 0.12569 0.03796 0.13142 0.03564 0.1335 0.03564 E">
                                      <p:cBhvr>
                                        <p:cTn id="1063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6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7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5"/>
          <p:cNvSpPr/>
          <p:nvPr/>
        </p:nvSpPr>
        <p:spPr>
          <a:xfrm>
            <a:off x="1071720" y="2000160"/>
            <a:ext cx="721512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560" y="3500280"/>
            <a:ext cx="12142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798 -0.11643 C -0.20034 -0.13634 -0.19027 -0.13912 -0.17847 -0.14653 C -0.17899 -0.14051 -0.17916 -0.12315 -0.18263 -0.11643 C -0.20416 -0.07361 -0.18819 -0.11296 -0.19635 -0.09259 C -0.18923 -0.08356 -0.17361 -0.0956 -0.16666 -0.1037 C -0.16215 -0.10856 -0.15451 -0.12106 -0.15451 -0.12083 C -0.15399 -0.11898 -0.15329 -0.11713 -0.15295 -0.11481 C -0.15243 -0.11111 -0.15329 -0.10671 -0.15208 -0.1037 C -0.15138 -0.10139 -0.1493 -0.10162 -0.14774 -0.10046 C -0.13854 -0.10718 -0.14131 -0.1037 -0.13854 -0.11968 C -0.1375 -0.12523 -0.13211 -0.12176 -0.12916 -0.12268 C -0.12395 -0.13634 -0.12795 -0.12338 -0.12309 -0.11643 C -0.12187 -0.11435 -0.11979 -0.11435 -0.11805 -0.11319 C -0.1059 -0.11458 -0.10295 -0.1125 -0.096 -0.12917 C -0.09392 -0.14676 -0.09618 -0.13356 -0.09427 -0.13079 C -0.09236 -0.12801 -0.08975 -0.12755 -0.08732 -0.12593 C -0.08177 -0.12708 -0.07604 -0.12685 -0.07048 -0.12917 C -0.06944 -0.12963 -0.06996 -0.1338 -0.06875 -0.1338 C -0.06788 -0.1338 -0.06927 -0.13079 -0.06944 -0.12917 C -0.06927 -0.12708 -0.06979 -0.12407 -0.06875 -0.12268 C -0.0677 -0.12083 -0.06597 -0.1206 -0.06458 -0.12106 C -0.05468 -0.12431 -0.05104 -0.1287 -0.0434 -0.1338 C -0.04149 -0.11852 -0.03333 -0.11111 -0.02552 -0.10856 C -0.01996 -0.11018 -0.01441 -0.10972 -0.00937 -0.11319 C -0.00781 -0.11412 -0.00833 -0.12106 -0.00677 -0.12106 C -0.0052 -0.12106 -0.00729 -0.11574 -0.00763 -0.11319 C -0.00468 -0.10972 -0.00225 -0.10903 0.00087 -0.10694 C 0.02119 -0.11643 0.00903 -0.11481 0.02119 -0.10532 C 0.03039 -0.10579 0.03959 -0.11018 0.04862 -0.10694 C 0.05105 -0.10602 0.05053 -0.09815 0.05191 -0.09421 C 0.05278 -0.09213 0.05417 -0.09074 0.05539 -0.08935 C 0.06164 -0.08287 0.07066 -0.08426 0.07744 -0.0831 C 0.08941 -0.08518 0.10139 -0.08518 0.1132 -0.08935 C 0.12622 -0.09398 0.1132 -0.10069 0.12084 -0.09583 C 0.12275 -0.09676 0.12448 -0.09699 0.12587 -0.09884 C 0.13299 -0.10856 0.12709 -0.11042 0.13282 -0.10694 C 0.13386 -0.10787 0.13525 -0.10833 0.13612 -0.10995 C 0.13855 -0.11412 0.13577 -0.12315 0.13525 -0.12593 C 0.13351 -0.13542 0.12934 -0.14421 0.12414 -0.14815 C 0.12223 -0.14977 0.11962 -0.14931 0.11737 -0.14977 C 0.1073 -0.14722 0.09688 -0.14884 0.0875 -0.1419 C 0.05955 -0.12106 0.0349 -0.07801 0.00955 -0.04815 C -0.02569 -0.00718 -0.0677 0.01551 -0.10868 0.02338 C -0.1184 0.03056 -0.12847 0.03495 -0.13854 0.04074 C -0.14531 0.04028 -0.15208 0.04097 -0.15885 0.03912 C -0.16024 0.03889 -0.16041 0.03588 -0.16145 0.03449 C -0.1651 0.0294 -0.16892 0.02454 -0.17343 0.02176 C -0.17222 0.05949 -0.17534 0.05694 -0.15711 0.04236 C -0.15191 0.03241 -0.14895 0.01991 -0.14357 0.01065 C -0.13663 0.01875 -0.14045 0.03472 -0.1309 0.03912 C -0.12187 0.03218 -0.12013 0.02431 -0.11718 0.00741 C -0.11354 0.0294 -0.11684 0.02685 -0.10711 0.03449 C -0.10468 0.03634 -0.10191 0.0375 -0.0993 0.03912 C -0.08697 0.03588 -0.07413 0.03588 -0.06197 0.02963 C -0.0552 0.02616 -0.0434 0.01065 -0.0434 0.01088 C -0.03576 -0.01343 -0.04722 0.02315 -0.03732 0.02963 C -0.03038 0.02315 -0.02378 0.01528 -0.01684 0.00903 C -0.00156 -0.00486 -0.01232 0.0088 -0.00416 -0.00208 C -0.00329 0.00301 -0.00416 0.00926 -0.0026 0.01366 C 0.00139 0.02407 0.004 0.02338 0.00955 0.02477 C 0.01997 0.01968 0.02639 0.02107 0.0323 0.00579 C 0.03473 -0.00694 0.0316 0.00995 0.0316 0.01065 C 0.03195 0.0162 0.03351 0.02153 0.0349 0.02639 C 0.0375 0.03495 0.03941 0.0331 0.04428 0.03449 C 0.06233 0.03056 0.07275 0.03472 0.08525 0.01528 C 0.08716 -0.00162 0.08403 0.02037 0.08855 0.02639 C 0.09063 0.02894 0.09306 0.02338 0.09532 0.02176 C 0.09775 0.01019 0.09566 -0.00347 0.09705 0.02176 C 0.09792 0.02014 0.09896 0.01875 0.09948 0.0169 C 0.1007 0.01273 0.09966 0.00648 0.10122 0.00255 C 0.10209 0.00023 0.10643 -0.00208 0.10799 -0.00208 E">
                                      <p:cBhvr>
                                        <p:cTn id="109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6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571680" y="214200"/>
          <a:ext cx="8286480" cy="6299280"/>
        </p:xfrm>
        <a:graphic>
          <a:graphicData uri="http://schemas.openxmlformats.org/drawingml/2006/table">
            <a:tbl>
              <a:tblPr/>
              <a:tblGrid>
                <a:gridCol w="3236760"/>
                <a:gridCol w="5049720"/>
              </a:tblGrid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выражения обстоятельст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) нареч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Мы приехали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утром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) деепричастиями (деепричастными оборот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Он сидел,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Calibri"/>
                        </a:rPr>
                        <a:t>греясь на солнце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) именами существительны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н читал стихи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с выражением,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 как профессиональный чтец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) неопределённой формой глаг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Я хочу пойти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Calibri"/>
                        </a:rPr>
                        <a:t> прогулять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) синтаксически неделимыми словосочетан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Я потерял тетрадь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два дня тому назад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) фразеологизм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н бежал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сломя голову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, но все равно пришел </a:t>
                      </a:r>
                      <a:r>
                        <a:rPr b="1" lang="ru-RU" sz="20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к шапочному разбору.</a:t>
                      </a: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5"/>
          <p:cNvSpPr/>
          <p:nvPr/>
        </p:nvSpPr>
        <p:spPr>
          <a:xfrm>
            <a:off x="1071720" y="2000160"/>
            <a:ext cx="721512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Рефлек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560" y="3500280"/>
            <a:ext cx="12142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-0.10694 C -0.13246 -0.08634 -0.13506 -0.06412 -0.15017 -0.04977 C -0.15381 -0.04606 -0.15902 -0.04491 -0.16319 -0.0419 C -0.17222 -0.03542 -0.18038 -0.02523 -0.19045 -0.02106 C -0.19357 -0.02153 -0.19687 -0.02106 -0.19982 -0.02268 C -0.20277 -0.02431 -0.20555 -0.03518 -0.20746 -0.03866 C -0.20659 -0.04931 -0.20798 -0.06065 -0.20486 -0.07037 C -0.20295 -0.07569 -0.19739 -0.07731 -0.19322 -0.07986 C -0.17621 -0.09074 -0.15746 -0.09514 -0.13975 -0.1037 C -0.13593 -0.10208 -0.13125 -0.10208 -0.12812 -0.09884 C -0.12656 -0.09722 -0.12743 -0.09352 -0.12691 -0.09097 C -0.12586 -0.08773 -0.12413 -0.08472 -0.12274 -0.08148 C -0.12066 -0.03518 -0.12517 -0.05301 -0.1151 -0.06713 C -0.11406 -0.06852 -0.1125 -0.06921 -0.11111 -0.07037 C -0.10034 -0.06181 -0.10277 -0.06296 -0.10086 -0.04815 C -0.08906 -0.05532 -0.07881 -0.06088 -0.06562 -0.06412 C -0.05937 -0.05648 -0.05729 -0.05347 -0.05538 -0.04329 C -0.04756 -0.0463 -0.04305 -0.0537 -0.03576 -0.05764 C -0.03107 -0.05995 -0.02604 -0.06088 -0.02135 -0.0625 C 0.00643 -0.05787 -0.00104 -0.06204 0.00087 -0.02593 C 0.00955 -0.03148 0.00938 -0.04167 0.01632 -0.04977 C 0.02205 -0.05648 0.02414 -0.05602 0.03073 -0.05764 C 0.03698 -0.0537 0.03733 -0.04884 0.04358 -0.04491 C 0.05816 -0.05787 0.07309 -0.06667 0.09063 -0.07199 C 0.1 -0.06829 0.08924 -0.07407 0.09601 -0.0625 C 0.09775 -0.05903 0.10087 -0.05718 0.10348 -0.0544 C 0.1158 -0.0588 0.11789 -0.0581 0.12309 -0.07037 C 0.13473 -0.05926 0.14775 -0.06528 0.16216 -0.06713 C 0.16737 -0.07639 0.16598 -0.0875 0.17014 -0.09745 C 0.17796 -0.09421 0.17292 -0.09306 0.17014 -0.08634 E">
                                      <p:cBhvr>
                                        <p:cTn id="1109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2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5"/>
          <p:cNvSpPr/>
          <p:nvPr/>
        </p:nvSpPr>
        <p:spPr>
          <a:xfrm>
            <a:off x="1071720" y="2000160"/>
            <a:ext cx="721512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Monotype Corsiva"/>
              </a:rPr>
              <a:t>Ребята, каким советам старца вы следовали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560" y="3500280"/>
            <a:ext cx="12142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-0.10694 C -0.13246 -0.08634 -0.13506 -0.06412 -0.15017 -0.04977 C -0.15381 -0.04606 -0.15902 -0.04491 -0.16319 -0.0419 C -0.17222 -0.03542 -0.18038 -0.02523 -0.19045 -0.02106 C -0.19357 -0.02153 -0.19687 -0.02106 -0.19982 -0.02268 C -0.20277 -0.02431 -0.20555 -0.03518 -0.20746 -0.03866 C -0.20659 -0.04931 -0.20798 -0.06065 -0.20486 -0.07037 C -0.20295 -0.07569 -0.19739 -0.07731 -0.19322 -0.07986 C -0.17621 -0.09074 -0.15746 -0.09514 -0.13975 -0.1037 C -0.13593 -0.10208 -0.13125 -0.10208 -0.12812 -0.09884 C -0.12656 -0.09722 -0.12743 -0.09352 -0.12691 -0.09097 C -0.12586 -0.08773 -0.12413 -0.08472 -0.12274 -0.08148 C -0.12066 -0.03518 -0.12517 -0.05301 -0.1151 -0.06713 C -0.11406 -0.06852 -0.1125 -0.06921 -0.11111 -0.07037 C -0.10034 -0.06181 -0.10277 -0.06296 -0.10086 -0.04815 C -0.08906 -0.05532 -0.07881 -0.06088 -0.06562 -0.06412 C -0.05937 -0.05648 -0.05729 -0.05347 -0.05538 -0.04329 C -0.04756 -0.0463 -0.04305 -0.0537 -0.03576 -0.05764 C -0.03107 -0.05995 -0.02604 -0.06088 -0.02135 -0.0625 C 0.00643 -0.05787 -0.00104 -0.06204 0.00087 -0.02593 C 0.00955 -0.03148 0.00938 -0.04167 0.01632 -0.04977 C 0.02205 -0.05648 0.02414 -0.05602 0.03073 -0.05764 C 0.03698 -0.0537 0.03733 -0.04884 0.04358 -0.04491 C 0.05816 -0.05787 0.07309 -0.06667 0.09063 -0.07199 C 0.1 -0.06829 0.08924 -0.07407 0.09601 -0.0625 C 0.09775 -0.05903 0.10087 -0.05718 0.10348 -0.0544 C 0.1158 -0.0588 0.11789 -0.0581 0.12309 -0.07037 C 0.13473 -0.05926 0.14775 -0.06528 0.16216 -0.06713 C 0.16737 -0.07639 0.16598 -0.0875 0.17014 -0.09745 C 0.17796 -0.09421 0.17292 -0.09306 0.17014 -0.08634 E">
                                      <p:cBhvr>
                                        <p:cTn id="1120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6"/>
          <p:cNvSpPr/>
          <p:nvPr/>
        </p:nvSpPr>
        <p:spPr>
          <a:xfrm>
            <a:off x="285840" y="642960"/>
            <a:ext cx="8501040" cy="6072120"/>
          </a:xfrm>
          <a:prstGeom prst="rect">
            <a:avLst/>
          </a:prstGeom>
          <a:solidFill>
            <a:srgbClr val="ffffff">
              <a:alpha val="37000"/>
            </a:srgbClr>
          </a:solidFill>
          <a:ln w="25560">
            <a:solidFill>
              <a:srgbClr val="c0b9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662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620f"/>
                </a:solidFill>
                <a:latin typeface="Times New Roman"/>
                <a:ea typeface="Times New Roman"/>
              </a:rPr>
              <a:t>На уроке я чувствовал себя… </a:t>
            </a:r>
            <a:r>
              <a:rPr b="0" lang="en-US" sz="4000" spc="-1" strike="noStrike">
                <a:solidFill>
                  <a:srgbClr val="06620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662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620f"/>
                </a:solidFill>
                <a:latin typeface="Times New Roman"/>
                <a:ea typeface="Times New Roman"/>
              </a:rPr>
              <a:t>Виды обстоятельств я запомнил… </a:t>
            </a:r>
            <a:r>
              <a:rPr b="0" lang="en-US" sz="4000" spc="-1" strike="noStrike">
                <a:solidFill>
                  <a:srgbClr val="06620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662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6620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6620f"/>
                </a:solidFill>
                <a:latin typeface="Times New Roman"/>
                <a:ea typeface="Times New Roman"/>
              </a:rPr>
              <a:t>Урок прошё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285840" y="214200"/>
            <a:ext cx="85010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5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Продолжите предложения, используя различные виды обстоятельст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4"/>
          <p:cNvSpPr/>
          <p:nvPr/>
        </p:nvSpPr>
        <p:spPr>
          <a:xfrm>
            <a:off x="357120" y="2214720"/>
            <a:ext cx="83487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</a:t>
            </a:r>
            <a:r>
              <a:rPr b="0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комфортно, удобно, хорошо</a:t>
            </a:r>
            <a:r>
              <a:rPr b="0" lang="en-US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5"/>
          <p:cNvSpPr/>
          <p:nvPr/>
        </p:nvSpPr>
        <p:spPr>
          <a:xfrm>
            <a:off x="357120" y="3571920"/>
            <a:ext cx="8348760" cy="91908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хорошо, крепко, с трудом, плох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"/>
          <p:cNvSpPr/>
          <p:nvPr/>
        </p:nvSpPr>
        <p:spPr>
          <a:xfrm>
            <a:off x="285840" y="5500800"/>
            <a:ext cx="8348400" cy="91908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быстро, весело, интересн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7613640" y="570708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9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8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5"/>
          <p:cNvSpPr/>
          <p:nvPr/>
        </p:nvSpPr>
        <p:spPr>
          <a:xfrm>
            <a:off x="428760" y="214200"/>
            <a:ext cx="8286480" cy="60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Monotype Corsiva"/>
              </a:rPr>
              <a:t>Спасибо за урок!</a:t>
            </a:r>
            <a:r>
              <a:rPr b="1" lang="ru-RU" sz="8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Ребята, спасибо  за урок. Мне было приятно с вами общ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 добрый час,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удем беречь доб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удет беречь крас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удем дерзать, будем тв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Улыбку познанья Уроку дар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ожелайте всего доброго друг д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560" y="3500280"/>
            <a:ext cx="12142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-0.10694 C -0.13246 -0.08634 -0.13506 -0.06412 -0.15017 -0.04977 C -0.15381 -0.04606 -0.15902 -0.04491 -0.16319 -0.0419 C -0.17222 -0.03542 -0.18038 -0.02523 -0.19045 -0.02106 C -0.19357 -0.02153 -0.19687 -0.02106 -0.19982 -0.02268 C -0.20277 -0.02431 -0.20555 -0.03518 -0.20746 -0.03866 C -0.20659 -0.04931 -0.20798 -0.06065 -0.20486 -0.07037 C -0.20295 -0.07569 -0.19739 -0.07731 -0.19322 -0.07986 C -0.17621 -0.09074 -0.15746 -0.09514 -0.13975 -0.1037 C -0.13593 -0.10208 -0.13125 -0.10208 -0.12812 -0.09884 C -0.12656 -0.09722 -0.12743 -0.09352 -0.12691 -0.09097 C -0.12586 -0.08773 -0.12413 -0.08472 -0.12274 -0.08148 C -0.12066 -0.03518 -0.12517 -0.05301 -0.1151 -0.06713 C -0.11406 -0.06852 -0.1125 -0.06921 -0.11111 -0.07037 C -0.10034 -0.06181 -0.10277 -0.06296 -0.10086 -0.04815 C -0.08906 -0.05532 -0.07881 -0.06088 -0.06562 -0.06412 C -0.05937 -0.05648 -0.05729 -0.05347 -0.05538 -0.04329 C -0.04756 -0.0463 -0.04305 -0.0537 -0.03576 -0.05764 C -0.03107 -0.05995 -0.02604 -0.06088 -0.02135 -0.0625 C 0.00643 -0.05787 -0.00104 -0.06204 0.00087 -0.02593 C 0.00955 -0.03148 0.00938 -0.04167 0.01632 -0.04977 C 0.02205 -0.05648 0.02414 -0.05602 0.03073 -0.05764 C 0.03698 -0.0537 0.03733 -0.04884 0.04358 -0.04491 C 0.05816 -0.05787 0.07309 -0.06667 0.09063 -0.07199 C 0.1 -0.06829 0.08924 -0.07407 0.09601 -0.0625 C 0.09775 -0.05903 0.10087 -0.05718 0.10348 -0.0544 C 0.1158 -0.0588 0.11789 -0.0581 0.12309 -0.07037 C 0.13473 -0.05926 0.14775 -0.06528 0.16216 -0.06713 C 0.16737 -0.07639 0.16598 -0.0875 0.17014 -0.09745 C 0.17796 -0.09421 0.17292 -0.09306 0.17014 -0.08634 E">
                                      <p:cBhvr>
                                        <p:cTn id="1154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8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8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2" dur="8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4" dur="8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7" dur="8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8" dur="8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8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2" dur="8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3" dur="8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4" dur="8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7" dur="8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8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2" dur="8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3" dur="8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8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7" dur="8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8" dur="8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9" dur="8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2" dur="8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8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5"/>
          <p:cNvSpPr/>
          <p:nvPr/>
        </p:nvSpPr>
        <p:spPr>
          <a:xfrm>
            <a:off x="357120" y="642960"/>
            <a:ext cx="8102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2060"/>
                </a:solidFill>
                <a:latin typeface="Monotype Corsiva"/>
              </a:rPr>
              <a:t>Актуализация опорных зна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Monotype Corsiva"/>
              </a:rPr>
              <a:t>Проверка домашнего задания </a:t>
            </a:r>
            <a:r>
              <a:rPr b="0" i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</a:t>
            </a:r>
            <a:r>
              <a:rPr b="0" lang="en-US" sz="4800" spc="-1" strike="noStrike">
                <a:solidFill>
                  <a:srgbClr val="002060"/>
                </a:solidFill>
                <a:latin typeface="Monotype Corsiva"/>
              </a:rPr>
              <a:t>175,176,177. Упр.14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5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5"/>
          <p:cNvSpPr/>
          <p:nvPr/>
        </p:nvSpPr>
        <p:spPr>
          <a:xfrm>
            <a:off x="357120" y="1143000"/>
            <a:ext cx="81025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60"/>
                </a:solidFill>
                <a:latin typeface="Monotype Corsiva"/>
              </a:rPr>
              <a:t>Дополн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Admin\Рабочий стол\шаблоны\Рисунок3.gif"/>
          <p:cNvPicPr/>
          <p:nvPr/>
        </p:nvPicPr>
        <p:blipFill>
          <a:blip r:embed="rId2"/>
          <a:stretch/>
        </p:blipFill>
        <p:spPr>
          <a:xfrm rot="371400">
            <a:off x="4714920" y="4262400"/>
            <a:ext cx="1214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1 -0.29305 C -0.49843 -0.32685 -0.47656 -0.33148 -0.45121 -0.34421 C -0.4526 -0.33379 -0.45312 -0.30417 -0.46059 -0.29305 C -0.50694 -0.21967 -0.47256 -0.28704 -0.48993 -0.25231 C -0.47482 -0.2368 -0.44079 -0.25717 -0.42569 -0.27129 C -0.41631 -0.27963 -0.39982 -0.30092 -0.39982 -0.30023 C -0.39861 -0.29722 -0.39704 -0.29398 -0.39618 -0.29004 C -0.39531 -0.28379 -0.39704 -0.27616 -0.39479 -0.27129 C -0.39288 -0.26736 -0.38854 -0.26759 -0.38506 -0.26574 C -0.36527 -0.27685 -0.37135 -0.27129 -0.36527 -0.29838 C -0.36302 -0.30787 -0.35156 -0.30185 -0.34461 -0.30347 C -0.33333 -0.32685 -0.34218 -0.30486 -0.33211 -0.29305 C -0.32916 -0.28935 -0.32482 -0.28935 -0.321 -0.2875 C -0.29479 -0.28981 -0.28819 -0.28611 -0.27343 -0.31481 C -0.26909 -0.34467 -0.27361 -0.32199 -0.26944 -0.31736 C -0.26527 -0.31273 -0.25972 -0.3118 -0.25468 -0.30903 C -0.24236 -0.31111 -0.23038 -0.31065 -0.2184 -0.31481 C -0.21579 -0.31551 -0.21684 -0.32268 -0.21475 -0.32268 C -0.21267 -0.32268 -0.21579 -0.31736 -0.21614 -0.31481 C -0.21579 -0.31111 -0.21666 -0.30579 -0.21475 -0.30347 C -0.21232 -0.30023 -0.2085 -0.3 -0.20538 -0.30092 C -0.18385 -0.30625 -0.17638 -0.31366 -0.15972 -0.32268 C -0.15572 -0.29629 -0.13802 -0.28379 -0.121 -0.27963 C -0.1092 -0.28217 -0.09722 -0.28148 -0.08628 -0.2875 C -0.08281 -0.28912 -0.08402 -0.30092 -0.08072 -0.30092 C -0.07725 -0.30092 -0.08211 -0.29167 -0.08263 -0.2875 C -0.07604 -0.28148 -0.071 -0.28032 -0.06406 -0.27662 C -0.02013 -0.29305 -0.04704 -0.29004 -0.02013 -0.27384 C -0.00052 -0.27454 0.01962 -0.28217 0.03907 -0.27662 C 0.04393 -0.27523 0.04254 -0.2618 0.04584 -0.25486 C 0.04775 -0.25139 0.05053 -0.24907 0.05313 -0.24676 C 0.06684 -0.23542 0.08646 -0.23796 0.10122 -0.23611 C 0.12691 -0.23935 0.15278 -0.23935 0.17848 -0.24676 C 0.20678 -0.25463 0.17848 -0.26597 0.19497 -0.25787 C 0.19862 -0.25926 0.20261 -0.25972 0.20591 -0.26273 C 0.22101 -0.27963 0.20834 -0.28264 0.22066 -0.27662 C 0.22327 -0.27824 0.22605 -0.27917 0.22796 -0.28194 C 0.23316 -0.28912 0.22691 -0.30417 0.22605 -0.30903 C 0.2224 -0.32523 0.21355 -0.34028 0.20209 -0.34699 C 0.19757 -0.34954 0.19219 -0.34884 0.18733 -0.34954 C 0.16615 -0.34537 0.14289 -0.34815 0.12309 -0.33634 C 0.06268 -0.30092 0.00921 -0.22731 -0.04548 -0.17639 C -0.12152 -0.10648 -0.21232 -0.06782 -0.30086 -0.05417 C -0.32187 -0.04213 -0.3434 -0.03449 -0.36527 -0.02454 C -0.37986 -0.02523 -0.39479 -0.0243 -0.4092 -0.02731 C -0.4118 -0.02754 -0.4125 -0.03287 -0.41475 -0.03518 C -0.42274 -0.04398 -0.43107 -0.05231 -0.44027 -0.05694 C -0.43784 0.00764 -0.44461 0.00301 -0.40572 -0.02176 C -0.39409 -0.03889 -0.38767 -0.06018 -0.37621 -0.07592 C -0.36093 -0.06204 -0.36927 -0.03495 -0.34878 -0.02731 C -0.32934 -0.03912 -0.32517 -0.05254 -0.31909 -0.08148 C -0.31128 -0.04398 -0.31857 -0.04838 -0.29722 -0.03518 C -0.29166 -0.03217 -0.28611 -0.03032 -0.28055 -0.02731 C -0.25381 -0.03287 -0.22621 -0.03287 -0.19982 -0.04375 C -0.18524 -0.04954 -0.15972 -0.07592 -0.15972 -0.07569 C -0.14305 -0.11713 -0.16788 -0.05463 -0.14652 -0.04375 C -0.13177 -0.05463 -0.11736 -0.06805 -0.10243 -0.0787 C -0.06927 -0.10254 -0.09253 -0.07917 -0.07482 -0.09768 C -0.07309 -0.08912 -0.07482 -0.07824 -0.0717 -0.07083 C -0.06319 -0.05301 -0.05729 -0.05417 -0.04548 -0.05185 C -0.02291 -0.06042 -0.00885 -0.0581 0.00365 -0.08426 C 0.00869 -0.10602 0.00209 -0.07731 0.00209 -0.07592 C 0.00313 -0.06643 0.00625 -0.05741 0.00921 -0.04907 C 0.01494 -0.03449 0.01858 -0.03773 0.02934 -0.03518 C 0.06823 -0.04213 0.09098 -0.03495 0.11771 -0.06805 C 0.12223 -0.09699 0.11546 -0.05949 0.125 -0.04907 C 0.12934 -0.04467 0.13473 -0.05417 0.13941 -0.05694 C 0.14497 -0.07662 0.14046 -0.1 0.14358 -0.05694 C 0.14549 -0.05972 0.1474 -0.06204 0.14896 -0.06551 C 0.15157 -0.07245 0.14948 -0.0831 0.15244 -0.08981 C 0.15434 -0.09375 0.16389 -0.09768 0.16737 -0.09768 E">
                                      <p:cBhvr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152280" y="650088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3d69b"/>
                </a:solidFill>
                <a:latin typeface="Calibri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24000" y="14842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елые чайки лениво распустили кривые крыл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1763640" y="198900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8"/>
          <p:cNvSpPr txBox="1"/>
          <p:nvPr/>
        </p:nvSpPr>
        <p:spPr>
          <a:xfrm>
            <a:off x="324000" y="404640"/>
            <a:ext cx="856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торостепенные члены предложения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356000" y="198900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4356000" y="206064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1"/>
          <p:cNvSpPr/>
          <p:nvPr/>
        </p:nvSpPr>
        <p:spPr>
          <a:xfrm>
            <a:off x="6588000" y="1989000"/>
            <a:ext cx="1368720" cy="71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2"/>
          <p:cNvSpPr/>
          <p:nvPr/>
        </p:nvSpPr>
        <p:spPr>
          <a:xfrm>
            <a:off x="324000" y="1989000"/>
            <a:ext cx="1260360" cy="7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324000" y="2492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684360" y="2492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971640" y="2492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1332000" y="2492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1692360" y="24922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3492360" y="1989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2987640" y="1989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3924360" y="1989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5"/>
          <p:cNvSpPr/>
          <p:nvPr/>
        </p:nvSpPr>
        <p:spPr>
          <a:xfrm>
            <a:off x="3276720" y="1989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6"/>
          <p:cNvSpPr/>
          <p:nvPr/>
        </p:nvSpPr>
        <p:spPr>
          <a:xfrm>
            <a:off x="3780000" y="1989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27"/>
          <p:cNvSpPr txBox="1"/>
          <p:nvPr/>
        </p:nvSpPr>
        <p:spPr>
          <a:xfrm>
            <a:off x="2843280" y="2781360"/>
            <a:ext cx="309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полнение -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395280" y="3357720"/>
            <a:ext cx="822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то второстепенный член предложения, который зависит от сказуемого или другого члена предложения и отвечает на вопросы косвенных падеж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1166760" y="539280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Кого? Чего? Кому? Чему? Кого? Ч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Кем? Чем? О ком? О ч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468360" y="907920"/>
            <a:ext cx="84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лнце ярко освещало берёзовую рощ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6877080" y="1413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7308720" y="1413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7667640" y="1413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9"/>
          <p:cNvSpPr txBox="1"/>
          <p:nvPr/>
        </p:nvSpPr>
        <p:spPr>
          <a:xfrm>
            <a:off x="2340000" y="189000"/>
            <a:ext cx="46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ое дополнение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468360" y="1700280"/>
            <a:ext cx="815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раж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ой винительного падежа существительного без предл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ой родительного падежа, если обозначает часть предмета (налил чаю), если переходный глагол употребляется с отрицанием НЕ (не надел курт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1"/>
          <p:cNvSpPr txBox="1"/>
          <p:nvPr/>
        </p:nvSpPr>
        <p:spPr>
          <a:xfrm>
            <a:off x="2268360" y="4076640"/>
            <a:ext cx="5185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свенное дополнение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395280" y="4724280"/>
            <a:ext cx="85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ы разговорились об интересных книг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6877080" y="5300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7308720" y="5300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7667640" y="5300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8101080" y="53006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447840" y="352440"/>
            <a:ext cx="837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В каком предложении есть прямое дополн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лей мне чаю, пожалуй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абушка всегда беспокоится обо м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ра в победу помогла коман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очь незаметно ползла над ле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7840" y="2728800"/>
            <a:ext cx="844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В каком предложении есть прямое дополн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 дереву лодки неугомонно стучал дож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 так и не нашёл нужной тетради в своём ст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круг домика росли раскидистые ли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ие издавна славятся своим гостеприим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826920" y="1125360"/>
            <a:ext cx="3961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826920" y="3860640"/>
            <a:ext cx="66978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6:57:23Z</dcterms:created>
  <dc:creator>Евгения</dc:creator>
  <dc:description>http://aida.ucoz.ru</dc:description>
  <dc:language>en-US</dc:language>
  <cp:lastModifiedBy>Лариса</cp:lastModifiedBy>
  <dcterms:modified xsi:type="dcterms:W3CDTF">2023-07-07T12:09:29Z</dcterms:modified>
  <cp:revision>116</cp:revision>
  <dc:subject/>
  <dc:title>Слайд 1</dc:title>
</cp:coreProperties>
</file>