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BDF-6A68-4536-957F-045532E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FC8-6055-4D58-A5E7-686B7FDE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3CE-FEAC-49CF-91E9-FA55875F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561-23EC-4380-B195-673F649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70AA-3F9A-423C-B6FF-BF039141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8151-E7CE-4594-92E6-DB52921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4530-8770-432E-A23B-030E837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0A63-4E8C-4A7C-818B-6AA1A59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D467-49C2-4889-A956-04A68F5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87DF-72A4-4957-A6A6-C0774CE4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7F9A-ADAC-448D-8DA4-69A8B49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0D6-39A0-4BAF-86A8-03849DBE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4B10-8DC3-45A0-8120-934813F7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108B-6853-4008-9D3F-2922FEF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F0A0-21D5-4B9F-BF82-68CA7887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0E3-463C-426F-A953-54DA91B6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F4A-43D1-4C6D-BFF6-8B210B59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467-503D-4593-9D28-3E3669A5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C03-7DA0-4E10-A6B9-B60D32FC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796-82BF-4DBA-8F88-134F2571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B4F-AB52-4735-8292-D116FAD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FD8-A045-42D4-9C06-9B5EC0A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9C5-4345-4ECE-AECF-72E8F96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0C0-1E28-4F05-A2FB-195320B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0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A7F4-569E-468A-9C6F-5AB1714DA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c6c"/>
                  </a:gs>
                  <a:gs pos="100000">
                    <a:srgbClr val="00808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07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47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c6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4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69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0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787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484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787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7c7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80"/>
                    </a:gs>
                    <a:gs pos="100000">
                      <a:srgbClr val="fff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b5cd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ce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1DC-E098-4501-A2E3-BA4BD8E221E1}" type="slidenum">
              <a:rPr b="0" lang="ru-RU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560" y="272520"/>
            <a:ext cx="8435880" cy="9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ыктывкарский государственный университет им. Питирима Сорокина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нститут педагогики и психологии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федра дошкольного образования</a:t>
            </a:r>
            <a:br>
              <a:rPr sz="2800"/>
            </a:b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130320" indent="-13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ка -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 технологии в дошкольном образовании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студентка   431-ДОз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гина Наталья Александровн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ктывкар- 2022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4390920" y="29671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C:\Users\Наташа\Desktop\img1.jpg"/>
          <p:cNvPicPr/>
          <p:nvPr/>
        </p:nvPicPr>
        <p:blipFill>
          <a:blip r:embed="rId1"/>
          <a:stretch/>
        </p:blipFill>
        <p:spPr>
          <a:xfrm>
            <a:off x="209520" y="260280"/>
            <a:ext cx="8683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раньше мы дадим ребенку разнообразные впечатления, чувственный опыт, тем более гармоничным, естественным успешным будет дальнейшее развитие ребенка, становление его личности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6171840"/>
            <a:ext cx="2962440" cy="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32" name="Picture 5" descr="C:\Users\Наташа\Desktop\img7.jpg"/>
          <p:cNvPicPr/>
          <p:nvPr/>
        </p:nvPicPr>
        <p:blipFill>
          <a:blip r:embed="rId1"/>
          <a:stretch/>
        </p:blipFill>
        <p:spPr>
          <a:xfrm>
            <a:off x="611280" y="1638360"/>
            <a:ext cx="7921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2411280" y="6811920"/>
            <a:ext cx="461196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:\Users\Dmitry1\Desktop\Презентации кружка\картинки, анимации\47.jpg"/>
          <p:cNvPicPr/>
          <p:nvPr/>
        </p:nvPicPr>
        <p:blipFill>
          <a:blip r:embed="rId1"/>
          <a:stretch/>
        </p:blipFill>
        <p:spPr>
          <a:xfrm>
            <a:off x="500040" y="1428840"/>
            <a:ext cx="8323200" cy="50720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"/>
          <p:cNvSpPr/>
          <p:nvPr/>
        </p:nvSpPr>
        <p:spPr>
          <a:xfrm>
            <a:off x="0" y="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зможно, самое лучшее, самое совершенное и радостное, что есть в жизни - это свободное движение под музыку И научиться этому можно у ребенка… 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.И. Буренина</a:t>
            </a:r>
            <a:br>
              <a:rPr sz="2000"/>
            </a:b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ктуальность програм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том, что занятия ритмопластикой позволяют ребенку развивать творческие способности, формировать красивые манеры, походку, осанку, выразительность движений. У детей укрепляется здоровье, укрепляются мышцы, улучшается работа органов дыхания, кровообращения, а также в процессе занятий дети избавляются от стеснительности, зажатости 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Наташа\Desktop\d8a5db380cbd7ac119573b763bfe0995ba8b4ba2.jpg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итмопластик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ормировать двигательную культуру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общую и мелкую моторик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вать физические качества (сила, скорость, быстрота реакции, точность движений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особствовать формированию прямой коррекция походки (возможности для исправления шага, «косолапости»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упражнять в ориентировке в пространстве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.повышать эмоциональный настрой дошкольни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развивать коммуникативные способно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епощать в психологическом и эмоциональном плане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развивать дыхательный аппарат (соматические заболевания, заикание и др.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вершенствовать чувство ритма и музыкаль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вивать способность чувствовать музыкальный образ (через характер, темп, ритм музыки)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50920" y="18900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пластика – система физических упражнений для всестороннего гармонического  развития тела.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дин из видов спорта, способствующий раскрытию и реализации внутреннего потенциала, его творческих способностей.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2" name="Рисунок 2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46432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Наташа\Desktop\slide-1.jpg"/>
          <p:cNvPicPr/>
          <p:nvPr/>
        </p:nvPicPr>
        <p:blipFill>
          <a:blip r:embed="rId1"/>
          <a:stretch/>
        </p:blipFill>
        <p:spPr>
          <a:xfrm>
            <a:off x="631800" y="476280"/>
            <a:ext cx="8116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5" descr="C:\Users\Наташа\Desktop\27260312.jpg"/>
          <p:cNvPicPr/>
          <p:nvPr/>
        </p:nvPicPr>
        <p:blipFill>
          <a:blip r:embed="rId1"/>
          <a:stretch/>
        </p:blipFill>
        <p:spPr>
          <a:xfrm>
            <a:off x="709560" y="333360"/>
            <a:ext cx="825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 rot="10800000">
            <a:off x="457200" y="6125400"/>
            <a:ext cx="4038480" cy="1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8" name="Picture 5" descr="C:\Users\Наташа\Desktop\img_user_file_56666acd893d9_0_10.jpg"/>
          <p:cNvPicPr/>
          <p:nvPr/>
        </p:nvPicPr>
        <p:blipFill>
          <a:blip r:embed="rId1"/>
          <a:stretch/>
        </p:blipFill>
        <p:spPr>
          <a:xfrm>
            <a:off x="179280" y="260280"/>
            <a:ext cx="8523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00:16Z</dcterms:created>
  <dc:creator>... ...</dc:creator>
  <dc:description/>
  <dc:language>en-US</dc:language>
  <cp:lastModifiedBy>Наташа</cp:lastModifiedBy>
  <dcterms:modified xsi:type="dcterms:W3CDTF">2022-06-07T08:17:17Z</dcterms:modified>
  <cp:revision>180</cp:revision>
  <dc:subject/>
  <dc:title>« Буревестник» 2011г- 2012г</dc:title>
</cp:coreProperties>
</file>