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14A-E4D9-4DEA-9869-DF05D4CD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16E-C838-4010-A133-08E2583B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67B5-36FC-4966-A02C-9094D6C0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91B-3232-4CE2-A081-8429F0DD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8772-86F7-4174-B5B2-4FEABB90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74C1-C205-4664-9FF0-1826F9DB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828D-E4F4-4376-8891-A3F065B6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11CD-642D-4FC3-AE14-3BC31AD7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E1A3-2A8E-406E-8409-E1C92082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0F02-9D67-4B26-85C0-4657931A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0AEF-52EC-4686-9C82-82ED72C6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1D0-3BF9-4717-9376-49A4BAB4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09CC-0114-4D7F-8F9A-074411D8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AE3C-938A-4605-AFE5-B5885A58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D055-7F3E-432E-A529-D99ABE0D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9BA8-CEDD-4ED4-A2DE-BD9326A2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2F9E-64E5-4D33-A405-A9B2EF1D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3F4-7D70-4161-BD16-517B859C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C0E-71E0-40A8-A4F2-E27479DD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F65-01A1-4623-859C-50310A8C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973C-F531-4A8D-8BFB-3F495C39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8BFD-177C-4091-B63F-182C315F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52E4-8DA6-406A-A4E5-A7AB3A4D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543A-D06C-4C79-91F3-51B0FFCD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70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c7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6c"/>
                  </a:gs>
                  <a:gs pos="100000">
                    <a:srgbClr val="00808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c6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9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78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c7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ffff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ffff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b5cd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ce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5DA9-4236-4708-834D-53ADC42EA6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c7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6c"/>
                  </a:gs>
                  <a:gs pos="100000">
                    <a:srgbClr val="00808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c6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9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78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c7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ffff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ffff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b5cd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ce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95F2-D952-4291-A313-4547377F016F}" type="slidenum">
              <a:rPr b="0" lang="ru-RU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17880" cy="1170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250560" y="272520"/>
            <a:ext cx="8435880" cy="9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-1303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ыктывкарский государственный университет им. Питирима Сорокина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marL="130320" indent="-1303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нститут педагогики и психологии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marL="130320" indent="-130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афедра дошкольного образования</a:t>
            </a:r>
            <a:br>
              <a:rPr sz="2800"/>
            </a:b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marL="130320" indent="-130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130320" indent="-130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6840" y="155700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опластика -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технологии в дошкольном образовании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: студентка   431-ДОз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гина Наталья Александровн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ктывкар- 2022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4390920" y="296712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C:\Users\Наташа\Desktop\img1.jpg"/>
          <p:cNvPicPr/>
          <p:nvPr/>
        </p:nvPicPr>
        <p:blipFill>
          <a:blip r:embed="rId1"/>
          <a:stretch/>
        </p:blipFill>
        <p:spPr>
          <a:xfrm>
            <a:off x="209520" y="260280"/>
            <a:ext cx="86835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раньше мы дадим ребенку разнообразные впечатления, чувственный опыт, тем более гармоничным, естественным успешным будет дальнейшее развитие ребенка, становление его личности.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6171840"/>
            <a:ext cx="2962440" cy="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2" name="Picture 5" descr="C:\Users\Наташа\Desktop\img7.jpg"/>
          <p:cNvPicPr/>
          <p:nvPr/>
        </p:nvPicPr>
        <p:blipFill>
          <a:blip r:embed="rId1"/>
          <a:stretch/>
        </p:blipFill>
        <p:spPr>
          <a:xfrm>
            <a:off x="611280" y="1638360"/>
            <a:ext cx="79214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4" name="Объект 3" descr=""/>
          <p:cNvPicPr/>
          <p:nvPr/>
        </p:nvPicPr>
        <p:blipFill>
          <a:blip r:embed="rId1"/>
          <a:stretch/>
        </p:blipFill>
        <p:spPr>
          <a:xfrm>
            <a:off x="2411280" y="6811920"/>
            <a:ext cx="461196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C:\Users\Dmitry1\Desktop\Презентации кружка\картинки, анимации\47.jpg"/>
          <p:cNvPicPr/>
          <p:nvPr/>
        </p:nvPicPr>
        <p:blipFill>
          <a:blip r:embed="rId1"/>
          <a:stretch/>
        </p:blipFill>
        <p:spPr>
          <a:xfrm>
            <a:off x="500040" y="1428840"/>
            <a:ext cx="8323200" cy="507204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1"/>
          <p:cNvSpPr/>
          <p:nvPr/>
        </p:nvSpPr>
        <p:spPr>
          <a:xfrm>
            <a:off x="0" y="0"/>
            <a:ext cx="9144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зможно, самое лучшее, самое совершенное и радостное, что есть в жизни - это свободное движение под музыку И научиться этому можно у ребенка… 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.И. Буренина</a:t>
            </a:r>
            <a:br>
              <a:rPr sz="2000"/>
            </a:b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ктуальность программ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том, что занятия ритмопластикой позволяют ребенку развивать творческие способности, формировать красивые манеры, походку, осанку, выразительность движений. У детей укрепляется здоровье, укрепляются мышцы, улучшается работа органов дыхания, кровообращения, а также в процессе занятий дети избавляются от стеснительности, зажатости 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лекс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Users\Наташа\Desktop\d8a5db380cbd7ac119573b763bfe0995ba8b4ba2.jpg"/>
          <p:cNvPicPr/>
          <p:nvPr/>
        </p:nvPicPr>
        <p:blipFill>
          <a:blip r:embed="rId1"/>
          <a:stretch/>
        </p:blipFill>
        <p:spPr>
          <a:xfrm>
            <a:off x="468360" y="333360"/>
            <a:ext cx="8064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ритмопластики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формировать двигательную культуру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вать общую и мелкую моторику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вать физические качества (сила, скорость, быстрота реакции, точность движений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особствовать формированию прямой коррекция походки (возможности для исправления шага, «косолапости»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упражнять в ориентировке в пространстве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.повышать эмоциональный настрой дошкольников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развивать коммуникативные способност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крепощать в психологическом и эмоциональном плане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развивать дыхательный аппарат (соматические заболевания, заикание и др.)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вершенствовать чувство ритма и музыкальнос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азвивать способность чувствовать музыкальный образ (через характер, темп, ритм музыки)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250920" y="18900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опластика – система физических упражнений для всестороннего гармонического  развития тела.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дин из видов спорта, способствующий раскрытию и реализации внутреннего потенциала, его творческих способностей.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22" name="Рисунок 2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464328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Users\Наташа\Desktop\slide-1.jpg"/>
          <p:cNvPicPr/>
          <p:nvPr/>
        </p:nvPicPr>
        <p:blipFill>
          <a:blip r:embed="rId1"/>
          <a:stretch/>
        </p:blipFill>
        <p:spPr>
          <a:xfrm>
            <a:off x="631800" y="476280"/>
            <a:ext cx="8116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5" name="Picture 5" descr="C:\Users\Наташа\Desktop\27260312.jpg"/>
          <p:cNvPicPr/>
          <p:nvPr/>
        </p:nvPicPr>
        <p:blipFill>
          <a:blip r:embed="rId1"/>
          <a:stretch/>
        </p:blipFill>
        <p:spPr>
          <a:xfrm>
            <a:off x="709560" y="333360"/>
            <a:ext cx="8255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 rot="10800000">
            <a:off x="457200" y="6125400"/>
            <a:ext cx="4038480" cy="1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28" name="Picture 5" descr="C:\Users\Наташа\Desktop\img_user_file_56666acd893d9_0_10.jpg"/>
          <p:cNvPicPr/>
          <p:nvPr/>
        </p:nvPicPr>
        <p:blipFill>
          <a:blip r:embed="rId1"/>
          <a:stretch/>
        </p:blipFill>
        <p:spPr>
          <a:xfrm>
            <a:off x="179280" y="260280"/>
            <a:ext cx="8523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3:00:16Z</dcterms:created>
  <dc:creator>... ...</dc:creator>
  <dc:description/>
  <dc:language>en-US</dc:language>
  <cp:lastModifiedBy>Наташа</cp:lastModifiedBy>
  <dcterms:modified xsi:type="dcterms:W3CDTF">2022-06-07T08:17:17Z</dcterms:modified>
  <cp:revision>180</cp:revision>
  <dc:subject/>
  <dc:title>« Буревестник» 2011г- 2012г</dc:title>
</cp:coreProperties>
</file>