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11.jpeg" ContentType="image/jpeg"/>
  <Override PartName="/ppt/media/image24.png" ContentType="image/pn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644B-E0EB-44C5-BE53-582239DA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4FD0-0B46-480C-9ADF-26A10937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637-BC22-4E31-8D15-7AF3D9B3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000-52F3-4C88-90A3-C658B048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DCE-192E-4E5B-8109-BBC06239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005-A0F7-4041-ACE7-27C69E94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9305-57F5-475C-B057-47DD66AE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6A6-3A5F-4A2A-8DB1-B90097F0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C8C-E799-4A3F-884C-61C0BCA5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6FB-B411-4851-8CDE-8E6553F3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273-4F1D-45B6-8D8E-4F91434F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1A03-CC17-4503-9E53-85B22920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6173-85AC-4969-BD02-E251E66681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ля детей дошкольного возрас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л: воспитатель Лаптиёва Дарья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ДОУ д/с № 11 комбинированного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 Гатч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гает деду внук –Собирает с гряд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onion-picture-color"/>
          <p:cNvPicPr/>
          <p:nvPr/>
        </p:nvPicPr>
        <p:blipFill>
          <a:blip r:embed="rId1"/>
          <a:stretch/>
        </p:blipFill>
        <p:spPr>
          <a:xfrm>
            <a:off x="1905120" y="1168560"/>
            <a:ext cx="5943600" cy="4100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4572360" y="5313240"/>
            <a:ext cx="114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лу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57200" y="1523160"/>
            <a:ext cx="15238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теперь пойдем мы в сад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м созрел уж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2134"/>
          <p:cNvPicPr/>
          <p:nvPr/>
        </p:nvPicPr>
        <p:blipFill>
          <a:blip r:embed="rId1"/>
          <a:stretch/>
        </p:blipFill>
        <p:spPr>
          <a:xfrm>
            <a:off x="3062160" y="1447920"/>
            <a:ext cx="291168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3352680" y="5791320"/>
            <a:ext cx="23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виногра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304920" y="303840"/>
            <a:ext cx="15112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7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чень сочны и красив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осли на ветках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sliva_0"/>
          <p:cNvPicPr/>
          <p:nvPr/>
        </p:nvPicPr>
        <p:blipFill>
          <a:blip r:embed="rId1"/>
          <a:stretch/>
        </p:blipFill>
        <p:spPr>
          <a:xfrm>
            <a:off x="2666880" y="1447920"/>
            <a:ext cx="4496040" cy="4281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4267440" y="584676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слив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304920" y="303840"/>
            <a:ext cx="15112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начинки в пирог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ирае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i?id=481025702-23-72&amp;n=24"/>
          <p:cNvPicPr/>
          <p:nvPr/>
        </p:nvPicPr>
        <p:blipFill>
          <a:blip r:embed="rId1"/>
          <a:stretch/>
        </p:blipFill>
        <p:spPr>
          <a:xfrm>
            <a:off x="1523880" y="1306440"/>
            <a:ext cx="5867640" cy="4383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351600" y="5943600"/>
            <a:ext cx="190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ябло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43000"/>
            <a:ext cx="128880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9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т и все! Хоть и устал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жай мы весь собрали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683836843"/>
          <p:cNvPicPr/>
          <p:nvPr/>
        </p:nvPicPr>
        <p:blipFill>
          <a:blip r:embed="rId1"/>
          <a:stretch/>
        </p:blipFill>
        <p:spPr>
          <a:xfrm>
            <a:off x="1066680" y="1238400"/>
            <a:ext cx="701064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из. минутка</a:t>
            </a: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йте все томатный сок,        Ходьба на мест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Кушайте морковку!                    Руки к плечам,   руки ввер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ребята будете                     руки на пояс, наклоны в сторон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пкими и ловкими                 руки на пояс, приседа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ипп, ангину, скарлатину -     руки на пояс, прыжк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прогонят витамины!          ходьба на 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другое время года, когда нет свежих овощей и фруктов, чтобы люди не испытывали недостатка в витаминах, витамины – таблетки продаются в апте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1349634180_vitaminy-s-i-v12"/>
          <p:cNvPicPr/>
          <p:nvPr/>
        </p:nvPicPr>
        <p:blipFill>
          <a:blip r:embed="rId1"/>
          <a:stretch/>
        </p:blipFill>
        <p:spPr>
          <a:xfrm>
            <a:off x="2438280" y="2209680"/>
            <a:ext cx="414036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огда не унываю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улыбка на лице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ому что принимаю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тамины 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%EA%F3%EF%EE%ED-l"/>
          <p:cNvPicPr/>
          <p:nvPr/>
        </p:nvPicPr>
        <p:blipFill>
          <a:blip r:embed="rId1"/>
          <a:stretch/>
        </p:blipFill>
        <p:spPr>
          <a:xfrm>
            <a:off x="2438280" y="2209680"/>
            <a:ext cx="4267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Познакомить детей с понятием “полезные продукты”, витаминами «А», «В», «С»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Закрепить название овощей и фруктов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Формировать у детей представления о  содержании витаминов в овощах и фруктах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омочь детям понять, что здоровье зависит от правильного питания - еда должна быть не только вкусной, но и полезной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 Воспитывать у детей желание заботится о своём здоровье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19810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из нас хочет быть сильным, бодрым, энергичным: бегать, кататься на велосипеде, плавать, играть с ребятами во дворе. Поэтому каждый с детства должен помнить о своем здоровье. А чтобы быть здоровым, надо хорошо питаться!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быть здоровым, умным, сильным, человек должен получать витамины с пище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итаминов много, но самые главные – это витамины ABC. В каждом продукте содержится тот или иной витамин. Сейчас мы посмотрим в каких продуктах содержится витамин А , В и С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тамин А – очень важен для зрени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ни истину простую –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учше видит только то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жует морковь сырую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и сок морковный пьё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red-cherry_wallpapers_5827_1024x768"/>
          <p:cNvPicPr/>
          <p:nvPr/>
        </p:nvPicPr>
        <p:blipFill>
          <a:blip r:embed="rId1"/>
          <a:stretch/>
        </p:blipFill>
        <p:spPr>
          <a:xfrm>
            <a:off x="3733920" y="289548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1541352"/>
          <p:cNvPicPr/>
          <p:nvPr/>
        </p:nvPicPr>
        <p:blipFill>
          <a:blip r:embed="rId2"/>
          <a:stretch/>
        </p:blipFill>
        <p:spPr>
          <a:xfrm>
            <a:off x="7307280" y="3429000"/>
            <a:ext cx="1836720" cy="1981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120"/>
          <p:cNvPicPr/>
          <p:nvPr/>
        </p:nvPicPr>
        <p:blipFill>
          <a:blip r:embed="rId3"/>
          <a:stretch/>
        </p:blipFill>
        <p:spPr>
          <a:xfrm>
            <a:off x="1066680" y="2971800"/>
            <a:ext cx="1981440" cy="1430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2-prodam-semena-ovoschej"/>
          <p:cNvPicPr/>
          <p:nvPr/>
        </p:nvPicPr>
        <p:blipFill>
          <a:blip r:embed="rId4"/>
          <a:stretch/>
        </p:blipFill>
        <p:spPr>
          <a:xfrm>
            <a:off x="304920" y="990720"/>
            <a:ext cx="1393560" cy="1447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2014"/>
          <p:cNvPicPr/>
          <p:nvPr/>
        </p:nvPicPr>
        <p:blipFill>
          <a:blip r:embed="rId5"/>
          <a:stretch/>
        </p:blipFill>
        <p:spPr>
          <a:xfrm>
            <a:off x="6781680" y="914400"/>
            <a:ext cx="2048040" cy="204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b4737_471497"/>
          <p:cNvPicPr/>
          <p:nvPr/>
        </p:nvPicPr>
        <p:blipFill>
          <a:blip r:embed="rId6"/>
          <a:stretch/>
        </p:blipFill>
        <p:spPr>
          <a:xfrm>
            <a:off x="4114800" y="4724280"/>
            <a:ext cx="2514600" cy="183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d14a2a1610caed6a456b4c741432f2fc"/>
          <p:cNvPicPr/>
          <p:nvPr/>
        </p:nvPicPr>
        <p:blipFill>
          <a:blip r:embed="rId7"/>
          <a:stretch/>
        </p:blipFill>
        <p:spPr>
          <a:xfrm>
            <a:off x="228600" y="46483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тамин В – способствует хорошей работе сердц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чень важно спозаранк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за завтраком овсянку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рный хлеб полезен нам, И не только по утрам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?id=502674141-64-72&amp;n=24"/>
          <p:cNvPicPr/>
          <p:nvPr/>
        </p:nvPicPr>
        <p:blipFill>
          <a:blip r:embed="rId1"/>
          <a:stretch/>
        </p:blipFill>
        <p:spPr>
          <a:xfrm>
            <a:off x="0" y="3200400"/>
            <a:ext cx="2095560" cy="158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i?id=74139503-66-72&amp;n=24"/>
          <p:cNvPicPr/>
          <p:nvPr/>
        </p:nvPicPr>
        <p:blipFill>
          <a:blip r:embed="rId2"/>
          <a:stretch/>
        </p:blipFill>
        <p:spPr>
          <a:xfrm>
            <a:off x="228600" y="4952880"/>
            <a:ext cx="191448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565842187"/>
          <p:cNvPicPr/>
          <p:nvPr/>
        </p:nvPicPr>
        <p:blipFill>
          <a:blip r:embed="rId3"/>
          <a:stretch/>
        </p:blipFill>
        <p:spPr>
          <a:xfrm>
            <a:off x="2286000" y="2971800"/>
            <a:ext cx="2505240" cy="180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i?id=75026841-00-72&amp;n=24"/>
          <p:cNvPicPr/>
          <p:nvPr/>
        </p:nvPicPr>
        <p:blipFill>
          <a:blip r:embed="rId4"/>
          <a:stretch/>
        </p:blipFill>
        <p:spPr>
          <a:xfrm>
            <a:off x="4952880" y="3048120"/>
            <a:ext cx="1276560" cy="1238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%D0%9A%D0%B0%D1%80%D1%82%D0%BE%D1%84%D0%B5%D0%BB%D1%8C"/>
          <p:cNvPicPr/>
          <p:nvPr/>
        </p:nvPicPr>
        <p:blipFill>
          <a:blip r:embed="rId5"/>
          <a:stretch/>
        </p:blipFill>
        <p:spPr>
          <a:xfrm>
            <a:off x="5181480" y="4343400"/>
            <a:ext cx="2229120" cy="2228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i?id=478430424-43-72&amp;n=24"/>
          <p:cNvPicPr/>
          <p:nvPr/>
        </p:nvPicPr>
        <p:blipFill>
          <a:blip r:embed="rId6"/>
          <a:stretch/>
        </p:blipFill>
        <p:spPr>
          <a:xfrm>
            <a:off x="2362320" y="4724280"/>
            <a:ext cx="2438280" cy="1820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i?id=369783807-53-72&amp;n=24"/>
          <p:cNvPicPr/>
          <p:nvPr/>
        </p:nvPicPr>
        <p:blipFill>
          <a:blip r:embed="rId7"/>
          <a:stretch/>
        </p:blipFill>
        <p:spPr>
          <a:xfrm>
            <a:off x="7054920" y="2819520"/>
            <a:ext cx="20890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723924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тамин С – укрепляет весь организм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простуды и ангин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могают апельсин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 а лучше есть лимон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ть и очень кислый о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4d747773c7ca2ed157e06fd49171fff"/>
          <p:cNvPicPr/>
          <p:nvPr/>
        </p:nvPicPr>
        <p:blipFill>
          <a:blip r:embed="rId1"/>
          <a:stretch/>
        </p:blipFill>
        <p:spPr>
          <a:xfrm>
            <a:off x="0" y="1143000"/>
            <a:ext cx="2209680" cy="1488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shop_group_image2993"/>
          <p:cNvPicPr/>
          <p:nvPr/>
        </p:nvPicPr>
        <p:blipFill>
          <a:blip r:embed="rId2"/>
          <a:stretch/>
        </p:blipFill>
        <p:spPr>
          <a:xfrm>
            <a:off x="6553080" y="2514600"/>
            <a:ext cx="2286000" cy="1973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1282171373_1256841919_smorodina-chernaya_enl"/>
          <p:cNvPicPr/>
          <p:nvPr/>
        </p:nvPicPr>
        <p:blipFill>
          <a:blip r:embed="rId3"/>
          <a:stretch/>
        </p:blipFill>
        <p:spPr>
          <a:xfrm>
            <a:off x="304920" y="27432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%D1%88%D0%B8%D0%BF%D0%BE%D0%B2%D0%BD%D0%B8%D0%BA"/>
          <p:cNvPicPr/>
          <p:nvPr/>
        </p:nvPicPr>
        <p:blipFill>
          <a:blip r:embed="rId4"/>
          <a:stretch/>
        </p:blipFill>
        <p:spPr>
          <a:xfrm>
            <a:off x="6248520" y="5143680"/>
            <a:ext cx="2657520" cy="1714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Usturoi%20(buc)-500x500"/>
          <p:cNvPicPr/>
          <p:nvPr/>
        </p:nvPicPr>
        <p:blipFill>
          <a:blip r:embed="rId5"/>
          <a:stretch/>
        </p:blipFill>
        <p:spPr>
          <a:xfrm>
            <a:off x="3048120" y="4248000"/>
            <a:ext cx="2609640" cy="261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kab-300x202"/>
          <p:cNvPicPr/>
          <p:nvPr/>
        </p:nvPicPr>
        <p:blipFill>
          <a:blip r:embed="rId6"/>
          <a:stretch/>
        </p:blipFill>
        <p:spPr>
          <a:xfrm>
            <a:off x="304920" y="4933800"/>
            <a:ext cx="2857320" cy="192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1649702-13ef2e71ed63f0ce"/>
          <p:cNvPicPr/>
          <p:nvPr/>
        </p:nvPicPr>
        <p:blipFill>
          <a:blip r:embed="rId7"/>
          <a:stretch/>
        </p:blipFill>
        <p:spPr>
          <a:xfrm>
            <a:off x="4114800" y="2666880"/>
            <a:ext cx="22384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сть продукты «вкусные», а есть «полезные».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разница между ними?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акие продукты полезнее есть сырые или вареные?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ел все лето урожай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собрали? Отгадай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Здесь весною было пуст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том выросла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i?id=480565036-65-72&amp;n=24"/>
          <p:cNvPicPr/>
          <p:nvPr/>
        </p:nvPicPr>
        <p:blipFill>
          <a:blip r:embed="rId1"/>
          <a:stretch/>
        </p:blipFill>
        <p:spPr>
          <a:xfrm>
            <a:off x="2133720" y="1814400"/>
            <a:ext cx="4114800" cy="39625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1"/>
          <p:cNvSpPr/>
          <p:nvPr/>
        </p:nvSpPr>
        <p:spPr>
          <a:xfrm>
            <a:off x="3886200" y="589428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капус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304920" y="303840"/>
            <a:ext cx="15112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7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дождя земля намокл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лезай толстуш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item_3950"/>
          <p:cNvPicPr/>
          <p:nvPr/>
        </p:nvPicPr>
        <p:blipFill>
          <a:blip r:embed="rId1"/>
          <a:stretch/>
        </p:blipFill>
        <p:spPr>
          <a:xfrm>
            <a:off x="2190600" y="2176560"/>
            <a:ext cx="4762800" cy="2504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4114800" y="5313240"/>
            <a:ext cx="18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свёк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534960" y="990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304920" y="303840"/>
            <a:ext cx="15112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7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пелька</cp:lastModifiedBy>
  <dcterms:modified xsi:type="dcterms:W3CDTF">2023-07-07T06:32:2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