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30.png" ContentType="image/png"/>
  <Override PartName="/ppt/media/image3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11.jpeg" ContentType="image/jpeg"/>
  <Override PartName="/ppt/media/image24.png" ContentType="image/png"/>
  <Override PartName="/ppt/media/image29.png" ContentType="image/pn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2149-46B3-4442-8FDB-0C9FF6B56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A8D4-8E2A-4B4E-9581-6896BE781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7119-A135-4EC5-ACCC-4A4F6661D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37B3-12D9-48FF-A112-14D6574E1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6F1F-8320-4F3F-83EA-27C157681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9B1B-CA5A-4540-874D-C59EDFD85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281E-6E87-4CAE-8DF0-03F66029D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62BD-F125-4CE1-8F0F-6595BBB1F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AAB5-3562-44BB-B927-F9527FD31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B8B7-E3FC-4E52-BBDB-35F2E5213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F83B-E9E9-44F5-AE58-A5C34A56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E4D7-F891-4EA8-BCCA-D913B931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0C34E-252D-45AB-9160-2278B091A6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там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89548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для детей дошкольного возрас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ил: воспитатель Лаптиёва Дарья Михайл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БДОУ д/с № 11 комбинированного ви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род Гатч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могает деду внук –Собирает с грядок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onion-picture-color"/>
          <p:cNvPicPr/>
          <p:nvPr/>
        </p:nvPicPr>
        <p:blipFill>
          <a:blip r:embed="rId1"/>
          <a:stretch/>
        </p:blipFill>
        <p:spPr>
          <a:xfrm>
            <a:off x="1905120" y="1168560"/>
            <a:ext cx="5943600" cy="41004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7"/>
          <p:cNvSpPr/>
          <p:nvPr/>
        </p:nvSpPr>
        <p:spPr>
          <a:xfrm>
            <a:off x="4572360" y="5313240"/>
            <a:ext cx="114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лу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457200" y="1523160"/>
            <a:ext cx="152388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 теперь пойдем мы в сад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м созрел уж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2134"/>
          <p:cNvPicPr/>
          <p:nvPr/>
        </p:nvPicPr>
        <p:blipFill>
          <a:blip r:embed="rId1"/>
          <a:stretch/>
        </p:blipFill>
        <p:spPr>
          <a:xfrm>
            <a:off x="3062160" y="1447920"/>
            <a:ext cx="291168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9"/>
          <p:cNvSpPr/>
          <p:nvPr/>
        </p:nvSpPr>
        <p:spPr>
          <a:xfrm>
            <a:off x="3352680" y="5791320"/>
            <a:ext cx="23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виноград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3"/>
          <p:cNvSpPr/>
          <p:nvPr/>
        </p:nvSpPr>
        <p:spPr>
          <a:xfrm>
            <a:off x="304920" y="303840"/>
            <a:ext cx="15112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7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72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чень сочны и красивы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росли на ветках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sliva_0"/>
          <p:cNvPicPr/>
          <p:nvPr/>
        </p:nvPicPr>
        <p:blipFill>
          <a:blip r:embed="rId1"/>
          <a:stretch/>
        </p:blipFill>
        <p:spPr>
          <a:xfrm>
            <a:off x="2666880" y="1447920"/>
            <a:ext cx="4496040" cy="42814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7"/>
          <p:cNvSpPr/>
          <p:nvPr/>
        </p:nvSpPr>
        <p:spPr>
          <a:xfrm>
            <a:off x="4267440" y="5846760"/>
            <a:ext cx="178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слив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304920" y="303840"/>
            <a:ext cx="15112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7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начинки в пирог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бираем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i?id=481025702-23-72&amp;n=24"/>
          <p:cNvPicPr/>
          <p:nvPr/>
        </p:nvPicPr>
        <p:blipFill>
          <a:blip r:embed="rId1"/>
          <a:stretch/>
        </p:blipFill>
        <p:spPr>
          <a:xfrm>
            <a:off x="1523880" y="1306440"/>
            <a:ext cx="5867640" cy="43830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7"/>
          <p:cNvSpPr/>
          <p:nvPr/>
        </p:nvSpPr>
        <p:spPr>
          <a:xfrm>
            <a:off x="3351600" y="5943600"/>
            <a:ext cx="190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яблок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304920" y="243000"/>
            <a:ext cx="1288800" cy="27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9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т и все! Хоть и устали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рожай мы весь собрали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683836843"/>
          <p:cNvPicPr/>
          <p:nvPr/>
        </p:nvPicPr>
        <p:blipFill>
          <a:blip r:embed="rId1"/>
          <a:stretch/>
        </p:blipFill>
        <p:spPr>
          <a:xfrm>
            <a:off x="1066680" y="1238400"/>
            <a:ext cx="7010640" cy="43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696080" cy="601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из. минутка</a:t>
            </a:r>
            <a:br>
              <a:rPr sz="4000"/>
            </a:br>
            <a:br>
              <a:rPr sz="40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йте все томатный сок,        Ходьба на месте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Кушайте морковку!                    Руки к плечам,   руки вверх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 ребята будете                     руки на пояс, наклоны в сторону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епкими и ловкими                 руки на пояс, приседания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ипп, ангину, скарлатину -     руки на пояс, прыжки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 прогонят витамины!          ходьба на мес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1532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другое время года, когда нет свежих овощей и фруктов, чтобы люди не испытывали недостатка в витаминах, витамины – таблетки продаются в апте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1349634180_vitaminy-s-i-v12"/>
          <p:cNvPicPr/>
          <p:nvPr/>
        </p:nvPicPr>
        <p:blipFill>
          <a:blip r:embed="rId1"/>
          <a:stretch/>
        </p:blipFill>
        <p:spPr>
          <a:xfrm>
            <a:off x="2438280" y="2209680"/>
            <a:ext cx="4140360" cy="42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икогда не унываю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 улыбка на лице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тому что принимаю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итамины AB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%EA%F3%EF%EE%ED-l"/>
          <p:cNvPicPr/>
          <p:nvPr/>
        </p:nvPicPr>
        <p:blipFill>
          <a:blip r:embed="rId1"/>
          <a:stretch/>
        </p:blipFill>
        <p:spPr>
          <a:xfrm>
            <a:off x="2438280" y="2209680"/>
            <a:ext cx="42674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ль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Познакомить детей с понятием “полезные продукты”, витаминами «А», «В», «С»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чи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Закрепить название овощей и фруктов.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Формировать у детей представления о  содержании витаминов в овощах и фруктах.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Помочь детям понять, что здоровье зависит от правильного питания - еда должна быть не только вкусной, но и полезной.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 Воспитывать у детей желание заботится о своём здоровье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120" y="1981080"/>
            <a:ext cx="8001000" cy="289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ждый из нас хочет быть сильным, бодрым, энергичным: бегать, кататься на велосипеде, плавать, играть с ребятами во дворе. Поэтому каждый с детства должен помнить о своем здоровье. А чтобы быть здоровым, надо хорошо питаться!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бы быть здоровым, умным, сильным, человек должен получать витамины с пищей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Витаминов много, но самые главные – это витамины ABC. В каждом продукте содержится тот или иной витамин. Сейчас мы посмотрим в каких продуктах содержится витамин А , В и С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итамин А – очень важен для зрения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мни истину простую –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учше видит только тот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то жует морковь сырую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ли сок морковный пьёт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red-cherry_wallpapers_5827_1024x768"/>
          <p:cNvPicPr/>
          <p:nvPr/>
        </p:nvPicPr>
        <p:blipFill>
          <a:blip r:embed="rId1"/>
          <a:stretch/>
        </p:blipFill>
        <p:spPr>
          <a:xfrm>
            <a:off x="3733920" y="2895480"/>
            <a:ext cx="2361960" cy="1771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1541352"/>
          <p:cNvPicPr/>
          <p:nvPr/>
        </p:nvPicPr>
        <p:blipFill>
          <a:blip r:embed="rId2"/>
          <a:stretch/>
        </p:blipFill>
        <p:spPr>
          <a:xfrm>
            <a:off x="7307280" y="3429000"/>
            <a:ext cx="1836720" cy="1981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120"/>
          <p:cNvPicPr/>
          <p:nvPr/>
        </p:nvPicPr>
        <p:blipFill>
          <a:blip r:embed="rId3"/>
          <a:stretch/>
        </p:blipFill>
        <p:spPr>
          <a:xfrm>
            <a:off x="1066680" y="2971800"/>
            <a:ext cx="1981440" cy="1430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" descr="2-prodam-semena-ovoschej"/>
          <p:cNvPicPr/>
          <p:nvPr/>
        </p:nvPicPr>
        <p:blipFill>
          <a:blip r:embed="rId4"/>
          <a:stretch/>
        </p:blipFill>
        <p:spPr>
          <a:xfrm>
            <a:off x="304920" y="990720"/>
            <a:ext cx="1393560" cy="1447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5" descr="2014"/>
          <p:cNvPicPr/>
          <p:nvPr/>
        </p:nvPicPr>
        <p:blipFill>
          <a:blip r:embed="rId5"/>
          <a:stretch/>
        </p:blipFill>
        <p:spPr>
          <a:xfrm>
            <a:off x="6781680" y="914400"/>
            <a:ext cx="2048040" cy="2048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7" descr="b4737_471497"/>
          <p:cNvPicPr/>
          <p:nvPr/>
        </p:nvPicPr>
        <p:blipFill>
          <a:blip r:embed="rId6"/>
          <a:stretch/>
        </p:blipFill>
        <p:spPr>
          <a:xfrm>
            <a:off x="4114800" y="4724280"/>
            <a:ext cx="2514600" cy="1838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1" descr="d14a2a1610caed6a456b4c741432f2fc"/>
          <p:cNvPicPr/>
          <p:nvPr/>
        </p:nvPicPr>
        <p:blipFill>
          <a:blip r:embed="rId7"/>
          <a:stretch/>
        </p:blipFill>
        <p:spPr>
          <a:xfrm>
            <a:off x="228600" y="4648320"/>
            <a:ext cx="22096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итамин В – способствует хорошей работе сердца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чень важно спозаранку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ть за завтраком овсянку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ерный хлеб полезен нам, И не только по утрам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i?id=502674141-64-72&amp;n=24"/>
          <p:cNvPicPr/>
          <p:nvPr/>
        </p:nvPicPr>
        <p:blipFill>
          <a:blip r:embed="rId1"/>
          <a:stretch/>
        </p:blipFill>
        <p:spPr>
          <a:xfrm>
            <a:off x="0" y="3200400"/>
            <a:ext cx="2095560" cy="1584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i?id=74139503-66-72&amp;n=24"/>
          <p:cNvPicPr/>
          <p:nvPr/>
        </p:nvPicPr>
        <p:blipFill>
          <a:blip r:embed="rId2"/>
          <a:stretch/>
        </p:blipFill>
        <p:spPr>
          <a:xfrm>
            <a:off x="228600" y="4952880"/>
            <a:ext cx="1914480" cy="1524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565842187"/>
          <p:cNvPicPr/>
          <p:nvPr/>
        </p:nvPicPr>
        <p:blipFill>
          <a:blip r:embed="rId3"/>
          <a:stretch/>
        </p:blipFill>
        <p:spPr>
          <a:xfrm>
            <a:off x="2286000" y="2971800"/>
            <a:ext cx="2505240" cy="1800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i?id=75026841-00-72&amp;n=24"/>
          <p:cNvPicPr/>
          <p:nvPr/>
        </p:nvPicPr>
        <p:blipFill>
          <a:blip r:embed="rId4"/>
          <a:stretch/>
        </p:blipFill>
        <p:spPr>
          <a:xfrm>
            <a:off x="4952880" y="3048120"/>
            <a:ext cx="1276560" cy="1238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" descr="%D0%9A%D0%B0%D1%80%D1%82%D0%BE%D1%84%D0%B5%D0%BB%D1%8C"/>
          <p:cNvPicPr/>
          <p:nvPr/>
        </p:nvPicPr>
        <p:blipFill>
          <a:blip r:embed="rId5"/>
          <a:stretch/>
        </p:blipFill>
        <p:spPr>
          <a:xfrm>
            <a:off x="5181480" y="4343400"/>
            <a:ext cx="2229120" cy="2228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9" descr="i?id=478430424-43-72&amp;n=24"/>
          <p:cNvPicPr/>
          <p:nvPr/>
        </p:nvPicPr>
        <p:blipFill>
          <a:blip r:embed="rId6"/>
          <a:stretch/>
        </p:blipFill>
        <p:spPr>
          <a:xfrm>
            <a:off x="2362320" y="4724280"/>
            <a:ext cx="2438280" cy="1820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1" descr="i?id=369783807-53-72&amp;n=24"/>
          <p:cNvPicPr/>
          <p:nvPr/>
        </p:nvPicPr>
        <p:blipFill>
          <a:blip r:embed="rId7"/>
          <a:stretch/>
        </p:blipFill>
        <p:spPr>
          <a:xfrm>
            <a:off x="7054920" y="2819520"/>
            <a:ext cx="2089080" cy="20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520" y="0"/>
            <a:ext cx="723924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итамин С – укрепляет весь организм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 простуды и ангины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могают апельсины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у а лучше есть лимон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оть и очень кислый он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24d747773c7ca2ed157e06fd49171fff"/>
          <p:cNvPicPr/>
          <p:nvPr/>
        </p:nvPicPr>
        <p:blipFill>
          <a:blip r:embed="rId1"/>
          <a:stretch/>
        </p:blipFill>
        <p:spPr>
          <a:xfrm>
            <a:off x="0" y="1143000"/>
            <a:ext cx="2209680" cy="1488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shop_group_image2993"/>
          <p:cNvPicPr/>
          <p:nvPr/>
        </p:nvPicPr>
        <p:blipFill>
          <a:blip r:embed="rId2"/>
          <a:stretch/>
        </p:blipFill>
        <p:spPr>
          <a:xfrm>
            <a:off x="6553080" y="2514600"/>
            <a:ext cx="2286000" cy="1973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1282171373_1256841919_smorodina-chernaya_enl"/>
          <p:cNvPicPr/>
          <p:nvPr/>
        </p:nvPicPr>
        <p:blipFill>
          <a:blip r:embed="rId3"/>
          <a:stretch/>
        </p:blipFill>
        <p:spPr>
          <a:xfrm>
            <a:off x="304920" y="2743200"/>
            <a:ext cx="2819160" cy="2114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%D1%88%D0%B8%D0%BF%D0%BE%D0%B2%D0%BD%D0%B8%D0%BA"/>
          <p:cNvPicPr/>
          <p:nvPr/>
        </p:nvPicPr>
        <p:blipFill>
          <a:blip r:embed="rId4"/>
          <a:stretch/>
        </p:blipFill>
        <p:spPr>
          <a:xfrm>
            <a:off x="6248520" y="5143680"/>
            <a:ext cx="2657520" cy="1714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" descr="Usturoi%20(buc)-500x500"/>
          <p:cNvPicPr/>
          <p:nvPr/>
        </p:nvPicPr>
        <p:blipFill>
          <a:blip r:embed="rId5"/>
          <a:stretch/>
        </p:blipFill>
        <p:spPr>
          <a:xfrm>
            <a:off x="3048120" y="4248000"/>
            <a:ext cx="2609640" cy="2610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kab-300x202"/>
          <p:cNvPicPr/>
          <p:nvPr/>
        </p:nvPicPr>
        <p:blipFill>
          <a:blip r:embed="rId6"/>
          <a:stretch/>
        </p:blipFill>
        <p:spPr>
          <a:xfrm>
            <a:off x="304920" y="4933800"/>
            <a:ext cx="2857320" cy="1924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8" descr="1649702-13ef2e71ed63f0ce"/>
          <p:cNvPicPr/>
          <p:nvPr/>
        </p:nvPicPr>
        <p:blipFill>
          <a:blip r:embed="rId7"/>
          <a:stretch/>
        </p:blipFill>
        <p:spPr>
          <a:xfrm>
            <a:off x="4114800" y="2666880"/>
            <a:ext cx="223848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Есть продукты «вкусные», а есть «полезные». 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чем разница между ними? 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Какие продукты полезнее есть сырые или вареные? 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рел все лето урожай!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 собрали? Отгадай?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Здесь весною было пусто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етом выросла…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0" descr="i?id=480565036-65-72&amp;n=24"/>
          <p:cNvPicPr/>
          <p:nvPr/>
        </p:nvPicPr>
        <p:blipFill>
          <a:blip r:embed="rId1"/>
          <a:stretch/>
        </p:blipFill>
        <p:spPr>
          <a:xfrm>
            <a:off x="2133720" y="1814400"/>
            <a:ext cx="4114800" cy="396252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1"/>
          <p:cNvSpPr/>
          <p:nvPr/>
        </p:nvSpPr>
        <p:spPr>
          <a:xfrm>
            <a:off x="3886200" y="5894280"/>
            <a:ext cx="200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капуст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3"/>
          <p:cNvSpPr/>
          <p:nvPr/>
        </p:nvSpPr>
        <p:spPr>
          <a:xfrm>
            <a:off x="304920" y="303840"/>
            <a:ext cx="15112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7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72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 дождя земля намокл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лезай толстушк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item_3950"/>
          <p:cNvPicPr/>
          <p:nvPr/>
        </p:nvPicPr>
        <p:blipFill>
          <a:blip r:embed="rId1"/>
          <a:stretch/>
        </p:blipFill>
        <p:spPr>
          <a:xfrm>
            <a:off x="2190600" y="2176560"/>
            <a:ext cx="4762800" cy="250488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7"/>
          <p:cNvSpPr/>
          <p:nvPr/>
        </p:nvSpPr>
        <p:spPr>
          <a:xfrm>
            <a:off x="4114800" y="5313240"/>
            <a:ext cx="184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свёкл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534960" y="9900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304920" y="303840"/>
            <a:ext cx="15112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7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72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пелька</cp:lastModifiedBy>
  <dcterms:modified xsi:type="dcterms:W3CDTF">2023-07-07T06:32:23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