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42CE-CCA0-4159-89C9-5AA64086E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05CF-FA00-4319-A734-040981A49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C9D2-751C-43D1-BCC4-4EE157C04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D7CB-47E3-4934-8162-462DCB64B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3541A-80A3-4D79-8774-F38BAC056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124F1-C8F3-4815-A6B7-81BFDC416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3EC26-7445-49A0-8312-CC9168D44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1D59A-3D68-4A35-A8E0-27B1D6D32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C0030-1758-4E17-B206-14495A714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33FB6-6DC2-405E-A4E7-2DF30106F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8B27A-3E99-4403-AED8-507B16CE7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3889-E559-4900-8788-D1B3C5A56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51672-E2FB-405E-9B2F-2F49D36BC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C4437-97BA-4D86-9935-72D61548A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09D90-08F0-4A9B-8E67-7D38487C7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03C6A-5C61-4034-A494-6EE4502DF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7FE99-5DD4-48A7-852B-09F7AC2F7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A0D5C-C778-4D2C-92B8-1E92D2C80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049A1-95A8-4A38-AE09-BDEE0250F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72E62-0612-416A-B5C7-0F1608BCF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E1BB8-0B6E-4369-AAAD-0CB1941DC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40671-AE1E-4DD6-B717-BC8000953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22B9-9B16-4703-A1A6-EE47840DA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01FB2-9DF5-4829-B685-4AD0CE931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90C70-6F46-4A51-BA68-F0254CBB3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F7990-E1DE-4594-83C5-0FD0769B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7E4C7-3383-4D98-88A8-637AF4FEE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07B3F-9F36-4896-8A22-DEAB4DF57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1E69D-7935-4FC3-82B6-2A9EAD208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4216C-715D-407A-8D33-3EDD3C084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60111-681E-4275-A522-E7A159D49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CB296-A691-41A6-9254-29B82771B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E4D48-29FC-4E00-8180-D73121F8F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BB30-8F17-412F-B362-3BB4BE365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54A25-B641-4391-B482-18935E212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E86C6-1D71-46E2-8384-F2E7D1736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A4441-EB59-46C2-95EC-DA31C60E4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46C91-B7A3-490B-81A4-094BC7C26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462F8-4D07-4E09-9C82-72D3A91E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40331-6AED-4203-A584-827D0368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D6EAE-AA84-44DF-A234-686285A71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36677-7A3C-4E85-A642-F040F498E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A2A4F-E22C-4E5C-AA96-ECA5669F2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F8D27-0EA3-4468-93E8-69EA14C0E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BAE4-8720-4662-B5EC-D9CE66115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6A69C-07AA-4D01-B9C8-05BA83E97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FBFE1-2831-4D4E-8E36-3A74CE858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8737FE-17CB-403D-B78E-E2AE782E3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D22C4-CD36-4DFB-8BEF-E9B8FAB40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504AA4-2568-4146-9C04-032172E59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70041-F0FF-4D3A-A3DA-C9DF1742B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96452-60AA-4617-8974-0C98EC3F7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4AB4B-1DE1-4C4E-8278-098071EA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9B43DC-B033-4EF6-AF0A-02149D039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BAB948-0411-4542-A727-EE8524D7E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8D6F-54C9-488B-B253-D8332C348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DC104-ABD9-4AF1-889E-9DA489170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994602-AA25-4945-9889-EA2A8E6C5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A4DFC3-3156-45B8-AAE6-FF9CC868B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77C7B1-DA9E-4659-855A-34FC475E0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7BE881-FD76-4FDC-AEE2-BB6C7042E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C417CA-77C9-4F9F-A081-F2C7CFA75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D739FC-E54A-4123-9DD2-FEF8B15B1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4524D6-86A5-4A1C-9462-634164AD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ED0527-C662-4E41-BAF1-ECBE9AD5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BD495F-4906-444F-8846-A0028F8F9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87AC-53CD-4FB2-920F-5C5509DE3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244E78-4019-4700-BE2B-B7367B3FF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B4D9A6-1245-4708-85D5-D0F009AFC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F5A61E-0D1E-4714-BA8F-BDEAF08A4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493AC6-193F-4912-ABDE-06CDB9968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157B58-81F6-41A6-99E9-FDA964127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1056DC-5FAD-44CC-A68F-CC1AE958C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FA89F0-87BA-43E5-84DA-DDD22A05F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CE9037-2009-45E1-A67F-7F73E88B3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9FCA14-FAB9-47DB-BF14-7BD0F8436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6F7208-5448-4B08-B274-6E04F3A5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CB48-1472-49AC-B3F9-415FFBDC7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FAA832-79B0-4339-95E8-A703FD341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DD743A-2F2D-4D1D-B347-6C6CDF59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AFF412-BF20-4A16-9332-91D80720F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74C691-3014-4579-9669-56E50A108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E9C661-C534-4932-B9BF-7FA8E12C3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4E4D-C200-4E7D-9E0D-CD1AF7466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CFBF3-7C64-4299-ADE8-7360857B724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2044E-8BC8-453F-A562-8E495BDD2E71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237ED-7006-4477-8475-B7FE2877102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4E550-1C62-4AC3-9B08-720EE20A8A4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04065-25A6-4BBD-9E77-F4CF6696EF2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6A168-1EF9-4781-BBF1-0CF11A196E3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C4C4D-DF3B-4C98-8347-D71F074CDF8F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91856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СТВЕННОЕ БЮДЖЕТНОЕ ОБРАЗОВАТЕЛЬНОЕ УЧЕЖДЕНИЕ ВЫСШЕГ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НИЯ МОСКОВСКОЙ ОБЛАСТ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АКАДЕМИЯ СЦИАЛЬНОГО УПРАВЛЕНИЯ»</a:t>
            </a:r>
            <a:endParaRPr b="0" lang="en-US" sz="1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826920" y="2637000"/>
            <a:ext cx="763272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пользуем язык программирования 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Segoe UI Symbol"/>
              </a:rPr>
              <a:t>Scratch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Segoe UI Symbol"/>
              </a:rPr>
              <a:t>во внеурочной деятельности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 algn="r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indent="0" algn="r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indent="0" algn="r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полнила:  Орлова Ирина Петровна, 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indent="0" algn="r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итель начальных классов 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indent="0" algn="r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У  Чулковской  СОШ №20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indent="0" algn="r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менского района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indent="0" algn="r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сковской области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indent="0" algn="r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ябрь 2021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763640" y="49680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68000" y="620280"/>
            <a:ext cx="821844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м программный код для наглядного понимания материал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53" name="Рисунок 1" descr=""/>
          <p:cNvPicPr/>
          <p:nvPr/>
        </p:nvPicPr>
        <p:blipFill>
          <a:blip r:embed="rId1"/>
          <a:stretch/>
        </p:blipFill>
        <p:spPr>
          <a:xfrm>
            <a:off x="1401840" y="1682640"/>
            <a:ext cx="3809880" cy="10125360"/>
          </a:xfrm>
          <a:prstGeom prst="rect">
            <a:avLst/>
          </a:prstGeom>
          <a:ln w="0">
            <a:noFill/>
          </a:ln>
        </p:spPr>
      </p:pic>
      <p:pic>
        <p:nvPicPr>
          <p:cNvPr id="354" name="Рисунок 6" descr=""/>
          <p:cNvPicPr/>
          <p:nvPr/>
        </p:nvPicPr>
        <p:blipFill>
          <a:blip r:embed="rId2"/>
          <a:stretch/>
        </p:blipFill>
        <p:spPr>
          <a:xfrm>
            <a:off x="1332000" y="1413000"/>
            <a:ext cx="417672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Объект 3" descr=""/>
          <p:cNvPicPr/>
          <p:nvPr/>
        </p:nvPicPr>
        <p:blipFill>
          <a:blip r:embed="rId1"/>
          <a:stretch/>
        </p:blipFill>
        <p:spPr>
          <a:xfrm>
            <a:off x="1403280" y="620640"/>
            <a:ext cx="619308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82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тегории «Переменные» возле блока «моя переменная» установим галочку для отображения на сцене программы»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7" name="Объект 3" descr=""/>
          <p:cNvPicPr/>
          <p:nvPr/>
        </p:nvPicPr>
        <p:blipFill>
          <a:blip r:embed="rId1"/>
          <a:stretch/>
        </p:blipFill>
        <p:spPr>
          <a:xfrm>
            <a:off x="250920" y="3068640"/>
            <a:ext cx="3025800" cy="1152360"/>
          </a:xfrm>
          <a:prstGeom prst="rect">
            <a:avLst/>
          </a:prstGeom>
          <a:ln w="0">
            <a:noFill/>
          </a:ln>
        </p:spPr>
      </p:pic>
      <p:pic>
        <p:nvPicPr>
          <p:cNvPr id="358" name="Рисунок 4" descr=""/>
          <p:cNvPicPr/>
          <p:nvPr/>
        </p:nvPicPr>
        <p:blipFill>
          <a:blip r:embed="rId2"/>
          <a:stretch/>
        </p:blipFill>
        <p:spPr>
          <a:xfrm>
            <a:off x="3571920" y="3000240"/>
            <a:ext cx="5176800" cy="25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9" name=""/>
          <p:cNvGraphicFramePr/>
          <p:nvPr/>
        </p:nvGraphicFramePr>
        <p:xfrm>
          <a:off x="108000" y="3843360"/>
          <a:ext cx="8640720" cy="2033640"/>
        </p:xfrm>
        <a:graphic>
          <a:graphicData uri="http://schemas.openxmlformats.org/drawingml/2006/table">
            <a:tbl>
              <a:tblPr/>
              <a:tblGrid>
                <a:gridCol w="1306440"/>
                <a:gridCol w="1822320"/>
                <a:gridCol w="1646280"/>
                <a:gridCol w="3865680"/>
              </a:tblGrid>
              <a:tr h="289080"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ерато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опис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>
                        <a:lnSpc>
                          <a:spcPts val="15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приме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  <a:tr h="1744560"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р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нн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еременн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Устанавливает значение переменно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ts val="15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</a:tbl>
          </a:graphicData>
        </a:graphic>
      </p:graphicFrame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шем название нового оператора в словарик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1" name="Рисунок 10" descr=""/>
          <p:cNvPicPr/>
          <p:nvPr/>
        </p:nvPicPr>
        <p:blipFill>
          <a:blip r:embed="rId1"/>
          <a:stretch/>
        </p:blipFill>
        <p:spPr>
          <a:xfrm>
            <a:off x="1476360" y="4788000"/>
            <a:ext cx="1727280" cy="419040"/>
          </a:xfrm>
          <a:prstGeom prst="rect">
            <a:avLst/>
          </a:prstGeom>
          <a:ln w="0">
            <a:noFill/>
          </a:ln>
        </p:spPr>
      </p:pic>
      <p:pic>
        <p:nvPicPr>
          <p:cNvPr id="362" name="Рисунок 11" descr=""/>
          <p:cNvPicPr/>
          <p:nvPr/>
        </p:nvPicPr>
        <p:blipFill>
          <a:blip r:embed="rId2"/>
          <a:stretch/>
        </p:blipFill>
        <p:spPr>
          <a:xfrm>
            <a:off x="4859280" y="4262400"/>
            <a:ext cx="3816360" cy="14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1.Сегодня я узнал (а)…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2.Сегодня я научился (ась)…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флексия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Прямоугольник 1"/>
          <p:cNvSpPr/>
          <p:nvPr/>
        </p:nvSpPr>
        <p:spPr>
          <a:xfrm>
            <a:off x="324000" y="1773360"/>
            <a:ext cx="8640720" cy="33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новационность  технологи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egoe UI Symbol"/>
              </a:rPr>
              <a:t>Scratch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Segoe UI Symbol"/>
              </a:rPr>
              <a:t> состоит в том,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Segoe UI Symbol"/>
              </a:rPr>
              <a:t>что «она позволяет, обратившись к миру мультимедиа и программирования, впустить обучающегося в информационную среду   творчества и познавательной деятельности, кроме предметных знаний приобрести качества, необходимые каждому человеку для успешной жизни и профессиональной карьеры в современном мире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Segoe UI Symbol"/>
              </a:rPr>
              <a:t>( Из программы курса внеурочной деятельности «Программируем, учимся, играем»,  авторы Босова Л.Л., Босова А.Ю, Филиппов В.И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"/>
          <p:cNvPicPr/>
          <p:nvPr/>
        </p:nvPicPr>
        <p:blipFill>
          <a:blip r:embed="rId1"/>
          <a:stretch/>
        </p:blipFill>
        <p:spPr>
          <a:xfrm>
            <a:off x="2235240" y="2674800"/>
            <a:ext cx="4681440" cy="345132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ма занятия: «Создание интерактивной игры»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Прямоугольник 1"/>
          <p:cNvSpPr/>
          <p:nvPr/>
        </p:nvSpPr>
        <p:spPr>
          <a:xfrm>
            <a:off x="1403280" y="404640"/>
            <a:ext cx="533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Планируемые образовательные результа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Прямоугольник 2"/>
          <p:cNvSpPr/>
          <p:nvPr/>
        </p:nvSpPr>
        <p:spPr>
          <a:xfrm>
            <a:off x="324000" y="907920"/>
            <a:ext cx="8496000" cy="74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Segoe UI Symbol"/>
              </a:rPr>
              <a:t>Предмет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Segoe UI Symbo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Segoe UI Symbol"/>
              </a:rPr>
              <a:t>развитие навыков начального программирова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Segoe UI Symbo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Segoe UI Symbol"/>
              </a:rPr>
              <a:t>формирование представлений о назначении среды программирования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Segoe UI Symbol"/>
              </a:rPr>
              <a:t> Scratch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Segoe UI Symbol"/>
              </a:rPr>
              <a:t>и о элементах групп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Segoe UI Symbol"/>
              </a:rPr>
              <a:t>Метапредмет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Segoe UI Symbo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ретение навыков самооценки, самоконтрол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формирование умения  создавать, применять, преобразовывать программные понятия для решения учебной задач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Segoe UI Symbol"/>
              </a:rPr>
              <a:t>Личност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Segoe UI Symbol"/>
              </a:rPr>
              <a:t>формирование основ информационной культуры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Segoe UI Symbol"/>
              </a:rPr>
              <a:t>осознание социальных норм и правил межличностных отнош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Segoe UI Symbol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Segoe UI Symbol"/>
              </a:rPr>
              <a:t>в коллектив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Segoe UI Symbol"/>
              </a:rPr>
              <a:t>соблюдение правил здорового и безопасного поведения в окружающей сред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826560" y="2707920"/>
            <a:ext cx="740916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Arial"/>
                <a:ea typeface="Arial"/>
              </a:rPr>
              <a:t>обучить приемам программирования в Scratch при помощи блоков команд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Arial"/>
                <a:ea typeface="Arial"/>
              </a:rPr>
              <a:t>научить фиксировать количество касаний одного спрайта с другим используя знания о переменных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Arial"/>
                <a:ea typeface="Arial"/>
              </a:rPr>
              <a:t>совершенствовать знания и умения программирования в Scratch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Arial"/>
                <a:ea typeface="Arial"/>
              </a:rPr>
              <a:t>сформировать умение пользоваться переменными в Scratch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ые задачи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ид внеурочного занятия- </a:t>
            </a: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познавательная деятельность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Методы :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метод использования перед разработкой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словесный, наглядный, частично-поисковый, практический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Форма внеурочного занятия: </a:t>
            </a: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кружок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Оборудование: </a:t>
            </a: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компьютеры, интерактивная доска, карточки с командами для  составления алгоритма, карточки инструкци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Формы работы: </a:t>
            </a: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фронтальная, индивидуальная, парная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Calibri"/>
              </a:rPr>
              <a:t>Знакомимся с планируемым результатом: создание интерактивной игры  с использованием среды программирования Scratch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Calibri"/>
              </a:rPr>
              <a:t>Постановка проблемы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годня с вами мы будем создавать игру с использованием переменной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ктическая работа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208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Segoe UI Symbol"/>
              </a:rPr>
              <a:t>Запустите среду программирования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egoe UI Symbol"/>
              </a:rPr>
              <a:t>Scratch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Segoe UI Symbol"/>
              </a:rPr>
              <a:t>. Передвинем спрайт бейсболиста по сцене. Как видим, при его соприкосновении с мячиком изменяется число в верхнем левом углу сцены.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Segoe UI Symbo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0" name="Объект 4" descr=""/>
          <p:cNvPicPr/>
          <p:nvPr/>
        </p:nvPicPr>
        <p:blipFill>
          <a:blip r:embed="rId1"/>
          <a:stretch/>
        </p:blipFill>
        <p:spPr>
          <a:xfrm>
            <a:off x="2276640" y="2674800"/>
            <a:ext cx="4599000" cy="34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5:19:25Z</dcterms:created>
  <dc:creator>Ирина</dc:creator>
  <dc:description/>
  <dc:language>en-US</dc:language>
  <cp:lastModifiedBy>ирина</cp:lastModifiedBy>
  <dcterms:modified xsi:type="dcterms:W3CDTF">2023-07-07T07:18:49Z</dcterms:modified>
  <cp:revision>106</cp:revision>
  <dc:subject/>
  <dc:title>Греческая лира</dc:title>
</cp:coreProperties>
</file>