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942-BE25-4E81-B979-C4E4BF1E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529-A35D-489D-B30B-E00E680B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484-8956-4FFD-802A-40B25106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89D-A388-4055-AD02-59DD3378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7576-4C5B-4A88-9A6B-FB1673E5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FFD5-8DB1-43FA-8ED9-156B445E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7F5B-983E-4A6B-A77A-E9ACCE67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2F6F-735D-480F-97BC-EE65EA08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73FC-8D8E-43D9-BABB-A5192BCB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1BFE-0ACC-4725-A869-3F3A9DB0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C435-0FF4-4139-8D8C-2BF37904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0FD-2B12-49FE-B8B0-4A393267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D06C-DC5C-4032-8068-13AAEFD9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1573-FE5E-4902-9FD5-E52DE96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E9FD-8060-48F3-AA53-0C3681B3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18E9-A52C-4AAB-95A9-A53E6F44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8685-13B2-4D4B-B7AC-6A978818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607D0-2F81-4757-96C5-CA2EE1C2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48C8-560B-41E5-BF91-D5E1471A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7E8F-0C4C-4F24-AC14-84925ACF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D9D2-EB36-4A77-B1D1-903CDF8A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CF14-67F5-478E-A8F6-1CB2FF9D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26C-1AA2-4115-976F-D2B8A140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855E-1CD2-4578-BBDA-79ABD124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0930-C80C-4AF1-BD51-39B1A04D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6731-DB4B-410A-8774-EF0840A8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0E56-1BA3-4A17-8E3A-98579EB0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8FE60-187F-47D3-BB68-88649ED5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3FB19-1D56-4EFA-A372-23DD3572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86AC-1C71-46FA-83B8-D90F764A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2581-589C-41D9-937F-247E2A3F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3079-B805-424E-9193-005E03C2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C5DB-CFF8-40F2-A51B-3F799F95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739-9E5F-4B12-BF38-7BFE082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8C042-D407-4A0D-A087-7D0AFF07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04F8-C77E-47E0-A295-43FC8D71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3826-F400-4DF5-8500-D08B3482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A3EC-CC7F-4371-90F0-0B81A01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C7F99-D952-4389-A23F-02FDA25D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2E31C-CD22-4D2D-83E4-14E15D9F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7B4B-799F-4BA8-90EC-64D28ABB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4254B-9542-4CD6-BBB3-5078FC75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54350-99A1-4C01-988E-26C79F53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4971-75E1-4DC8-BDCD-66676BDE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A5F-1BC1-4BA3-AE2F-A0ADCD8B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650C2-484B-4429-BEA4-96227DB6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6EA2E-5BDA-447B-9F22-91FD89B3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C73A-B5F5-4650-893F-9DCB433B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E54B-00DF-4488-A872-0CBB8C30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E0D92-7E9D-4534-89F9-46BD56DA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1DFC3-1ECE-4C1C-A8EE-72FB2E90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06279-B5A2-45E7-AF02-50E3583D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FDBDF-9CC3-4E0E-940E-B4F7AD96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87543-CDA3-4A54-A442-AB0AA199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3CA60-F227-400E-9C7F-767350E7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651-1636-4695-BED9-6969CD52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D3AF-0E6F-4D0D-9CE4-D707818D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75130-D3F3-4A38-AAE2-954FC2D2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AC929-3AFB-42BD-8AC9-8A1A15EB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83863-56B4-4133-A26A-61B75247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8DE9B-90F1-4840-B897-06A7729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CD2BF-186A-4770-B91B-822903D0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E9518-5B3F-4364-AE5A-91E2EC49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77803-DBE9-443C-BCAB-9683D9F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6334D-E57E-47E7-81B1-D9F95E8F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80D41-8D4B-4B62-87A3-AD7FDAB3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C3A-59A5-4DDE-88C8-4927F6F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F594-B74B-4C8F-A71A-C14357C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32814-6BAF-420A-8C88-A6D73BE6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A8FF1-F507-489E-81EC-215F4480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208E8-9144-4D84-A751-9EC26EAA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6504E-7F76-46D2-A4AA-A55501E5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AF0E-5E24-4CC2-8C6A-4109BB0E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57F5-A425-493F-8E74-52C3DA20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3E9B9-602E-45BB-B69A-15E4777F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8779B-AC54-42E1-8B06-9507E6AF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F151E-CE05-4C91-992F-78D63F5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B0A-000F-4A4E-8D5A-DD9A5BA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6C770-222F-4E6F-BD54-4B000F91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C3EED-52F1-449B-A741-CFC44A14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B6C45-4E5B-4ADA-AE9E-33B87F1D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ABD6B-CFE5-4125-A8C3-D7C40681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26793-6DCE-43C5-B520-B30CA144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A4B-D9C4-47FC-9449-D872302A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533-6526-42E4-9B3E-F470243887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E9D7-FE61-4FA4-9B99-77CF30D068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3A2D-C114-411A-A87C-8E43662202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8DA7-090F-43EB-A9F6-2A0623A49AC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366C-509C-4E67-8AD7-AA9C026B22C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77F4-63CA-4136-90B4-570366DF6B3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F4D8-AE5B-40AC-82D4-589AF21BD38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СТВЕННОЕ БЮДЖЕТНОЕ ОБРАЗОВАТЕЛЬНОЕ УЧЕЖДЕНИЕ ВЫСШ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МОСКОВ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АДЕМИЯ СЦИАЛЬНОГО УПРАВЛЕНИЯ»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ем язык программирования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Segoe UI Symbol"/>
              </a:rPr>
              <a:t>Scratch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Segoe UI Symbol"/>
              </a:rPr>
              <a:t>во внеурочной деятельност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 Орлова Ирина Петровна,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У  Чулковской  СОШ №20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менского района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овской области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ябрь 2021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640" y="4968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программный код для наглядного понимания материа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3" name="Рисунок 1" descr=""/>
          <p:cNvPicPr/>
          <p:nvPr/>
        </p:nvPicPr>
        <p:blipFill>
          <a:blip r:embed="rId1"/>
          <a:stretch/>
        </p:blipFill>
        <p:spPr>
          <a:xfrm>
            <a:off x="1401840" y="1682640"/>
            <a:ext cx="3809880" cy="101253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4176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1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тегории «Переменные» возле блока «моя переменная» установим галочку для отображения на сцене программы»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Объект 3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025800" cy="11523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517680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108000" y="3843360"/>
          <a:ext cx="8640720" cy="2033640"/>
        </p:xfrm>
        <a:graphic>
          <a:graphicData uri="http://schemas.openxmlformats.org/drawingml/2006/table">
            <a:tbl>
              <a:tblPr/>
              <a:tblGrid>
                <a:gridCol w="1306440"/>
                <a:gridCol w="1822320"/>
                <a:gridCol w="1646280"/>
                <a:gridCol w="3865680"/>
              </a:tblGrid>
              <a:tr h="2890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пис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и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7445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ереме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станавливает значение перемен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название нового оператора в словари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Рисунок 10" descr=""/>
          <p:cNvPicPr/>
          <p:nvPr/>
        </p:nvPicPr>
        <p:blipFill>
          <a:blip r:embed="rId1"/>
          <a:stretch/>
        </p:blipFill>
        <p:spPr>
          <a:xfrm>
            <a:off x="1476360" y="4788000"/>
            <a:ext cx="1727280" cy="4190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"/>
          <p:cNvPicPr/>
          <p:nvPr/>
        </p:nvPicPr>
        <p:blipFill>
          <a:blip r:embed="rId2"/>
          <a:stretch/>
        </p:blipFill>
        <p:spPr>
          <a:xfrm>
            <a:off x="4859280" y="4262400"/>
            <a:ext cx="381636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Сегодня я узнал (а)…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Сегодня я научился (ась)…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324000" y="1773360"/>
            <a:ext cx="864072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ость  техноло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Scrat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состоит в том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что «она позволяет, обратившись к миру мультимедиа и программирования, впустить обучающегося в информационную среду   творчества и познавательной деятельности, кроме предметных знаний приобрести качества, необходимые каждому человеку для успешной жизни и профессиональной карьеры в современном мир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( Из программы курса внеурочной деятельности «Программируем, учимся, играем»,  авторы Босова Л.Л., Босова А.Ю, Филиппов В.И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235240" y="2674800"/>
            <a:ext cx="4681440" cy="3451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занятия: «Создание интерактивной игры»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1403280" y="404640"/>
            <a:ext cx="53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ланируемые образовательные резуль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324000" y="907920"/>
            <a:ext cx="8496000" cy="74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развитие навыков начального программир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формирование представлений о назначении среды программировани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Scratch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и о элементах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Мета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етение навыков самооценки, само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я  создавать, применять, преобразовывать программные понятия для решения учебной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Личн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формирование основ информационной культу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осознание социальных норм и правил межличностны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в коллекти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соблюдение правил здорового и безопасного поведения в окружающей сре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560" y="27079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обучить приемам программирования в Scratch при помощи блоков команд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научить фиксировать количество касаний одного спрайта с другим используя знания о переменны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совершенствовать знания и умения программирования в Scrat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сформировать умение пользоваться переменными в Scrat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д внеурочного занятия-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знавательная деятель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тоды 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тод использования перед разработко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ловесный, наглядный, частично-поисковый, практическ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а внеурочного занятия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ружо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орудование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мпьютеры, интерактивная доска, карточки с командами для  составления алгоритма, карточки инструк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ы работы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ронтальная, индивидуальная, парна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Знакомимся с планируемым результатом: создание интерактивной игры  с использованием среды программирования Scrat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тановка проблемы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с вами мы будем создавать игру с использованием переменной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208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Запустите среду программирова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Scratc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. Передвинем спрайт бейсболиста по сцене. Как видим, при его соприкосновении с мячиком изменяется число в верхнем левом углу сцены.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egoe UI Symbo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Объект 4" descr=""/>
          <p:cNvPicPr/>
          <p:nvPr/>
        </p:nvPicPr>
        <p:blipFill>
          <a:blip r:embed="rId1"/>
          <a:stretch/>
        </p:blipFill>
        <p:spPr>
          <a:xfrm>
            <a:off x="2276640" y="2674800"/>
            <a:ext cx="4599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5:19:25Z</dcterms:created>
  <dc:creator>Ирина</dc:creator>
  <dc:description/>
  <dc:language>en-US</dc:language>
  <cp:lastModifiedBy>ирина</cp:lastModifiedBy>
  <dcterms:modified xsi:type="dcterms:W3CDTF">2023-07-07T07:18:49Z</dcterms:modified>
  <cp:revision>106</cp:revision>
  <dc:subject/>
  <dc:title>Греческая лира</dc:title>
</cp:coreProperties>
</file>