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F4A-5495-47BE-9D3D-AD6A0DE4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DC3-0EF6-4055-BCF8-F05B982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443-47EA-4FE9-B447-17A222D7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F6D-265D-4E1C-B021-D155EAF2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195-BB75-4DDD-AF91-F74CD5F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595-522A-4C7D-93DF-981CCD4F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778-8408-4757-8B0F-E3A0CE8B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C3B-0E6D-4159-A863-72C2CD2D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1E2-A85A-4299-8AEE-22257484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CD7-2E17-4F45-9497-1035D4A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6EE-2B59-4ADF-B4CC-C61CD18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4B0-87D3-4CB1-8ED7-28B3A86F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56A-524F-4538-9917-C893FC2E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Хабаровского кра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ое государственное бюджетное профессиональное образовательное учрежде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абаровский автомеханиче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988640"/>
            <a:ext cx="896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тройка в 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. 1 «Внутренняя поли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: Матушкина-Трубецкая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АБАРОВ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38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этап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5-1987г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Ускор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алкоголизм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на модели : от Ускорения к Перестройке, самостоятельности пред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вод на хозрасч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нтузиаз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, рост рождаемости, снижение преступности. Чернобыльская 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этап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8-1989г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частной инициативы и предпринимательства. Политическая ре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Глас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кол общества на демократов и коммун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 социальной напряженности. Усиление межнациональных конфл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этап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-1991г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на 6-ой ст. Конституции 197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реждение поста Президента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ботка путей перехода к рыночной эконом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арад суверинитет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ка на грани коллап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дение жизненного уровня, разочарование в иде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коммунизм и русофоб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86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КО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был лозунг  обещания резко поднять промышленность и благосостояние народа за короткие ср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Начни ускорение с себя! "/>
          <p:cNvPicPr/>
          <p:nvPr/>
        </p:nvPicPr>
        <p:blipFill>
          <a:blip r:embed="rId2"/>
          <a:stretch/>
        </p:blipFill>
        <p:spPr>
          <a:xfrm>
            <a:off x="611280" y="1773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рьба за трезвы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94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46080"/>
            <a:ext cx="4356000" cy="34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19640" y="2752560"/>
            <a:ext cx="4824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ткрытость и доступность информации обществу. Но в СССР  она  подразумевала, что власти разрешают говорить то, что они сами хотят слыш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звана формировать «социализм с человеческим лицом»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ла к крушению монополии КПСС на информ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712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юрализм - это многообразие мнений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3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549360"/>
            <a:ext cx="7920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Гласность и плюрализм стали главными факторами, повлиявшими на культурную и духовную жизнь обще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бодно издаются ранее запрещенные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бодно обсуждаются некоторые исторические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ширяются культурные связи с Запа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чинается газетно-журнальный, 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радио- «бу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оги Перестройки во внутренней жизни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ози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тверждение полит.свобод, свободы совести и вероиспове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здание Парламента, многопарти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нег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худшение материального положения граж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острение межнациональных противо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и распад ССС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вы узнали по теме «Перестройк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а ли полезна вам эта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именно было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ое мнение у вас об этом периоде истории нашего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и результатов перестройки в обществе разнятся. Цели реформ были достигнуты лишь частично: произошла демократизация общества, внедрена гласность, отменена цензура, достигнута разрядка в отношениях с Западом. В то же время в экономике СССР наступил спад, а с политической точки зрения итогами перестройки стали межэтнические конфликты, вооружённая борьба за власть и распад Советского Сою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ор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терм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стро́й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 — общее название используемое для обозначения перемен в экономической и политической структуре СССР, инициированных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енеральным секретарём ЦК КП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Михаилом Сергеевичем Горбачёвым в 1985—1991 годах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м перестройки считают 1987 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гда на январском пленуме ЦК КПСС перестройка была объявлена новым государственным кур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чины Перестрой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кое падение темпов экономического развит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зис планов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бюрократического ап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е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зис 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я международного авторитете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518040"/>
            <a:ext cx="896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сесторонняя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крат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ложивше-гося в СССР общественно-политического и экономического строя, т.е.  переход к «народовластию» (досл. перевод понятия demokratia) на местах в самом широком смысле этого по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ы экономических реформ разрабатывались ещё в 1983—1984 годах по поручению генерального секретаря ЦК КПСС Юрия Владимировича Андроп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201080" cy="341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3885840"/>
            <a:ext cx="8713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ройка была обозначена в качестве задачи и как необходимо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еодоление эпохи застоя и обновление всех сторон жизни страны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ую роль в разработке идей перестройки играли видные учёные-обществоведы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Н.Яковл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МЭМО)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С.Шата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ЦЭМИ)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И. Заслав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ЦИОМ)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.М.Прима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МЭМО)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И. Абалк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нститут экономики АН СССР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175248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3068640"/>
            <a:ext cx="2016000" cy="244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01636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08000" y="4481640"/>
            <a:ext cx="187344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219640" y="4697280"/>
            <a:ext cx="2160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од воспринял Перестройку с энтузиазм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5T05:50:48Z</dcterms:created>
  <dc:creator>MatushkinaON</dc:creator>
  <dc:description/>
  <dc:language>en-US</dc:language>
  <cp:lastModifiedBy>MatushkinaON</cp:lastModifiedBy>
  <dcterms:modified xsi:type="dcterms:W3CDTF">2023-06-13T00:11:50Z</dcterms:modified>
  <cp:revision>6</cp:revision>
  <dc:subject/>
  <dc:title>Министерство образования и науки Хабаровского края краевое государственное бюджетное профессиональное образовательное учреждение  «Хабаровский автомеханический колледж»</dc:title>
</cp:coreProperties>
</file>