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AA2-50FB-495B-BABF-F94D4F4B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33D-EA0D-4554-87BA-F84C1017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AA78-669A-48DA-9DB2-4242773A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E51-549E-42A0-860D-99098E7B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54A-1A4F-4F37-B22C-FDFD69A5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725-EBE1-4301-A9C7-244AC411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B97-224E-4D83-8531-3283950E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987-5F5D-4573-AD9C-E6DD0194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4F2-8B20-422C-9DA5-70C321FA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833-74F7-48DC-B1D1-CAAF58FD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6F7-4FC0-4D3E-B65C-0A332B55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9DC-F4B1-4AE4-B0D5-8CB96795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6E64-074A-45EE-BDD2-21B9EBD41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ерство образования и науки Хабаровского кра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евое государственное бюджетное профессиональное образовательное учреждени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абаровский автомеханически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1988640"/>
            <a:ext cx="896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стройка в ССС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. 1 «Внутренняя поли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подаватель: Матушкина-Трубецкая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АБАРОВ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38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этап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85-1987г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Ускор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алкоголизм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на модели : от Ускорения к Перестройке, самостоятельности пред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вод на хозрасч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нтузиаз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ижение смертности, рост рождаемости, снижение преступности. Чернобыльская катастро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этап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88-1989г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итие частной инициативы и предпринимательства. Политическая рефор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Гласност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кол общества на демократов и коммун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т социальной напряженности. Усиление межнациональных конфли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этап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0-1991г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мена 6-ой ст. Конституции 1977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реждение поста Президента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ботка путей перехода к рыночной эконом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Парад суверинитето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кономика на грани коллапс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дение жизненного уровня, разочарование в идея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икоммунизм и русофоб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5865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КО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это был лозунг  обещания резко поднять промышленность и благосостояние народа за короткие ср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Начни ускорение с себя! "/>
          <p:cNvPicPr/>
          <p:nvPr/>
        </p:nvPicPr>
        <p:blipFill>
          <a:blip r:embed="rId2"/>
          <a:stretch/>
        </p:blipFill>
        <p:spPr>
          <a:xfrm>
            <a:off x="611280" y="177336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рьба за трезвы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4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394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46080"/>
            <a:ext cx="4356000" cy="345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19640" y="2752560"/>
            <a:ext cx="4824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ткрытость и доступность информации обществу. Но в СССР  она  подразумевала, что власти разрешают говорить то, что они сами хотят слыша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звана формировать «социализм с человеческим лицом»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ла к крушению монополии КПСС на информ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7128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юрализм - это многообразие мнений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337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549360"/>
            <a:ext cx="7920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Гласность и плюрализм стали главными факторами, повлиявшими на культурную и духовную жизнь обще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бодно издаются ранее запрещенные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бодно обсуждаются некоторые исторические со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ширяются культурные связи с Запа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чинается газетно-журнальный, 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радио- «бу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оги Перестройки во внутренней жизни стр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пози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тверждение полит.свобод, свободы совести и вероиспове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здание Парламента, многопартий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нега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худшение материального положения гражд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бострение межнациональных противо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лабление центральной власти и распад ССС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флекс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ового вы узнали по теме «Перестройк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а ли полезна вам эта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именно было поле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Какое мнение у вас об этом периоде истории нашего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ки результатов перестройки в обществе разнятся. Цели реформ были достигнуты лишь частично: произошла демократизация общества, внедрена гласность, отменена цензура, достигнута разрядка в отношениях с Западом. В то же время в экономике СССР наступил спад, а с политической точки зрения итогами перестройки стали межэтнические конфликты, вооружённая борьба за власть и распад Советского Сою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ор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терми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стро́й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 — общее название используемое для обозначения перемен в экономической и политической структуре СССР, инициированных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енеральным секретарём ЦК КП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Михаилом Сергеевичем Горбачёвым в 1985—1991 годах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м перестройки считают 1987 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гда на январском пленуме ЦК КПСС перестройка была объявлена новым государственным кур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чины Перестрой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кое падение темпов экономического развит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зис планов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бюрократического ап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альное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зис 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еря международного авторитете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9280" y="518040"/>
            <a:ext cx="8964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Всесторонняя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мократиз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ложивше-гося в СССР общественно-политического и экономического строя, т.е.  переход к «народовластию» (досл. перевод понятия demokratia) на местах в самом широком смысле этого по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ы экономических реформ разрабатывались ещё в 1983—1984 годах по поручению генерального секретаря ЦК КПСС Юрия Владимировича Андроп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201080" cy="3411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560" y="3885840"/>
            <a:ext cx="8713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тройка была обозначена в качестве задачи и как необходимо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еодоление эпохи застоя и обновление всех сторон жизни страны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ую роль в разработке идей перестройки играли видные учёные-обществоведы: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Н.Яковл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ИМЭМО),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С.Шатал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ЦЭМИ)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И. Заслав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ВЦИОМ),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.М.Прима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ИМЭМО)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.И. Абалк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Институт экономики АН СССР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175248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03640" y="3068640"/>
            <a:ext cx="2016000" cy="2443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300720" y="3284640"/>
            <a:ext cx="201636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908000" y="4481640"/>
            <a:ext cx="1873440" cy="2116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219640" y="4697280"/>
            <a:ext cx="21607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род воспринял Перестройку с энтузиазм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56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05T05:50:48Z</dcterms:created>
  <dc:creator>MatushkinaON</dc:creator>
  <dc:description/>
  <dc:language>en-US</dc:language>
  <cp:lastModifiedBy>MatushkinaON</cp:lastModifiedBy>
  <dcterms:modified xsi:type="dcterms:W3CDTF">2023-06-13T00:11:50Z</dcterms:modified>
  <cp:revision>6</cp:revision>
  <dc:subject/>
  <dc:title>Министерство образования и науки Хабаровского края краевое государственное бюджетное профессиональное образовательное учреждение  «Хабаровский автомеханический колледж»</dc:title>
</cp:coreProperties>
</file>